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0ACC-2A6F-4CF7-9F43-8655DEC3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83E1-4C79-48C6-B370-0503F30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B423-6E4C-45A7-B7EB-DEDC5500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37592-491D-4A5A-8089-27DC41A6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DCF6B-6645-4CCC-9148-2A9AE56A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0B739-A135-4210-A6B2-C85CE7A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0D57F-36BD-4BD7-9E60-68CC005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1AB09-0751-4101-88E4-882C970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BD462-E6C4-4F87-B586-8ECCAED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29C7-661D-493F-8B58-69A44A78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D0EB7-C650-47B0-892F-05C1B55C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2545F-F756-4652-8EBC-4BA12541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45EB-EE92-4608-BA86-D12880AA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052C8-101F-48E3-AC9C-1072A11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E1BCE-A97F-4A39-9C8C-8576F3F0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C236C-1C8D-445A-BF52-2D353D0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172B3-1E0C-493B-B969-822BC9D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82C02-7F89-4C88-9F0B-623C1904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AD08A-CA8C-4620-B2ED-4A4EBF6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4E231-C2C1-4FA1-9226-105ABA2E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B64AD-0A39-41D9-B66E-65A50360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6AC34-5053-4E01-BAD8-7303368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134F-8A6F-4EBB-A58C-DF9775A9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C7E7-63C3-4144-9724-DFA71D60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870C2-C9FC-4A9E-97AC-FEE132D1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51A46-A59C-428B-A625-F93AF06A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E981C-A828-4B7F-8817-89930FB8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8773-4A1E-425D-B977-D1CBB42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81CEC-8A61-415E-9988-A3E78865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DA0BC-73EA-4AE6-939A-0423644A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B8F1-6925-4DC1-8846-033F498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8DD8-7BB9-4814-ABB6-0B27D38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6A49-9118-461F-BA90-3DDB54F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10B4D-80EE-4A6E-B442-1C1DE24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8B47-CA4F-467A-BB33-1A23E7A2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4DE5-F360-4449-A243-A3D82B6E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47450-AB51-42B0-9E7E-32C2472B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11853-DE63-4B43-A509-7F8AAB44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20AE6-48AC-4605-9ED1-DD960DAE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783F-A47A-41B1-9009-BDC695A2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F3CF4-FD52-4697-B370-10085E1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3BE8-62E5-46B3-97DA-88E6A85E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C0D09-AFFD-456F-8AE4-15BE422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F9069-C949-44C1-8F81-0874227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C0BAC-D90A-4706-9915-8C140274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4DC5-AAF9-4449-9401-ABDB542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BC254-622F-4A50-97CE-D1097C8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34B67-9AB2-4367-A3AF-2F1BC427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B806B-5C47-4745-A09E-7AC3F24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9FA58-F517-4FA6-BAB0-B74B5E4D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1F45E-304E-470D-ABEB-EEB010F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066D3-A384-425D-BD66-70CD5AE1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7BC7E-E8A0-41E3-8F19-34CAB17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CB668-21AC-43A0-A6EA-4202100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F1B56-CED1-4DFE-9083-E8584EE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3CBF3-BE7B-4093-9927-AC4547F6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903A-A4D3-4B3E-8BC1-FBDCC3E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14C4D-2F44-4AE6-8D3E-A160DD2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1AB0C-C6BE-4C26-A743-EA0A0E9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B5B5D-4964-4B01-84C6-33D0066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9701E-42BB-44E2-8410-AD0C4FF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22DC6-BF71-4723-82FA-47539C23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6B236-E398-4A85-8D5F-C1F00809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722D3-3300-4180-AE8A-050CF220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4AAF2-4DF7-470B-A015-A951991E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A4489-65DB-43F7-BDF9-DDA80CE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D38A4-541C-4277-AFC6-C21D778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559-90AD-4EE0-8E7A-5BF6CAB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616FB-08E9-4332-9FE1-5217E294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5A171-CD16-49A2-95E0-B3FF8B1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22C67-67EF-47A1-AC77-51A083E3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C6BFD-4291-4F4E-839C-32896CB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9970F-6207-4975-82EE-AA648173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87132-BD1F-486E-BD18-E198B1C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3FA0C-B0D0-4F6E-B6DF-29B0FE7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1A8A5-3000-4B23-89D2-B7296F7E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95AB5-AE1B-4D23-8C89-4AFE9BE3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C75724-2638-4A6D-9854-8183C9E8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6EC4-D0FC-4DD3-9174-FE5A2B1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E79805-3133-463E-9BE7-F5A5799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04FA4B-E9CA-475E-A4DF-C74EEA1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AAB72-AECE-4058-934F-7572F6F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EC80F8-274B-4E60-8156-7A26A180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C5AB23-CD35-4007-B566-6218D6CE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50FC94-A8CD-4EDE-8330-2F11BDC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D0B3EF-B682-453F-92C3-AAB7384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3752A4-C3E5-4453-9196-A7CA380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EDA60E-F11F-4629-8C12-F86BFB2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EFE50F-BFE5-4FBD-85DA-EDE1BEBD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C65-6E7E-4B7D-932E-3D4A32C4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2071B1-0EDF-4C00-B31C-1842A3A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B286C-CD8C-4D55-83DE-28BDBE8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09F54-B85D-4D16-BAEE-0030051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78435-E86E-41DC-87B0-941337E3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EE816-45F1-4AE5-8BCA-62C1EDEE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F6B74-EBB8-4688-91CC-A5653F8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5E89F-757D-4321-93B8-FA78B673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EB7E2-3B60-47EB-A816-FE343C4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7DB2F-7814-412F-B6B3-7A66E66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2ED87-41DD-4AF1-B1F2-C39A95D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567-D889-4AC6-9E42-BC8DE50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410E3-0491-4D90-B1DC-555E6D2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2311A-4B73-4FA6-BD5E-2CFA944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E74E0-D045-4CBA-9B2D-F5BE3ACA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9E9BC-6726-49D7-B7D0-06B04D88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474C8-1A26-44C5-A622-A1EDC3C4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206EA-8E6B-4C37-B73D-13B032F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26D8F-3EA0-4690-9BB7-696E0C4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98CF3-3A4D-4E00-9BBA-DEBF17E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6C557-F8F4-4D16-A703-56C1D377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2E8EB-3F4F-4B08-A58F-AEC1C24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6FCC-030B-4FD9-AF89-D2A62513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2984-9FDA-45A7-ADE2-68A72E5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A3C22-622D-4B91-A73D-83A250A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71FB3-3868-436E-B5F8-6682127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86D1D-0FD5-4231-8731-BDEDC91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0940F-8D1C-491E-92A5-C5FADF8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97E21-4264-4635-B4F1-CCD58C8D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9F3CB-76FE-428C-8C20-E922C0FD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0D04E-F499-43FF-8B56-0D57374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DBA10-9377-49FB-A237-741080A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6A516-66C6-4151-9FB0-45095466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C7BFF-442B-4DBA-AF78-67E7DEDA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E3D-7794-4102-A523-9C30FB2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57507-D825-4979-8433-6EE0865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F0150-BE3B-47E0-97B9-446F576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E8C6F-EF5B-4BD9-A322-B51AEF4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051D6-BE17-47F1-9A50-EF019B5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38347-B0CB-4FEA-B842-8B88BF0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8DA6F-037B-4172-A7AC-B7D02F1F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38BC0-E862-4570-B814-B09DAB31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AA9-E39C-4CEB-B911-59987D1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ECA-7CC4-484F-9ACA-71A511CF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CC5-0E3B-4C3A-92B5-A28FB53F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0F40-7D75-4B1B-8034-AD785874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1B13-0417-481F-8489-E0A3E19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F1C8-34F7-4B41-BEB8-8A6084A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25A4-DB59-4954-BFF4-C7C3E5C4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5CDD-28CA-4645-B47C-2987232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8E1A-9924-4BCE-8D6B-08FD58B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B442-98D2-454F-BAA9-1614B47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34D0-68B0-40D8-A0A6-5FCE734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BEB8-79AD-421F-871D-39A38C0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D681-878B-4862-AB18-6DA4905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03BD-74CF-41B1-9D14-70755FB7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94FA-AB84-48A9-8ED3-1E9ABF2F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5056-C481-4D42-B6B1-8F1F49AA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9808-6084-490E-8E0F-0DD32FFA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CCC41-9F72-4EDD-A1CC-C4A7E59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80C2-984E-4EB5-BCA2-E15DB654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33F0-5FA5-4C2E-A8AE-4398E04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1B4C-6BDE-4337-8B2D-3E1C2485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A9E4-59AC-4AEA-A340-941C563D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00F2-50B3-46B3-943D-71786E1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EDAA-8C23-4FCD-90E2-8B25D5D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95B8-D81D-4E35-A5E6-25A3393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D73A-5388-437A-A7A3-70918EF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8516-D7EB-424A-B611-8A029C9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32CA-048E-42C9-B438-0BAEC0C5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BF0B-142D-4F35-8DF8-D374C155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3635E-D075-492F-841D-E94CA835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68FA-355F-4900-AD45-55205DD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D7676-C163-432D-B50A-2E4A170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9DC7B-33F6-4E74-A549-5CB8CD9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832E3-26B4-40EE-A8E3-3460F3D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FB6CA-E270-4E9E-B23B-D7800041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299F4-F0C9-4A3A-A90C-9A9714CB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395DD-CCB2-4C4F-8242-A800C9B4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DB719-6D83-4E7A-93B1-9511FE2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C82FE-2B3F-4137-A5A5-27FA5C4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89482-882F-4A03-BA64-4345A78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37083-BFF6-400B-A342-BC88CF95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DC62-14B1-406B-AE0D-6D7B126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4E559-25AA-4A54-99C4-59927B91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5D06B-8563-4F39-83ED-2AB6F2AD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C4554-D910-413E-BA57-58E698E8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8C92F-315F-405B-BF47-A00EDEF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34368-1589-43AE-BB9A-36EF7E6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D8E03-30E2-442E-B330-F59EA613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30D0A-592B-4BDB-8626-05CAA34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199CE-CAE3-4095-8F81-8A6C096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B92E2-99B5-4583-B851-8CA99C8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EB3DE-BB10-4097-B3E3-F118F0A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0DE3-D167-424F-8E6D-CF755DB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54361-C63C-4348-8F9B-9B880F7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50AB6-B99F-4021-8DC2-03518B02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6D120-40D5-420C-B487-DFDF1954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6481-DBC6-421F-9FC3-66A5D297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F22D-7B0F-48B9-AC98-87FEBDF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3238A-72E5-4135-86A4-969A401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78D6-FA96-43A9-AF91-DFFC4E0C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AF86-6434-4EB7-A290-56D0C73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DB87-9072-44EA-B6D3-56B15E2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8F80-F2EB-4CE4-A01E-5BC34C4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B751-C6BA-4BB3-9FEF-827F67CA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AC51-3611-4CAD-96DD-5E4C480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3088-25D2-45B6-A1CF-B6128C11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EC18C-35BE-41D6-A4F6-9C10CD2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F5D5C-013C-4AE6-9EC4-6D806F5D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8414-9B16-4438-B0A6-4AEF8E23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52F55-A3A5-4E49-887F-A7D10B34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833FB-B16B-42BD-BAF2-1BA14A27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4BE07-3627-4E78-B9E4-18628FC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511C7-05A9-49CC-99BE-AFA4231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02555-AECA-4634-8EF3-8ACE4AE5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C2A7-E25E-42F6-92E1-3FA792C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A32DE-BD78-4DE0-8BA1-BE1A261D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9688E-019D-41F7-B369-C138195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D17EE-297F-48F8-9BFC-4F56971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6FCD0-2705-4DC8-AAA4-2D0D197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296B49-BE0C-4154-91F9-D22B600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D26A1-5C9F-48CE-8B29-B35CE7B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F2E5D-4D89-40F4-AC3C-AC12B138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E67BD-ED89-4713-9420-D792D6C5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56A1C-CA65-49F1-9EF4-9EEA513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67880-31D7-496D-B29D-E472FA85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81FB93-6C6A-4B1E-A1CB-98043BC3F0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438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8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9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5B5F42-A56F-4CCE-8F96-BE748AD944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485" name="Freeform 2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>
                <a:gd name="textAreaLeft" fmla="*/ 0 w 7121520"/>
                <a:gd name="textAreaRight" fmla="*/ 7121880 w 712152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3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>
                <a:gd name="textAreaLeft" fmla="*/ 0 w 7240680"/>
                <a:gd name="textAreaRight" fmla="*/ 7241040 w 7240680"/>
                <a:gd name="textAreaTop" fmla="*/ 0 h 1901880"/>
                <a:gd name="textAreaBottom" fmla="*/ 1902240 h 190188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D786A0-F181-4FB8-9AC5-36EC92293E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529" name="Freeform 2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>
                <a:gd name="textAreaLeft" fmla="*/ 0 w 8182080"/>
                <a:gd name="textAreaRight" fmla="*/ 8182440 w 8182080"/>
                <a:gd name="textAreaTop" fmla="*/ 0 h 3656160"/>
                <a:gd name="textAreaBottom" fmla="*/ 3656520 h 365616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3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>
                <a:gd name="textAreaLeft" fmla="*/ 0 w 8456760"/>
                <a:gd name="textAreaRight" fmla="*/ 8457120 w 8456760"/>
                <a:gd name="textAreaTop" fmla="*/ 0 h 5854680"/>
                <a:gd name="textAreaBottom" fmla="*/ 5855040 h 585468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595F55-11B7-4C21-84C8-8CDAEB6C55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1"/>
          <p:cNvGrpSpPr/>
          <p:nvPr/>
        </p:nvGrpSpPr>
        <p:grpSpPr>
          <a:xfrm>
            <a:off x="-8405640" y="4680"/>
            <a:ext cx="16819560" cy="13689000"/>
            <a:chOff x="-8405640" y="4680"/>
            <a:chExt cx="16819560" cy="13689000"/>
          </a:xfrm>
        </p:grpSpPr>
        <p:sp>
          <p:nvSpPr>
            <p:cNvPr id="572" name="AutoShape 3"/>
            <p:cNvSpPr/>
            <p:nvPr/>
          </p:nvSpPr>
          <p:spPr>
            <a:xfrm>
              <a:off x="-8405640" y="4680"/>
              <a:ext cx="16819560" cy="13689000"/>
            </a:xfrm>
            <a:custGeom>
              <a:avLst/>
              <a:gdLst>
                <a:gd name="textAreaLeft" fmla="*/ 2462040 w 16819560"/>
                <a:gd name="textAreaRight" fmla="*/ 14357520 w 16819560"/>
                <a:gd name="textAreaTop" fmla="*/ 2005200 h 13689000"/>
                <a:gd name="textAreaBottom" fmla="*/ 1168380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256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CE712C8-34CA-4ED1-94F0-FA18A4C205C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"/>
          <p:cNvGrpSpPr/>
          <p:nvPr/>
        </p:nvGrpSpPr>
        <p:grpSpPr>
          <a:xfrm>
            <a:off x="13358880" y="1463760"/>
            <a:ext cx="360" cy="21588480"/>
            <a:chOff x="13358880" y="1463760"/>
            <a:chExt cx="360" cy="21588480"/>
          </a:xfrm>
        </p:grpSpPr>
        <p:sp>
          <p:nvSpPr>
            <p:cNvPr id="615" name="AutoShape 3"/>
            <p:cNvSpPr/>
            <p:nvPr/>
          </p:nvSpPr>
          <p:spPr>
            <a:xfrm>
              <a:off x="13358880" y="1463760"/>
              <a:ext cx="360" cy="21588480"/>
            </a:xfrm>
            <a:custGeom>
              <a:avLst/>
              <a:gdLst>
                <a:gd name="textAreaLeft" fmla="*/ 0 w 360"/>
                <a:gd name="textAreaRight" fmla="*/ 360 w 360"/>
                <a:gd name="textAreaTop" fmla="*/ 0 h 21588480"/>
                <a:gd name="textAreaBottom" fmla="*/ 10793160 h 2158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1365" y="0"/>
                    <a:pt x="11930" y="44"/>
                    <a:pt x="12488" y="132"/>
                  </a:cubicBezTo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1365" y="0"/>
                    <a:pt x="11930" y="44"/>
                    <a:pt x="12488" y="13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0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41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2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E94EF5-BB7B-4233-91A3-71AAA01549E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657" name="Rectangle 2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3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4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5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6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7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8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9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0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1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5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6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7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8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19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0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4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F2C62B-D292-409B-8EBA-B7A90C65D4D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4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720" name="Rectangle 2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3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4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7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8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9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10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11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12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13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4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5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16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Rectangle 17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18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19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20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21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22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4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35298A-B332-4E71-9998-ADEA9D13CAF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"/>
          <p:cNvGrpSpPr/>
          <p:nvPr/>
        </p:nvGrpSpPr>
        <p:grpSpPr>
          <a:xfrm>
            <a:off x="0" y="0"/>
            <a:ext cx="9139320" cy="6850080"/>
            <a:chOff x="0" y="0"/>
            <a:chExt cx="9139320" cy="6850080"/>
          </a:xfrm>
        </p:grpSpPr>
        <p:sp>
          <p:nvSpPr>
            <p:cNvPr id="782" name="Freeform 2"/>
            <p:cNvSpPr/>
            <p:nvPr/>
          </p:nvSpPr>
          <p:spPr>
            <a:xfrm>
              <a:off x="2876400" y="4462560"/>
              <a:ext cx="6262920" cy="2387520"/>
            </a:xfrm>
            <a:custGeom>
              <a:avLst/>
              <a:gdLst>
                <a:gd name="textAreaLeft" fmla="*/ 0 w 6262920"/>
                <a:gd name="textAreaRight" fmla="*/ 6263280 w 626292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3"/>
            <p:cNvSpPr/>
            <p:nvPr/>
          </p:nvSpPr>
          <p:spPr>
            <a:xfrm>
              <a:off x="6389640" y="5757840"/>
              <a:ext cx="2749680" cy="1092240"/>
            </a:xfrm>
            <a:custGeom>
              <a:avLst/>
              <a:gdLst>
                <a:gd name="textAreaLeft" fmla="*/ 0 w 2749680"/>
                <a:gd name="textAreaRight" fmla="*/ 2750040 w 2749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4"/>
            <p:cNvSpPr/>
            <p:nvPr/>
          </p:nvSpPr>
          <p:spPr>
            <a:xfrm>
              <a:off x="0" y="0"/>
              <a:ext cx="8853480" cy="5470560"/>
            </a:xfrm>
            <a:custGeom>
              <a:avLst/>
              <a:gdLst>
                <a:gd name="textAreaLeft" fmla="*/ 0 w 8853480"/>
                <a:gd name="textAreaRight" fmla="*/ 8853840 w 8853480"/>
                <a:gd name="textAreaTop" fmla="*/ 0 h 5470560"/>
                <a:gd name="textAreaBottom" fmla="*/ 5470920 h 547056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5"/>
            <p:cNvSpPr/>
            <p:nvPr/>
          </p:nvSpPr>
          <p:spPr>
            <a:xfrm>
              <a:off x="7845480" y="0"/>
              <a:ext cx="1293840" cy="43668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>
              <a:off x="0" y="3149640"/>
              <a:ext cx="9139320" cy="33289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3328920"/>
                <a:gd name="textAreaBottom" fmla="*/ 3329280 h 332892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7"/>
            <p:cNvSpPr/>
            <p:nvPr/>
          </p:nvSpPr>
          <p:spPr>
            <a:xfrm>
              <a:off x="0" y="162000"/>
              <a:ext cx="3111480" cy="20066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8"/>
            <p:cNvSpPr/>
            <p:nvPr/>
          </p:nvSpPr>
          <p:spPr>
            <a:xfrm>
              <a:off x="0" y="0"/>
              <a:ext cx="7473960" cy="4603680"/>
            </a:xfrm>
            <a:custGeom>
              <a:avLst/>
              <a:gdLst>
                <a:gd name="textAreaLeft" fmla="*/ 0 w 7473960"/>
                <a:gd name="textAreaRight" fmla="*/ 7474320 w 7473960"/>
                <a:gd name="textAreaTop" fmla="*/ 0 h 4603680"/>
                <a:gd name="textAreaBottom" fmla="*/ 4604040 h 46036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9"/>
            <p:cNvSpPr/>
            <p:nvPr/>
          </p:nvSpPr>
          <p:spPr>
            <a:xfrm>
              <a:off x="0" y="0"/>
              <a:ext cx="5987880" cy="3738600"/>
            </a:xfrm>
            <a:custGeom>
              <a:avLst/>
              <a:gdLst>
                <a:gd name="textAreaLeft" fmla="*/ 0 w 5987880"/>
                <a:gd name="textAreaRight" fmla="*/ 5988240 w 5987880"/>
                <a:gd name="textAreaTop" fmla="*/ 0 h 3738600"/>
                <a:gd name="textAreaBottom" fmla="*/ 3738960 h 373860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10"/>
            <p:cNvSpPr/>
            <p:nvPr/>
          </p:nvSpPr>
          <p:spPr>
            <a:xfrm>
              <a:off x="0" y="0"/>
              <a:ext cx="4654440" cy="292896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2928960"/>
                <a:gd name="textAreaBottom" fmla="*/ 2929320 h 292896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11"/>
            <p:cNvSpPr/>
            <p:nvPr/>
          </p:nvSpPr>
          <p:spPr>
            <a:xfrm>
              <a:off x="181080" y="4519440"/>
              <a:ext cx="2368440" cy="322560"/>
            </a:xfrm>
            <a:custGeom>
              <a:avLst/>
              <a:gdLst>
                <a:gd name="textAreaLeft" fmla="*/ 0 w 2368440"/>
                <a:gd name="textAreaRight" fmla="*/ 2368800 w 23684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4" name="Group 14"/>
            <p:cNvGrpSpPr/>
            <p:nvPr/>
          </p:nvGrpSpPr>
          <p:grpSpPr>
            <a:xfrm>
              <a:off x="304920" y="3625920"/>
              <a:ext cx="1989000" cy="1463760"/>
              <a:chOff x="304920" y="3625920"/>
              <a:chExt cx="1989000" cy="1463760"/>
            </a:xfrm>
          </p:grpSpPr>
          <p:sp>
            <p:nvSpPr>
              <p:cNvPr id="795" name="Freeform 15"/>
              <p:cNvSpPr/>
              <p:nvPr/>
            </p:nvSpPr>
            <p:spPr>
              <a:xfrm>
                <a:off x="647640" y="4776840"/>
                <a:ext cx="73080" cy="792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16"/>
              <p:cNvSpPr/>
              <p:nvPr/>
            </p:nvSpPr>
            <p:spPr>
              <a:xfrm>
                <a:off x="1447920" y="3625920"/>
                <a:ext cx="512640" cy="25560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17"/>
              <p:cNvSpPr/>
              <p:nvPr/>
            </p:nvSpPr>
            <p:spPr>
              <a:xfrm>
                <a:off x="304920" y="3625920"/>
                <a:ext cx="1989000" cy="146376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18"/>
              <p:cNvSpPr/>
              <p:nvPr/>
            </p:nvSpPr>
            <p:spPr>
              <a:xfrm>
                <a:off x="1085760" y="4300560"/>
                <a:ext cx="73080" cy="1220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9"/>
              <p:cNvSpPr/>
              <p:nvPr/>
            </p:nvSpPr>
            <p:spPr>
              <a:xfrm>
                <a:off x="2038320" y="4083120"/>
                <a:ext cx="235080" cy="663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20"/>
              <p:cNvSpPr/>
              <p:nvPr/>
            </p:nvSpPr>
            <p:spPr>
              <a:xfrm>
                <a:off x="1809720" y="3863880"/>
                <a:ext cx="263520" cy="21744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21"/>
              <p:cNvSpPr/>
              <p:nvPr/>
            </p:nvSpPr>
            <p:spPr>
              <a:xfrm>
                <a:off x="1504800" y="367344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22"/>
              <p:cNvSpPr/>
              <p:nvPr/>
            </p:nvSpPr>
            <p:spPr>
              <a:xfrm>
                <a:off x="1781280" y="4092480"/>
                <a:ext cx="102960" cy="936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23"/>
              <p:cNvSpPr/>
              <p:nvPr/>
            </p:nvSpPr>
            <p:spPr>
              <a:xfrm>
                <a:off x="1495440" y="4245120"/>
                <a:ext cx="254160" cy="282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24"/>
              <p:cNvSpPr/>
              <p:nvPr/>
            </p:nvSpPr>
            <p:spPr>
              <a:xfrm>
                <a:off x="1170000" y="4386240"/>
                <a:ext cx="114120" cy="84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25"/>
              <p:cNvSpPr/>
              <p:nvPr/>
            </p:nvSpPr>
            <p:spPr>
              <a:xfrm>
                <a:off x="990720" y="4586400"/>
                <a:ext cx="17280" cy="83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26"/>
              <p:cNvSpPr/>
              <p:nvPr/>
            </p:nvSpPr>
            <p:spPr>
              <a:xfrm>
                <a:off x="781200" y="4795920"/>
                <a:ext cx="74520" cy="112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27"/>
              <p:cNvSpPr/>
              <p:nvPr/>
            </p:nvSpPr>
            <p:spPr>
              <a:xfrm>
                <a:off x="693720" y="4805280"/>
                <a:ext cx="455760" cy="131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28"/>
              <p:cNvSpPr/>
              <p:nvPr/>
            </p:nvSpPr>
            <p:spPr>
              <a:xfrm>
                <a:off x="1314360" y="4767120"/>
                <a:ext cx="103320" cy="169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29"/>
              <p:cNvSpPr/>
              <p:nvPr/>
            </p:nvSpPr>
            <p:spPr>
              <a:xfrm>
                <a:off x="581040" y="4938840"/>
                <a:ext cx="120600" cy="648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30"/>
              <p:cNvSpPr/>
              <p:nvPr/>
            </p:nvSpPr>
            <p:spPr>
              <a:xfrm>
                <a:off x="790560" y="5024520"/>
                <a:ext cx="103320" cy="46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31"/>
              <p:cNvSpPr/>
              <p:nvPr/>
            </p:nvSpPr>
            <p:spPr>
              <a:xfrm>
                <a:off x="1333440" y="4633920"/>
                <a:ext cx="27000" cy="93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32"/>
              <p:cNvSpPr/>
              <p:nvPr/>
            </p:nvSpPr>
            <p:spPr>
              <a:xfrm>
                <a:off x="866880" y="47959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33"/>
              <p:cNvSpPr/>
              <p:nvPr/>
            </p:nvSpPr>
            <p:spPr>
              <a:xfrm>
                <a:off x="847800" y="4672080"/>
                <a:ext cx="46080" cy="12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34"/>
              <p:cNvSpPr/>
              <p:nvPr/>
            </p:nvSpPr>
            <p:spPr>
              <a:xfrm>
                <a:off x="857160" y="48243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35"/>
              <p:cNvSpPr/>
              <p:nvPr/>
            </p:nvSpPr>
            <p:spPr>
              <a:xfrm>
                <a:off x="1271520" y="4255920"/>
                <a:ext cx="339840" cy="34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36"/>
              <p:cNvSpPr/>
              <p:nvPr/>
            </p:nvSpPr>
            <p:spPr>
              <a:xfrm>
                <a:off x="851040" y="4302000"/>
                <a:ext cx="334800" cy="2826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37"/>
              <p:cNvSpPr/>
              <p:nvPr/>
            </p:nvSpPr>
            <p:spPr>
              <a:xfrm>
                <a:off x="1646280" y="4141800"/>
                <a:ext cx="100080" cy="1238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38"/>
              <p:cNvSpPr/>
              <p:nvPr/>
            </p:nvSpPr>
            <p:spPr>
              <a:xfrm>
                <a:off x="1376280" y="3922560"/>
                <a:ext cx="216000" cy="327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39"/>
              <p:cNvSpPr/>
              <p:nvPr/>
            </p:nvSpPr>
            <p:spPr>
              <a:xfrm>
                <a:off x="1297080" y="3979800"/>
                <a:ext cx="101520" cy="35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88E2FA-7F16-425B-A345-59B9793076C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Group 1"/>
          <p:cNvGrpSpPr/>
          <p:nvPr/>
        </p:nvGrpSpPr>
        <p:grpSpPr>
          <a:xfrm>
            <a:off x="0" y="0"/>
            <a:ext cx="9139320" cy="6850080"/>
            <a:chOff x="0" y="0"/>
            <a:chExt cx="9139320" cy="6850080"/>
          </a:xfrm>
        </p:grpSpPr>
        <p:sp>
          <p:nvSpPr>
            <p:cNvPr id="862" name="Freeform 2"/>
            <p:cNvSpPr/>
            <p:nvPr/>
          </p:nvSpPr>
          <p:spPr>
            <a:xfrm>
              <a:off x="2876400" y="4462560"/>
              <a:ext cx="6262920" cy="2387520"/>
            </a:xfrm>
            <a:custGeom>
              <a:avLst/>
              <a:gdLst>
                <a:gd name="textAreaLeft" fmla="*/ 0 w 6262920"/>
                <a:gd name="textAreaRight" fmla="*/ 6263280 w 626292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3"/>
            <p:cNvSpPr/>
            <p:nvPr/>
          </p:nvSpPr>
          <p:spPr>
            <a:xfrm>
              <a:off x="6389640" y="5757840"/>
              <a:ext cx="2749680" cy="1092240"/>
            </a:xfrm>
            <a:custGeom>
              <a:avLst/>
              <a:gdLst>
                <a:gd name="textAreaLeft" fmla="*/ 0 w 2749680"/>
                <a:gd name="textAreaRight" fmla="*/ 2750040 w 2749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>
              <a:off x="0" y="0"/>
              <a:ext cx="8853480" cy="5470560"/>
            </a:xfrm>
            <a:custGeom>
              <a:avLst/>
              <a:gdLst>
                <a:gd name="textAreaLeft" fmla="*/ 0 w 8853480"/>
                <a:gd name="textAreaRight" fmla="*/ 8853840 w 8853480"/>
                <a:gd name="textAreaTop" fmla="*/ 0 h 5470560"/>
                <a:gd name="textAreaBottom" fmla="*/ 5470920 h 547056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7845480" y="0"/>
              <a:ext cx="1293840" cy="43668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6"/>
            <p:cNvSpPr/>
            <p:nvPr/>
          </p:nvSpPr>
          <p:spPr>
            <a:xfrm>
              <a:off x="0" y="3149640"/>
              <a:ext cx="9139320" cy="33289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3328920"/>
                <a:gd name="textAreaBottom" fmla="*/ 3329280 h 332892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7"/>
            <p:cNvSpPr/>
            <p:nvPr/>
          </p:nvSpPr>
          <p:spPr>
            <a:xfrm>
              <a:off x="0" y="162000"/>
              <a:ext cx="3111480" cy="20066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8"/>
            <p:cNvSpPr/>
            <p:nvPr/>
          </p:nvSpPr>
          <p:spPr>
            <a:xfrm>
              <a:off x="0" y="0"/>
              <a:ext cx="7473960" cy="4603680"/>
            </a:xfrm>
            <a:custGeom>
              <a:avLst/>
              <a:gdLst>
                <a:gd name="textAreaLeft" fmla="*/ 0 w 7473960"/>
                <a:gd name="textAreaRight" fmla="*/ 7474320 w 7473960"/>
                <a:gd name="textAreaTop" fmla="*/ 0 h 4603680"/>
                <a:gd name="textAreaBottom" fmla="*/ 4604040 h 46036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9"/>
            <p:cNvSpPr/>
            <p:nvPr/>
          </p:nvSpPr>
          <p:spPr>
            <a:xfrm>
              <a:off x="0" y="0"/>
              <a:ext cx="5987880" cy="3738600"/>
            </a:xfrm>
            <a:custGeom>
              <a:avLst/>
              <a:gdLst>
                <a:gd name="textAreaLeft" fmla="*/ 0 w 5987880"/>
                <a:gd name="textAreaRight" fmla="*/ 5988240 w 5987880"/>
                <a:gd name="textAreaTop" fmla="*/ 0 h 3738600"/>
                <a:gd name="textAreaBottom" fmla="*/ 3738960 h 373860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0"/>
            <p:cNvSpPr/>
            <p:nvPr/>
          </p:nvSpPr>
          <p:spPr>
            <a:xfrm>
              <a:off x="0" y="0"/>
              <a:ext cx="4654440" cy="292896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2928960"/>
                <a:gd name="textAreaBottom" fmla="*/ 2929320 h 292896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1"/>
            <p:cNvSpPr/>
            <p:nvPr/>
          </p:nvSpPr>
          <p:spPr>
            <a:xfrm>
              <a:off x="181080" y="4519440"/>
              <a:ext cx="2368440" cy="322560"/>
            </a:xfrm>
            <a:custGeom>
              <a:avLst/>
              <a:gdLst>
                <a:gd name="textAreaLeft" fmla="*/ 0 w 2368440"/>
                <a:gd name="textAreaRight" fmla="*/ 2368800 w 23684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4" name="Group 14"/>
            <p:cNvGrpSpPr/>
            <p:nvPr/>
          </p:nvGrpSpPr>
          <p:grpSpPr>
            <a:xfrm>
              <a:off x="304920" y="3625920"/>
              <a:ext cx="1989000" cy="1463760"/>
              <a:chOff x="304920" y="3625920"/>
              <a:chExt cx="1989000" cy="1463760"/>
            </a:xfrm>
          </p:grpSpPr>
          <p:sp>
            <p:nvSpPr>
              <p:cNvPr id="875" name="Freeform 15"/>
              <p:cNvSpPr/>
              <p:nvPr/>
            </p:nvSpPr>
            <p:spPr>
              <a:xfrm>
                <a:off x="647640" y="4776840"/>
                <a:ext cx="73080" cy="792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16"/>
              <p:cNvSpPr/>
              <p:nvPr/>
            </p:nvSpPr>
            <p:spPr>
              <a:xfrm>
                <a:off x="1447920" y="3625920"/>
                <a:ext cx="512640" cy="25560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17"/>
              <p:cNvSpPr/>
              <p:nvPr/>
            </p:nvSpPr>
            <p:spPr>
              <a:xfrm>
                <a:off x="304920" y="3625920"/>
                <a:ext cx="1989000" cy="146376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18"/>
              <p:cNvSpPr/>
              <p:nvPr/>
            </p:nvSpPr>
            <p:spPr>
              <a:xfrm>
                <a:off x="1085760" y="4300560"/>
                <a:ext cx="73080" cy="1220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19"/>
              <p:cNvSpPr/>
              <p:nvPr/>
            </p:nvSpPr>
            <p:spPr>
              <a:xfrm>
                <a:off x="2038320" y="4083120"/>
                <a:ext cx="235080" cy="663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20"/>
              <p:cNvSpPr/>
              <p:nvPr/>
            </p:nvSpPr>
            <p:spPr>
              <a:xfrm>
                <a:off x="1809720" y="3863880"/>
                <a:ext cx="263520" cy="21744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21"/>
              <p:cNvSpPr/>
              <p:nvPr/>
            </p:nvSpPr>
            <p:spPr>
              <a:xfrm>
                <a:off x="1504800" y="367344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22"/>
              <p:cNvSpPr/>
              <p:nvPr/>
            </p:nvSpPr>
            <p:spPr>
              <a:xfrm>
                <a:off x="1781280" y="4092480"/>
                <a:ext cx="102960" cy="936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23"/>
              <p:cNvSpPr/>
              <p:nvPr/>
            </p:nvSpPr>
            <p:spPr>
              <a:xfrm>
                <a:off x="1495440" y="4245120"/>
                <a:ext cx="254160" cy="282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24"/>
              <p:cNvSpPr/>
              <p:nvPr/>
            </p:nvSpPr>
            <p:spPr>
              <a:xfrm>
                <a:off x="1170000" y="4386240"/>
                <a:ext cx="114120" cy="84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25"/>
              <p:cNvSpPr/>
              <p:nvPr/>
            </p:nvSpPr>
            <p:spPr>
              <a:xfrm>
                <a:off x="990720" y="4586400"/>
                <a:ext cx="17280" cy="83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26"/>
              <p:cNvSpPr/>
              <p:nvPr/>
            </p:nvSpPr>
            <p:spPr>
              <a:xfrm>
                <a:off x="781200" y="4795920"/>
                <a:ext cx="74520" cy="112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27"/>
              <p:cNvSpPr/>
              <p:nvPr/>
            </p:nvSpPr>
            <p:spPr>
              <a:xfrm>
                <a:off x="693720" y="4805280"/>
                <a:ext cx="455760" cy="131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28"/>
              <p:cNvSpPr/>
              <p:nvPr/>
            </p:nvSpPr>
            <p:spPr>
              <a:xfrm>
                <a:off x="1314360" y="4767120"/>
                <a:ext cx="103320" cy="169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29"/>
              <p:cNvSpPr/>
              <p:nvPr/>
            </p:nvSpPr>
            <p:spPr>
              <a:xfrm>
                <a:off x="581040" y="4938840"/>
                <a:ext cx="120600" cy="648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30"/>
              <p:cNvSpPr/>
              <p:nvPr/>
            </p:nvSpPr>
            <p:spPr>
              <a:xfrm>
                <a:off x="790560" y="5024520"/>
                <a:ext cx="103320" cy="46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31"/>
              <p:cNvSpPr/>
              <p:nvPr/>
            </p:nvSpPr>
            <p:spPr>
              <a:xfrm>
                <a:off x="1333440" y="4633920"/>
                <a:ext cx="27000" cy="93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32"/>
              <p:cNvSpPr/>
              <p:nvPr/>
            </p:nvSpPr>
            <p:spPr>
              <a:xfrm>
                <a:off x="866880" y="47959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33"/>
              <p:cNvSpPr/>
              <p:nvPr/>
            </p:nvSpPr>
            <p:spPr>
              <a:xfrm>
                <a:off x="847800" y="4672080"/>
                <a:ext cx="46080" cy="12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34"/>
              <p:cNvSpPr/>
              <p:nvPr/>
            </p:nvSpPr>
            <p:spPr>
              <a:xfrm>
                <a:off x="857160" y="48243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35"/>
              <p:cNvSpPr/>
              <p:nvPr/>
            </p:nvSpPr>
            <p:spPr>
              <a:xfrm>
                <a:off x="1271520" y="4255920"/>
                <a:ext cx="339840" cy="34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36"/>
              <p:cNvSpPr/>
              <p:nvPr/>
            </p:nvSpPr>
            <p:spPr>
              <a:xfrm>
                <a:off x="851040" y="4302000"/>
                <a:ext cx="334800" cy="2826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37"/>
              <p:cNvSpPr/>
              <p:nvPr/>
            </p:nvSpPr>
            <p:spPr>
              <a:xfrm>
                <a:off x="1646280" y="4141800"/>
                <a:ext cx="100080" cy="1238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38"/>
              <p:cNvSpPr/>
              <p:nvPr/>
            </p:nvSpPr>
            <p:spPr>
              <a:xfrm>
                <a:off x="1376280" y="3922560"/>
                <a:ext cx="216000" cy="327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39"/>
              <p:cNvSpPr/>
              <p:nvPr/>
            </p:nvSpPr>
            <p:spPr>
              <a:xfrm>
                <a:off x="1297080" y="3979800"/>
                <a:ext cx="101520" cy="35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3B16FD-433F-4D13-B267-E77D71E3847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249E8-FBC6-4D2E-9055-DB4A48269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 flipH="1" rot="6480000">
            <a:off x="729360" y="1490040"/>
            <a:ext cx="901440" cy="90216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-573120"/>
            <a:ext cx="7085160" cy="30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4640" y="1794960"/>
            <a:ext cx="78249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0" y="6145200"/>
            <a:ext cx="1370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1676160" y="6400800"/>
            <a:ext cx="3351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371600" y="6477120"/>
            <a:ext cx="303120" cy="3794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C33F95-F4A6-437B-A915-1D0B3AA1B6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3466080" y="1078560"/>
            <a:ext cx="6180840" cy="6803640"/>
            <a:chOff x="3466080" y="1078560"/>
            <a:chExt cx="6180840" cy="6803640"/>
          </a:xfrm>
        </p:grpSpPr>
        <p:sp>
          <p:nvSpPr>
            <p:cNvPr id="106" name="AutoShape 8"/>
            <p:cNvSpPr/>
            <p:nvPr/>
          </p:nvSpPr>
          <p:spPr>
            <a:xfrm flipH="1" rot="13500000">
              <a:off x="7021080" y="6247080"/>
              <a:ext cx="1021680" cy="10461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 rot="16200000">
              <a:off x="7467480" y="5412960"/>
              <a:ext cx="1581480" cy="15336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7911360" y="4089960"/>
              <a:ext cx="1454040" cy="148932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 rot="13500000">
              <a:off x="3925440" y="5137560"/>
              <a:ext cx="2311920" cy="22575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2"/>
            <p:cNvSpPr/>
            <p:nvPr/>
          </p:nvSpPr>
          <p:spPr>
            <a:xfrm flipH="1" rot="8100000">
              <a:off x="5688720" y="3885480"/>
              <a:ext cx="1046880" cy="10216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6896880" y="3300480"/>
              <a:ext cx="722520" cy="2208240"/>
              <a:chOff x="6896880" y="3300480"/>
              <a:chExt cx="722520" cy="2208240"/>
            </a:xfrm>
          </p:grpSpPr>
          <p:sp>
            <p:nvSpPr>
              <p:cNvPr id="112" name="Line 14"/>
              <p:cNvSpPr/>
              <p:nvPr/>
            </p:nvSpPr>
            <p:spPr>
              <a:xfrm>
                <a:off x="7617600" y="3320640"/>
                <a:ext cx="0" cy="14432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>
                <a:off x="6904080" y="4035960"/>
                <a:ext cx="0" cy="147276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 flipV="1">
                <a:off x="6904080" y="4768200"/>
                <a:ext cx="715320" cy="7351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6896880" y="3300480"/>
                <a:ext cx="722520" cy="7430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8"/>
            <p:cNvSpPr/>
            <p:nvPr/>
          </p:nvSpPr>
          <p:spPr>
            <a:xfrm rot="18900000">
              <a:off x="6902280" y="1538280"/>
              <a:ext cx="2257920" cy="231192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"/>
          <p:cNvGrpSpPr/>
          <p:nvPr/>
        </p:nvGrpSpPr>
        <p:grpSpPr>
          <a:xfrm>
            <a:off x="3466080" y="1078560"/>
            <a:ext cx="6180840" cy="6803640"/>
            <a:chOff x="3466080" y="1078560"/>
            <a:chExt cx="6180840" cy="6803640"/>
          </a:xfrm>
        </p:grpSpPr>
        <p:sp>
          <p:nvSpPr>
            <p:cNvPr id="154" name="AutoShape 2"/>
            <p:cNvSpPr/>
            <p:nvPr/>
          </p:nvSpPr>
          <p:spPr>
            <a:xfrm flipH="1" rot="13500000">
              <a:off x="7021080" y="6247080"/>
              <a:ext cx="1021680" cy="10461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3"/>
            <p:cNvSpPr/>
            <p:nvPr/>
          </p:nvSpPr>
          <p:spPr>
            <a:xfrm rot="16200000">
              <a:off x="7467480" y="5412960"/>
              <a:ext cx="1581480" cy="15336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>
              <a:off x="7911360" y="4089960"/>
              <a:ext cx="1454040" cy="148932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5"/>
            <p:cNvSpPr/>
            <p:nvPr/>
          </p:nvSpPr>
          <p:spPr>
            <a:xfrm rot="13500000">
              <a:off x="3925440" y="5137560"/>
              <a:ext cx="2311920" cy="22575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 flipH="1" rot="8100000">
              <a:off x="5688720" y="3885480"/>
              <a:ext cx="1046880" cy="10216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7"/>
            <p:cNvGrpSpPr/>
            <p:nvPr/>
          </p:nvGrpSpPr>
          <p:grpSpPr>
            <a:xfrm>
              <a:off x="6896880" y="3300480"/>
              <a:ext cx="722520" cy="2208240"/>
              <a:chOff x="6896880" y="3300480"/>
              <a:chExt cx="722520" cy="2208240"/>
            </a:xfrm>
          </p:grpSpPr>
          <p:sp>
            <p:nvSpPr>
              <p:cNvPr id="160" name="Line 8"/>
              <p:cNvSpPr/>
              <p:nvPr/>
            </p:nvSpPr>
            <p:spPr>
              <a:xfrm>
                <a:off x="7617600" y="3320640"/>
                <a:ext cx="0" cy="14432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9"/>
              <p:cNvSpPr/>
              <p:nvPr/>
            </p:nvSpPr>
            <p:spPr>
              <a:xfrm>
                <a:off x="6904080" y="4035960"/>
                <a:ext cx="0" cy="147276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0"/>
              <p:cNvSpPr/>
              <p:nvPr/>
            </p:nvSpPr>
            <p:spPr>
              <a:xfrm flipV="1">
                <a:off x="6904080" y="4768200"/>
                <a:ext cx="715320" cy="7351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 flipV="1">
                <a:off x="6896880" y="3300480"/>
                <a:ext cx="722520" cy="7430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AutoShape 12"/>
            <p:cNvSpPr/>
            <p:nvPr/>
          </p:nvSpPr>
          <p:spPr>
            <a:xfrm rot="18900000">
              <a:off x="6902280" y="1538280"/>
              <a:ext cx="2257920" cy="231192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0960" cy="24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3344760" y="2457000"/>
            <a:ext cx="5448240" cy="4864320"/>
            <a:chOff x="3344760" y="2457000"/>
            <a:chExt cx="5448240" cy="4864320"/>
          </a:xfrm>
        </p:grpSpPr>
        <p:sp>
          <p:nvSpPr>
            <p:cNvPr id="167" name="AutoShape 15"/>
            <p:cNvSpPr/>
            <p:nvPr/>
          </p:nvSpPr>
          <p:spPr>
            <a:xfrm>
              <a:off x="7512120" y="3391200"/>
              <a:ext cx="1280880" cy="133452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7"/>
            <p:cNvSpPr/>
            <p:nvPr/>
          </p:nvSpPr>
          <p:spPr>
            <a:xfrm rot="18900000">
              <a:off x="4010040" y="4244400"/>
              <a:ext cx="1989000" cy="207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8"/>
            <p:cNvSpPr/>
            <p:nvPr/>
          </p:nvSpPr>
          <p:spPr>
            <a:xfrm flipH="1" rot="13500000">
              <a:off x="6050880" y="6202800"/>
              <a:ext cx="900000" cy="937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9"/>
            <p:cNvSpPr/>
            <p:nvPr/>
          </p:nvSpPr>
          <p:spPr>
            <a:xfrm rot="16200000">
              <a:off x="6993000" y="4763520"/>
              <a:ext cx="1416960" cy="1351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20"/>
            <p:cNvSpPr/>
            <p:nvPr/>
          </p:nvSpPr>
          <p:spPr>
            <a:xfrm rot="10800000">
              <a:off x="3344760" y="2457000"/>
              <a:ext cx="1989360" cy="207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21"/>
            <p:cNvSpPr/>
            <p:nvPr/>
          </p:nvSpPr>
          <p:spPr>
            <a:xfrm flipH="1" rot="8100000">
              <a:off x="5392800" y="4384080"/>
              <a:ext cx="937800" cy="900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Rectangle 22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0" y="6145200"/>
            <a:ext cx="1370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676160" y="6400800"/>
            <a:ext cx="3351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1371600" y="6477120"/>
            <a:ext cx="303120" cy="3794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B5807A-9999-4E36-B929-04587F4B9E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620640" y="1447920"/>
            <a:ext cx="8521920" cy="74520"/>
            <a:chOff x="620640" y="1447920"/>
            <a:chExt cx="8521920" cy="74520"/>
          </a:xfrm>
        </p:grpSpPr>
        <p:sp>
          <p:nvSpPr>
            <p:cNvPr id="215" name="Line 3"/>
            <p:cNvSpPr/>
            <p:nvPr/>
          </p:nvSpPr>
          <p:spPr>
            <a:xfrm>
              <a:off x="620640" y="1522440"/>
              <a:ext cx="8521920" cy="0"/>
            </a:xfrm>
            <a:prstGeom prst="line">
              <a:avLst/>
            </a:prstGeom>
            <a:ln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"/>
            <p:cNvSpPr/>
            <p:nvPr/>
          </p:nvSpPr>
          <p:spPr>
            <a:xfrm>
              <a:off x="620640" y="1447920"/>
              <a:ext cx="8521920" cy="0"/>
            </a:xfrm>
            <a:prstGeom prst="line">
              <a:avLst/>
            </a:prstGeom>
            <a:ln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040" y="205920"/>
            <a:ext cx="83235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096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3"/>
          </p:nvPr>
        </p:nvSpPr>
        <p:spPr>
          <a:xfrm>
            <a:off x="32763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965EDF-BC81-46B8-962E-318BB4672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59" name="Rectangle 2"/>
            <p:cNvSpPr/>
            <p:nvPr/>
          </p:nvSpPr>
          <p:spPr>
            <a:xfrm>
              <a:off x="0" y="0"/>
              <a:ext cx="144288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Group 3"/>
            <p:cNvGrpSpPr/>
            <p:nvPr/>
          </p:nvGrpSpPr>
          <p:grpSpPr>
            <a:xfrm>
              <a:off x="604800" y="3619440"/>
              <a:ext cx="8521560" cy="74520"/>
              <a:chOff x="604800" y="3619440"/>
              <a:chExt cx="8521560" cy="74520"/>
            </a:xfrm>
          </p:grpSpPr>
          <p:sp>
            <p:nvSpPr>
              <p:cNvPr id="261" name="Line 4"/>
              <p:cNvSpPr/>
              <p:nvPr/>
            </p:nvSpPr>
            <p:spPr>
              <a:xfrm>
                <a:off x="604800" y="3693960"/>
                <a:ext cx="8521560" cy="0"/>
              </a:xfrm>
              <a:prstGeom prst="line">
                <a:avLst/>
              </a:prstGeom>
              <a:ln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5"/>
              <p:cNvSpPr/>
              <p:nvPr/>
            </p:nvSpPr>
            <p:spPr>
              <a:xfrm>
                <a:off x="604800" y="3619440"/>
                <a:ext cx="8521560" cy="0"/>
              </a:xfrm>
              <a:prstGeom prst="line">
                <a:avLst/>
              </a:prstGeom>
              <a:ln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Rectangle 6"/>
            <p:cNvSpPr/>
            <p:nvPr/>
          </p:nvSpPr>
          <p:spPr>
            <a:xfrm>
              <a:off x="609480" y="1523880"/>
              <a:ext cx="8531280" cy="6080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74840"/>
            <a:ext cx="777096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16"/>
          </p:nvPr>
        </p:nvSpPr>
        <p:spPr>
          <a:xfrm>
            <a:off x="32763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7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91DE5-E2BF-4A6B-B8C3-45B5CB1C49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1697EB-CE45-4EC1-A506-5AB8BB11F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Freeform 2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64ECCC-CA51-491F-AD51-B7A850220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388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8480"/>
                <a:gd name="textAreaBottom" fmla="*/ 2238840 h 22384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120"/>
                <a:gd name="textAreaBottom" fmla="*/ 2202480 h 2202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32120"/>
                <a:gd name="textAreaBottom" fmla="*/ 2832480 h 2832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>
                <a:gd name="textAreaLeft" fmla="*/ 0 w 4569120"/>
                <a:gd name="textAreaRight" fmla="*/ 4569480 w 4569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dt" idx="25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6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5F953B-F4B8-4B98-8B17-6ACEBE39D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5582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онеры – геро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дный отряд послевоенного советского дет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у каждого ребенка будет крыша над головой, уголок для игрушек, одежда и обу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все дети ходят в школу, изучают основы наук и растут знающими и умел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все дети растут в мире, счасливыми и радост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мальчики и девочки всегда будут равны в детстве и когда выраст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над головами ребят сверкает солнц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ня Гол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3" name="Picture 2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3552840" cy="2421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с в деревне Луки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ригадный разведчик 67 отря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ствовал в 27 боев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ц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гиб 1943г. под селом Острая Л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-го апреля 1944г присвоено звание Героя Советского Сою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2378160" cy="2636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5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146320" cy="285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аля Кот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ер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ионе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дился 11февраля 1930 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Жил в селе Хмелев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лся в школе №4 города Шепето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гражден ордером отечественной вой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-й степен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далью -«Партизану Отечественной Войн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-й степен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ед школой где учился стоит его памят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9" name="Picture 3" descr=""/>
          <p:cNvPicPr/>
          <p:nvPr/>
        </p:nvPicPr>
        <p:blipFill>
          <a:blip r:embed="rId9"/>
          <a:stretch/>
        </p:blipFill>
        <p:spPr>
          <a:xfrm>
            <a:off x="324000" y="1341360"/>
            <a:ext cx="3386160" cy="360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Марат Каз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41920" cy="41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Герой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1944 г. получил медаль «За отвагу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достоен звания Героя Советского Союз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городе Минске поставлен памятник юному герою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2657520" cy="33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9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ася Коробко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дчик и диверс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орденами Ленина, Красного Знамени, Отечественной войны 1 степ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алью « Патриоту Отечественной войн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3" descr=""/>
          <p:cNvPicPr/>
          <p:nvPr/>
        </p:nvPicPr>
        <p:blipFill>
          <a:blip r:embed="rId1"/>
          <a:stretch/>
        </p:blipFill>
        <p:spPr>
          <a:xfrm>
            <a:off x="5234040" y="2082960"/>
            <a:ext cx="3668760" cy="36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лександр Бородул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он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тизан-подрыв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44 г. награжден ордером Красного Зна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гиб, прикрывая отход партизанского отря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8" name="Group 3"/>
          <p:cNvGrpSpPr/>
          <p:nvPr/>
        </p:nvGrpSpPr>
        <p:grpSpPr>
          <a:xfrm>
            <a:off x="4710240" y="1724040"/>
            <a:ext cx="3952800" cy="4002120"/>
            <a:chOff x="4710240" y="1724040"/>
            <a:chExt cx="3952800" cy="4002120"/>
          </a:xfrm>
        </p:grpSpPr>
        <p:pic>
          <p:nvPicPr>
            <p:cNvPr id="959" name="Picture 4" descr=""/>
            <p:cNvPicPr/>
            <p:nvPr/>
          </p:nvPicPr>
          <p:blipFill>
            <a:blip r:embed="rId1"/>
            <a:stretch/>
          </p:blipFill>
          <p:spPr>
            <a:xfrm>
              <a:off x="4710240" y="1724040"/>
              <a:ext cx="3952800" cy="40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Text Box 5"/>
            <p:cNvSpPr/>
            <p:nvPr/>
          </p:nvSpPr>
          <p:spPr>
            <a:xfrm>
              <a:off x="4710240" y="1724040"/>
              <a:ext cx="3952800" cy="40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риса Михеенк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1898640" y="2530440"/>
            <a:ext cx="1963800" cy="24004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нинградская школь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дч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а ордером Отечественной войны 1 степени, посмер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2484360" y="692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градская школьница, разведч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мертно награждена званием Герой Советского Сою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 января 1944г. расстреля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3"/>
          <p:cNvGrpSpPr/>
          <p:nvPr/>
        </p:nvGrpSpPr>
        <p:grpSpPr>
          <a:xfrm>
            <a:off x="5624640" y="2057400"/>
            <a:ext cx="2705040" cy="2757600"/>
            <a:chOff x="5624640" y="2057400"/>
            <a:chExt cx="2705040" cy="2757600"/>
          </a:xfrm>
        </p:grpSpPr>
        <p:pic>
          <p:nvPicPr>
            <p:cNvPr id="968" name="Picture 4" descr=""/>
            <p:cNvPicPr/>
            <p:nvPr/>
          </p:nvPicPr>
          <p:blipFill>
            <a:blip r:embed="rId2"/>
            <a:stretch/>
          </p:blipFill>
          <p:spPr>
            <a:xfrm>
              <a:off x="5624640" y="2057400"/>
              <a:ext cx="270504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Text Box 5"/>
            <p:cNvSpPr/>
            <p:nvPr/>
          </p:nvSpPr>
          <p:spPr>
            <a:xfrm>
              <a:off x="5624640" y="2057400"/>
              <a:ext cx="2705040" cy="27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ина Куковеро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643280" y="1980720"/>
            <a:ext cx="3811680" cy="438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оне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нинградская школь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изанка –разведч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граждена медалью «партизану Отечественной войны» 1 степе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мертно награждена ордером Отечественной войны» 1 степе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2" name="Group 3"/>
          <p:cNvGrpSpPr/>
          <p:nvPr/>
        </p:nvGrpSpPr>
        <p:grpSpPr>
          <a:xfrm>
            <a:off x="814320" y="2201760"/>
            <a:ext cx="2652840" cy="3113280"/>
            <a:chOff x="814320" y="2201760"/>
            <a:chExt cx="2652840" cy="3113280"/>
          </a:xfrm>
        </p:grpSpPr>
        <p:pic>
          <p:nvPicPr>
            <p:cNvPr id="973" name="Picture 4" descr=""/>
            <p:cNvPicPr/>
            <p:nvPr/>
          </p:nvPicPr>
          <p:blipFill>
            <a:blip r:embed="rId1"/>
            <a:stretch/>
          </p:blipFill>
          <p:spPr>
            <a:xfrm>
              <a:off x="814320" y="2201760"/>
              <a:ext cx="2652840" cy="31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5"/>
            <p:cNvSpPr/>
            <p:nvPr/>
          </p:nvSpPr>
          <p:spPr>
            <a:xfrm>
              <a:off x="814320" y="2201760"/>
              <a:ext cx="2652840" cy="31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45:57Z</dcterms:created>
  <dc:creator>Петр</dc:creator>
  <dc:description/>
  <dc:language>en-US</dc:language>
  <cp:lastModifiedBy>Админ</cp:lastModifiedBy>
  <dcterms:modified xsi:type="dcterms:W3CDTF">2021-03-25T18:31:06Z</dcterms:modified>
  <cp:revision>8</cp:revision>
  <dc:subject/>
  <dc:title>Пионеры – герои.</dc:title>
</cp:coreProperties>
</file>