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ADBF-EAF1-44F0-B23E-EC4E677A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BA5B-EA7F-4BF1-8626-5367122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4FD67-F30E-4B5B-BA1C-0987C99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9BC80-4BA8-46A3-94FB-D245A441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6CA3C-0E96-475B-9AD0-0E89DC7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9890-CA63-4D90-A921-DF4F14B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C28EF-D9C8-4401-A834-EEA6065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CACB-B599-45C7-AF84-37866626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9BCAE-CFA1-4350-99CC-8A90524F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0C742-498D-435A-9A01-B29E97F8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6359E-EB91-4E71-994F-85861CB9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E9CE0-D7A9-4422-9F29-4E467B28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CBA2E-A69F-47F7-A14B-5C51ED38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27F86-F77F-42A9-A536-27C83103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86612-2EB9-40FB-9F64-C7CC6ACC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A3BB5-48D7-46E1-AF7B-D23EB81D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4E8AF-C58C-41AE-A3BC-D4D4B93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EC955-DA6D-4C39-AFC6-954A6E9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64637-C5FB-4DE9-90E9-27100843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CE419-6D13-4059-B8F1-9CCC3C9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3D889-CCF3-40E1-A48C-369F2388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AE334-9882-49D4-9ECE-42696430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E1B9B-1AC7-4A5E-839C-56AAE00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CED8-5CBA-4994-AB55-97302681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BA3E4-2077-4158-AC61-7267DE66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4C8C-C80F-403F-91B6-687FEDDE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AF37-9278-4DD8-B4C7-6CC2864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B9DB7-C6AF-4009-ACDA-AD00B260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549D-B57A-4E22-8BED-9C73E242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F893D-ABD5-4EE5-9E89-88791B2C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6E8F-9554-4B95-B31C-D4F84716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4EB20-3731-4CA6-8E64-BD30486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9A2E-2BCA-4BD0-83DA-5A50226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6DAA-94C8-4E18-9868-3AF879A3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91ED-A6D5-461C-BCE2-9176F1FF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6C833-37BA-4A53-8D36-416DE982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E06C7-B9BE-470D-B826-95897EB0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D588B-E672-4001-BEB9-B49EFEE2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B2EC5-BAEA-4DDC-9941-0F998D7A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13267-F86E-4B30-879B-03CCA61E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5CC4C-5C1B-4982-828D-F192F1D6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D6715-FFC7-4207-B9E7-ABB7ADD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FF772-249B-4B0F-8E34-9F9AE687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AFA13-651D-4B9C-9603-5AF3DA56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AD023-C4A0-47E9-8D04-342F2078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FEF3-9EFD-40D3-8F95-53570377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E1DA-D8B1-4692-A180-FB8F08B8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FC3ED-6C06-41E3-BD30-901A2723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85852-5387-42DD-AE2D-ED49A98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1C3EC-ECD6-4BE4-A44E-E23213DA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C4A1E-C174-4915-BFC5-C7636A32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8A26E-FC14-4954-AA27-AF3AE7E1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A3176-4E23-42C8-B3B6-8B96297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73BB3-85B8-4169-B14D-9B7B3D7E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B8552-594F-4BE9-8EEF-36DE8F07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AC0FE-7E7B-4981-A434-0D29656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B110-D8A1-452B-87C4-618D0E00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CD9FF-59DA-409C-813C-6B029819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7F282-86A1-4065-8AF2-DDAA8423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D479A-A2AD-45F2-BF72-32F935A2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D6657-5B62-4869-8C68-6062353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C16C6-7A12-445C-9D38-F292444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A70DF-5BDE-4617-B4C3-D51769FF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D236A-105B-435C-B2F2-D98357F8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B5A7C-BF95-4025-815A-2398D5E3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168F0-8D20-4B9D-8B7E-2519A46D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B1BEB-24A6-4AA7-B7B2-C6C04A0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2D48-F985-4F03-80AD-505BBB1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08D81-94A1-4076-9AA3-4F2A80C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E2FED-F703-4586-9A88-9E518D2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9DBEA-CD51-47FC-84F5-3B550E1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79777-D0BA-4CCA-8451-1076D4D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55E83-27B3-43D0-8429-4AC261AA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552B3-F038-4F02-B9AC-9249A64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EAAF3-8615-47DD-8FBF-9CDEFC3A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78548-2C27-466D-AB99-9AA0597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42E543-A3C4-4AA6-B9CB-4547C08C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1EE1890-6ADA-468C-88E8-613365EA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4B17-DCA6-4F0E-8153-1E3F10BF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099201-38C3-4142-9404-C250D52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8C1919-B45C-4B6A-9450-8D6E730E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C6551B-EE5B-46AF-9679-24EBB011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25F465-A50E-4A3F-AC74-4A099C4D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DD4116-889B-4707-BC59-7B8DA317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1568D3-73A5-4E9E-847D-D8141C9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B66434-B328-4A58-AA96-E3F3D61E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18C0FB-1930-425A-A40E-8426BAB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4138C1-DFB1-43A5-86B9-0B8FD9B6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121E68-F380-4038-8226-FA364031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01C8-56EB-4727-9FA1-952332D7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F8B06D-19D2-4342-A6CD-6BB20C15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BA02C-0E30-4C18-B453-DA289793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1A2C9B-14C9-4F74-82E0-524FED6E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C4E15-8ACD-4F3F-B41B-D8D2509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09041-4533-4672-90D2-C463DC7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DEE1A-DD19-49E6-AE2C-7B7513F2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D3C49-46B1-41F7-80AC-DFEC10E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E7479-51D1-4626-AB6A-6BD99FB5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6E6DD-DAF7-4608-8005-74DA619F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1A2F2-74B7-40A7-A35E-D35387E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3D22-E73E-4BCD-9D73-81C2D6CA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F8D68-6344-4D1F-BEB4-A2266851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9626FE-3FE4-4FC9-BF42-04487362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14589-24A0-47F1-8503-CBCAD329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442EE-4D5E-4E9F-989C-1A355B2F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FD686-C077-4F2E-AF3D-4BE755D9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7E244-D836-4E75-A37F-842BE50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552BD-6C74-4772-BBC3-C14E09C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22F88-7E56-4553-90C0-0CB375A0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F08A2-B528-4AB2-A9D1-757516B2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4C21D-4B18-43AA-BCA4-8F39F7D3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A94F-2358-4712-A6BD-86BD964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D3A-5CEB-4384-A454-10BED6E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0D51B-D1F0-40DF-B61D-A8C766E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02EE06-9256-466F-846B-C7B5448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D3BC4-C78C-4F0E-B35B-D1652C46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8AA5CB-C7D4-43E6-A1FF-DA70BA91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BAB57-CB8E-4E1B-9900-C7127BBB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8A231-AEB1-421E-B8E9-7BD8DC5A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E1633-AA78-4491-8D1C-932896D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C1FD2-EAFE-4265-BD7F-45223831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1E498-5E2B-4925-8E63-EA745868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6A783F-1B69-44E3-8CFD-2B0A324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3E6C-8625-425E-A177-CC347B52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3584C-9240-4B2A-A22F-E0C87306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52041-6326-4C06-8726-494E372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481655-D11D-4603-B7D2-DA2181D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08BA1-7567-4741-A5BE-E24CBD7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A24DD-2E3A-4F36-9670-EAC5741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868AD-568A-40A8-8DF2-F333C794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33E5E-EC56-4548-9176-FAC1622C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3BA-F215-46F2-ABDF-4747CECD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675C-49E8-461F-B812-6FAFDDF9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321-B00B-45E6-BF65-3070ECAB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0FEB-A90A-44BF-AF89-55C0AF5E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1F7D-5056-4A9C-B9CB-EC23D85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2AF5-3DAA-4103-874F-8747EDA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4BC0-483C-4D8B-BD16-3BFE443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5D7DC-91D9-4A01-981D-EFE740D0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8152-79C8-41CC-9572-A0E3E96B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865F-D376-4864-8701-B5BEA11F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D226-6C4E-4012-87CC-685BE25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A52C-8EC7-4659-95CA-DE656718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DE3BC-9FDA-4898-A079-5287A73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2DA78-7834-436A-9EDD-3922E1C1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2825-ECD2-4740-AC9F-59CFC69A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1293-A207-4D0F-9F05-B95A9634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0BDB-AA57-43F5-A7AE-A7FDB11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E3DF-EDE0-44B3-9904-727CAFD4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68305-4271-47F0-A101-323B09EB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7A0A-CEB7-4564-B591-AECC95F4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1247-BA9C-490E-BBDE-A3D168A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F4DD-112A-4238-9D79-3AFFAB9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E70D-E18D-43C8-8BC8-DB80FEB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2C6C-9237-45B2-A399-A5F0EAB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A72E-B125-45BD-B8DA-35F1985B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B2C6-607C-4B10-AF1D-3F032E79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BB75-2F78-4809-B3D6-19CF5800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7248-9D17-4050-91D3-FC2087DB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C41F-AD1C-4992-B751-ABE71D97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079A5-65E5-409A-9E1E-E724043A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904B-2890-4363-9EE5-B9EC6F87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E47C2-D942-4F17-AFD3-2851C0B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189CF-5F3E-4574-865F-403497D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01314-5F24-49F7-B744-0B8DB110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37BEA-AD60-4D10-9019-B66D662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C2955-7AB7-42ED-B5A2-67D49186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9E2D1-9149-4163-AD9C-C3B49EA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418D0-4EF8-4599-8C87-50D44F0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6B8C8-61D6-4512-BC85-D4DF124C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FF6A0-C9C8-4CF0-BDFB-E38A724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6C6E2-89E4-49E5-BF7A-A74EF1AB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4321-6248-416E-9879-CDD99610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871DA-6B08-4674-B08C-C5D770CD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74F01-F4CC-4FC9-9FFC-5ABEFA0E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01AF1-EFBC-451C-BFEB-C7FD6B6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416ED-FD15-498A-A708-267AC211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36937-B747-4074-9B87-8B9338DD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3F174-8C0A-4561-A6AD-92D167F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F8856-301B-4B7B-977B-71F6467B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B04B3-3303-4B8A-A43C-F9C9891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BFA84-9E36-4E5A-8036-876F39B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25CF3-F8F1-4C42-96B4-6E1BE33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5238-7D80-4800-8FF6-2B32D0CC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B4BAC-9CF7-4B0A-9437-752988A5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A46ED-D494-4276-9D8A-F9841FF4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92EFE-5897-4662-80C8-33874D10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EEB3-E55D-4436-B89E-A6705B3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4A43-8430-4941-B681-D3E61C9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C45A-8399-4D5C-A671-6DE19CFF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1560-3A98-46B5-A52B-C093E501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A787-D362-4C65-B80C-C425BD2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C85BB-1F31-4E96-8B73-1236523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F845F-CF4A-4C2B-BD28-7093B86B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E8FD-509A-4A28-90B1-975E377C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C334-34F8-4B7D-99BB-581DF38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BE1D-AFC0-42AB-ADD5-BF47A209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136B-B681-493F-B4A8-82E729E1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87ACF-C448-4D57-A2C6-33D83EB0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2CDA4-E23F-4CF8-BB9D-EDC61177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6C27E-C7C7-4A13-BF6C-C04BC861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D7DCF-85BA-446D-90E6-E55646C2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1C5EF3-4BEB-46E5-B30A-E154731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B02053-EF1E-48C9-BCC9-82CA87D2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10115-D539-4D01-AABF-D668761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9B10-23EB-45BD-BC26-978971AD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159840"/>
            <a:ext cx="822816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A40E0-EAB5-4400-BF51-34DF3968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7D9B35-3CE3-4728-AD8B-44A5D1B0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D64C7-E658-4737-AF00-C8594683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801E0-29DD-48BB-9692-7102D6A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78F822-323E-4BAC-AE28-BC5C1CA9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94B90-444F-4E8C-90D1-EC5F96CC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62D0D-B276-4AC7-AA08-FECBD22D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B65FD-BCA3-4317-95A2-FDCE60DD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CE0CC-3334-4E1C-B531-864BDFD4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6C959-156C-491F-B743-7933293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60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A48352-3AD9-4574-89AA-8827BDDD596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"/>
          <p:cNvGrpSpPr/>
          <p:nvPr/>
        </p:nvGrpSpPr>
        <p:grpSpPr>
          <a:xfrm>
            <a:off x="318960" y="1752480"/>
            <a:ext cx="8823600" cy="5127840"/>
            <a:chOff x="318960" y="1752480"/>
            <a:chExt cx="8823600" cy="5127840"/>
          </a:xfrm>
        </p:grpSpPr>
        <p:sp>
          <p:nvSpPr>
            <p:cNvPr id="438" name="Freeform 2"/>
            <p:cNvSpPr/>
            <p:nvPr/>
          </p:nvSpPr>
          <p:spPr>
            <a:xfrm>
              <a:off x="33336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"/>
            <p:cNvSpPr/>
            <p:nvPr/>
          </p:nvSpPr>
          <p:spPr>
            <a:xfrm>
              <a:off x="838080" y="3809880"/>
              <a:ext cx="8304480" cy="30466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6680"/>
                <a:gd name="textAreaBottom" fmla="*/ 3047040 h 304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4"/>
            <p:cNvSpPr/>
            <p:nvPr/>
          </p:nvSpPr>
          <p:spPr>
            <a:xfrm>
              <a:off x="318960" y="3773520"/>
              <a:ext cx="5483520" cy="44280"/>
            </a:xfrm>
            <a:custGeom>
              <a:avLst/>
              <a:gdLst>
                <a:gd name="textAreaLeft" fmla="*/ 0 w 5483520"/>
                <a:gd name="textAreaRight" fmla="*/ 5483880 w 54835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"/>
            <p:cNvSpPr/>
            <p:nvPr/>
          </p:nvSpPr>
          <p:spPr>
            <a:xfrm>
              <a:off x="838080" y="1752480"/>
              <a:ext cx="7767720" cy="44640"/>
            </a:xfrm>
            <a:custGeom>
              <a:avLst/>
              <a:gdLst>
                <a:gd name="textAreaLeft" fmla="*/ 0 w 7767720"/>
                <a:gd name="textAreaRight" fmla="*/ 7767720 w 77677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6"/>
            <p:cNvSpPr/>
            <p:nvPr/>
          </p:nvSpPr>
          <p:spPr>
            <a:xfrm>
              <a:off x="318960" y="3773520"/>
              <a:ext cx="46080" cy="31068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106800"/>
                <a:gd name="textAreaBottom" fmla="*/ 3107160 h 31068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7"/>
            <p:cNvSpPr/>
            <p:nvPr/>
          </p:nvSpPr>
          <p:spPr>
            <a:xfrm>
              <a:off x="838080" y="1752480"/>
              <a:ext cx="44640" cy="5118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118120"/>
                <a:gd name="textAreaBottom" fmla="*/ 5118480 h 5118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8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9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85701D-4C7E-4D35-8686-20866EE38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1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485" name="Freeform 2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>
                <a:gd name="textAreaLeft" fmla="*/ 0 w 7121520"/>
                <a:gd name="textAreaRight" fmla="*/ 7121880 w 712152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a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3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>
                <a:gd name="textAreaLeft" fmla="*/ 0 w 7240680"/>
                <a:gd name="textAreaRight" fmla="*/ 7241040 w 7240680"/>
                <a:gd name="textAreaTop" fmla="*/ 0 h 1901880"/>
                <a:gd name="textAreaBottom" fmla="*/ 1902240 h 190188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29439C-274D-419F-AD1D-94B78DBDBA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529" name="Freeform 2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>
                <a:gd name="textAreaLeft" fmla="*/ 0 w 8182080"/>
                <a:gd name="textAreaRight" fmla="*/ 8182440 w 8182080"/>
                <a:gd name="textAreaTop" fmla="*/ 0 h 3656160"/>
                <a:gd name="textAreaBottom" fmla="*/ 3656520 h 365616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00000"/>
                </a:gs>
                <a:gs pos="100000">
                  <a:srgbClr val="72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3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>
                <a:gd name="textAreaLeft" fmla="*/ 0 w 8456760"/>
                <a:gd name="textAreaRight" fmla="*/ 8457120 w 8456760"/>
                <a:gd name="textAreaTop" fmla="*/ 0 h 5854680"/>
                <a:gd name="textAreaBottom" fmla="*/ 5855040 h 585468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CCBD2A-EB48-49F1-9937-582E8CE1E40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1"/>
          <p:cNvGrpSpPr/>
          <p:nvPr/>
        </p:nvGrpSpPr>
        <p:grpSpPr>
          <a:xfrm>
            <a:off x="-8405640" y="4680"/>
            <a:ext cx="16819560" cy="13689000"/>
            <a:chOff x="-8405640" y="4680"/>
            <a:chExt cx="16819560" cy="13689000"/>
          </a:xfrm>
        </p:grpSpPr>
        <p:sp>
          <p:nvSpPr>
            <p:cNvPr id="572" name="AutoShape 3"/>
            <p:cNvSpPr/>
            <p:nvPr/>
          </p:nvSpPr>
          <p:spPr>
            <a:xfrm>
              <a:off x="-8405640" y="4680"/>
              <a:ext cx="16819560" cy="13689000"/>
            </a:xfrm>
            <a:custGeom>
              <a:avLst/>
              <a:gdLst>
                <a:gd name="textAreaLeft" fmla="*/ 2462040 w 16819560"/>
                <a:gd name="textAreaRight" fmla="*/ 14357520 w 16819560"/>
                <a:gd name="textAreaTop" fmla="*/ 2005200 h 13689000"/>
                <a:gd name="textAreaBottom" fmla="*/ 11683800 h 136890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256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40FA942-EC4F-4A02-8B18-4F51C57D5BDF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"/>
          <p:cNvGrpSpPr/>
          <p:nvPr/>
        </p:nvGrpSpPr>
        <p:grpSpPr>
          <a:xfrm>
            <a:off x="13358880" y="1463760"/>
            <a:ext cx="360" cy="21588480"/>
            <a:chOff x="13358880" y="1463760"/>
            <a:chExt cx="360" cy="21588480"/>
          </a:xfrm>
        </p:grpSpPr>
        <p:sp>
          <p:nvSpPr>
            <p:cNvPr id="615" name="AutoShape 3"/>
            <p:cNvSpPr/>
            <p:nvPr/>
          </p:nvSpPr>
          <p:spPr>
            <a:xfrm>
              <a:off x="13358880" y="1463760"/>
              <a:ext cx="360" cy="21588480"/>
            </a:xfrm>
            <a:custGeom>
              <a:avLst/>
              <a:gdLst>
                <a:gd name="textAreaLeft" fmla="*/ 0 w 360"/>
                <a:gd name="textAreaRight" fmla="*/ 360 w 360"/>
                <a:gd name="textAreaTop" fmla="*/ 0 h 21588480"/>
                <a:gd name="textAreaBottom" fmla="*/ 10793160 h 2158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1365" y="0"/>
                    <a:pt x="11930" y="44"/>
                    <a:pt x="12488" y="132"/>
                  </a:cubicBezTo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cubicBezTo>
                    <a:pt x="10799" y="0"/>
                    <a:pt x="10799" y="-1"/>
                    <a:pt x="10800" y="0"/>
                  </a:cubicBezTo>
                  <a:cubicBezTo>
                    <a:pt x="11365" y="0"/>
                    <a:pt x="11930" y="44"/>
                    <a:pt x="12488" y="132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0"/>
          </p:nvPr>
        </p:nvSpPr>
        <p:spPr>
          <a:xfrm>
            <a:off x="7214760" y="644220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41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42"/>
          </p:nvPr>
        </p:nvSpPr>
        <p:spPr>
          <a:xfrm>
            <a:off x="7198920" y="6148440"/>
            <a:ext cx="19033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lvl="1" marL="743040" indent="0" algn="r">
              <a:lnSpc>
                <a:spcPct val="100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37B020-B82A-4FD8-83B6-359123E2F8F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657" name="Rectangle 2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3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4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5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6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7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8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9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10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11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5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6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7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18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19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20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81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4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C60F9-F31A-4861-AD77-173D6E08A6F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4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720" name="Rectangle 2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Rectangle 3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4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Rectangle 6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7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8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Rectangle 9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Rectangle 10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Rectangle 11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12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13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Rectangle 14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Rectangle 15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Rectangle 16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Rectangle 17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Rectangle 18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Rectangle 19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Rectangle 20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21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22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09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4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367089-811A-4C45-BC70-6E62BC8DBC1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"/>
          <p:cNvGrpSpPr/>
          <p:nvPr/>
        </p:nvGrpSpPr>
        <p:grpSpPr>
          <a:xfrm>
            <a:off x="0" y="0"/>
            <a:ext cx="9139320" cy="6850080"/>
            <a:chOff x="0" y="0"/>
            <a:chExt cx="9139320" cy="6850080"/>
          </a:xfrm>
        </p:grpSpPr>
        <p:sp>
          <p:nvSpPr>
            <p:cNvPr id="782" name="Freeform 2"/>
            <p:cNvSpPr/>
            <p:nvPr/>
          </p:nvSpPr>
          <p:spPr>
            <a:xfrm>
              <a:off x="2876400" y="4462560"/>
              <a:ext cx="6262920" cy="2387520"/>
            </a:xfrm>
            <a:custGeom>
              <a:avLst/>
              <a:gdLst>
                <a:gd name="textAreaLeft" fmla="*/ 0 w 6262920"/>
                <a:gd name="textAreaRight" fmla="*/ 6263280 w 626292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3"/>
            <p:cNvSpPr/>
            <p:nvPr/>
          </p:nvSpPr>
          <p:spPr>
            <a:xfrm>
              <a:off x="6389640" y="5757840"/>
              <a:ext cx="2749680" cy="1092240"/>
            </a:xfrm>
            <a:custGeom>
              <a:avLst/>
              <a:gdLst>
                <a:gd name="textAreaLeft" fmla="*/ 0 w 2749680"/>
                <a:gd name="textAreaRight" fmla="*/ 2750040 w 2749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4"/>
            <p:cNvSpPr/>
            <p:nvPr/>
          </p:nvSpPr>
          <p:spPr>
            <a:xfrm>
              <a:off x="0" y="0"/>
              <a:ext cx="8853480" cy="5470560"/>
            </a:xfrm>
            <a:custGeom>
              <a:avLst/>
              <a:gdLst>
                <a:gd name="textAreaLeft" fmla="*/ 0 w 8853480"/>
                <a:gd name="textAreaRight" fmla="*/ 8853840 w 8853480"/>
                <a:gd name="textAreaTop" fmla="*/ 0 h 5470560"/>
                <a:gd name="textAreaBottom" fmla="*/ 5470920 h 547056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Freeform 5"/>
            <p:cNvSpPr/>
            <p:nvPr/>
          </p:nvSpPr>
          <p:spPr>
            <a:xfrm>
              <a:off x="7845480" y="0"/>
              <a:ext cx="1293840" cy="43668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>
              <a:off x="0" y="3149640"/>
              <a:ext cx="9139320" cy="33289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3328920"/>
                <a:gd name="textAreaBottom" fmla="*/ 3329280 h 332892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Freeform 7"/>
            <p:cNvSpPr/>
            <p:nvPr/>
          </p:nvSpPr>
          <p:spPr>
            <a:xfrm>
              <a:off x="0" y="162000"/>
              <a:ext cx="3111480" cy="20066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Freeform 8"/>
            <p:cNvSpPr/>
            <p:nvPr/>
          </p:nvSpPr>
          <p:spPr>
            <a:xfrm>
              <a:off x="0" y="0"/>
              <a:ext cx="7473960" cy="4603680"/>
            </a:xfrm>
            <a:custGeom>
              <a:avLst/>
              <a:gdLst>
                <a:gd name="textAreaLeft" fmla="*/ 0 w 7473960"/>
                <a:gd name="textAreaRight" fmla="*/ 7474320 w 7473960"/>
                <a:gd name="textAreaTop" fmla="*/ 0 h 4603680"/>
                <a:gd name="textAreaBottom" fmla="*/ 4604040 h 46036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Freeform 9"/>
            <p:cNvSpPr/>
            <p:nvPr/>
          </p:nvSpPr>
          <p:spPr>
            <a:xfrm>
              <a:off x="0" y="0"/>
              <a:ext cx="5987880" cy="3738600"/>
            </a:xfrm>
            <a:custGeom>
              <a:avLst/>
              <a:gdLst>
                <a:gd name="textAreaLeft" fmla="*/ 0 w 5987880"/>
                <a:gd name="textAreaRight" fmla="*/ 5988240 w 5987880"/>
                <a:gd name="textAreaTop" fmla="*/ 0 h 3738600"/>
                <a:gd name="textAreaBottom" fmla="*/ 3738960 h 373860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Freeform 10"/>
            <p:cNvSpPr/>
            <p:nvPr/>
          </p:nvSpPr>
          <p:spPr>
            <a:xfrm>
              <a:off x="0" y="0"/>
              <a:ext cx="4654440" cy="292896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2928960"/>
                <a:gd name="textAreaBottom" fmla="*/ 2929320 h 292896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Freeform 11"/>
            <p:cNvSpPr/>
            <p:nvPr/>
          </p:nvSpPr>
          <p:spPr>
            <a:xfrm>
              <a:off x="181080" y="4519440"/>
              <a:ext cx="2368440" cy="322560"/>
            </a:xfrm>
            <a:custGeom>
              <a:avLst/>
              <a:gdLst>
                <a:gd name="textAreaLeft" fmla="*/ 0 w 2368440"/>
                <a:gd name="textAreaRight" fmla="*/ 2368800 w 23684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4" name="Group 14"/>
            <p:cNvGrpSpPr/>
            <p:nvPr/>
          </p:nvGrpSpPr>
          <p:grpSpPr>
            <a:xfrm>
              <a:off x="304920" y="3625920"/>
              <a:ext cx="1989000" cy="1463760"/>
              <a:chOff x="304920" y="3625920"/>
              <a:chExt cx="1989000" cy="1463760"/>
            </a:xfrm>
          </p:grpSpPr>
          <p:sp>
            <p:nvSpPr>
              <p:cNvPr id="795" name="Freeform 15"/>
              <p:cNvSpPr/>
              <p:nvPr/>
            </p:nvSpPr>
            <p:spPr>
              <a:xfrm>
                <a:off x="647640" y="4776840"/>
                <a:ext cx="73080" cy="792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16"/>
              <p:cNvSpPr/>
              <p:nvPr/>
            </p:nvSpPr>
            <p:spPr>
              <a:xfrm>
                <a:off x="1447920" y="3625920"/>
                <a:ext cx="512640" cy="25560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17"/>
              <p:cNvSpPr/>
              <p:nvPr/>
            </p:nvSpPr>
            <p:spPr>
              <a:xfrm>
                <a:off x="304920" y="3625920"/>
                <a:ext cx="1989000" cy="146376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18"/>
              <p:cNvSpPr/>
              <p:nvPr/>
            </p:nvSpPr>
            <p:spPr>
              <a:xfrm>
                <a:off x="1085760" y="4300560"/>
                <a:ext cx="73080" cy="1220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19"/>
              <p:cNvSpPr/>
              <p:nvPr/>
            </p:nvSpPr>
            <p:spPr>
              <a:xfrm>
                <a:off x="2038320" y="4083120"/>
                <a:ext cx="235080" cy="663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20"/>
              <p:cNvSpPr/>
              <p:nvPr/>
            </p:nvSpPr>
            <p:spPr>
              <a:xfrm>
                <a:off x="1809720" y="3863880"/>
                <a:ext cx="263520" cy="21744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Freeform 21"/>
              <p:cNvSpPr/>
              <p:nvPr/>
            </p:nvSpPr>
            <p:spPr>
              <a:xfrm>
                <a:off x="1504800" y="367344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22"/>
              <p:cNvSpPr/>
              <p:nvPr/>
            </p:nvSpPr>
            <p:spPr>
              <a:xfrm>
                <a:off x="1781280" y="4092480"/>
                <a:ext cx="102960" cy="936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Freeform 23"/>
              <p:cNvSpPr/>
              <p:nvPr/>
            </p:nvSpPr>
            <p:spPr>
              <a:xfrm>
                <a:off x="1495440" y="4245120"/>
                <a:ext cx="254160" cy="282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24"/>
              <p:cNvSpPr/>
              <p:nvPr/>
            </p:nvSpPr>
            <p:spPr>
              <a:xfrm>
                <a:off x="1170000" y="4386240"/>
                <a:ext cx="114120" cy="84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Freeform 25"/>
              <p:cNvSpPr/>
              <p:nvPr/>
            </p:nvSpPr>
            <p:spPr>
              <a:xfrm>
                <a:off x="990720" y="4586400"/>
                <a:ext cx="17280" cy="83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26"/>
              <p:cNvSpPr/>
              <p:nvPr/>
            </p:nvSpPr>
            <p:spPr>
              <a:xfrm>
                <a:off x="781200" y="4795920"/>
                <a:ext cx="74520" cy="112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27"/>
              <p:cNvSpPr/>
              <p:nvPr/>
            </p:nvSpPr>
            <p:spPr>
              <a:xfrm>
                <a:off x="693720" y="4805280"/>
                <a:ext cx="455760" cy="131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28"/>
              <p:cNvSpPr/>
              <p:nvPr/>
            </p:nvSpPr>
            <p:spPr>
              <a:xfrm>
                <a:off x="1314360" y="4767120"/>
                <a:ext cx="103320" cy="169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29"/>
              <p:cNvSpPr/>
              <p:nvPr/>
            </p:nvSpPr>
            <p:spPr>
              <a:xfrm>
                <a:off x="581040" y="4938840"/>
                <a:ext cx="120600" cy="648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30"/>
              <p:cNvSpPr/>
              <p:nvPr/>
            </p:nvSpPr>
            <p:spPr>
              <a:xfrm>
                <a:off x="790560" y="5024520"/>
                <a:ext cx="103320" cy="46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31"/>
              <p:cNvSpPr/>
              <p:nvPr/>
            </p:nvSpPr>
            <p:spPr>
              <a:xfrm>
                <a:off x="1333440" y="4633920"/>
                <a:ext cx="27000" cy="93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32"/>
              <p:cNvSpPr/>
              <p:nvPr/>
            </p:nvSpPr>
            <p:spPr>
              <a:xfrm>
                <a:off x="866880" y="47959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33"/>
              <p:cNvSpPr/>
              <p:nvPr/>
            </p:nvSpPr>
            <p:spPr>
              <a:xfrm>
                <a:off x="847800" y="4672080"/>
                <a:ext cx="46080" cy="12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Freeform 34"/>
              <p:cNvSpPr/>
              <p:nvPr/>
            </p:nvSpPr>
            <p:spPr>
              <a:xfrm>
                <a:off x="857160" y="48243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35"/>
              <p:cNvSpPr/>
              <p:nvPr/>
            </p:nvSpPr>
            <p:spPr>
              <a:xfrm>
                <a:off x="1271520" y="4255920"/>
                <a:ext cx="339840" cy="34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Freeform 36"/>
              <p:cNvSpPr/>
              <p:nvPr/>
            </p:nvSpPr>
            <p:spPr>
              <a:xfrm>
                <a:off x="851040" y="4302000"/>
                <a:ext cx="334800" cy="2826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37"/>
              <p:cNvSpPr/>
              <p:nvPr/>
            </p:nvSpPr>
            <p:spPr>
              <a:xfrm>
                <a:off x="1646280" y="4141800"/>
                <a:ext cx="100080" cy="1238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Freeform 38"/>
              <p:cNvSpPr/>
              <p:nvPr/>
            </p:nvSpPr>
            <p:spPr>
              <a:xfrm>
                <a:off x="1376280" y="3922560"/>
                <a:ext cx="216000" cy="327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39"/>
              <p:cNvSpPr/>
              <p:nvPr/>
            </p:nvSpPr>
            <p:spPr>
              <a:xfrm>
                <a:off x="1297080" y="3979800"/>
                <a:ext cx="101520" cy="35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D8CD5E-3DAB-4810-9BB4-BBD40999307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Group 1"/>
          <p:cNvGrpSpPr/>
          <p:nvPr/>
        </p:nvGrpSpPr>
        <p:grpSpPr>
          <a:xfrm>
            <a:off x="0" y="0"/>
            <a:ext cx="9139320" cy="6850080"/>
            <a:chOff x="0" y="0"/>
            <a:chExt cx="9139320" cy="6850080"/>
          </a:xfrm>
        </p:grpSpPr>
        <p:sp>
          <p:nvSpPr>
            <p:cNvPr id="862" name="Freeform 2"/>
            <p:cNvSpPr/>
            <p:nvPr/>
          </p:nvSpPr>
          <p:spPr>
            <a:xfrm>
              <a:off x="2876400" y="4462560"/>
              <a:ext cx="6262920" cy="2387520"/>
            </a:xfrm>
            <a:custGeom>
              <a:avLst/>
              <a:gdLst>
                <a:gd name="textAreaLeft" fmla="*/ 0 w 6262920"/>
                <a:gd name="textAreaRight" fmla="*/ 6263280 w 6262920"/>
                <a:gd name="textAreaTop" fmla="*/ 0 h 2387520"/>
                <a:gd name="textAreaBottom" fmla="*/ 2387880 h 238752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3"/>
            <p:cNvSpPr/>
            <p:nvPr/>
          </p:nvSpPr>
          <p:spPr>
            <a:xfrm>
              <a:off x="6389640" y="5757840"/>
              <a:ext cx="2749680" cy="1092240"/>
            </a:xfrm>
            <a:custGeom>
              <a:avLst/>
              <a:gdLst>
                <a:gd name="textAreaLeft" fmla="*/ 0 w 2749680"/>
                <a:gd name="textAreaRight" fmla="*/ 2750040 w 274968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>
              <a:off x="0" y="0"/>
              <a:ext cx="8853480" cy="5470560"/>
            </a:xfrm>
            <a:custGeom>
              <a:avLst/>
              <a:gdLst>
                <a:gd name="textAreaLeft" fmla="*/ 0 w 8853480"/>
                <a:gd name="textAreaRight" fmla="*/ 8853840 w 8853480"/>
                <a:gd name="textAreaTop" fmla="*/ 0 h 5470560"/>
                <a:gd name="textAreaBottom" fmla="*/ 5470920 h 547056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7845480" y="0"/>
              <a:ext cx="1293840" cy="436680"/>
            </a:xfrm>
            <a:custGeom>
              <a:avLst/>
              <a:gdLst>
                <a:gd name="textAreaLeft" fmla="*/ 0 w 1293840"/>
                <a:gd name="textAreaRight" fmla="*/ 1294200 w 12938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6"/>
            <p:cNvSpPr/>
            <p:nvPr/>
          </p:nvSpPr>
          <p:spPr>
            <a:xfrm>
              <a:off x="0" y="3149640"/>
              <a:ext cx="9139320" cy="33289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3328920"/>
                <a:gd name="textAreaBottom" fmla="*/ 3329280 h 332892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7"/>
            <p:cNvSpPr/>
            <p:nvPr/>
          </p:nvSpPr>
          <p:spPr>
            <a:xfrm>
              <a:off x="0" y="162000"/>
              <a:ext cx="3111480" cy="20066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2006640"/>
                <a:gd name="textAreaBottom" fmla="*/ 2007000 h 200664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8"/>
            <p:cNvSpPr/>
            <p:nvPr/>
          </p:nvSpPr>
          <p:spPr>
            <a:xfrm>
              <a:off x="0" y="0"/>
              <a:ext cx="7473960" cy="4603680"/>
            </a:xfrm>
            <a:custGeom>
              <a:avLst/>
              <a:gdLst>
                <a:gd name="textAreaLeft" fmla="*/ 0 w 7473960"/>
                <a:gd name="textAreaRight" fmla="*/ 7474320 w 7473960"/>
                <a:gd name="textAreaTop" fmla="*/ 0 h 4603680"/>
                <a:gd name="textAreaBottom" fmla="*/ 4604040 h 46036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9"/>
            <p:cNvSpPr/>
            <p:nvPr/>
          </p:nvSpPr>
          <p:spPr>
            <a:xfrm>
              <a:off x="0" y="0"/>
              <a:ext cx="5987880" cy="3738600"/>
            </a:xfrm>
            <a:custGeom>
              <a:avLst/>
              <a:gdLst>
                <a:gd name="textAreaLeft" fmla="*/ 0 w 5987880"/>
                <a:gd name="textAreaRight" fmla="*/ 5988240 w 5987880"/>
                <a:gd name="textAreaTop" fmla="*/ 0 h 3738600"/>
                <a:gd name="textAreaBottom" fmla="*/ 3738960 h 373860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0"/>
            <p:cNvSpPr/>
            <p:nvPr/>
          </p:nvSpPr>
          <p:spPr>
            <a:xfrm>
              <a:off x="0" y="0"/>
              <a:ext cx="4654440" cy="292896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2928960"/>
                <a:gd name="textAreaBottom" fmla="*/ 2929320 h 292896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1"/>
            <p:cNvSpPr/>
            <p:nvPr/>
          </p:nvSpPr>
          <p:spPr>
            <a:xfrm>
              <a:off x="181080" y="4519440"/>
              <a:ext cx="2368440" cy="322560"/>
            </a:xfrm>
            <a:custGeom>
              <a:avLst/>
              <a:gdLst>
                <a:gd name="textAreaLeft" fmla="*/ 0 w 2368440"/>
                <a:gd name="textAreaRight" fmla="*/ 2368800 w 23684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12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13"/>
            <p:cNvSpPr/>
            <p:nvPr/>
          </p:nvSpPr>
          <p:spPr>
            <a:xfrm>
              <a:off x="750960" y="4929120"/>
              <a:ext cx="360" cy="36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4" name="Group 14"/>
            <p:cNvGrpSpPr/>
            <p:nvPr/>
          </p:nvGrpSpPr>
          <p:grpSpPr>
            <a:xfrm>
              <a:off x="304920" y="3625920"/>
              <a:ext cx="1989000" cy="1463760"/>
              <a:chOff x="304920" y="3625920"/>
              <a:chExt cx="1989000" cy="1463760"/>
            </a:xfrm>
          </p:grpSpPr>
          <p:sp>
            <p:nvSpPr>
              <p:cNvPr id="875" name="Freeform 15"/>
              <p:cNvSpPr/>
              <p:nvPr/>
            </p:nvSpPr>
            <p:spPr>
              <a:xfrm>
                <a:off x="647640" y="4776840"/>
                <a:ext cx="73080" cy="7920"/>
              </a:xfrm>
              <a:custGeom>
                <a:avLst/>
                <a:gdLst>
                  <a:gd name="textAreaLeft" fmla="*/ 0 w 73080"/>
                  <a:gd name="textAreaRight" fmla="*/ 73080 w 73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16"/>
              <p:cNvSpPr/>
              <p:nvPr/>
            </p:nvSpPr>
            <p:spPr>
              <a:xfrm>
                <a:off x="1447920" y="3625920"/>
                <a:ext cx="512640" cy="25560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17"/>
              <p:cNvSpPr/>
              <p:nvPr/>
            </p:nvSpPr>
            <p:spPr>
              <a:xfrm>
                <a:off x="304920" y="3625920"/>
                <a:ext cx="1989000" cy="146376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18"/>
              <p:cNvSpPr/>
              <p:nvPr/>
            </p:nvSpPr>
            <p:spPr>
              <a:xfrm>
                <a:off x="1085760" y="4300560"/>
                <a:ext cx="73080" cy="1220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19"/>
              <p:cNvSpPr/>
              <p:nvPr/>
            </p:nvSpPr>
            <p:spPr>
              <a:xfrm>
                <a:off x="2038320" y="4083120"/>
                <a:ext cx="235080" cy="6634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20"/>
              <p:cNvSpPr/>
              <p:nvPr/>
            </p:nvSpPr>
            <p:spPr>
              <a:xfrm>
                <a:off x="1809720" y="3863880"/>
                <a:ext cx="263520" cy="21744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21"/>
              <p:cNvSpPr/>
              <p:nvPr/>
            </p:nvSpPr>
            <p:spPr>
              <a:xfrm>
                <a:off x="1504800" y="3673440"/>
                <a:ext cx="177840" cy="1792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Freeform 22"/>
              <p:cNvSpPr/>
              <p:nvPr/>
            </p:nvSpPr>
            <p:spPr>
              <a:xfrm>
                <a:off x="1781280" y="4092480"/>
                <a:ext cx="102960" cy="9360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23"/>
              <p:cNvSpPr/>
              <p:nvPr/>
            </p:nvSpPr>
            <p:spPr>
              <a:xfrm>
                <a:off x="1495440" y="4245120"/>
                <a:ext cx="254160" cy="2826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24"/>
              <p:cNvSpPr/>
              <p:nvPr/>
            </p:nvSpPr>
            <p:spPr>
              <a:xfrm>
                <a:off x="1170000" y="4386240"/>
                <a:ext cx="114120" cy="84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25"/>
              <p:cNvSpPr/>
              <p:nvPr/>
            </p:nvSpPr>
            <p:spPr>
              <a:xfrm>
                <a:off x="990720" y="4586400"/>
                <a:ext cx="17280" cy="838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83880"/>
                  <a:gd name="textAreaBottom" fmla="*/ 83880 h 838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26"/>
              <p:cNvSpPr/>
              <p:nvPr/>
            </p:nvSpPr>
            <p:spPr>
              <a:xfrm>
                <a:off x="781200" y="4795920"/>
                <a:ext cx="74520" cy="1126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27"/>
              <p:cNvSpPr/>
              <p:nvPr/>
            </p:nvSpPr>
            <p:spPr>
              <a:xfrm>
                <a:off x="693720" y="4805280"/>
                <a:ext cx="455760" cy="131760"/>
              </a:xfrm>
              <a:custGeom>
                <a:avLst/>
                <a:gdLst>
                  <a:gd name="textAreaLeft" fmla="*/ 0 w 455760"/>
                  <a:gd name="textAreaRight" fmla="*/ 456120 w 455760"/>
                  <a:gd name="textAreaTop" fmla="*/ 0 h 131760"/>
                  <a:gd name="textAreaBottom" fmla="*/ 131760 h 1317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28"/>
              <p:cNvSpPr/>
              <p:nvPr/>
            </p:nvSpPr>
            <p:spPr>
              <a:xfrm>
                <a:off x="1314360" y="4767120"/>
                <a:ext cx="103320" cy="1699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29"/>
              <p:cNvSpPr/>
              <p:nvPr/>
            </p:nvSpPr>
            <p:spPr>
              <a:xfrm>
                <a:off x="581040" y="4938840"/>
                <a:ext cx="120600" cy="648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30"/>
              <p:cNvSpPr/>
              <p:nvPr/>
            </p:nvSpPr>
            <p:spPr>
              <a:xfrm>
                <a:off x="790560" y="5024520"/>
                <a:ext cx="103320" cy="4608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31"/>
              <p:cNvSpPr/>
              <p:nvPr/>
            </p:nvSpPr>
            <p:spPr>
              <a:xfrm>
                <a:off x="1333440" y="4633920"/>
                <a:ext cx="27000" cy="93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32"/>
              <p:cNvSpPr/>
              <p:nvPr/>
            </p:nvSpPr>
            <p:spPr>
              <a:xfrm>
                <a:off x="866880" y="479592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Freeform 33"/>
              <p:cNvSpPr/>
              <p:nvPr/>
            </p:nvSpPr>
            <p:spPr>
              <a:xfrm>
                <a:off x="847800" y="4672080"/>
                <a:ext cx="46080" cy="12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34"/>
              <p:cNvSpPr/>
              <p:nvPr/>
            </p:nvSpPr>
            <p:spPr>
              <a:xfrm>
                <a:off x="857160" y="4824360"/>
                <a:ext cx="36720" cy="367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35"/>
              <p:cNvSpPr/>
              <p:nvPr/>
            </p:nvSpPr>
            <p:spPr>
              <a:xfrm>
                <a:off x="1271520" y="4255920"/>
                <a:ext cx="339840" cy="34164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41640"/>
                  <a:gd name="textAreaBottom" fmla="*/ 342000 h 34164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Freeform 36"/>
              <p:cNvSpPr/>
              <p:nvPr/>
            </p:nvSpPr>
            <p:spPr>
              <a:xfrm>
                <a:off x="851040" y="4302000"/>
                <a:ext cx="334800" cy="282600"/>
              </a:xfrm>
              <a:custGeom>
                <a:avLst/>
                <a:gdLst>
                  <a:gd name="textAreaLeft" fmla="*/ 0 w 334800"/>
                  <a:gd name="textAreaRight" fmla="*/ 335160 w 334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37"/>
              <p:cNvSpPr/>
              <p:nvPr/>
            </p:nvSpPr>
            <p:spPr>
              <a:xfrm>
                <a:off x="1646280" y="4141800"/>
                <a:ext cx="100080" cy="12384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38"/>
              <p:cNvSpPr/>
              <p:nvPr/>
            </p:nvSpPr>
            <p:spPr>
              <a:xfrm>
                <a:off x="1376280" y="3922560"/>
                <a:ext cx="216000" cy="327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39"/>
              <p:cNvSpPr/>
              <p:nvPr/>
            </p:nvSpPr>
            <p:spPr>
              <a:xfrm>
                <a:off x="1297080" y="3979800"/>
                <a:ext cx="101520" cy="35100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3AAA4A-0B43-4B82-871C-AE2F631AC2A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096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60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7B8DD9-EBCC-4DE0-A15A-9821AB655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"/>
          <p:cNvSpPr/>
          <p:nvPr/>
        </p:nvSpPr>
        <p:spPr>
          <a:xfrm flipH="1" rot="6480000">
            <a:off x="729360" y="1490040"/>
            <a:ext cx="901440" cy="90216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6000" y="-573120"/>
            <a:ext cx="7085160" cy="30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4640" y="1794960"/>
            <a:ext cx="782496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0" y="6145200"/>
            <a:ext cx="1370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1676160" y="6400800"/>
            <a:ext cx="3351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1371600" y="6477120"/>
            <a:ext cx="303120" cy="3794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988467-28C1-45E5-81D9-62E2117B33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3466080" y="1078560"/>
            <a:ext cx="6180840" cy="6803640"/>
            <a:chOff x="3466080" y="1078560"/>
            <a:chExt cx="6180840" cy="6803640"/>
          </a:xfrm>
        </p:grpSpPr>
        <p:sp>
          <p:nvSpPr>
            <p:cNvPr id="106" name="AutoShape 8"/>
            <p:cNvSpPr/>
            <p:nvPr/>
          </p:nvSpPr>
          <p:spPr>
            <a:xfrm flipH="1" rot="13500000">
              <a:off x="7021080" y="6247080"/>
              <a:ext cx="1021680" cy="10461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 rot="16200000">
              <a:off x="7467480" y="5412960"/>
              <a:ext cx="1581480" cy="15336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7911360" y="4089960"/>
              <a:ext cx="1454040" cy="148932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 rot="13500000">
              <a:off x="3925440" y="5137560"/>
              <a:ext cx="2311920" cy="22575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AutoShape 12"/>
            <p:cNvSpPr/>
            <p:nvPr/>
          </p:nvSpPr>
          <p:spPr>
            <a:xfrm flipH="1" rot="8100000">
              <a:off x="5688720" y="3885480"/>
              <a:ext cx="1046880" cy="10216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13"/>
            <p:cNvGrpSpPr/>
            <p:nvPr/>
          </p:nvGrpSpPr>
          <p:grpSpPr>
            <a:xfrm>
              <a:off x="6896880" y="3300480"/>
              <a:ext cx="722520" cy="2208240"/>
              <a:chOff x="6896880" y="3300480"/>
              <a:chExt cx="722520" cy="2208240"/>
            </a:xfrm>
          </p:grpSpPr>
          <p:sp>
            <p:nvSpPr>
              <p:cNvPr id="112" name="Line 14"/>
              <p:cNvSpPr/>
              <p:nvPr/>
            </p:nvSpPr>
            <p:spPr>
              <a:xfrm>
                <a:off x="7617600" y="3320640"/>
                <a:ext cx="0" cy="14432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>
                <a:off x="6904080" y="4035960"/>
                <a:ext cx="0" cy="147276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 flipV="1">
                <a:off x="6904080" y="4768200"/>
                <a:ext cx="715320" cy="7351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6896880" y="3300480"/>
                <a:ext cx="722520" cy="7430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18"/>
            <p:cNvSpPr/>
            <p:nvPr/>
          </p:nvSpPr>
          <p:spPr>
            <a:xfrm rot="18900000">
              <a:off x="6902280" y="1538280"/>
              <a:ext cx="2257920" cy="231192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1"/>
          <p:cNvGrpSpPr/>
          <p:nvPr/>
        </p:nvGrpSpPr>
        <p:grpSpPr>
          <a:xfrm>
            <a:off x="3466080" y="1078560"/>
            <a:ext cx="6180840" cy="6803640"/>
            <a:chOff x="3466080" y="1078560"/>
            <a:chExt cx="6180840" cy="6803640"/>
          </a:xfrm>
        </p:grpSpPr>
        <p:sp>
          <p:nvSpPr>
            <p:cNvPr id="154" name="AutoShape 2"/>
            <p:cNvSpPr/>
            <p:nvPr/>
          </p:nvSpPr>
          <p:spPr>
            <a:xfrm flipH="1" rot="13500000">
              <a:off x="7021080" y="6247080"/>
              <a:ext cx="1021680" cy="10461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3"/>
            <p:cNvSpPr/>
            <p:nvPr/>
          </p:nvSpPr>
          <p:spPr>
            <a:xfrm rot="16200000">
              <a:off x="7467480" y="5412960"/>
              <a:ext cx="1581480" cy="15336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AutoShape 4"/>
            <p:cNvSpPr/>
            <p:nvPr/>
          </p:nvSpPr>
          <p:spPr>
            <a:xfrm>
              <a:off x="7911360" y="4089960"/>
              <a:ext cx="1454040" cy="148932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AutoShape 5"/>
            <p:cNvSpPr/>
            <p:nvPr/>
          </p:nvSpPr>
          <p:spPr>
            <a:xfrm rot="13500000">
              <a:off x="3925440" y="5137560"/>
              <a:ext cx="2311920" cy="225756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6"/>
            <p:cNvSpPr/>
            <p:nvPr/>
          </p:nvSpPr>
          <p:spPr>
            <a:xfrm flipH="1" rot="8100000">
              <a:off x="5688720" y="3885480"/>
              <a:ext cx="1046880" cy="10216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7"/>
            <p:cNvGrpSpPr/>
            <p:nvPr/>
          </p:nvGrpSpPr>
          <p:grpSpPr>
            <a:xfrm>
              <a:off x="6896880" y="3300480"/>
              <a:ext cx="722520" cy="2208240"/>
              <a:chOff x="6896880" y="3300480"/>
              <a:chExt cx="722520" cy="2208240"/>
            </a:xfrm>
          </p:grpSpPr>
          <p:sp>
            <p:nvSpPr>
              <p:cNvPr id="160" name="Line 8"/>
              <p:cNvSpPr/>
              <p:nvPr/>
            </p:nvSpPr>
            <p:spPr>
              <a:xfrm>
                <a:off x="7617600" y="3320640"/>
                <a:ext cx="0" cy="14432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9"/>
              <p:cNvSpPr/>
              <p:nvPr/>
            </p:nvSpPr>
            <p:spPr>
              <a:xfrm>
                <a:off x="6904080" y="4035960"/>
                <a:ext cx="0" cy="147276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0"/>
              <p:cNvSpPr/>
              <p:nvPr/>
            </p:nvSpPr>
            <p:spPr>
              <a:xfrm flipV="1">
                <a:off x="6904080" y="4768200"/>
                <a:ext cx="715320" cy="7351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1"/>
              <p:cNvSpPr/>
              <p:nvPr/>
            </p:nvSpPr>
            <p:spPr>
              <a:xfrm flipV="1">
                <a:off x="6896880" y="3300480"/>
                <a:ext cx="722520" cy="74304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AutoShape 12"/>
            <p:cNvSpPr/>
            <p:nvPr/>
          </p:nvSpPr>
          <p:spPr>
            <a:xfrm rot="18900000">
              <a:off x="6902280" y="1538280"/>
              <a:ext cx="2257920" cy="231192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0960" cy="243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3344760" y="2457000"/>
            <a:ext cx="5448240" cy="4864320"/>
            <a:chOff x="3344760" y="2457000"/>
            <a:chExt cx="5448240" cy="4864320"/>
          </a:xfrm>
        </p:grpSpPr>
        <p:sp>
          <p:nvSpPr>
            <p:cNvPr id="167" name="AutoShape 15"/>
            <p:cNvSpPr/>
            <p:nvPr/>
          </p:nvSpPr>
          <p:spPr>
            <a:xfrm>
              <a:off x="7512120" y="3391200"/>
              <a:ext cx="1280880" cy="133452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17"/>
            <p:cNvSpPr/>
            <p:nvPr/>
          </p:nvSpPr>
          <p:spPr>
            <a:xfrm rot="18900000">
              <a:off x="4010040" y="4244400"/>
              <a:ext cx="1989000" cy="207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8"/>
            <p:cNvSpPr/>
            <p:nvPr/>
          </p:nvSpPr>
          <p:spPr>
            <a:xfrm flipH="1" rot="13500000">
              <a:off x="6050880" y="6202800"/>
              <a:ext cx="900000" cy="937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9"/>
            <p:cNvSpPr/>
            <p:nvPr/>
          </p:nvSpPr>
          <p:spPr>
            <a:xfrm rot="16200000">
              <a:off x="6993000" y="4763520"/>
              <a:ext cx="1416960" cy="1351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20"/>
            <p:cNvSpPr/>
            <p:nvPr/>
          </p:nvSpPr>
          <p:spPr>
            <a:xfrm rot="10800000">
              <a:off x="3344760" y="2457000"/>
              <a:ext cx="1989360" cy="207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21"/>
            <p:cNvSpPr/>
            <p:nvPr/>
          </p:nvSpPr>
          <p:spPr>
            <a:xfrm flipH="1" rot="8100000">
              <a:off x="5392800" y="4384080"/>
              <a:ext cx="937800" cy="900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Rectangle 22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0" y="6145200"/>
            <a:ext cx="1370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1676160" y="6400800"/>
            <a:ext cx="33512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1371600" y="6477120"/>
            <a:ext cx="303120" cy="37944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56F772-285E-4724-A678-A6264212C8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620640" y="1447920"/>
            <a:ext cx="8521920" cy="74520"/>
            <a:chOff x="620640" y="1447920"/>
            <a:chExt cx="8521920" cy="74520"/>
          </a:xfrm>
        </p:grpSpPr>
        <p:sp>
          <p:nvSpPr>
            <p:cNvPr id="215" name="Line 3"/>
            <p:cNvSpPr/>
            <p:nvPr/>
          </p:nvSpPr>
          <p:spPr>
            <a:xfrm>
              <a:off x="620640" y="1522440"/>
              <a:ext cx="8521920" cy="0"/>
            </a:xfrm>
            <a:prstGeom prst="line">
              <a:avLst/>
            </a:prstGeom>
            <a:ln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"/>
            <p:cNvSpPr/>
            <p:nvPr/>
          </p:nvSpPr>
          <p:spPr>
            <a:xfrm>
              <a:off x="620640" y="1447920"/>
              <a:ext cx="8521920" cy="0"/>
            </a:xfrm>
            <a:prstGeom prst="line">
              <a:avLst/>
            </a:prstGeom>
            <a:ln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040" y="205920"/>
            <a:ext cx="83235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096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3"/>
          </p:nvPr>
        </p:nvSpPr>
        <p:spPr>
          <a:xfrm>
            <a:off x="32763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D0F5A0-6050-4F05-9810-99BA0C5123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59" name="Rectangle 2"/>
            <p:cNvSpPr/>
            <p:nvPr/>
          </p:nvSpPr>
          <p:spPr>
            <a:xfrm>
              <a:off x="0" y="0"/>
              <a:ext cx="1442880" cy="685656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Group 3"/>
            <p:cNvGrpSpPr/>
            <p:nvPr/>
          </p:nvGrpSpPr>
          <p:grpSpPr>
            <a:xfrm>
              <a:off x="604800" y="3619440"/>
              <a:ext cx="8521560" cy="74520"/>
              <a:chOff x="604800" y="3619440"/>
              <a:chExt cx="8521560" cy="74520"/>
            </a:xfrm>
          </p:grpSpPr>
          <p:sp>
            <p:nvSpPr>
              <p:cNvPr id="261" name="Line 4"/>
              <p:cNvSpPr/>
              <p:nvPr/>
            </p:nvSpPr>
            <p:spPr>
              <a:xfrm>
                <a:off x="604800" y="3693960"/>
                <a:ext cx="8521560" cy="0"/>
              </a:xfrm>
              <a:prstGeom prst="line">
                <a:avLst/>
              </a:prstGeom>
              <a:ln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5"/>
              <p:cNvSpPr/>
              <p:nvPr/>
            </p:nvSpPr>
            <p:spPr>
              <a:xfrm>
                <a:off x="604800" y="3619440"/>
                <a:ext cx="8521560" cy="0"/>
              </a:xfrm>
              <a:prstGeom prst="line">
                <a:avLst/>
              </a:prstGeom>
              <a:ln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Rectangle 6"/>
            <p:cNvSpPr/>
            <p:nvPr/>
          </p:nvSpPr>
          <p:spPr>
            <a:xfrm>
              <a:off x="609480" y="1523880"/>
              <a:ext cx="8531280" cy="6080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74840"/>
            <a:ext cx="777096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ftr" idx="16"/>
          </p:nvPr>
        </p:nvSpPr>
        <p:spPr>
          <a:xfrm>
            <a:off x="32763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7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3FD27AF-7505-4B31-8050-54F16C0432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DEEDEA-AADD-4EF4-934C-4FEA478BE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Freeform 2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E5FC03-CF69-4B31-87BE-0B3B88778A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388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8480"/>
                <a:gd name="textAreaBottom" fmla="*/ 2238840 h 22384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120"/>
                <a:gd name="textAreaBottom" fmla="*/ 2202480 h 2202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832120"/>
                <a:gd name="textAreaBottom" fmla="*/ 2832480 h 28321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>
                <a:gd name="textAreaLeft" fmla="*/ 0 w 4569120"/>
                <a:gd name="textAreaRight" fmla="*/ 4569480 w 4569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6400"/>
                <a:gd name="textAreaBottom" fmla="*/ 2246760 h 22464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dt" idx="25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6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31E0D8-4BE4-48ED-9207-B50F8FCD8C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5582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ионеры – геро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дный отряд послевоенного советского дет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у каждого ребенка будет крыша над головой, уголок для игрушек, одежда и обу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все дети ходят в школу, изучают основы наук и растут знающими и умел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все дети растут в мире, счасливыми и радост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мальчики и девочки всегда будут равны в детстве и когда вырасту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сть над головами ребят сверкает солнц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Леня Гол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943" name="Picture 2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3552840" cy="2421000"/>
          </a:xfrm>
          <a:prstGeom prst="rect">
            <a:avLst/>
          </a:prstGeom>
          <a:ln w="0">
            <a:noFill/>
          </a:ln>
        </p:spPr>
      </p:pic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ос в деревне Лукин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ригадный разведчик 67 отря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частвовал в 27 боев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перация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гиб 1943г. под селом Острая Лу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-327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-го апреля 1944г присвоено звание Героя Советского Сою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5" name="Picture 4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2378160" cy="2636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5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146320" cy="285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аля Коти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ер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ионе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дился 11февраля 1930 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Жил в селе Хмелев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ился в школе №4 города Шепето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гражден ордером отечественной войны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-й степен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едалью -«Партизану Отечественной Войны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-й степен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ед школой где учился стоит его памят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9" name="Picture 3" descr=""/>
          <p:cNvPicPr/>
          <p:nvPr/>
        </p:nvPicPr>
        <p:blipFill>
          <a:blip r:embed="rId9"/>
          <a:stretch/>
        </p:blipFill>
        <p:spPr>
          <a:xfrm>
            <a:off x="324000" y="1341360"/>
            <a:ext cx="3386160" cy="360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Марат Каз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41920" cy="41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Герой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1944 г. получил медаль «За отвагу»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Удостоен звания Героя Советского Союз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городе Минске поставлен памятник юному герою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2657520" cy="333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68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68" fill="hold"/>
                                        <p:tgtEl>
                                          <p:spTgt spid="9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68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68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             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ася Коробко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14920" cy="442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дчик и диверс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 орденами Ленина, Красного Знамени, Отечественной войны 1 степ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алью « Патриоту Отечественной войн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3" descr=""/>
          <p:cNvPicPr/>
          <p:nvPr/>
        </p:nvPicPr>
        <p:blipFill>
          <a:blip r:embed="rId1"/>
          <a:stretch/>
        </p:blipFill>
        <p:spPr>
          <a:xfrm>
            <a:off x="5234040" y="2082960"/>
            <a:ext cx="3668760" cy="3671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лександр Бородулин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он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ртизан-подрыв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44 г. награжден ордером Красного Зна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7160" indent="-3171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гиб, прикрывая отход партизанского отря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58" name="Group 3"/>
          <p:cNvGrpSpPr/>
          <p:nvPr/>
        </p:nvGrpSpPr>
        <p:grpSpPr>
          <a:xfrm>
            <a:off x="4710240" y="1724040"/>
            <a:ext cx="3952800" cy="4002120"/>
            <a:chOff x="4710240" y="1724040"/>
            <a:chExt cx="3952800" cy="4002120"/>
          </a:xfrm>
        </p:grpSpPr>
        <p:pic>
          <p:nvPicPr>
            <p:cNvPr id="959" name="Picture 4" descr=""/>
            <p:cNvPicPr/>
            <p:nvPr/>
          </p:nvPicPr>
          <p:blipFill>
            <a:blip r:embed="rId1"/>
            <a:stretch/>
          </p:blipFill>
          <p:spPr>
            <a:xfrm>
              <a:off x="4710240" y="1724040"/>
              <a:ext cx="3952800" cy="40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Text Box 5"/>
            <p:cNvSpPr/>
            <p:nvPr/>
          </p:nvSpPr>
          <p:spPr>
            <a:xfrm>
              <a:off x="4710240" y="1724040"/>
              <a:ext cx="3952800" cy="40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ариса Михеенк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1898640" y="2530440"/>
            <a:ext cx="1963800" cy="240048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17960" y="1905120"/>
            <a:ext cx="3927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нинградская школь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дч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граждена ордером Отечественной войны 1 степени, посмер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2484360" y="692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о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нинградская школьница, разведч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мертно награждена званием Герой Советского Сою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 января 1944г. расстреля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7" name="Group 3"/>
          <p:cNvGrpSpPr/>
          <p:nvPr/>
        </p:nvGrpSpPr>
        <p:grpSpPr>
          <a:xfrm>
            <a:off x="5624640" y="2057400"/>
            <a:ext cx="2705040" cy="2757600"/>
            <a:chOff x="5624640" y="2057400"/>
            <a:chExt cx="2705040" cy="2757600"/>
          </a:xfrm>
        </p:grpSpPr>
        <p:pic>
          <p:nvPicPr>
            <p:cNvPr id="968" name="Picture 4" descr=""/>
            <p:cNvPicPr/>
            <p:nvPr/>
          </p:nvPicPr>
          <p:blipFill>
            <a:blip r:embed="rId2"/>
            <a:stretch/>
          </p:blipFill>
          <p:spPr>
            <a:xfrm>
              <a:off x="5624640" y="2057400"/>
              <a:ext cx="270504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Text Box 5"/>
            <p:cNvSpPr/>
            <p:nvPr/>
          </p:nvSpPr>
          <p:spPr>
            <a:xfrm>
              <a:off x="5624640" y="2057400"/>
              <a:ext cx="2705040" cy="27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ина Куковеро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643280" y="1980720"/>
            <a:ext cx="3811680" cy="4388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оне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нинградская школь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тизанка –разведч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граждена медалью «партизану Отечественной войны» 1 степе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мертно награждена ордером Отечественной войны» 1 степе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2" name="Group 3"/>
          <p:cNvGrpSpPr/>
          <p:nvPr/>
        </p:nvGrpSpPr>
        <p:grpSpPr>
          <a:xfrm>
            <a:off x="814320" y="2201760"/>
            <a:ext cx="2652840" cy="3113280"/>
            <a:chOff x="814320" y="2201760"/>
            <a:chExt cx="2652840" cy="3113280"/>
          </a:xfrm>
        </p:grpSpPr>
        <p:pic>
          <p:nvPicPr>
            <p:cNvPr id="973" name="Picture 4" descr=""/>
            <p:cNvPicPr/>
            <p:nvPr/>
          </p:nvPicPr>
          <p:blipFill>
            <a:blip r:embed="rId1"/>
            <a:stretch/>
          </p:blipFill>
          <p:spPr>
            <a:xfrm>
              <a:off x="814320" y="2201760"/>
              <a:ext cx="2652840" cy="31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5"/>
            <p:cNvSpPr/>
            <p:nvPr/>
          </p:nvSpPr>
          <p:spPr>
            <a:xfrm>
              <a:off x="814320" y="2201760"/>
              <a:ext cx="2652840" cy="31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7:45:57Z</dcterms:created>
  <dc:creator>Петр</dc:creator>
  <dc:description/>
  <dc:language>en-US</dc:language>
  <cp:lastModifiedBy>Админ</cp:lastModifiedBy>
  <dcterms:modified xsi:type="dcterms:W3CDTF">2021-03-25T18:31:06Z</dcterms:modified>
  <cp:revision>8</cp:revision>
  <dc:subject/>
  <dc:title>Пионеры – герои.</dc:title>
</cp:coreProperties>
</file>