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8.jpeg" ContentType="image/jpeg"/>
  <Override PartName="/ppt/media/image11.png" ContentType="image/png"/>
  <Override PartName="/ppt/media/image7.jpeg" ContentType="image/jpeg"/>
  <Override PartName="/ppt/media/image20.png" ContentType="image/png"/>
  <Override PartName="/ppt/media/image13.png" ContentType="image/png"/>
  <Override PartName="/ppt/media/image6.jpeg" ContentType="image/jpeg"/>
  <Override PartName="/ppt/media/image10.png" ContentType="image/png"/>
  <Override PartName="/ppt/media/image5.jpeg" ContentType="image/jpeg"/>
  <Override PartName="/ppt/media/image22.png" ContentType="image/png"/>
  <Override PartName="/ppt/media/image1.jpeg" ContentType="image/jpeg"/>
  <Override PartName="/ppt/media/image21.png" ContentType="image/png"/>
  <Override PartName="/ppt/media/image19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4E1B2-8738-45D0-8213-F7E02659307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78BA2-67B0-4710-8872-F52BC949BB5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F36C6-D2A6-4464-916B-E159B3502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19ADE-3A92-4373-A540-64390ECD1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2C245-C9A7-44EB-88BA-648EBC881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056CE-A1E1-46C7-B9E2-E9296D522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DBB61-4E2B-4AD7-91E2-DDA413017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CD889-913A-4BE2-8F26-27A27E00B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52867-B386-4D3F-BDF1-8DFC81D1C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94F51-DFB6-4C65-B7C7-3F577A74B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FB058-D16F-497B-8C91-FA56319BE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49870-A8C0-4187-B87C-2BBDF8FED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2154F-D045-48CF-9FA9-1E28E4954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7CBD2-18E8-4C98-89D9-0477B0434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9BCCE-4C22-4175-A794-0832728BF75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hyperlink" Target="https://infourok.ru/user/bobileva-natalya-vyacheslavovna" TargetMode="External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s://www.labirint.ru/pubhouse/333/" TargetMode="External"/><Relationship Id="rId2" Type="http://schemas.openxmlformats.org/officeDocument/2006/relationships/hyperlink" Target="https://www.labirint.ru/pubhouse/333/" TargetMode="External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371600" y="4876920"/>
            <a:ext cx="723888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Мое педагогическое кредо: </a:t>
            </a: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«Развитие каждого ученика через развитие его интереса к предмету – только в этом залог успеха обучения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C:\Users\User\Desktop\фотка.jpg"/>
          <p:cNvPicPr/>
          <p:nvPr/>
        </p:nvPicPr>
        <p:blipFill>
          <a:blip r:embed="rId1"/>
          <a:stretch/>
        </p:blipFill>
        <p:spPr>
          <a:xfrm>
            <a:off x="838080" y="533520"/>
            <a:ext cx="2133720" cy="3878280"/>
          </a:xfrm>
          <a:prstGeom prst="rect">
            <a:avLst/>
          </a:prstGeom>
          <a:ln w="0">
            <a:noFill/>
          </a:ln>
        </p:spPr>
      </p:pic>
      <p:sp>
        <p:nvSpPr>
          <p:cNvPr id="50" name="TextBox 5"/>
          <p:cNvSpPr/>
          <p:nvPr/>
        </p:nvSpPr>
        <p:spPr>
          <a:xfrm>
            <a:off x="3429000" y="533520"/>
            <a:ext cx="48769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обылева Наталья Вячеславо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читель английского язы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БОУ»Школа №16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мени И.И.Лабузы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in" orient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Arial"/>
              </a:rPr>
              <a:t>Деятельностный аспект личного вклада</a:t>
            </a:r>
            <a:br>
              <a:rPr sz="2800"/>
            </a:br>
            <a:r>
              <a:rPr b="1" lang="ru-RU" sz="2800" spc="-1" strike="noStrike">
                <a:solidFill>
                  <a:srgbClr val="0070c0"/>
                </a:solidFill>
                <a:latin typeface="Arial"/>
              </a:rPr>
              <a:t> в развитие образо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  <a:ea typeface="Courier New"/>
              </a:rPr>
              <a:t>Формы организации груп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Схема 5" descr=""/>
          <p:cNvPicPr/>
          <p:nvPr/>
        </p:nvPicPr>
        <p:blipFill>
          <a:blip r:embed="rId1"/>
          <a:stretch/>
        </p:blipFill>
        <p:spPr>
          <a:xfrm>
            <a:off x="1749600" y="2346480"/>
            <a:ext cx="6108480" cy="4097160"/>
          </a:xfrm>
          <a:prstGeom prst="rect">
            <a:avLst/>
          </a:prstGeom>
          <a:ln w="0">
            <a:noFill/>
          </a:ln>
        </p:spPr>
      </p:pic>
    </p:spTree>
  </p:cSld>
  <p:transition spd="med">
    <p:split dir="in" orient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Arial"/>
              </a:rPr>
              <a:t>Деятельностный аспект личного вклада</a:t>
            </a:r>
            <a:br>
              <a:rPr sz="2400"/>
            </a:br>
            <a:r>
              <a:rPr b="1" lang="ru-RU" sz="2400" spc="-1" strike="noStrike">
                <a:solidFill>
                  <a:srgbClr val="0070c0"/>
                </a:solidFill>
                <a:latin typeface="Arial"/>
              </a:rPr>
              <a:t> в развитие образ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b050"/>
                </a:solidFill>
                <a:latin typeface="Arial"/>
                <a:ea typeface="Times New Roman"/>
              </a:rPr>
              <a:t>Групповая работа – это совместная деятельность детей и учителя, где реализуются все виды взаимодействий</a:t>
            </a:r>
            <a:r>
              <a:rPr b="0" lang="ru-RU" sz="2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0" name="Прямая со стрелкой 3"/>
          <p:cNvCxnSpPr/>
          <p:nvPr/>
        </p:nvCxnSpPr>
        <p:spPr>
          <a:xfrm flipH="1">
            <a:off x="2285640" y="2285640"/>
            <a:ext cx="792720" cy="8643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81" name="Прямоугольник 4"/>
          <p:cNvGrpSpPr/>
          <p:nvPr/>
        </p:nvGrpSpPr>
        <p:grpSpPr>
          <a:xfrm>
            <a:off x="781200" y="3395520"/>
            <a:ext cx="3009600" cy="1438560"/>
            <a:chOff x="781200" y="3395520"/>
            <a:chExt cx="3009600" cy="1438560"/>
          </a:xfrm>
        </p:grpSpPr>
        <p:pic>
          <p:nvPicPr>
            <p:cNvPr id="82" name="Прямоугольник 4" descr=""/>
            <p:cNvPicPr/>
            <p:nvPr/>
          </p:nvPicPr>
          <p:blipFill>
            <a:blip r:embed="rId1"/>
            <a:stretch/>
          </p:blipFill>
          <p:spPr>
            <a:xfrm>
              <a:off x="781200" y="3395520"/>
              <a:ext cx="3009600" cy="143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"/>
            <p:cNvSpPr/>
            <p:nvPr/>
          </p:nvSpPr>
          <p:spPr>
            <a:xfrm>
              <a:off x="838080" y="3429000"/>
              <a:ext cx="2895840" cy="13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2060"/>
                  </a:solidFill>
                  <a:latin typeface="Arial"/>
                </a:rPr>
                <a:t>Ученик - учител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" name="Прямоугольник 5"/>
          <p:cNvGrpSpPr/>
          <p:nvPr/>
        </p:nvGrpSpPr>
        <p:grpSpPr>
          <a:xfrm>
            <a:off x="3139920" y="4840200"/>
            <a:ext cx="3089520" cy="1548000"/>
            <a:chOff x="3139920" y="4840200"/>
            <a:chExt cx="3089520" cy="1548000"/>
          </a:xfrm>
        </p:grpSpPr>
        <p:pic>
          <p:nvPicPr>
            <p:cNvPr id="85" name="Прямоугольник 5" descr=""/>
            <p:cNvPicPr/>
            <p:nvPr/>
          </p:nvPicPr>
          <p:blipFill>
            <a:blip r:embed="rId2"/>
            <a:stretch/>
          </p:blipFill>
          <p:spPr>
            <a:xfrm>
              <a:off x="3139920" y="4840200"/>
              <a:ext cx="3089520" cy="154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"/>
            <p:cNvSpPr/>
            <p:nvPr/>
          </p:nvSpPr>
          <p:spPr>
            <a:xfrm>
              <a:off x="3200400" y="4876920"/>
              <a:ext cx="2971800" cy="143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2060"/>
                  </a:solidFill>
                  <a:latin typeface="Arial"/>
                </a:rPr>
                <a:t>Ученик – ученик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87" name="Прямая со стрелкой 6"/>
          <p:cNvCxnSpPr/>
          <p:nvPr/>
        </p:nvCxnSpPr>
        <p:spPr>
          <a:xfrm>
            <a:off x="4723920" y="2438280"/>
            <a:ext cx="1080" cy="23774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88" name="Прямоугольник 7"/>
          <p:cNvGrpSpPr/>
          <p:nvPr/>
        </p:nvGrpSpPr>
        <p:grpSpPr>
          <a:xfrm>
            <a:off x="5505480" y="3316320"/>
            <a:ext cx="3138480" cy="1407960"/>
            <a:chOff x="5505480" y="3316320"/>
            <a:chExt cx="3138480" cy="1407960"/>
          </a:xfrm>
        </p:grpSpPr>
        <p:pic>
          <p:nvPicPr>
            <p:cNvPr id="89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5505480" y="3316320"/>
              <a:ext cx="3138480" cy="140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5562720" y="3352680"/>
              <a:ext cx="30258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2060"/>
                  </a:solidFill>
                  <a:latin typeface="Arial"/>
                </a:rPr>
                <a:t>Ученик - групп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91" name="Прямая со стрелкой 10"/>
          <p:cNvCxnSpPr/>
          <p:nvPr/>
        </p:nvCxnSpPr>
        <p:spPr>
          <a:xfrm>
            <a:off x="6400440" y="2286000"/>
            <a:ext cx="1080360" cy="9374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</p:spTree>
  </p:cSld>
  <p:transition spd="med">
    <p:split dir="in" orient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Arial"/>
              </a:rPr>
              <a:t>Диапазон личного вклада педагога в развитие образования и степень его новизны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876560" y="1828800"/>
            <a:ext cx="3886200" cy="4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9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94" name="Прямоугольник 3"/>
          <p:cNvSpPr/>
          <p:nvPr/>
        </p:nvSpPr>
        <p:spPr>
          <a:xfrm>
            <a:off x="762120" y="1981080"/>
            <a:ext cx="3504960" cy="235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Проведение внеклассного мероприятия по английскому язык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«</a:t>
            </a:r>
            <a:r>
              <a:rPr b="1" lang="en-US" sz="2000" spc="-1" strike="noStrike">
                <a:solidFill>
                  <a:srgbClr val="002060"/>
                </a:solidFill>
                <a:latin typeface="Arial"/>
              </a:rPr>
              <a:t>We like English</a:t>
            </a: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5" descr="C:\Users\admin\Desktop\внекл.jpg"/>
          <p:cNvPicPr/>
          <p:nvPr/>
        </p:nvPicPr>
        <p:blipFill>
          <a:blip r:embed="rId1"/>
          <a:stretch/>
        </p:blipFill>
        <p:spPr>
          <a:xfrm>
            <a:off x="4191120" y="1219320"/>
            <a:ext cx="4574880" cy="3833640"/>
          </a:xfrm>
          <a:prstGeom prst="rect">
            <a:avLst/>
          </a:prstGeom>
          <a:ln w="0">
            <a:noFill/>
          </a:ln>
        </p:spPr>
      </p:pic>
    </p:spTree>
  </p:cSld>
  <p:transition spd="med">
    <p:split dir="in" orient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7720" y="18864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Arial"/>
              </a:rPr>
              <a:t>Диапазон личного вклада педагога в развитие образования и степень его новиз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61760" y="1915920"/>
            <a:ext cx="4647960" cy="128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частие в мероприятии «Неделя Науки» (инсценировка сказок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7" descr="C:\Users\admin\Desktop\IMG_20201113_211422.jpg"/>
          <p:cNvPicPr/>
          <p:nvPr/>
        </p:nvPicPr>
        <p:blipFill>
          <a:blip r:embed="rId1"/>
          <a:stretch/>
        </p:blipFill>
        <p:spPr>
          <a:xfrm>
            <a:off x="5257800" y="1447920"/>
            <a:ext cx="3429000" cy="24382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8" descr="C:\Users\admin\Desktop\IMG_20201113_210958.jpg"/>
          <p:cNvPicPr/>
          <p:nvPr/>
        </p:nvPicPr>
        <p:blipFill>
          <a:blip r:embed="rId2"/>
          <a:stretch/>
        </p:blipFill>
        <p:spPr>
          <a:xfrm>
            <a:off x="1328760" y="3780000"/>
            <a:ext cx="3352680" cy="2552400"/>
          </a:xfrm>
          <a:prstGeom prst="rect">
            <a:avLst/>
          </a:prstGeom>
          <a:ln w="0">
            <a:noFill/>
          </a:ln>
        </p:spPr>
      </p:pic>
    </p:spTree>
  </p:cSld>
  <p:transition spd="med">
    <p:split dir="in" orient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78487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400" spc="-1" strike="noStrike">
                <a:solidFill>
                  <a:srgbClr val="0070c0"/>
                </a:solidFill>
                <a:latin typeface="Arial"/>
              </a:rPr>
              <a:t>Диапазон личного вклада педагога в развитие образования и степень его новизны </a:t>
            </a:r>
            <a:br>
              <a:rPr sz="2800"/>
            </a:b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541008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Arial"/>
                <a:ea typeface="宋体"/>
              </a:rPr>
              <a:t>Mother’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2060"/>
                </a:solidFill>
                <a:latin typeface="Arial"/>
                <a:ea typeface="宋体"/>
              </a:rPr>
              <a:t>Day (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«День Матери»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Arial"/>
              </a:rPr>
              <a:t>Defender of the Fatherland Day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 («День Защитника Отечества»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Arial"/>
                <a:ea typeface="宋体"/>
              </a:rPr>
              <a:t>International Women’s Day (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«Международный Женский День»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10" descr="C:\Users\admin\Downloads\IMG_20200305_130655 (1).jpg"/>
          <p:cNvPicPr/>
          <p:nvPr/>
        </p:nvPicPr>
        <p:blipFill>
          <a:blip r:embed="rId1"/>
          <a:stretch/>
        </p:blipFill>
        <p:spPr>
          <a:xfrm>
            <a:off x="4267080" y="4191120"/>
            <a:ext cx="1828800" cy="21333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9" descr="C:\Users\admin\Desktop\енененен.jpg"/>
          <p:cNvPicPr/>
          <p:nvPr/>
        </p:nvPicPr>
        <p:blipFill>
          <a:blip r:embed="rId2"/>
          <a:stretch/>
        </p:blipFill>
        <p:spPr>
          <a:xfrm>
            <a:off x="1332000" y="4152960"/>
            <a:ext cx="2438280" cy="2209680"/>
          </a:xfrm>
          <a:prstGeom prst="rect">
            <a:avLst/>
          </a:prstGeom>
          <a:ln w="0">
            <a:noFill/>
          </a:ln>
        </p:spPr>
      </p:pic>
      <p:sp>
        <p:nvSpPr>
          <p:cNvPr id="104" name="Прямоугольник 12"/>
          <p:cNvSpPr/>
          <p:nvPr/>
        </p:nvSpPr>
        <p:spPr>
          <a:xfrm>
            <a:off x="6324480" y="1981080"/>
            <a:ext cx="23623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70c0"/>
                </a:solidFill>
                <a:latin typeface="Arial"/>
              </a:rPr>
              <a:t>Организация внеурочной деятельности по английскому языку «Путешествие в Букволяндию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in" orient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Arial"/>
              </a:rPr>
              <a:t>Результативность профессиональной педагогической деятельности и достигнутые эффек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599840"/>
            <a:ext cx="647712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Измерение сформированности коммуникативных УУД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в 4б-5б классах, по годам (количество учащихся в %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Диаграмма 4" descr=""/>
          <p:cNvPicPr/>
          <p:nvPr/>
        </p:nvPicPr>
        <p:blipFill>
          <a:blip r:embed="rId1"/>
          <a:stretch/>
        </p:blipFill>
        <p:spPr>
          <a:xfrm>
            <a:off x="2692440" y="2768760"/>
            <a:ext cx="5283000" cy="3073320"/>
          </a:xfrm>
          <a:prstGeom prst="rect">
            <a:avLst/>
          </a:prstGeom>
          <a:ln w="0">
            <a:noFill/>
          </a:ln>
        </p:spPr>
      </p:pic>
    </p:spTree>
  </p:cSld>
  <p:transition spd="med">
    <p:split dir="in" orient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Arial"/>
              </a:rPr>
              <a:t>Результативность профессиональной педагогической деятельности и достигнутые эффек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218960" y="1599840"/>
            <a:ext cx="38862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Уровни овладения коммуникативными универсальными умения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Диаграмма 4" descr=""/>
          <p:cNvPicPr/>
          <p:nvPr/>
        </p:nvPicPr>
        <p:blipFill>
          <a:blip r:embed="rId1"/>
          <a:stretch/>
        </p:blipFill>
        <p:spPr>
          <a:xfrm>
            <a:off x="1320840" y="2158920"/>
            <a:ext cx="3606840" cy="3301920"/>
          </a:xfrm>
          <a:prstGeom prst="rect">
            <a:avLst/>
          </a:prstGeom>
          <a:ln w="0">
            <a:noFill/>
          </a:ln>
        </p:spPr>
      </p:pic>
      <p:pic>
        <p:nvPicPr>
          <p:cNvPr id="111" name="Диаграмма 6" descr=""/>
          <p:cNvPicPr/>
          <p:nvPr/>
        </p:nvPicPr>
        <p:blipFill>
          <a:blip r:embed="rId2"/>
          <a:stretch/>
        </p:blipFill>
        <p:spPr>
          <a:xfrm>
            <a:off x="5130720" y="1930320"/>
            <a:ext cx="3683160" cy="3581640"/>
          </a:xfrm>
          <a:prstGeom prst="rect">
            <a:avLst/>
          </a:prstGeom>
          <a:ln w="0">
            <a:noFill/>
          </a:ln>
        </p:spPr>
      </p:pic>
    </p:spTree>
  </p:cSld>
  <p:transition spd="med">
    <p:split dir="in" orient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Arial"/>
              </a:rPr>
              <a:t>Транслируемость практических достижений профессиональной деятельности педагогического работн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Содержимое 7" descr=""/>
          <p:cNvPicPr/>
          <p:nvPr/>
        </p:nvPicPr>
        <p:blipFill>
          <a:blip r:embed="rId1"/>
          <a:stretch/>
        </p:blipFill>
        <p:spPr>
          <a:xfrm>
            <a:off x="755640" y="1620720"/>
            <a:ext cx="8242200" cy="4597560"/>
          </a:xfrm>
          <a:prstGeom prst="rect">
            <a:avLst/>
          </a:prstGeom>
          <a:ln w="0">
            <a:noFill/>
          </a:ln>
        </p:spPr>
      </p:pic>
      <p:sp>
        <p:nvSpPr>
          <p:cNvPr id="114" name="Прямоугольник 3"/>
          <p:cNvSpPr/>
          <p:nvPr/>
        </p:nvSpPr>
        <p:spPr>
          <a:xfrm>
            <a:off x="990720" y="586728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s://infourok.ru/user/bobileva-natalya-vyacheslavov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in" orient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Arial"/>
              </a:rPr>
              <a:t>Литерату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1. Андросенко Т.Д., Коломиец О.А., Дышлюк М.И. Английский язык. 2-11 классы. Внеклассные мероприятия. ФГОС. -Издательство: «Учитель», 2019 г., 167 с.</a:t>
            </a:r>
            <a:br>
              <a:rPr sz="1800"/>
            </a:b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2.  Арефьев Г.И. Групповая форма работы на уроках английского языка/ Иностранные языки в школе, 2007.- №5.- с.23-27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3. Вербицкая М.В., Уорд Э. Английский язык. 2 класс. Пособие для учителя. ФГОС.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 </a:t>
            </a: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Издательство «Вентана-Граф .- 2015, 304 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4. Вербицкая М.В., Уорд Э. Английский язык. Проектирование учебного курса. 5 класс. Методическое пособие. ФГОС .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 </a:t>
            </a: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Издательство «Вентана-Граф .- 2015,128с.</a:t>
            </a:r>
            <a:br>
              <a:rPr sz="1800"/>
            </a:b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5. Гиниятуллина, А.А. Групповая работа как средство формирования универсальных учебных действий /А.А. Гиниятуллина //Методист.- 2011.- №9.-С.58-6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Электронные ресурс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Arial"/>
              </a:rPr>
              <a:t>https://www.englishteachers.ru/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http://www.learnenglish.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in" orient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Arial"/>
              </a:rPr>
              <a:t>Спасибо за внимание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2" descr=""/>
          <p:cNvPicPr/>
          <p:nvPr/>
        </p:nvPicPr>
        <p:blipFill>
          <a:blip r:embed="rId1"/>
          <a:stretch/>
        </p:blipFill>
        <p:spPr>
          <a:xfrm>
            <a:off x="1676520" y="1828800"/>
            <a:ext cx="5486400" cy="3809880"/>
          </a:xfrm>
          <a:prstGeom prst="rect">
            <a:avLst/>
          </a:prstGeom>
          <a:ln w="0">
            <a:noFill/>
          </a:ln>
        </p:spPr>
      </p:pic>
    </p:spTree>
  </p:cSld>
  <p:transition spd="med">
    <p:split dir="in" orient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Прямоугольник 2"/>
          <p:cNvSpPr/>
          <p:nvPr/>
        </p:nvSpPr>
        <p:spPr>
          <a:xfrm>
            <a:off x="838080" y="1295280"/>
            <a:ext cx="76201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Arial"/>
              </a:rPr>
              <a:t>Тема:«Групповая работа на уроках английского языка как средство формирования коммуникативных универсальных учебных действий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in" orient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33480" y="3045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Объект 1" descr=""/>
          <p:cNvPicPr/>
          <p:nvPr/>
        </p:nvPicPr>
        <p:blipFill>
          <a:blip r:embed="rId1"/>
          <a:stretch/>
        </p:blipFill>
        <p:spPr>
          <a:xfrm>
            <a:off x="798480" y="530280"/>
            <a:ext cx="8290080" cy="5522760"/>
          </a:xfrm>
          <a:prstGeom prst="rect">
            <a:avLst/>
          </a:prstGeom>
          <a:ln w="0">
            <a:noFill/>
          </a:ln>
        </p:spPr>
      </p:pic>
      <p:sp>
        <p:nvSpPr>
          <p:cNvPr id="54" name="Прямоугольник 3"/>
          <p:cNvSpPr/>
          <p:nvPr/>
        </p:nvSpPr>
        <p:spPr>
          <a:xfrm>
            <a:off x="762120" y="914400"/>
            <a:ext cx="807696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in" orient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1258560" y="-360"/>
            <a:ext cx="788508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b6bcf"/>
                </a:solidFill>
                <a:latin typeface="Arial"/>
              </a:rPr>
              <a:t>Условия формирования личного вклад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b6bcf"/>
                </a:solidFill>
                <a:latin typeface="Arial"/>
              </a:rPr>
              <a:t>                </a:t>
            </a:r>
            <a:r>
              <a:rPr b="1" lang="ru-RU" sz="2400" spc="-1" strike="noStrike">
                <a:solidFill>
                  <a:srgbClr val="6b6bcf"/>
                </a:solidFill>
                <a:latin typeface="Arial"/>
              </a:rPr>
              <a:t>в развитие образ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Групповое взаимодейств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 уроке английского языка 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это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еализация принципа активности в обучении, который был и остается основным в дидактике, т. к. групповая рабо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характеризуется высоким уровнем познавательной 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оммуникативной мотивации, осознанной потребностью в усвоении знаний и умений, результативностью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нтерактивная форма обучения, которая активизиру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ыслительную деятельность обучаемых, поддерживает внимание  учащихся на уроке, развивает их речевую инициативу, обеспечив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стоянное речевое взаимодействие учащихся друг с другом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заимное обогащение словарным запас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4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6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in" orient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b6bcf"/>
                </a:solidFill>
                <a:latin typeface="Arial"/>
              </a:rPr>
              <a:t>Актуальность личного вклада в развитие образ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218960"/>
            <a:ext cx="79264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перед учителем английского языка стоит задача формирования универсальных учебных действ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коммуникативные универсальные учебные действия выступают в качестве важного компонента в развитии умения устанавливать необходимые контакты с окружающими и согласовывать действия с учетом мнения собеседни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C:\Users\admin\Desktop\ФОТО АТТЕСТАЦИЯ\IMG_20201106_105546.jpg"/>
          <p:cNvPicPr/>
          <p:nvPr/>
        </p:nvPicPr>
        <p:blipFill>
          <a:blip r:embed="rId1"/>
          <a:stretch/>
        </p:blipFill>
        <p:spPr>
          <a:xfrm>
            <a:off x="3276720" y="4800600"/>
            <a:ext cx="2844720" cy="20574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5" descr="C:\Users\admin\Desktop\ФОТО АТТЕСТАЦИЯ\IMG_20201106_105516.jpg"/>
          <p:cNvPicPr/>
          <p:nvPr/>
        </p:nvPicPr>
        <p:blipFill>
          <a:blip r:embed="rId2"/>
          <a:stretch/>
        </p:blipFill>
        <p:spPr>
          <a:xfrm>
            <a:off x="6248520" y="4800600"/>
            <a:ext cx="2641320" cy="2057400"/>
          </a:xfrm>
          <a:prstGeom prst="rect">
            <a:avLst/>
          </a:prstGeom>
          <a:ln w="0">
            <a:noFill/>
          </a:ln>
        </p:spPr>
      </p:pic>
    </p:spTree>
  </p:cSld>
  <p:transition spd="med">
    <p:split dir="in" orient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Прямоугольник 1"/>
          <p:cNvSpPr/>
          <p:nvPr/>
        </p:nvSpPr>
        <p:spPr>
          <a:xfrm>
            <a:off x="838080" y="304920"/>
            <a:ext cx="792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b6bcf"/>
                </a:solidFill>
                <a:latin typeface="Arial"/>
              </a:rPr>
              <a:t>Теоретическое обоснование личного вклада в                  развитие образ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2"/>
          <p:cNvSpPr/>
          <p:nvPr/>
        </p:nvSpPr>
        <p:spPr>
          <a:xfrm>
            <a:off x="914400" y="1859040"/>
            <a:ext cx="79246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70c0"/>
                </a:solidFill>
                <a:uFillTx/>
                <a:latin typeface="Arial"/>
              </a:rPr>
              <a:t>Научно-исследовательские условия: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изучение работ выдающихся психологов, педагогов, лингвистов (Д.Б. Эльконин, Л.С. Выготский, В.А. Сухомлинский, Е.И. Пассов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70c0"/>
                </a:solidFill>
                <a:uFillTx/>
                <a:latin typeface="Arial"/>
              </a:rPr>
              <a:t>Методические условия: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разработка системы уроков с использованием групповой рабо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70c0"/>
                </a:solidFill>
                <a:uFillTx/>
                <a:latin typeface="Arial"/>
              </a:rPr>
              <a:t>Организационно-педагогические условия: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участие в работе МО, в образовательных проекта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in" orient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8001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Arial"/>
              </a:rPr>
              <a:t>Цель и задачи педагогической деятельности</a:t>
            </a:r>
            <a:br>
              <a:rPr sz="32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609120" y="-360"/>
            <a:ext cx="80773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Цель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 ― создание условий работы на уроках английского языка, направленных на осуществление коммуникативного взаимодейств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дач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just">
              <a:spcBef>
                <a:spcPts val="499"/>
              </a:spcBef>
              <a:buClr>
                <a:srgbClr val="00206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рассмотреть требования Федерального государственного стандарта основного общего образования к формированию коммуникативных универсальных учебных действий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just">
              <a:spcBef>
                <a:spcPts val="499"/>
              </a:spcBef>
              <a:buClr>
                <a:srgbClr val="00206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рассмотреть роль и место группового обучения в учебном процессе по английскому языку в школе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just">
              <a:spcBef>
                <a:spcPts val="499"/>
              </a:spcBef>
              <a:buClr>
                <a:srgbClr val="00206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определить принципы групповой формы работ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8" descr="C:\Users\admin\Desktop\ФОТО АТТЕСТАЦИЯ\IMG_20201106_105443_1.jpg"/>
          <p:cNvPicPr/>
          <p:nvPr/>
        </p:nvPicPr>
        <p:blipFill>
          <a:blip r:embed="rId1"/>
          <a:stretch/>
        </p:blipFill>
        <p:spPr>
          <a:xfrm>
            <a:off x="838080" y="4876920"/>
            <a:ext cx="2603520" cy="1752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9" descr="C:\Users\admin\AppData\Local\Temp\Rar$DI09.934\IMG_20200122_110848.jpg"/>
          <p:cNvPicPr/>
          <p:nvPr/>
        </p:nvPicPr>
        <p:blipFill>
          <a:blip r:embed="rId2"/>
          <a:stretch/>
        </p:blipFill>
        <p:spPr>
          <a:xfrm>
            <a:off x="5105520" y="4876920"/>
            <a:ext cx="2743200" cy="1752480"/>
          </a:xfrm>
          <a:prstGeom prst="rect">
            <a:avLst/>
          </a:prstGeom>
          <a:ln w="0">
            <a:noFill/>
          </a:ln>
        </p:spPr>
      </p:pic>
    </p:spTree>
  </p:cSld>
  <p:transition spd="med">
    <p:split dir="in" orient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Arial"/>
              </a:rPr>
              <a:t>Ведущая педагогическая идея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761760" y="990360"/>
            <a:ext cx="79246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76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b050"/>
                </a:solidFill>
                <a:latin typeface="Arial"/>
              </a:rPr>
              <a:t>Ведущей педагогической идеей 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является включение учащихся в групповую работу  на уроках английского языка путем организации сотрудничества для достижения коммуникативной цели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6" descr="C:\Users\admin\AppData\Local\Temp\Rar$DI03.914\IMG_20200122_110920.jpg"/>
          <p:cNvPicPr/>
          <p:nvPr/>
        </p:nvPicPr>
        <p:blipFill>
          <a:blip r:embed="rId1"/>
          <a:stretch/>
        </p:blipFill>
        <p:spPr>
          <a:xfrm>
            <a:off x="1143000" y="2895480"/>
            <a:ext cx="7086600" cy="3429000"/>
          </a:xfrm>
          <a:prstGeom prst="rect">
            <a:avLst/>
          </a:prstGeom>
          <a:ln w="0">
            <a:noFill/>
          </a:ln>
        </p:spPr>
      </p:pic>
    </p:spTree>
  </p:cSld>
  <p:transition spd="med">
    <p:split dir="in" orient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400" spc="-1" strike="noStrike">
                <a:solidFill>
                  <a:srgbClr val="0070c0"/>
                </a:solidFill>
                <a:latin typeface="Arial"/>
              </a:rPr>
              <a:t>Деятельностный аспект личного вклада </a:t>
            </a:r>
            <a:br>
              <a:rPr sz="2400"/>
            </a:br>
            <a:r>
              <a:rPr b="1" lang="ru-RU" sz="2400" spc="-1" strike="noStrike">
                <a:solidFill>
                  <a:srgbClr val="0070c0"/>
                </a:solidFill>
                <a:latin typeface="Arial"/>
              </a:rPr>
              <a:t> в развитие образования</a:t>
            </a:r>
            <a:br>
              <a:rPr sz="2800"/>
            </a:br>
            <a:br>
              <a:rPr sz="3200"/>
            </a:br>
            <a:br>
              <a:rPr sz="32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905120" y="12949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  <a:ea typeface="Courier New"/>
              </a:rPr>
              <a:t>Основные принципы группового обуч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Схема 3" descr=""/>
          <p:cNvPicPr/>
          <p:nvPr/>
        </p:nvPicPr>
        <p:blipFill>
          <a:blip r:embed="rId1"/>
          <a:stretch/>
        </p:blipFill>
        <p:spPr>
          <a:xfrm>
            <a:off x="1962000" y="2041560"/>
            <a:ext cx="6085080" cy="5151240"/>
          </a:xfrm>
          <a:prstGeom prst="rect">
            <a:avLst/>
          </a:prstGeom>
          <a:ln w="0">
            <a:noFill/>
          </a:ln>
        </p:spPr>
      </p:pic>
    </p:spTree>
  </p:cSld>
  <p:transition spd="med">
    <p:split dir="in" orient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User</dc:creator>
  <dc:description/>
  <dc:language>en-US</dc:language>
  <cp:lastModifiedBy>Пользователь Windows</cp:lastModifiedBy>
  <dcterms:modified xsi:type="dcterms:W3CDTF">2021-04-04T16:59:13Z</dcterms:modified>
  <cp:revision>22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