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8D54-57B9-4068-9789-604DB620C4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9483-B440-41D9-B30E-0045A3D9B1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A08F-9A8C-4001-B0A0-5DFAC55B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4DD0-295C-4DD1-8F60-61506CF6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494-0E4E-4607-9083-E888064D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BE88-6B97-42F0-A042-E62987FD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433C-6C5A-42FC-95EB-FDF488B8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05F-B5DD-441A-BCEE-1FD846BE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1EA1-398C-42C6-8C47-05FC80A3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00C2-CDF5-42A3-A9B4-D063AAF7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14B9-4CE6-4F43-87E0-A9D7257B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3589-9F9A-4EF8-B2C4-CECFDD82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A4EC-8E5D-4200-8D14-42E726AE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15FA-D165-497B-B7A2-83C2B3AA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A124-D516-49D6-9E49-098BC778BD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s://infourok.ru/user/bobileva-natalya-vyacheslavovna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www.labirint.ru/pubhouse/333/" TargetMode="External"/><Relationship Id="rId2" Type="http://schemas.openxmlformats.org/officeDocument/2006/relationships/hyperlink" Target="https://www.labirint.ru/pubhouse/333/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ое педагогическое кредо: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Развитие каждого ученика через развитие его интереса к предмету – только в этом залог успеха обуч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Users\User\Desktop\фотка.jpg"/>
          <p:cNvPicPr/>
          <p:nvPr/>
        </p:nvPicPr>
        <p:blipFill>
          <a:blip r:embed="rId1"/>
          <a:stretch/>
        </p:blipFill>
        <p:spPr>
          <a:xfrm>
            <a:off x="838080" y="533520"/>
            <a:ext cx="2133720" cy="3878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3429000" y="533520"/>
            <a:ext cx="4876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былева Наталья Вячеслав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англий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»Школа №1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ни И.И.Лабуз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Деятельностный аспект личного вклада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в развитие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  <a:ea typeface="Courier New"/>
              </a:rPr>
              <a:t>Формы организации груп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хема 5" descr=""/>
          <p:cNvPicPr/>
          <p:nvPr/>
        </p:nvPicPr>
        <p:blipFill>
          <a:blip r:embed="rId1"/>
          <a:stretch/>
        </p:blipFill>
        <p:spPr>
          <a:xfrm>
            <a:off x="1749600" y="2346480"/>
            <a:ext cx="6108480" cy="4097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Деятельностный аспект личного вклада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в развит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Групповая работа – это совместная деятельность детей и учителя, где реализуются все виды взаимодействий</a:t>
            </a:r>
            <a:r>
              <a:rPr b="0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3"/>
          <p:cNvCxnSpPr/>
          <p:nvPr/>
        </p:nvCxnSpPr>
        <p:spPr>
          <a:xfrm flipH="1">
            <a:off x="2285640" y="2285640"/>
            <a:ext cx="792720" cy="864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81" name="Прямоугольник 4"/>
          <p:cNvGrpSpPr/>
          <p:nvPr/>
        </p:nvGrpSpPr>
        <p:grpSpPr>
          <a:xfrm>
            <a:off x="781200" y="3395520"/>
            <a:ext cx="3009600" cy="1438560"/>
            <a:chOff x="781200" y="3395520"/>
            <a:chExt cx="3009600" cy="1438560"/>
          </a:xfrm>
        </p:grpSpPr>
        <p:pic>
          <p:nvPicPr>
            <p:cNvPr id="82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781200" y="3395520"/>
              <a:ext cx="3009600" cy="14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838080" y="3429000"/>
              <a:ext cx="2895840" cy="13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2060"/>
                  </a:solidFill>
                  <a:latin typeface="Arial"/>
                </a:rPr>
                <a:t>Ученик - учит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Прямоугольник 5"/>
          <p:cNvGrpSpPr/>
          <p:nvPr/>
        </p:nvGrpSpPr>
        <p:grpSpPr>
          <a:xfrm>
            <a:off x="3139920" y="4840200"/>
            <a:ext cx="3089520" cy="1548000"/>
            <a:chOff x="3139920" y="4840200"/>
            <a:chExt cx="3089520" cy="1548000"/>
          </a:xfrm>
        </p:grpSpPr>
        <p:pic>
          <p:nvPicPr>
            <p:cNvPr id="85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139920" y="4840200"/>
              <a:ext cx="308952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200400" y="4876920"/>
              <a:ext cx="297180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2060"/>
                  </a:solidFill>
                  <a:latin typeface="Arial"/>
                </a:rPr>
                <a:t>Ученик – учени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7" name="Прямая со стрелкой 6"/>
          <p:cNvCxnSpPr/>
          <p:nvPr/>
        </p:nvCxnSpPr>
        <p:spPr>
          <a:xfrm>
            <a:off x="4723920" y="2438280"/>
            <a:ext cx="1080" cy="2377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88" name="Прямоугольник 7"/>
          <p:cNvGrpSpPr/>
          <p:nvPr/>
        </p:nvGrpSpPr>
        <p:grpSpPr>
          <a:xfrm>
            <a:off x="5505480" y="3316320"/>
            <a:ext cx="3138480" cy="1407960"/>
            <a:chOff x="5505480" y="3316320"/>
            <a:chExt cx="3138480" cy="1407960"/>
          </a:xfrm>
        </p:grpSpPr>
        <p:pic>
          <p:nvPicPr>
            <p:cNvPr id="8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5505480" y="3316320"/>
              <a:ext cx="313848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562720" y="3352680"/>
              <a:ext cx="30258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2060"/>
                  </a:solidFill>
                  <a:latin typeface="Arial"/>
                </a:rPr>
                <a:t>Ученик - групп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1" name="Прямая со стрелкой 10"/>
          <p:cNvCxnSpPr/>
          <p:nvPr/>
        </p:nvCxnSpPr>
        <p:spPr>
          <a:xfrm>
            <a:off x="6400440" y="2286000"/>
            <a:ext cx="1080360" cy="937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Диапазон личного вклада педагога в развитие образования и степень его новизны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76560" y="1828800"/>
            <a:ext cx="388620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762120" y="1981080"/>
            <a:ext cx="350496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оведение внеклассного мероприятия по английскому язы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We like English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:\Users\admin\Desktop\внекл.jpg"/>
          <p:cNvPicPr/>
          <p:nvPr/>
        </p:nvPicPr>
        <p:blipFill>
          <a:blip r:embed="rId1"/>
          <a:stretch/>
        </p:blipFill>
        <p:spPr>
          <a:xfrm>
            <a:off x="4191120" y="1219320"/>
            <a:ext cx="4574880" cy="3833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886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Диапазон личного вклада педагога в развитие образования и степень его новиз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915920"/>
            <a:ext cx="4647960" cy="128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ие в мероприятии «Неделя Науки» (инсценировка сказ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C:\Users\admin\Desktop\IMG_20201113_211422.jpg"/>
          <p:cNvPicPr/>
          <p:nvPr/>
        </p:nvPicPr>
        <p:blipFill>
          <a:blip r:embed="rId1"/>
          <a:stretch/>
        </p:blipFill>
        <p:spPr>
          <a:xfrm>
            <a:off x="5257800" y="1447920"/>
            <a:ext cx="3429000" cy="2438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C:\Users\admin\Desktop\IMG_20201113_210958.jpg"/>
          <p:cNvPicPr/>
          <p:nvPr/>
        </p:nvPicPr>
        <p:blipFill>
          <a:blip r:embed="rId2"/>
          <a:stretch/>
        </p:blipFill>
        <p:spPr>
          <a:xfrm>
            <a:off x="1328760" y="3780000"/>
            <a:ext cx="3352680" cy="2552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Диапазон личного вклада педагога в развитие образования и степень его новизны 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5410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宋体"/>
              </a:rPr>
              <a:t>Mother’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宋体"/>
              </a:rPr>
              <a:t>Day (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«День Матери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Defender of the Fatherland Day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(«День Защитника Отечеств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宋体"/>
              </a:rPr>
              <a:t>International Women’s Day (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«Международный Женский День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C:\Users\admin\Downloads\IMG_20200305_130655 (1).jpg"/>
          <p:cNvPicPr/>
          <p:nvPr/>
        </p:nvPicPr>
        <p:blipFill>
          <a:blip r:embed="rId1"/>
          <a:stretch/>
        </p:blipFill>
        <p:spPr>
          <a:xfrm>
            <a:off x="4267080" y="4191120"/>
            <a:ext cx="1828800" cy="2133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C:\Users\admin\Desktop\енененен.jpg"/>
          <p:cNvPicPr/>
          <p:nvPr/>
        </p:nvPicPr>
        <p:blipFill>
          <a:blip r:embed="rId2"/>
          <a:stretch/>
        </p:blipFill>
        <p:spPr>
          <a:xfrm>
            <a:off x="1332000" y="4152960"/>
            <a:ext cx="2438280" cy="220968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2"/>
          <p:cNvSpPr/>
          <p:nvPr/>
        </p:nvSpPr>
        <p:spPr>
          <a:xfrm>
            <a:off x="6324480" y="1981080"/>
            <a:ext cx="236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Организация внеурочной деятельности по английскому языку «Путешествие в Букволянд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Результативность профессиональной педагогической деятельности и достигнутые эфф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змерение сформированности коммуникативных УУД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 4б-5б классах, по годам (количество учащихся в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Диаграмма 4" descr=""/>
          <p:cNvPicPr/>
          <p:nvPr/>
        </p:nvPicPr>
        <p:blipFill>
          <a:blip r:embed="rId1"/>
          <a:stretch/>
        </p:blipFill>
        <p:spPr>
          <a:xfrm>
            <a:off x="2692440" y="2768760"/>
            <a:ext cx="5283000" cy="3073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Результативность профессиональной педагогической деятельности и достигнутые эфф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8960" y="1599840"/>
            <a:ext cx="3886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Уровни овладения коммуникативными универсальными ум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Диаграмма 4" descr=""/>
          <p:cNvPicPr/>
          <p:nvPr/>
        </p:nvPicPr>
        <p:blipFill>
          <a:blip r:embed="rId1"/>
          <a:stretch/>
        </p:blipFill>
        <p:spPr>
          <a:xfrm>
            <a:off x="1320840" y="2158920"/>
            <a:ext cx="3606840" cy="3301920"/>
          </a:xfrm>
          <a:prstGeom prst="rect">
            <a:avLst/>
          </a:prstGeom>
          <a:ln w="0">
            <a:noFill/>
          </a:ln>
        </p:spPr>
      </p:pic>
      <p:pic>
        <p:nvPicPr>
          <p:cNvPr id="111" name="Диаграмма 6" descr=""/>
          <p:cNvPicPr/>
          <p:nvPr/>
        </p:nvPicPr>
        <p:blipFill>
          <a:blip r:embed="rId2"/>
          <a:stretch/>
        </p:blipFill>
        <p:spPr>
          <a:xfrm>
            <a:off x="5130720" y="1930320"/>
            <a:ext cx="368316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Транслируемость практических достижений профессиональной деятельности педагогического работ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7" descr=""/>
          <p:cNvPicPr/>
          <p:nvPr/>
        </p:nvPicPr>
        <p:blipFill>
          <a:blip r:embed="rId1"/>
          <a:stretch/>
        </p:blipFill>
        <p:spPr>
          <a:xfrm>
            <a:off x="755640" y="1620720"/>
            <a:ext cx="8242200" cy="45975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990720" y="58672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infourok.ru/user/bobileva-natalya-vyacheslavov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1. Андросенко Т.Д., Коломиец О.А., Дышлюк М.И. Английский язык. 2-11 классы. Внеклассные мероприятия. ФГОС. -Издательство: «Учитель», 2019 г., 167 с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2.  Арефьев Г.И. Групповая форма работы на уроках английского языка/ Иностранные языки в школе, 2007.- №5.- с.23-2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3. Вербицкая М.В., Уорд Э. Английский язык. 2 класс. Пособие для учителя. ФГОС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здательство «Вентана-Граф .- 2015, 304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4. Вербицкая М.В., Уорд Э. Английский язык. Проектирование учебного курса. 5 класс. Методическое пособие. ФГОС 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здательство «Вентана-Граф .- 2015,128с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5. Гиниятуллина, А.А. Групповая работа как средство формирования универсальных учебных действий /А.А. Гиниятуллина //Методист.- 2011.- №9.-С.58-6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Электронные 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s://www.englishteachers.r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http://www.learnenglish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48640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838080" y="1295280"/>
            <a:ext cx="7620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Тема:«Групповая работа на уроках английского языка как средство формирования коммуникативных универсальных учебных действи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3480" y="304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Объект 1" descr=""/>
          <p:cNvPicPr/>
          <p:nvPr/>
        </p:nvPicPr>
        <p:blipFill>
          <a:blip r:embed="rId1"/>
          <a:stretch/>
        </p:blipFill>
        <p:spPr>
          <a:xfrm>
            <a:off x="798480" y="530280"/>
            <a:ext cx="8290080" cy="55227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762120" y="914400"/>
            <a:ext cx="8076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58560" y="-360"/>
            <a:ext cx="7885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6bcf"/>
                </a:solidFill>
                <a:latin typeface="Arial"/>
              </a:rPr>
              <a:t>Условия формирования личного вкла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6bcf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6b6bcf"/>
                </a:solidFill>
                <a:latin typeface="Arial"/>
              </a:rPr>
              <a:t>в развит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упповое взаимо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уроке английского языка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ализация принципа активности в обучении, который был и остается основным в дидактике, т. к. группов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арактеризуется высоким уровнем познавательно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муникативной мотивации, осознанной потребностью в усвоении знаний и умений, результативност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активная форма обучения, которая активизир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слительную деятельность обучаемых, поддерживает внимание  учащихся на уроке, развивает их речевую инициативу, обеспечи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оянное речевое взаимодействие учащихся друг с друг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заимное обогащение словарным запа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6bcf"/>
                </a:solidFill>
                <a:latin typeface="Arial"/>
              </a:rPr>
              <a:t>Актуальность личного вклада в развит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926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еред учителем английского языка стоит задача формирования универсальных учеб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ммуникативные универсальные учебные действия выступают в качестве важного компонента в развитии умения устанавливать необходимые контакты с окружающими и согласовывать действия с учетом мнения собесе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C:\Users\admin\Desktop\ФОТО АТТЕСТАЦИЯ\IMG_20201106_105546.jpg"/>
          <p:cNvPicPr/>
          <p:nvPr/>
        </p:nvPicPr>
        <p:blipFill>
          <a:blip r:embed="rId1"/>
          <a:stretch/>
        </p:blipFill>
        <p:spPr>
          <a:xfrm>
            <a:off x="3276720" y="4800600"/>
            <a:ext cx="2844720" cy="205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admin\Desktop\ФОТО АТТЕСТАЦИЯ\IMG_20201106_105516.jpg"/>
          <p:cNvPicPr/>
          <p:nvPr/>
        </p:nvPicPr>
        <p:blipFill>
          <a:blip r:embed="rId2"/>
          <a:stretch/>
        </p:blipFill>
        <p:spPr>
          <a:xfrm>
            <a:off x="6248520" y="4800600"/>
            <a:ext cx="264132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838080" y="304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6bcf"/>
                </a:solidFill>
                <a:latin typeface="Arial"/>
              </a:rPr>
              <a:t>Теоретическое обоснование личного вклада в                  развит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914400" y="1859040"/>
            <a:ext cx="792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70c0"/>
                </a:solidFill>
                <a:uFillTx/>
                <a:latin typeface="Arial"/>
              </a:rPr>
              <a:t>Научно-исследовательские условия: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зучение работ выдающихся психологов, педагогов, лингвистов (Д.Б. Эльконин, Л.С. Выготский, В.А. Сухомлинский, Е.И. Пасс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70c0"/>
                </a:solidFill>
                <a:uFillTx/>
                <a:latin typeface="Arial"/>
              </a:rPr>
              <a:t>Методические условия: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азработка системы уроков с использованием группов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70c0"/>
                </a:solidFill>
                <a:uFillTx/>
                <a:latin typeface="Arial"/>
              </a:rPr>
              <a:t>Организационно-педагогические условия: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частие в работе МО, в образовательных проек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Цель и задачи педагогической деятельности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120" y="-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Цель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― создание условий работы на уроках английского языка, направленных на осуществление коммуникативного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рассмотреть требования Федерального государственного стандарта основного общего образования к формированию коммуникативных универсальных учебных действ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рассмотреть роль и место группового обучения в учебном процессе по английскому языку в школ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пределить принципы групповой формы раб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C:\Users\admin\Desktop\ФОТО АТТЕСТАЦИЯ\IMG_20201106_105443_1.jpg"/>
          <p:cNvPicPr/>
          <p:nvPr/>
        </p:nvPicPr>
        <p:blipFill>
          <a:blip r:embed="rId1"/>
          <a:stretch/>
        </p:blipFill>
        <p:spPr>
          <a:xfrm>
            <a:off x="838080" y="4876920"/>
            <a:ext cx="260352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admin\AppData\Local\Temp\Rar$DI09.934\IMG_20200122_110848.jpg"/>
          <p:cNvPicPr/>
          <p:nvPr/>
        </p:nvPicPr>
        <p:blipFill>
          <a:blip r:embed="rId2"/>
          <a:stretch/>
        </p:blipFill>
        <p:spPr>
          <a:xfrm>
            <a:off x="5105520" y="4876920"/>
            <a:ext cx="274320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Ведущая педагогическая иде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1760" y="9903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Ведущей педагогической идее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является включение учащихся в групповую работу  на уроках английского языка путем организации сотрудничества для достижения коммуникативной цел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C:\Users\admin\AppData\Local\Temp\Rar$DI03.914\IMG_20200122_110920.jpg"/>
          <p:cNvPicPr/>
          <p:nvPr/>
        </p:nvPicPr>
        <p:blipFill>
          <a:blip r:embed="rId1"/>
          <a:stretch/>
        </p:blipFill>
        <p:spPr>
          <a:xfrm>
            <a:off x="1143000" y="2895480"/>
            <a:ext cx="70866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Деятельностный аспект личного вклада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в развитие образования</a:t>
            </a:r>
            <a:br>
              <a:rPr sz="2800"/>
            </a:br>
            <a:br>
              <a:rPr sz="3200"/>
            </a:br>
            <a:br>
              <a:rPr sz="32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5120" y="1294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  <a:ea typeface="Courier New"/>
              </a:rPr>
              <a:t>Основные принципы группов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хема 3" descr=""/>
          <p:cNvPicPr/>
          <p:nvPr/>
        </p:nvPicPr>
        <p:blipFill>
          <a:blip r:embed="rId1"/>
          <a:stretch/>
        </p:blipFill>
        <p:spPr>
          <a:xfrm>
            <a:off x="1962000" y="2041560"/>
            <a:ext cx="6085080" cy="5151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Пользователь Windows</cp:lastModifiedBy>
  <dcterms:modified xsi:type="dcterms:W3CDTF">2021-04-04T16:59:13Z</dcterms:modified>
  <cp:revision>2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