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4338-7770-43D8-ADAF-DD8AC4C46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D5A1-2CAC-4537-A498-82BDD27B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B9C0-D16E-428F-8A3F-DDD8D8891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DFD6-F8B1-4266-A75C-7CC6C8147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99D8-549C-4E92-B0FF-B947ADBB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3304-C1F1-4C8B-8854-A610C81D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A7CC-3185-454E-A71B-053B14E8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EBFB-6D85-40BC-BCC1-1FFFA0D2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5CD1-7BFE-4AB4-B3A2-EFBBD774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2619-49E2-4DBD-A99A-04187D1D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F569-1D57-43A0-BFE0-BDDA5D86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BA1D-EC6D-4BF4-967C-D1286315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BEDF-467E-4E4C-9A5B-7F6A3FB4A7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xn--460-5cd3cgu2f.xn--p1ai/images/school460_new.png"/>
          <p:cNvPicPr/>
          <p:nvPr/>
        </p:nvPicPr>
        <p:blipFill>
          <a:blip r:embed="rId1"/>
          <a:stretch/>
        </p:blipFill>
        <p:spPr>
          <a:xfrm>
            <a:off x="250920" y="260280"/>
            <a:ext cx="8893080" cy="1143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1042920" y="1622520"/>
            <a:ext cx="7720200" cy="21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ма: «Методические рекомендации по работ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десктопной версии Zoom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6"/>
          <p:cNvSpPr/>
          <p:nvPr/>
        </p:nvSpPr>
        <p:spPr>
          <a:xfrm>
            <a:off x="4356000" y="4508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ист школы № 460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азанкова Надежда Евгень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https://strana-it.ru/wp-content/uploads/2020/04/Zoom-cloud-meetings.png"/>
          <p:cNvPicPr/>
          <p:nvPr/>
        </p:nvPicPr>
        <p:blipFill>
          <a:blip r:embed="rId2"/>
          <a:srcRect l="8713" t="1716" r="12809" b="0"/>
          <a:stretch/>
        </p:blipFill>
        <p:spPr>
          <a:xfrm>
            <a:off x="0" y="2997360"/>
            <a:ext cx="514836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324000" y="333360"/>
            <a:ext cx="842472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идеоконференци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это одна из разновидностей групповых телекоммуникаций, которая дает возможность группе пользователей, состоящей из трех и более человек общаться между собой, видеть друг друга и обмениваться различными файлами в режиме реального времени независимо от того, на каком расстоянии друг от друга находятся участники конферен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686560" cy="38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179280" y="189000"/>
            <a:ext cx="87138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Zoom-что это за программ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Zoom – это облачная конференц-платформа, которая стала еще более популярной после того, как в связи с общемировой пандемией школы, институты и компании перешли на дистанционный режим обучения и работы. Сервис развивался с завидной скоростью: за 2 года своей работы (с 2013 по 2015 год) Zoom привлек 40 миллионов частных пользователей и 65 тысяч организаций. На данный момент этот сервис ежедневно используют порядка 200 миллионов челове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s://ds05.infourok.ru/uploads/ex/0386/001377fd-d82bbeb7/img24.jpg"/>
          <p:cNvPicPr/>
          <p:nvPr/>
        </p:nvPicPr>
        <p:blipFill>
          <a:blip r:embed="rId1"/>
          <a:srcRect l="1197" t="20761" r="0" b="0"/>
          <a:stretch/>
        </p:blipFill>
        <p:spPr>
          <a:xfrm>
            <a:off x="1187280" y="2421000"/>
            <a:ext cx="7056720" cy="42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1332000" y="333360"/>
            <a:ext cx="716436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 сервиса Zoom есть как платный, так и бесплатный тарифный план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причем бесплатная версия предоставляет довольно обширные возможности. Можно организовать видеоконференцию, в которой смогут принять участие до 100 человек, но максимальная длительность сеанса составляет всего 40 мину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этого недостаточно, придется перейти на платный тариф, либо через каждые 40 минут перезапускать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s://ulpressa.ru/wp-content/uploads/old/2020/04/2-23.jpg"/>
          <p:cNvPicPr/>
          <p:nvPr/>
        </p:nvPicPr>
        <p:blipFill>
          <a:blip r:embed="rId1"/>
          <a:stretch/>
        </p:blipFill>
        <p:spPr>
          <a:xfrm>
            <a:off x="4572000" y="2492280"/>
            <a:ext cx="3882960" cy="41418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3"/>
          <p:cNvSpPr/>
          <p:nvPr/>
        </p:nvSpPr>
        <p:spPr>
          <a:xfrm>
            <a:off x="250920" y="2997360"/>
            <a:ext cx="4033800" cy="32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спользовать сервис Zoom можно как на персональном компьютере, так и на смартфоне с помощью официального мобильного приложения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о время проведения видеоконференции можно не только разговаривать, но и писать сообщения в чат, обмениваться файлами, включать демонстрацию экрана и оставлять на нем заметки с помощью встроенных инструмент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117324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2"/>
          <p:cNvSpPr/>
          <p:nvPr/>
        </p:nvSpPr>
        <p:spPr>
          <a:xfrm>
            <a:off x="1042920" y="11592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 начать работу в десктопной версии Zo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https://www.internet-technologies.ru/wp-content/uploads/2020/04/51689-356741.png"/>
          <p:cNvPicPr/>
          <p:nvPr/>
        </p:nvPicPr>
        <p:blipFill>
          <a:blip r:embed="rId1"/>
          <a:stretch/>
        </p:blipFill>
        <p:spPr>
          <a:xfrm>
            <a:off x="2050920" y="549360"/>
            <a:ext cx="5240520" cy="2663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https://www.internet-technologies.ru/wp-content/uploads/2020/04/51689-356760.png"/>
          <p:cNvPicPr/>
          <p:nvPr/>
        </p:nvPicPr>
        <p:blipFill>
          <a:blip r:embed="rId2"/>
          <a:stretch/>
        </p:blipFill>
        <p:spPr>
          <a:xfrm>
            <a:off x="2124000" y="3716280"/>
            <a:ext cx="5307120" cy="2881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3"/>
          <a:stretch/>
        </p:blipFill>
        <p:spPr>
          <a:xfrm>
            <a:off x="1258920" y="981000"/>
            <a:ext cx="576360" cy="1258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"/>
          <p:cNvPicPr/>
          <p:nvPr/>
        </p:nvPicPr>
        <p:blipFill>
          <a:blip r:embed="rId4"/>
          <a:stretch/>
        </p:blipFill>
        <p:spPr>
          <a:xfrm>
            <a:off x="1116000" y="3789360"/>
            <a:ext cx="80820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s://www.internet-technologies.ru/wp-content/uploads/2020/04/51689-356799.png"/>
          <p:cNvPicPr/>
          <p:nvPr/>
        </p:nvPicPr>
        <p:blipFill>
          <a:blip r:embed="rId1"/>
          <a:stretch/>
        </p:blipFill>
        <p:spPr>
          <a:xfrm>
            <a:off x="2195640" y="404640"/>
            <a:ext cx="5762520" cy="2376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https://www.internet-technologies.ru/wp-content/uploads/2020/04/51689-356831.png"/>
          <p:cNvPicPr/>
          <p:nvPr/>
        </p:nvPicPr>
        <p:blipFill>
          <a:blip r:embed="rId2"/>
          <a:stretch/>
        </p:blipFill>
        <p:spPr>
          <a:xfrm>
            <a:off x="2268360" y="3419640"/>
            <a:ext cx="5688360" cy="2371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3"/>
          <a:stretch/>
        </p:blipFill>
        <p:spPr>
          <a:xfrm>
            <a:off x="900000" y="404640"/>
            <a:ext cx="989280" cy="1368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"/>
          <p:cNvPicPr/>
          <p:nvPr/>
        </p:nvPicPr>
        <p:blipFill>
          <a:blip r:embed="rId4"/>
          <a:stretch/>
        </p:blipFill>
        <p:spPr>
          <a:xfrm>
            <a:off x="900000" y="3357720"/>
            <a:ext cx="1044720" cy="12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https://www.internet-technologies.ru/wp-content/uploads/2020/04/51689-356857.png"/>
          <p:cNvPicPr/>
          <p:nvPr/>
        </p:nvPicPr>
        <p:blipFill>
          <a:blip r:embed="rId1"/>
          <a:stretch/>
        </p:blipFill>
        <p:spPr>
          <a:xfrm>
            <a:off x="2771640" y="404640"/>
            <a:ext cx="4248360" cy="2819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https://www.internet-technologies.ru/wp-content/uploads/2020/04/51689-356880.png"/>
          <p:cNvPicPr/>
          <p:nvPr/>
        </p:nvPicPr>
        <p:blipFill>
          <a:blip r:embed="rId2"/>
          <a:stretch/>
        </p:blipFill>
        <p:spPr>
          <a:xfrm>
            <a:off x="2627280" y="3657600"/>
            <a:ext cx="4457880" cy="3200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3"/>
          <a:stretch/>
        </p:blipFill>
        <p:spPr>
          <a:xfrm>
            <a:off x="1476360" y="404640"/>
            <a:ext cx="995400" cy="1362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4"/>
          <a:stretch/>
        </p:blipFill>
        <p:spPr>
          <a:xfrm>
            <a:off x="1476360" y="3500280"/>
            <a:ext cx="8794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1692360" y="189000"/>
            <a:ext cx="65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к начать работу в мобильном приложении Z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s://www.internet-technologies.ru/wp-content/uploads/2020/04/51689-356904.png"/>
          <p:cNvPicPr/>
          <p:nvPr/>
        </p:nvPicPr>
        <p:blipFill>
          <a:blip r:embed="rId1"/>
          <a:stretch/>
        </p:blipFill>
        <p:spPr>
          <a:xfrm>
            <a:off x="1692360" y="1700280"/>
            <a:ext cx="63342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s://static.news.ru/photo/4cfa12d2-a592-11ea-ae93-fa163e074e61_660.jpg"/>
          <p:cNvPicPr/>
          <p:nvPr/>
        </p:nvPicPr>
        <p:blipFill>
          <a:blip r:embed="rId1"/>
          <a:stretch/>
        </p:blipFill>
        <p:spPr>
          <a:xfrm>
            <a:off x="324000" y="260280"/>
            <a:ext cx="8316720" cy="554508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1"/>
          <p:cNvSpPr/>
          <p:nvPr/>
        </p:nvSpPr>
        <p:spPr>
          <a:xfrm>
            <a:off x="684360" y="549360"/>
            <a:ext cx="82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28T17:00:55Z</dcterms:created>
  <dc:creator>User</dc:creator>
  <dc:description/>
  <dc:language>en-US</dc:language>
  <cp:lastModifiedBy>User</cp:lastModifiedBy>
  <dcterms:modified xsi:type="dcterms:W3CDTF">2021-03-28T17:27:05Z</dcterms:modified>
  <cp:revision>3</cp:revision>
  <dc:subject/>
  <dc:title>Слайд 1</dc:title>
</cp:coreProperties>
</file>