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4F2-8E72-4492-8C17-435B2733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798-EF70-42FC-B833-8162807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1AF-C1F2-414E-B76E-37B919EA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9AC-846D-4C69-B644-B2FF43C5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938-CE10-4A47-8075-47777F7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236-0CEF-4881-8BA0-4121B8A3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C88-653E-41BA-80EE-DE350F9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838-EBDD-47E4-BBE0-0391981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E85-9920-47A9-B7D7-DD2111A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2FB-5284-4B4A-9DEE-95F0DE5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BA3-1623-4AA1-9863-70E56BF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76E-1B20-467E-8EEF-07A1EBE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43E-7856-4BED-981F-108DF8BA7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xn--460-5cd3cgu2f.xn--p1ai/images/school460_new.png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042920" y="1622520"/>
            <a:ext cx="772020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а: «Методические рекомендации по рабо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десктопной версии Zoom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435600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ст школы № 460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занкова Надежд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strana-it.ru/wp-content/uploads/2020/04/Zoom-cloud-meetings.png"/>
          <p:cNvPicPr/>
          <p:nvPr/>
        </p:nvPicPr>
        <p:blipFill>
          <a:blip r:embed="rId2"/>
          <a:srcRect l="8713" t="1716" r="12809" b="0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24000" y="333360"/>
            <a:ext cx="8424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конферен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одна из разновидностей групповых телекоммуникаций, которая дает возможность группе пользователей, состоящей из трех и более человек общаться между собой, видеть друг друга и обмениваться различными файлами в режиме реального времени независимо от того, на каком расстоянии друг от друга находятся участники конфере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6865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713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Zoom-что это за програм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Zoom – это облачная конференц-платформа, которая стала еще более популярной после того, как в связи с общемировой пандемией школы, институты и компании перешли на дистанционный режим обучения и работы. Сервис развивался с завидной скоростью: за 2 года своей работы (с 2013 по 2015 год) Zoom привлек 40 миллионов частных пользователей и 65 тысяч организаций. На данный момент этот сервис ежедневно используют порядка 200 миллионов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ds05.infourok.ru/uploads/ex/0386/001377fd-d82bbeb7/img24.jpg"/>
          <p:cNvPicPr/>
          <p:nvPr/>
        </p:nvPicPr>
        <p:blipFill>
          <a:blip r:embed="rId1"/>
          <a:srcRect l="1197" t="20761" r="0" b="0"/>
          <a:stretch/>
        </p:blipFill>
        <p:spPr>
          <a:xfrm>
            <a:off x="1187280" y="2421000"/>
            <a:ext cx="7056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32000" y="333360"/>
            <a:ext cx="7164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ервиса Zoom есть как платный, так и бесплатный тарифный пл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ричем бесплатная версия предоставляет довольно обширные возможности. Можно организовать видеоконференцию, в которой смогут принять участие до 100 человек, но максимальная длительность сеанса составляет всего 40 мину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этого недостаточно, придется перейти на платный тариф, либо через каждые 40 минут перезапуск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ulpressa.ru/wp-content/uploads/old/2020/04/2-23.jpg"/>
          <p:cNvPicPr/>
          <p:nvPr/>
        </p:nvPicPr>
        <p:blipFill>
          <a:blip r:embed="rId1"/>
          <a:stretch/>
        </p:blipFill>
        <p:spPr>
          <a:xfrm>
            <a:off x="4572000" y="2492280"/>
            <a:ext cx="3882960" cy="4141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50920" y="2997360"/>
            <a:ext cx="40338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ть сервис Zoom можно как на персональном компьютере, так и на смартфоне с помощью официального мобильного приложения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 время проведения видеоконференции можно не только разговаривать, но и писать сообщения в чат, обмениваться файлами, включать демонстрацию экрана и оставлять на нем заметки с помощью встроенных инстру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732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042920" y="1159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начать работу в десктопной версии Z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s://www.internet-technologies.ru/wp-content/uploads/2020/04/51689-356741.png"/>
          <p:cNvPicPr/>
          <p:nvPr/>
        </p:nvPicPr>
        <p:blipFill>
          <a:blip r:embed="rId1"/>
          <a:stretch/>
        </p:blipFill>
        <p:spPr>
          <a:xfrm>
            <a:off x="2050920" y="549360"/>
            <a:ext cx="5240520" cy="266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www.internet-technologies.ru/wp-content/uploads/2020/04/51689-356760.png"/>
          <p:cNvPicPr/>
          <p:nvPr/>
        </p:nvPicPr>
        <p:blipFill>
          <a:blip r:embed="rId2"/>
          <a:stretch/>
        </p:blipFill>
        <p:spPr>
          <a:xfrm>
            <a:off x="2124000" y="3716280"/>
            <a:ext cx="530712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57636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8082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www.internet-technologies.ru/wp-content/uploads/2020/04/51689-356799.png"/>
          <p:cNvPicPr/>
          <p:nvPr/>
        </p:nvPicPr>
        <p:blipFill>
          <a:blip r:embed="rId1"/>
          <a:stretch/>
        </p:blipFill>
        <p:spPr>
          <a:xfrm>
            <a:off x="2195640" y="404640"/>
            <a:ext cx="57625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s://www.internet-technologies.ru/wp-content/uploads/2020/04/51689-356831.png"/>
          <p:cNvPicPr/>
          <p:nvPr/>
        </p:nvPicPr>
        <p:blipFill>
          <a:blip r:embed="rId2"/>
          <a:stretch/>
        </p:blipFill>
        <p:spPr>
          <a:xfrm>
            <a:off x="2268360" y="3419640"/>
            <a:ext cx="568836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989280" cy="136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104472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s://www.internet-technologies.ru/wp-content/uploads/2020/04/51689-356857.png"/>
          <p:cNvPicPr/>
          <p:nvPr/>
        </p:nvPicPr>
        <p:blipFill>
          <a:blip r:embed="rId1"/>
          <a:stretch/>
        </p:blipFill>
        <p:spPr>
          <a:xfrm>
            <a:off x="2771640" y="404640"/>
            <a:ext cx="42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www.internet-technologies.ru/wp-content/uploads/2020/04/51689-356880.png"/>
          <p:cNvPicPr/>
          <p:nvPr/>
        </p:nvPicPr>
        <p:blipFill>
          <a:blip r:embed="rId2"/>
          <a:stretch/>
        </p:blipFill>
        <p:spPr>
          <a:xfrm>
            <a:off x="2627280" y="3657600"/>
            <a:ext cx="44578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1476360" y="404640"/>
            <a:ext cx="995400" cy="136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879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692360" y="189000"/>
            <a:ext cx="65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начать работу в мобильном приложении Z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www.internet-technologies.ru/wp-content/uploads/2020/04/51689-356904.png"/>
          <p:cNvPicPr/>
          <p:nvPr/>
        </p:nvPicPr>
        <p:blipFill>
          <a:blip r:embed="rId1"/>
          <a:stretch/>
        </p:blipFill>
        <p:spPr>
          <a:xfrm>
            <a:off x="1692360" y="1700280"/>
            <a:ext cx="6334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static.news.ru/photo/4cfa12d2-a592-11ea-ae93-fa163e074e61_660.jpg"/>
          <p:cNvPicPr/>
          <p:nvPr/>
        </p:nvPicPr>
        <p:blipFill>
          <a:blip r:embed="rId1"/>
          <a:stretch/>
        </p:blipFill>
        <p:spPr>
          <a:xfrm>
            <a:off x="324000" y="260280"/>
            <a:ext cx="8316720" cy="5545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684360" y="549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8T17:00:55Z</dcterms:created>
  <dc:creator>User</dc:creator>
  <dc:description/>
  <dc:language>en-US</dc:language>
  <cp:lastModifiedBy>User</cp:lastModifiedBy>
  <dcterms:modified xsi:type="dcterms:W3CDTF">2021-03-28T17:27:05Z</dcterms:modified>
  <cp:revision>3</cp:revision>
  <dc:subject/>
  <dc:title>Слайд 1</dc:title>
</cp:coreProperties>
</file>