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F04-38E1-4C98-9CF4-DFBF2B46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D6D-D27D-4306-B6DA-31D3FA5F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674-D8CA-47AB-B2B2-F68D74B6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EF9-3A30-4993-AA1B-F9DDA708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496-694B-4725-84E9-3F269119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1A2-0D67-45C2-A771-96DDF689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67F-B68E-47F3-AEEB-F42C633C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3DF-16D8-4E36-927E-B833506F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48C-9E58-4B88-ABA6-17FDC663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BF0-F003-46E7-BDE4-6B5613C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066-FE10-44CF-AF76-E14C6D1B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B51-1601-424B-9C50-02D25E38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751B-11FA-4D3F-84A5-A767B0465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инструктор по физ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е Сабадаш А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349360" y="4572000"/>
            <a:ext cx="25005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85840"/>
            <a:ext cx="7967520" cy="18604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22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  <a:ea typeface="Arial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7" descr=""/>
          <p:cNvPicPr/>
          <p:nvPr/>
        </p:nvPicPr>
        <p:blipFill>
          <a:blip r:embed="rId2"/>
          <a:stretch/>
        </p:blipFill>
        <p:spPr>
          <a:xfrm>
            <a:off x="341280" y="1925640"/>
            <a:ext cx="6230880" cy="5256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57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  <a:ea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  <a:ea typeface="Arial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  <a:ea typeface="Arial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8080"/>
            <a:ext cx="10302840" cy="24746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Прямоугольник 6" descr=""/>
          <p:cNvPicPr/>
          <p:nvPr/>
        </p:nvPicPr>
        <p:blipFill>
          <a:blip r:embed="rId1"/>
          <a:stretch/>
        </p:blipFill>
        <p:spPr>
          <a:xfrm>
            <a:off x="712800" y="-73080"/>
            <a:ext cx="5340240" cy="927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77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Прямоугольник 3" descr=""/>
          <p:cNvPicPr/>
          <p:nvPr/>
        </p:nvPicPr>
        <p:blipFill>
          <a:blip r:embed="rId1"/>
          <a:stretch/>
        </p:blipFill>
        <p:spPr>
          <a:xfrm>
            <a:off x="542880" y="-73080"/>
            <a:ext cx="5602320" cy="14511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73080"/>
            <a:ext cx="7570800" cy="58572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4446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  <a:ea typeface="Arial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  <a:ea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  <a:ea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  <a:ea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4" descr=""/>
          <p:cNvPicPr/>
          <p:nvPr/>
        </p:nvPicPr>
        <p:blipFill>
          <a:blip r:embed="rId1"/>
          <a:stretch/>
        </p:blipFill>
        <p:spPr>
          <a:xfrm>
            <a:off x="2262240" y="0"/>
            <a:ext cx="4522680" cy="156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 6" descr=""/>
          <p:cNvPicPr/>
          <p:nvPr/>
        </p:nvPicPr>
        <p:blipFill>
          <a:blip r:embed="rId3"/>
          <a:stretch/>
        </p:blipFill>
        <p:spPr>
          <a:xfrm>
            <a:off x="92160" y="1609560"/>
            <a:ext cx="6924600" cy="35355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  <a:ea typeface="Arial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  <a:ea typeface="Arial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  <a:ea typeface="Arial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  <a:ea typeface="Arial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1"/>
          <a:stretch/>
        </p:blipFill>
        <p:spPr>
          <a:xfrm>
            <a:off x="165240" y="-92160"/>
            <a:ext cx="6480000" cy="133056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  <a:ea typeface="Arial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  <a:ea typeface="Arial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  <a:ea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8" descr=""/>
          <p:cNvPicPr/>
          <p:nvPr/>
        </p:nvPicPr>
        <p:blipFill>
          <a:blip r:embed="rId2"/>
          <a:stretch/>
        </p:blipFill>
        <p:spPr>
          <a:xfrm>
            <a:off x="2243160" y="3511440"/>
            <a:ext cx="4572000" cy="55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146160" y="6480"/>
            <a:ext cx="6499080" cy="706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  <a:ea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  <a:ea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261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  <a:ea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622440" y="0"/>
            <a:ext cx="5449680" cy="706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500120" y="5610240"/>
            <a:ext cx="3786120" cy="2890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0" y="2428920"/>
            <a:ext cx="68580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  <a:ea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  <a:ea typeface="Arial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139680" y="73080"/>
            <a:ext cx="654228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  <a:ea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46160"/>
            <a:ext cx="7967520" cy="1280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  <a:ea typeface="Arial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  <a:ea typeface="Arial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  <a:ea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  <a:ea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ram</dc:creator>
  <dc:description/>
  <dc:language>en-US</dc:language>
  <cp:lastModifiedBy>ПК5</cp:lastModifiedBy>
  <dcterms:modified xsi:type="dcterms:W3CDTF">2020-09-14T08:49:35Z</dcterms:modified>
  <cp:revision>207</cp:revision>
  <dc:subject/>
  <dc:title>Слайд 1</dc:title>
</cp:coreProperties>
</file>