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FF2-F299-4357-8268-48DD0D5A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ED2-C1D4-41C9-BBF9-B0FE35F3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4C1-C515-482A-9A7B-840787ED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A76-0532-4CD8-B8A8-713D63DB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422-2155-45D2-B4AB-A8D13B98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B62-90A2-4C6D-9EA3-D0D3EE5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17F-F450-4D59-A8B8-ECA9B89B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F91-294F-45AE-90B3-96355AAC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D47-06E4-49B2-B5AF-A01D68AD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FBB-685A-41DD-B403-D44D987E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157-D641-4D2B-ACE2-A00099D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E8E-10E3-4E2A-8A4F-CA196B9E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D64F-D5B7-4D12-A5E4-9E22D8D83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Page0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Page1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Page2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Page3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Page4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Page5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07:03:11Z</dcterms:created>
  <dc:creator>Ппользователь</dc:creator>
  <dc:description/>
  <dc:language>en-US</dc:language>
  <cp:lastModifiedBy>Ппользователь</cp:lastModifiedBy>
  <dcterms:modified xsi:type="dcterms:W3CDTF">2015-12-09T07:03:17Z</dcterms:modified>
  <cp:revision>1</cp:revision>
  <dc:subject/>
  <dc:title>Слайд 1</dc:title>
</cp:coreProperties>
</file>