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263-D78F-467A-B4B7-D1D5B0F7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B58-DEA2-488B-98C9-4989BA77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18C-A5DA-4DA6-8E3C-5D79FF81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33A-FE7D-42CD-BE54-95C60E3D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F7A-7989-4C66-A928-5A85497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110-B526-4ED2-A52B-BE2D70B6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417-21BD-4253-B845-C706C2E8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A85-63B7-415A-8169-90A560F7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F4F-2681-40BA-B6A3-E7EDA080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799-820E-48AF-86F5-30FC3A85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BCA2-4D85-4D6F-84D1-03DC397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D0E-1406-4A82-A3D7-5DF894F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12E4-229C-452A-B816-DF1AAC454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Page0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Page1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Page2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Page3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Page4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Page5.jpg"/>
          <p:cNvPicPr/>
          <p:nvPr/>
        </p:nvPicPr>
        <p:blipFill>
          <a:blip r:embed="rId1"/>
          <a:stretch/>
        </p:blipFill>
        <p:spPr>
          <a:xfrm>
            <a:off x="0" y="0"/>
            <a:ext cx="10233000" cy="77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07:03:11Z</dcterms:created>
  <dc:creator>Ппользователь</dc:creator>
  <dc:description/>
  <dc:language>en-US</dc:language>
  <cp:lastModifiedBy>Ппользователь</cp:lastModifiedBy>
  <dcterms:modified xsi:type="dcterms:W3CDTF">2015-12-09T07:03:17Z</dcterms:modified>
  <cp:revision>1</cp:revision>
  <dc:subject/>
  <dc:title>Слайд 1</dc:title>
</cp:coreProperties>
</file>