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2449-19AD-4880-971B-BF244338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9FC-BB01-4B8A-92FC-57F01357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25F-F349-4157-AAD0-263BBC73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F25-C8FC-46EB-97B2-09A7C862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4D94-938E-49DC-8049-997D4FAB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9D0A-0727-43C7-A0F4-65D8A6F6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ADE8-7A4A-4147-B3F5-7F5B9178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2019-7C65-4EFC-B3AE-B4323503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C788-0FF3-4441-9F78-4C744363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F259-7229-4491-BBB2-C9E7B7F4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DD21-B9C0-47FD-83DA-EF858DA6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160-091F-4C89-9AFE-202862D2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8678-9C74-4DF2-9B11-F0282AAA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ECD7-E4AF-494F-B377-00C3626C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E6A5-C0C0-406B-BCB0-CCB81845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701D-2A5E-4918-82F7-6DD158BC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7239-9500-4A92-A1D6-0B39D241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695-553A-4184-83A2-B449E3AB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14A-E8AD-40D1-B9CC-0F976FB1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3CC3-2065-479D-976F-89AF353B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CB5-5F0D-401B-9EF3-C99C2E8B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CFC-7C5D-4F3B-B53F-8137AD97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B13-4387-4860-B8FC-A012A3E8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38F-2D6D-47D0-855A-F40839B5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c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CAEE-FCE1-45F1-9901-098210DBE91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c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39F5-CF97-4B24-AA30-065F229D78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6;&#1075;&#1088;&#1072;&#1092;&#1080;&#1103;" TargetMode="External"/><Relationship Id="rId2" Type="http://schemas.openxmlformats.org/officeDocument/2006/relationships/hyperlink" Target="http://ru.wikipedia.org/wiki/&#1069;&#1082;&#1086;&#1085;&#1086;&#1084;&#1080;&#1095;&#1077;&#1089;&#1082;&#1072;&#1103;_&#1075;&#1077;&#1086;&#1075;&#1088;&#1072;&#1092;&#1080;&#1103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57913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Тема урока: 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ведение. Что изучает экономическая и социальная география Росс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43430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ип урока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вод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Рисунок3"/>
          <p:cNvPicPr/>
          <p:nvPr/>
        </p:nvPicPr>
        <p:blipFill>
          <a:blip r:embed="rId1"/>
          <a:stretch/>
        </p:blipFill>
        <p:spPr>
          <a:xfrm>
            <a:off x="457200" y="5562720"/>
            <a:ext cx="106668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228600"/>
            <a:ext cx="8120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правление географическими объек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440" y="1752480"/>
            <a:ext cx="5715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туация, которая позволяет управлять географическими объектами, отвечая на вопросы: где, как, как можно улучшить (размещение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Рисунок3"/>
          <p:cNvPicPr/>
          <p:nvPr/>
        </p:nvPicPr>
        <p:blipFill>
          <a:blip r:embed="rId1"/>
          <a:stretch/>
        </p:blipFill>
        <p:spPr>
          <a:xfrm>
            <a:off x="6248520" y="3548160"/>
            <a:ext cx="251460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оздание географических объект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Это строительство дорог, водохранилищ,  каналов, городов,  фабрик, заводов и т.д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Рисунок3"/>
          <p:cNvPicPr/>
          <p:nvPr/>
        </p:nvPicPr>
        <p:blipFill>
          <a:blip r:embed="rId1"/>
          <a:stretch/>
        </p:blipFill>
        <p:spPr>
          <a:xfrm>
            <a:off x="6477120" y="4324320"/>
            <a:ext cx="1981080" cy="185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то «отец» географи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628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Давным – давно жил-был самый великий почемучка на свете . Он научился всему-всему, что знали его учителя, но ему этого было мало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атосфен Киренский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коло 276–194 гг. до н. э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ÑÐµÐºÑÑ Ð¿ÑÐ¸ Ð½Ð°Ð²ÐµÐ´ÐµÐ½Ð¸Ð¸"/>
          <p:cNvPicPr/>
          <p:nvPr/>
        </p:nvPicPr>
        <p:blipFill>
          <a:blip r:embed="rId1"/>
          <a:stretch/>
        </p:blipFill>
        <p:spPr>
          <a:xfrm>
            <a:off x="2514600" y="1649520"/>
            <a:ext cx="3733920" cy="520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6628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Зарождение экономической географии в Росс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то и когда  впервые употребил  термин экономическая география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то основоположник экономической географии в Росс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Кто автор первого учебника по экономической географии России?</a:t>
            </a:r>
            <a:br>
              <a:rPr sz="3000"/>
            </a:b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арождение экономической географии в Росс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2280" y="1752480"/>
            <a:ext cx="8763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760год-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М.В.Ломоносов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впервые употребил этот терми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Сколько пользы происходит о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еографии человеческому роду,  о том довольно известно, и славные примеры имеем в других европейских государствах…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3" descr="C:\Users\User\Desktop\Lomonosov_(3).jpg"/>
          <p:cNvPicPr/>
          <p:nvPr/>
        </p:nvPicPr>
        <p:blipFill>
          <a:blip r:embed="rId1"/>
          <a:stretch/>
        </p:blipFill>
        <p:spPr>
          <a:xfrm>
            <a:off x="0" y="4343400"/>
            <a:ext cx="18288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231840" y="304920"/>
            <a:ext cx="8607240" cy="1212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User\Desktop\i.jpg"/>
          <p:cNvPicPr/>
          <p:nvPr/>
        </p:nvPicPr>
        <p:blipFill>
          <a:blip r:embed="rId2"/>
          <a:stretch/>
        </p:blipFill>
        <p:spPr>
          <a:xfrm>
            <a:off x="228600" y="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228600" y="2971800"/>
            <a:ext cx="891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897год- П.П. Семёнов-Тян-Шанск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овал первую перепись населения в Росси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Николай Николаевич Баранск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4348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тор географических наук, профессор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тор теории географических объек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тор первого учебника по экономическ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еограф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905120" y="5791320"/>
            <a:ext cx="22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1881-1963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Picture 8" descr="Картинка 1 из 111"/>
          <p:cNvPicPr/>
          <p:nvPr/>
        </p:nvPicPr>
        <p:blipFill>
          <a:blip r:embed="rId1"/>
          <a:stretch/>
        </p:blipFill>
        <p:spPr>
          <a:xfrm>
            <a:off x="1447920" y="1779480"/>
            <a:ext cx="2330280" cy="3859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иколай Николаевич Баран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419720" y="1752480"/>
            <a:ext cx="4495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втор первого учебника по экономической географии-1933,который переиздавал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40 л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Картинка 13 из 111"/>
          <p:cNvPicPr/>
          <p:nvPr/>
        </p:nvPicPr>
        <p:blipFill>
          <a:blip r:embed="rId1"/>
          <a:stretch/>
        </p:blipFill>
        <p:spPr>
          <a:xfrm>
            <a:off x="1143000" y="1947960"/>
            <a:ext cx="28558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иколай Николаевич Баранс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66640" y="1752480"/>
            <a:ext cx="8120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География-это наука, которая предвидит где встать городам, каким появиться заводам, куда пройти дорогам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458200" y="5790960"/>
            <a:ext cx="10944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и урок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формулировать задачи курса экономической и социальной географии Росси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чение географии, как науки, в изучении окружающего мир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комство со структурой учебни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ть ответ на вопрос: зачем изучают социально-экономическую географию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Рисунок3"/>
          <p:cNvPicPr/>
          <p:nvPr/>
        </p:nvPicPr>
        <p:blipFill>
          <a:blip r:embed="rId1"/>
          <a:stretch/>
        </p:blipFill>
        <p:spPr>
          <a:xfrm>
            <a:off x="6095880" y="3967200"/>
            <a:ext cx="2362320" cy="221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Основные понятия, факты, закон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циально-экономическая географ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трановеде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еографический прогно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авление географическими объекта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здание географических объек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Рисунок3"/>
          <p:cNvPicPr/>
          <p:nvPr/>
        </p:nvPicPr>
        <p:blipFill>
          <a:blip r:embed="rId1"/>
          <a:stretch/>
        </p:blipFill>
        <p:spPr>
          <a:xfrm>
            <a:off x="6858000" y="1676520"/>
            <a:ext cx="2057400" cy="1928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ум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вать определение социально-экономической географ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ить на вопрос: зачем изучают социально-экономическую географи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Рисунок3"/>
          <p:cNvPicPr/>
          <p:nvPr/>
        </p:nvPicPr>
        <p:blipFill>
          <a:blip r:embed="rId1"/>
          <a:stretch/>
        </p:blipFill>
        <p:spPr>
          <a:xfrm>
            <a:off x="7391520" y="5181480"/>
            <a:ext cx="106668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оциально-экономическая географ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914400" y="2076840"/>
            <a:ext cx="792468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циально-экономическая география - система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географических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наук,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зучающая территориальную организацию общества,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е законы и закономерности. Подразделяется на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экономическую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циальную, политическую и культурную географию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 изучает экономическая и социальная география Росси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28600" y="19051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акономерности размещения населения и хозяйства, их особенности , перспективы развития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Страновед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трановедение изучает население, хозяйство, культуру, религию стр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Рисунок3"/>
          <p:cNvPicPr/>
          <p:nvPr/>
        </p:nvPicPr>
        <p:blipFill>
          <a:blip r:embed="rId1"/>
          <a:stretch/>
        </p:blipFill>
        <p:spPr>
          <a:xfrm>
            <a:off x="6629400" y="4467240"/>
            <a:ext cx="1828800" cy="1714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Географический прогноз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Рисунок3"/>
          <p:cNvPicPr/>
          <p:nvPr/>
        </p:nvPicPr>
        <p:blipFill>
          <a:blip r:embed="rId1"/>
          <a:stretch/>
        </p:blipFill>
        <p:spPr>
          <a:xfrm>
            <a:off x="6248520" y="373392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туация, которая позволяет определить состояние объектов в будущ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аиса</cp:lastModifiedBy>
  <dcterms:modified xsi:type="dcterms:W3CDTF">2020-09-01T18:30:1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