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B4C-B97A-458D-9AB2-07B51AD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639-A701-46F0-BE12-611E5E2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DCB-4C74-4D7A-90A5-3760D96D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E9C-0762-473A-BC7E-00D5009F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82D-A5DA-4ACC-AC75-F2C00A3C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7245-1E6C-4B35-AFB5-F80A954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EF07-0D60-4224-8001-913AC75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77AD-0505-49F2-BBBC-2ECAF9ED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1B04-8894-47B6-B5C8-CDEC7DFF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BEC-6EA8-45CC-8F5B-07126289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DA53-DF7E-490F-8CD6-B540DDB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F1F-2FBF-41DE-BE3D-E6C4DB75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C27-1B67-4BE0-B12D-D479403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6577-1917-4D2C-9CFE-D767214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44B-6EFC-4B8B-A1AB-9AC5B8A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E6D7-C3F0-4E22-8D7A-3DD462B2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4276-C7CC-4F07-B629-676EA62D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49B-9F4E-4744-9E62-E73F6A47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89F-5BBF-4FE0-83DD-CDEF5747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28C-6777-4012-BB37-3A2748AE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924-9409-4FD5-B3C0-ADB9542C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0AD-2563-4E02-A7AD-FF151A1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4A4-C801-47EF-A1E3-ECBA390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1E5-9C51-455D-A292-365AF2B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3CA2-FF5B-4DA4-907A-97BDA6A74F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187-1FF1-42FA-852E-AFB8445FA6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6;&#1075;&#1088;&#1072;&#1092;&#1080;&#1103;" TargetMode="External"/><Relationship Id="rId2" Type="http://schemas.openxmlformats.org/officeDocument/2006/relationships/hyperlink" Target="http://ru.wikipedia.org/wiki/&#1069;&#1082;&#1086;&#1085;&#1086;&#1084;&#1080;&#1095;&#1077;&#1089;&#1082;&#1072;&#1103;_&#1075;&#1077;&#1086;&#1075;&#1088;&#1072;&#1092;&#1080;&#1103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ма урока: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ведение. Что изучает экономическая и социальная география Ро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343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урока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вод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Рисунок3"/>
          <p:cNvPicPr/>
          <p:nvPr/>
        </p:nvPicPr>
        <p:blipFill>
          <a:blip r:embed="rId1"/>
          <a:stretch/>
        </p:blipFill>
        <p:spPr>
          <a:xfrm>
            <a:off x="457200" y="55627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228600"/>
            <a:ext cx="8120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правление географически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туация, которая позволяет управлять географическими объектами, отвечая на вопросы: где, как, как можно улучшить (размещение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Рисунок3"/>
          <p:cNvPicPr/>
          <p:nvPr/>
        </p:nvPicPr>
        <p:blipFill>
          <a:blip r:embed="rId1"/>
          <a:stretch/>
        </p:blipFill>
        <p:spPr>
          <a:xfrm>
            <a:off x="6248520" y="3548160"/>
            <a:ext cx="251460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оздание географических объект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то строительство дорог, водохранилищ,  каналов, городов,  фабрик, заводов и т.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Рисунок3"/>
          <p:cNvPicPr/>
          <p:nvPr/>
        </p:nvPicPr>
        <p:blipFill>
          <a:blip r:embed="rId1"/>
          <a:stretch/>
        </p:blipFill>
        <p:spPr>
          <a:xfrm>
            <a:off x="6477120" y="4324320"/>
            <a:ext cx="198108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то «отец» географ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авным – давно жил-был самый великий почемучка на свете . Он научился всему-всему, что знали его учителя, но ему этого было мал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атосфен Киренский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оло 276–194 гг. до н. э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ÑÐµÐºÑÑ Ð¿ÑÐ¸ Ð½Ð°Ð²ÐµÐ´ÐµÐ½Ð¸Ð¸"/>
          <p:cNvPicPr/>
          <p:nvPr/>
        </p:nvPicPr>
        <p:blipFill>
          <a:blip r:embed="rId1"/>
          <a:stretch/>
        </p:blipFill>
        <p:spPr>
          <a:xfrm>
            <a:off x="2514600" y="1649520"/>
            <a:ext cx="3733920" cy="520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рождение экономической географии в Росс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и когда  впервые употребил  термин экономическая география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основоположник экономической географии в Росс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автор первого учебника по экономической географии России?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рождение экономической географии в Росс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17524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60год-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.В.Ломоносов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впервые употребил этот терм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Сколько пользы происходит о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еографии человеческому роду,  о том довольно известно, и славные примеры имеем в других европейских государствах…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" descr="C:\Users\User\Desktop\Lomonosov_(3).jpg"/>
          <p:cNvPicPr/>
          <p:nvPr/>
        </p:nvPicPr>
        <p:blipFill>
          <a:blip r:embed="rId1"/>
          <a:stretch/>
        </p:blipFill>
        <p:spPr>
          <a:xfrm>
            <a:off x="0" y="4343400"/>
            <a:ext cx="1828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607240" cy="121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User\Desktop\i.jpg"/>
          <p:cNvPicPr/>
          <p:nvPr/>
        </p:nvPicPr>
        <p:blipFill>
          <a:blip r:embed="rId2"/>
          <a:stretch/>
        </p:blipFill>
        <p:spPr>
          <a:xfrm>
            <a:off x="228600" y="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28600" y="297180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7год- П.П. Семёнов-Тян-Шан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овал первую перепись населения в Росс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434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тор географических наук, профессор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р теории гео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р первого учебника по экономическ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е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905120" y="5791320"/>
            <a:ext cx="22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881-196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8" descr="Картинка 1 из 111"/>
          <p:cNvPicPr/>
          <p:nvPr/>
        </p:nvPicPr>
        <p:blipFill>
          <a:blip r:embed="rId1"/>
          <a:stretch/>
        </p:blipFill>
        <p:spPr>
          <a:xfrm>
            <a:off x="1447920" y="1779480"/>
            <a:ext cx="2330280" cy="385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197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тор первого учебника по экономической географии-1933,который переиздавал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Картинка 13 из 111"/>
          <p:cNvPicPr/>
          <p:nvPr/>
        </p:nvPicPr>
        <p:blipFill>
          <a:blip r:embed="rId1"/>
          <a:stretch/>
        </p:blipFill>
        <p:spPr>
          <a:xfrm>
            <a:off x="1143000" y="1947960"/>
            <a:ext cx="2855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География-это наука, которая предвидит где встать городам, каким появиться заводам, куда пройти дорогам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458200" y="5790960"/>
            <a:ext cx="1094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и уро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формулировать задачи курса экономической и социальной географии Росс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ение географии, как науки, в изучении окружающего мир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комство со структурой учеб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ть ответ на вопрос: зачем изучают социально-экономическую географию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Рисунок3"/>
          <p:cNvPicPr/>
          <p:nvPr/>
        </p:nvPicPr>
        <p:blipFill>
          <a:blip r:embed="rId1"/>
          <a:stretch/>
        </p:blipFill>
        <p:spPr>
          <a:xfrm>
            <a:off x="6095880" y="3967200"/>
            <a:ext cx="2362320" cy="221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онятия, факты, закон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рановед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еографический прогно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вление географическими объект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здание географических объек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3"/>
          <p:cNvPicPr/>
          <p:nvPr/>
        </p:nvPicPr>
        <p:blipFill>
          <a:blip r:embed="rId1"/>
          <a:stretch/>
        </p:blipFill>
        <p:spPr>
          <a:xfrm>
            <a:off x="6858000" y="1676520"/>
            <a:ext cx="205740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ум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вать определение социально-экономической географ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: зачем изучают социально-экономическую географи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Рисунок3"/>
          <p:cNvPicPr/>
          <p:nvPr/>
        </p:nvPicPr>
        <p:blipFill>
          <a:blip r:embed="rId1"/>
          <a:stretch/>
        </p:blipFill>
        <p:spPr>
          <a:xfrm>
            <a:off x="7391520" y="518148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14400" y="2076840"/>
            <a:ext cx="792468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 - система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географ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наук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зучающая территориальную организацию общества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е законы и закономерности. Подразделяется на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экономическую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циальную, политическую и культурную географию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 изучает экономическая и социальная география Росси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28600" y="19051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кономерности размещения населения и хозяйства, их особенности , перспективы развит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транове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рановедение изучает население, хозяйство, культуру, религию стр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Рисунок3"/>
          <p:cNvPicPr/>
          <p:nvPr/>
        </p:nvPicPr>
        <p:blipFill>
          <a:blip r:embed="rId1"/>
          <a:stretch/>
        </p:blipFill>
        <p:spPr>
          <a:xfrm>
            <a:off x="6629400" y="4467240"/>
            <a:ext cx="1828800" cy="17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Географический прогно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Рисунок3"/>
          <p:cNvPicPr/>
          <p:nvPr/>
        </p:nvPicPr>
        <p:blipFill>
          <a:blip r:embed="rId1"/>
          <a:stretch/>
        </p:blipFill>
        <p:spPr>
          <a:xfrm>
            <a:off x="6248520" y="37339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туация, которая позволяет определить состояние объектов в будущ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иса</cp:lastModifiedBy>
  <dcterms:modified xsi:type="dcterms:W3CDTF">2020-09-01T18:30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