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2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515-7541-4AE4-B1FC-13444342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257-3942-4998-B039-4347645E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D0180B-3E1D-4210-B565-562A5F39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C0E82A-7671-4FB8-B007-E92E5737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59879E-8F3D-4564-BFF6-5F906E9C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E6F09A-1A89-4812-844E-8B07D288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137F4C-8682-438C-AC02-7958FBB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BC9F28-E2BC-416A-AC3F-02493037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2B9113-F362-4458-AEF6-501AEFBE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D8AC2C-156A-4880-B804-64662680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4B029F-292A-4E4F-A262-6D48C395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E63-4E9D-4F01-AE35-5A8FF860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50B-CC48-4B5B-B921-180266EB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7DFB2-9BE3-4F34-B2A5-412DCA37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F37EE-A780-4F6D-8643-5D5450C2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2D4C8-FC2F-4417-BD6B-779D9C81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A3370-7C76-4EA1-BBB0-2AC8D45D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8FF17-52E6-49D7-AD2C-1BFB372A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3B957-AEB1-4ED8-A935-BA16656E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44F30-34D5-43FC-A2BB-CEEB8746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F92-9132-4769-8DD7-8FE086E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08485-AA80-4E73-816A-B546F0EE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E85A6-66C6-414C-9BE7-FF94E0D1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DC34E-CB12-4981-8B1A-75FF3B88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8A65D-FF5F-437B-85F3-8598ABE2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5D1E2-5F87-4A97-B07E-0470928F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2B92-7B17-4C13-8B31-09608D01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CE47-B0AF-4592-A7F7-0A5A406D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08DA-3639-4D6F-80F5-802A8928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A667-B0F4-4D20-8F7C-548D5628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A3B79-E40E-453E-B4D5-6F1A634F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D86-84DB-49F2-ABAB-E8782994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0FA4-966E-4D5D-927F-F62A2865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15C62-6D8A-4698-BF74-209FE0E7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76CD-53FD-408C-A169-67EB5076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9D93-E7D9-4DF1-8948-6119AA8D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853C-62C3-4688-AD5D-60CB55F4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F749-2678-4A70-AE35-51B99733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1747B-AC2C-4D22-897F-495CEEA8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3C4C91-D96C-4C83-A68A-B84CE9E5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4D9D1-2EA0-4766-9552-74913E04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AF60C-8821-47FF-9456-37E84E26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000-6563-45E4-BB72-8E208E8F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34ED4-C6DE-4BF2-9814-B4497CF2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43506-6C02-4D04-9891-FA39C273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BFE05-AEDD-48B1-B4D2-2CF49925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F8DDF-20F8-4CA9-AB2B-FB3FBD2F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1472A-F0C1-4A92-8B9A-D32DEBE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940A0-754F-44A7-973D-0EA2A313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62010-09F1-4A0C-A702-C419B628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FA2AB-338B-4294-AEDF-E61773D6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E724B-F67C-4ABC-A953-335C041E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9B046-5B6C-4A2E-83C5-1F3818F1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E6A-2FDC-4C70-876B-59337A98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E012B-C7FD-464D-8E1B-191871C9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6B1D9-9C4B-41DB-92FB-D7DEA5F4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AF5BF-7E3B-446E-82B8-BACB2F92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4C013-E4D6-43B2-ADDB-08751DDF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3E137-245A-4B01-9AD5-970F3AD8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D2AC0-427B-4E13-A377-B20E363C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251BF-471B-4A9C-8D40-A5EDCE01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C4D70-6BC7-4BBD-81F9-8603621E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D374B-E76E-4527-AE62-13B58883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EFB3F-F74F-48D1-AA9F-2A73556E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34E-5696-4520-BE85-BB5C44B1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5E8A8-77C9-4CD1-A9D4-93A9F7C9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6C66-4624-4B3D-A03B-A83735EA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12ECB-624D-4FDD-94E3-12626A66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B4EB6-C8F0-406C-ADF9-515761CB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2CAAB-ED26-41EF-BD8D-C410E83A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684BF-B8EC-4987-A50A-1FE4A23C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63C1B-F908-472D-82F2-AFD66741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1A260-26E5-4B8C-967A-4D80B575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963A9-0A64-4E2F-B6E3-9364978B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A5780-FA21-4D4A-BBE6-60DE1E5F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422-56D1-4900-883D-F8A981C8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1B3F8-EA7C-46FF-8842-F39D715D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3BC08-271C-49DA-9228-D64AD885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41590-4BF4-4843-AA23-B8ED0920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889C3-BA9F-489C-B9F8-5A90AC62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637B5-6866-483E-9794-299A3C3B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204C6-0FF3-4599-BA30-42A14382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4E3CB-23BF-438A-A1E4-C0409B94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5442A-793C-4259-B788-1558EB2D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0FC2C-1189-49D2-8B9C-E42FC809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EE09B-5DA4-4918-9F49-466D6EE7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E0A-9C28-4F49-BF90-9C31F8A0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4D79-6F66-4278-B4E2-26B4FDC0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9F934-47D9-482E-94F8-B4D510D6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DAFD2-440F-414B-93CE-AA949768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E34CC-32B6-4AC8-A999-44105081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53808-F6BA-4C91-9900-BCED7D41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7D3D23-139A-4ED2-AB1B-3B962F3E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851E96-B656-421F-ACD4-970EFBB3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D0A2DD-96E3-4800-AA8F-46B7E796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0C60A0-AFD4-44A4-8CF6-02EA0277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877B5-919B-4E01-83E3-13DE4726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D18-F605-4F4E-82EA-CCAC2DE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E1EA6B-A25D-42DD-B9D4-2692FDE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6F5AE2-E341-45F9-A853-ABDF2975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012550-F12B-4A38-AEA3-41249BC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BAB22F-1755-44A8-93B7-5ABF6D9D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806574-3ED0-48A0-B8C3-4B098671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2032F3-C184-4C0F-AA0A-F8E5CDE9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56B56E-C5DB-4B14-8D24-8C64ADFE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028A82-CEA2-4E03-B610-33D90F2E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4A45A8-B3E2-4490-864F-883D25A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74140D-F2EB-4BC3-A8DE-AEF1F0AD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54BF-E795-46C5-A530-227818484ACA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D528-0C72-4FBA-A9F0-D385A7F1DA1F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F3D8-A2F6-430A-B158-F38519EF912B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C59C-B275-4077-8F25-4FBE8456BC5D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3F01-F259-4C70-A034-8A88B7AE78FA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2D38-76E7-4E97-84C4-370BDDDBF5A1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7F48-7AF5-434F-BF26-C56AF3FF246C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082-A844-4429-9A08-A149E5B308EB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4AA8-8CBF-4A66-8A8B-A158638CF611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1752480" y="152280"/>
            <a:ext cx="601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db5353"/>
                </a:solidFill>
                <a:latin typeface="Book Antiqua"/>
              </a:rPr>
              <a:t>Гимнастика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5" name="Picture 3" descr="bd2065-002"/>
          <p:cNvPicPr/>
          <p:nvPr/>
        </p:nvPicPr>
        <p:blipFill>
          <a:blip r:embed="rId1"/>
          <a:stretch/>
        </p:blipFill>
        <p:spPr>
          <a:xfrm>
            <a:off x="1981080" y="2362320"/>
            <a:ext cx="541044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2"/>
          <p:cNvSpPr txBox="1"/>
          <p:nvPr/>
        </p:nvSpPr>
        <p:spPr>
          <a:xfrm>
            <a:off x="304920" y="457200"/>
            <a:ext cx="8458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хника выполнения гимнастических упражнени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0" y="15238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5353"/>
                </a:solidFill>
                <a:latin typeface="Garamond"/>
              </a:rPr>
              <a:t>Строевые  упражнения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—  двигательные  действия  учащихся, выполняемые  одновременно  всем  классом,  группами  учащихся или  отдельными  учениками.  С  помощью  строевых  упражнений решаются  задачи формирования  навыков  коллективных  действий (в строю), воспитания дисциплины и организованности, выработки чувства  темпа  и  ритма,  формирования  правильной  осан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rcRect l="0" t="0" r="0" b="7481"/>
          <a:stretch/>
        </p:blipFill>
        <p:spPr>
          <a:xfrm>
            <a:off x="762120" y="4267080"/>
            <a:ext cx="76960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664000" y="225360"/>
            <a:ext cx="454788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80880" y="12952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1440" indent="-271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рыжки способствуют развитию силы мышц (прежде всего мышц ног), укрепляют связки и суставы, развивают прыгучесть, ловкость, смелость. При выполнении прыжков формируются прикладные навыки в преодолении препятствий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Гимнастические прыжки делятся на две группы: </a:t>
            </a:r>
            <a:r>
              <a:rPr b="0" lang="ru-RU" sz="3600" spc="-1" strike="noStrike" u="sng">
                <a:solidFill>
                  <a:srgbClr val="db5353"/>
                </a:solidFill>
                <a:uFillTx/>
                <a:latin typeface="Cambria"/>
              </a:rPr>
              <a:t>неопорные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 и </a:t>
            </a:r>
            <a:r>
              <a:rPr b="0" lang="ru-RU" sz="3600" spc="-1" strike="noStrike" u="sng">
                <a:solidFill>
                  <a:srgbClr val="db5353"/>
                </a:solidFill>
                <a:uFillTx/>
                <a:latin typeface="Cambria"/>
              </a:rPr>
              <a:t>опорные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mbr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467920" cy="16095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962160" y="19051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К этой группе относятся прыжки на месте на обеих ногах и на одной ноге, прыжки с высоты, с трамплина,</a:t>
            </a:r>
            <a:r>
              <a:rPr b="0" lang="ru-RU" sz="3600" spc="-1" strike="noStrike">
                <a:solidFill>
                  <a:srgbClr val="db5353"/>
                </a:solidFill>
                <a:latin typeface="Cambria"/>
              </a:rPr>
              <a:t> прыжки со скакалкой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238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380880" y="380880"/>
            <a:ext cx="8763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Прыжки со скакалкой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обеих ногах (обычные и простые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Скрестн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Петлей - скакалка вращается с поочередным сведением рук внутрь (образуя петлю) и разведением и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С двойным вращением скакалк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. Со сменой ног («маятник»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6. В полуприседе и присед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7. Вдвоем, стоя спиной или лицом друг к друг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8. На одной ноге и на обеих ногах с продвижением в различных направления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9. На месте с вращением скакалки вправо и влево (одна рука сзади, другая впереди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0. Бег на месте с высоким подниманием бед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144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полняются с разбега толчком двумя ногами о гимнастический мостик и обязательно с опорой руками о снаряд (конь, козел, гимнастический стол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1076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856345-001"/>
          <p:cNvPicPr/>
          <p:nvPr/>
        </p:nvPicPr>
        <p:blipFill>
          <a:blip r:embed="rId2"/>
          <a:stretch/>
        </p:blipFill>
        <p:spPr>
          <a:xfrm>
            <a:off x="2133720" y="3048120"/>
            <a:ext cx="4952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4237200" cy="9464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"/>
          <p:cNvSpPr/>
          <p:nvPr/>
        </p:nvSpPr>
        <p:spPr>
          <a:xfrm>
            <a:off x="533520" y="4753080"/>
            <a:ext cx="8229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5353"/>
                </a:solidFill>
                <a:latin typeface="Garamond"/>
              </a:rPr>
              <a:t>Вис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-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это такое положение тела на снаряде, при   котором плечи   находятся ниже точки хват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396252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540240" cy="41148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3"/>
          <p:cNvSpPr/>
          <p:nvPr/>
        </p:nvSpPr>
        <p:spPr>
          <a:xfrm>
            <a:off x="533520" y="441972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5353"/>
                </a:solidFill>
                <a:latin typeface="Garamond"/>
              </a:rPr>
              <a:t>Упор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это такое положение тела на снаряде (или полу), при котором плечи находятся выше точки опор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5257800" y="4495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Группиров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3962520" cy="1566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2819160" cy="16365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457200" y="3808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5353"/>
                </a:solidFill>
                <a:latin typeface="Garamond"/>
              </a:rPr>
              <a:t>В  комплексной  программе  физического  воспитания  учащихся общеобразовательной  школы  большое  внимание  уделяется освоению  сравнительно  несложных  акробатических  упражнен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152280" y="54864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ни предусмотрены с I по XI класс как для мальчиков (юношей), так  и  для  девочек (девушек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686520" y="4419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Перека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304920" y="373392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еречень  упражнений  в  целом невелик,  однако  благодаря  своей  динамичности  и  эмоциональности они широко используются на занятиях гимнастикой в  школе  и  являются  эффективным  средством  физическо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оспитания  учащихся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609480" y="2514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Кувырок впере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429000" cy="1498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3809880" cy="14828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6"/>
          <p:cNvSpPr/>
          <p:nvPr/>
        </p:nvSpPr>
        <p:spPr>
          <a:xfrm>
            <a:off x="4665600" y="2590920"/>
            <a:ext cx="44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Стойка на лопатк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7315200" y="40384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"/>
          <p:cNvPicPr/>
          <p:nvPr/>
        </p:nvPicPr>
        <p:blipFill>
          <a:blip r:embed="rId2"/>
          <a:stretch/>
        </p:blipFill>
        <p:spPr>
          <a:xfrm>
            <a:off x="7162920" y="2286000"/>
            <a:ext cx="1676160" cy="12510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304920" y="1752480"/>
            <a:ext cx="6629400" cy="5946120"/>
          </a:xfrm>
          <a:prstGeom prst="rect">
            <a:avLst/>
          </a:prstGeom>
          <a:noFill/>
          <a:ln w="9360">
            <a:solidFill>
              <a:srgbClr val="db53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 Не выполнять самостоятельно сложных упражнений, требующих страхов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 При изучении отдельных упражнений соблюдать строгую последовательность, изложенную в учебник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 Нельзя заниматься на снаряде, под которым нет ма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 Маты должны лежать плотно друг к друг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 Приземляться нужно на середину одного из ма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.  Нельзя заниматься на неисправных или незакрепленных снаряд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304920" y="228600"/>
            <a:ext cx="8610480" cy="1800360"/>
          </a:xfrm>
          <a:prstGeom prst="rect">
            <a:avLst/>
          </a:prstGeom>
          <a:noFill/>
          <a:ln w="9360">
            <a:solidFill>
              <a:srgbClr val="db53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ремя занятий гимнастическими упражнениями необходимо соблюдать </a:t>
            </a: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правила техники безопасности и страхов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152280" y="3352680"/>
            <a:ext cx="8763120" cy="4040280"/>
          </a:xfrm>
          <a:prstGeom prst="rect">
            <a:avLst/>
          </a:prstGeom>
          <a:noFill/>
          <a:ln w="9360">
            <a:solidFill>
              <a:srgbClr val="db53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3638"/>
                </a:solidFill>
                <a:latin typeface="Garamond"/>
              </a:rPr>
              <a:t>Гимнастика имеет свои достоинства: многообразие упражнений, разносторонность и гармоничность их влияния на формирование физических способностей занимающихся, воспитание социально приемлемых форм межличностных отношений, построенных на стратегии партнерства и сотрудничест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7" name="Picture 3" descr="889288-002"/>
          <p:cNvPicPr/>
          <p:nvPr/>
        </p:nvPicPr>
        <p:blipFill>
          <a:blip r:embed="rId1"/>
          <a:stretch/>
        </p:blipFill>
        <p:spPr>
          <a:xfrm>
            <a:off x="2743200" y="228600"/>
            <a:ext cx="3657600" cy="2701800"/>
          </a:xfrm>
          <a:prstGeom prst="rect">
            <a:avLst/>
          </a:prstGeom>
          <a:ln w="0">
            <a:noFill/>
          </a:ln>
        </p:spPr>
      </p:pic>
      <p:sp>
        <p:nvSpPr>
          <p:cNvPr id="398" name="Нижний колонтитул 5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.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Прямоугольник 3" descr=""/>
          <p:cNvPicPr/>
          <p:nvPr/>
        </p:nvPicPr>
        <p:blipFill>
          <a:blip r:embed="rId1"/>
          <a:stretch/>
        </p:blipFill>
        <p:spPr>
          <a:xfrm>
            <a:off x="695160" y="2724120"/>
            <a:ext cx="76266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228600"/>
            <a:ext cx="85341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3638"/>
                </a:solidFill>
                <a:latin typeface="Garamond"/>
              </a:rPr>
              <a:t>Впервые термин «гимнастика» появился у древних греков (эллинов) в </a:t>
            </a:r>
            <a:r>
              <a:rPr b="0" lang="en-US" sz="3600" spc="-1" strike="noStrike">
                <a:solidFill>
                  <a:srgbClr val="903638"/>
                </a:solidFill>
                <a:latin typeface="Garamond"/>
              </a:rPr>
              <a:t>VIII </a:t>
            </a:r>
            <a:r>
              <a:rPr b="0" lang="ru-RU" sz="3600" spc="-1" strike="noStrike">
                <a:solidFill>
                  <a:srgbClr val="903638"/>
                </a:solidFill>
                <a:latin typeface="Garamond"/>
              </a:rPr>
              <a:t>в. до н. э. Занятия физическими упражнениями они проводили в специальных заведениях - гимнасиях. В те времена гимнастика включала в себя все известные в античную эпоху физические упражнения (то, что мы теперь относим к легкой атлетике, тяжелой атлетике, борьбе, фехтованию, гребле), а также акробатику, игры с мячом, танц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457200" y="304920"/>
            <a:ext cx="8458200" cy="32918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В настоящее время гимнастика включает в себя основную гимнастику, которой занимаются во всех учебных заведениях и в армии; спортивные виды гимнастики — спортивная гимнастика, художественная гимнастика, аэробика, акробатик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6172200" y="2819520"/>
            <a:ext cx="2362320" cy="2124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762120" y="2819520"/>
            <a:ext cx="2286000" cy="2133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3"/>
          <a:stretch/>
        </p:blipFill>
        <p:spPr>
          <a:xfrm>
            <a:off x="3505320" y="3581280"/>
            <a:ext cx="22240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228600" y="27936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Основная гимнастика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это строевые и общеразвивающие упражнения, упражнения на снарядах, прыжки и акробатические упраж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Спортивная гимнастик</a:t>
            </a: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ключает в себя женское многоборье (опорный прыжок, брусья разновысокие, бревно, вольные упражнений) и мужское многоборье (конь с ручками, кольца, перекладина, вольные упражнения, брусья параллельные, опорный прыжок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2667240" cy="198108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6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457200" y="4572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Художественная гимнастика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женский олимпийский вид спорта. В нее входят упражнения танцевального характера с предметами (мячом, обручем, булавами, скакалкой, лентой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Спортивная акробатика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ключает четыре группы упражнений: акробатические прыжки, парные (мужские и смешанные) и групповые упраж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2233440" cy="2514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4343400" y="4343400"/>
            <a:ext cx="350532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304560" y="33526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mbria"/>
              </a:rPr>
              <a:t>Гимнастика является частью комплексной программы по физическому воспитанию и одной из основных дисциплин учебного плана физической культуры в  школе.</a:t>
            </a:r>
            <a:br>
              <a:rPr sz="3300"/>
            </a:br>
            <a:endParaRPr b="0" lang="en-US" sz="33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2" name="Picture 3" descr="bb1243-006"/>
          <p:cNvPicPr/>
          <p:nvPr/>
        </p:nvPicPr>
        <p:blipFill>
          <a:blip r:embed="rId1"/>
          <a:stretch/>
        </p:blipFill>
        <p:spPr>
          <a:xfrm>
            <a:off x="914400" y="609480"/>
            <a:ext cx="3429000" cy="2351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856349-001"/>
          <p:cNvPicPr/>
          <p:nvPr/>
        </p:nvPicPr>
        <p:blipFill>
          <a:blip r:embed="rId2"/>
          <a:stretch/>
        </p:blipFill>
        <p:spPr>
          <a:xfrm>
            <a:off x="4876920" y="609480"/>
            <a:ext cx="34290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80880" y="914400"/>
            <a:ext cx="85345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роки гимнастики имеют большие возможности для решения</a:t>
            </a: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 </a:t>
            </a:r>
            <a:r>
              <a:rPr b="1" lang="ru-RU" sz="3600" spc="-1" strike="noStrike" u="sng">
                <a:solidFill>
                  <a:srgbClr val="db5353"/>
                </a:solidFill>
                <a:uFillTx/>
                <a:latin typeface="Garamond"/>
              </a:rPr>
              <a:t>воспитательных задач</a:t>
            </a:r>
            <a:r>
              <a:rPr b="1" lang="ru-RU" sz="3200" spc="-1" strike="noStrike" u="sng">
                <a:solidFill>
                  <a:srgbClr val="db5353"/>
                </a:solidFill>
                <a:uFillTx/>
                <a:latin typeface="Garamond"/>
              </a:rPr>
              <a:t>,</a:t>
            </a: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аких как дисциплинированность, внимательность, аккуратность, коллективизм, настойчивость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одолении трудностей, эстетика движений и т. д. Оздоровительные и воспитательные задачи должны решаться в неразрывной связи с образовательны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380880" y="380880"/>
            <a:ext cx="8534520" cy="68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b5353"/>
                </a:solidFill>
                <a:uFillTx/>
                <a:latin typeface="Garamond"/>
              </a:rPr>
              <a:t>Оздоровительные задачи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Формирование у детей правильной осанки;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Соблюдение гигиенических условий проведения занятий и мер предупреждения травматизма;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Обучение правильному дыханию при их выполнении гимнастических упражнений;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Обучение учащихся методам самоконтроля и оценки состояния здоровья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12-18T13:34:17Z</dcterms:modified>
  <cp:revision>7</cp:revision>
  <dc:subject/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