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1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2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33F-6B16-493F-8D43-9E865050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348-AE1B-4FE4-AD2D-39295E2F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897FB7-B6B2-4392-8989-C64E807E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481311-00FB-40B1-B133-AEBB9C99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13282A-CC71-4728-B11E-CD69C9D4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4FFE20-EF66-42FC-A4B7-B4D14677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29F1DE-D815-4F8B-A70E-FD0E15A3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B9A954-2903-4006-9397-B4DEE573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22A57A-FE92-41B8-B380-91F48265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C15CA7-9C79-4166-97F5-F3DF2F27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664A62-3E7F-4280-85AB-A0EB4089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58F-250F-4680-93E7-4AD12C69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4CA-D366-4AE1-8348-CC22A6DF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5FC49-8D5E-417A-8AFA-845DB11B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6B13C-D5A1-47B6-B411-880CD8CC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B0101-5AF7-4822-926E-E1F5EFA0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6758C-A7DD-450B-BDB5-99041D6F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31E9A-0E17-46C2-AE84-DFEBEFC9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27429-4AE4-44D0-BF73-AAE71320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123E0-C5AC-49CD-9DE5-5D6DB552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240-ED82-46F5-B78E-2D4E319E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81CAB-EAF7-48AD-8F83-7BCBE5CA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F025F-1DDE-4E8C-9DD5-B76AFEB1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DA149-5A3B-43B6-A5E8-DD63635C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59EBC-C38F-41A8-BA0E-B99AE125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8C4B4-9E40-49A3-8002-CF97F5CF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98B4-9508-465B-9BCE-B3BE699C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37D38-D472-49A8-97A1-A7503CE7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B1DD-D7CF-49B1-B731-850BC996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AD59-89DE-47CF-B1BE-5FB82D0A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9D6D-DDD1-4414-A7D4-F1EA82E6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A93-1928-4BDE-8E03-FEC41762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2B75E-4925-4DC2-B0EE-7A846C31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8A8A-9B6E-479B-9918-54171123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4B5BE-79F4-4003-8324-0C24D9A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0162C-939A-4C76-9C1C-193E664E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839A-FA06-417B-B87E-AAA30212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4A23-4137-4D85-B80A-21BFBC37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C866-B373-415F-8A16-987AD710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A7F95-2024-41D4-AD9C-9E35352C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DB3AB-51C0-47B6-A94B-D61AC641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C113D-DF11-41AE-866C-53080FB5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1EE-365A-48F5-8D24-6D5E26C9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49597-05BB-45C7-832B-0486E06C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95DED-D2DD-47F0-B121-142FFDD5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5105F-CC52-472A-84F1-7C7D4883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B75C2-E590-4B33-8D3E-DADEE38A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32569-B765-49F6-83A2-376A6678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175BF-651E-4F98-BF28-A487B239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0D0333-D528-485B-82EC-2B852442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9109D-135C-4E6A-AA62-2432C359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34D47-D15C-4F71-8BF9-5ACC5EE4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9F8FB-428B-4E43-AAB7-B5F99490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A8DC-C0C7-422D-9376-A452C1FA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B0FBE-1FCA-4FBA-818A-825955A5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EB417-9F0B-48FB-AA46-9EB65052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231E-FE18-44DC-A0D8-007ECDB3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B5338-4BC6-444F-8B35-B3EC4DDD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8F22E-EF7B-4DAE-A66B-20C2B3CA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44FF4-AEDF-46D5-BE02-F73DFE2D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B8848-BB76-4BDB-97D0-BFE468D6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4AFD9-EF45-4519-8E44-6CCC512C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3724F-40B8-4A05-9DDC-A235A0EF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6F597-EF68-4100-9CC2-EC78E0FA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535-A5E8-4DF2-92C1-5B1985A4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39C7B-1DEA-4937-8863-F2FCBB04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B2101-D986-4FEF-9DDE-952AF16C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4D349-922C-4CA4-86EF-6971356A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88443-36C9-4A1D-B1E4-33C32985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B9171-7AC9-482E-AD8C-8FFE4038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F8BF7-EBE3-4CBD-8ABB-7598303F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671C6-1F05-4403-8C5C-84D467AF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4C8AB-7E77-4FE2-ACF7-85CD7AD3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7958E-470F-45C8-A112-D9A9F8ED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DB6C3-78AF-4066-B1D3-345B5CC1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94E-44CE-481E-968E-0D1CB93F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F1947-09DC-4572-95AB-4882E1EB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AAE0F-6F40-4858-8094-BD30CB42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5D232-63B1-4AFB-9B87-266C509B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B20DD-94C1-4395-9360-2A77EAA4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4FAFD-3283-4284-A80C-9156223C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C85E8-7EFE-4E88-A5AD-E3439D1F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00669-0359-4408-807D-63388954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CFE50-77E6-439D-AA2E-4D6EB797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970EB-A703-4BA2-A548-4E9FBD6C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DF35D-99D6-409F-A9AD-3CD5CCA1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49F-689D-4252-BD46-31797638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E68A1-885A-418C-A196-AB1287CF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DE870-B2FF-49E5-AEEB-8724F20D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292E2-EACE-45ED-8234-8A64719F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0B36D-77BB-41B6-825B-E2220DCA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D2250-F004-4A34-B170-98174F39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C92C60-DBFF-4F77-9570-7AB801F0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A763CA-A0BD-4C81-A240-30D0DAD5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D2865C-D16B-4E82-9FCE-C3B07DF7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76B87D-EC7D-4993-A552-5F68730C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798925-46CF-49E5-8AE4-B58E5FBD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C09-35ED-492F-A361-1092B0A4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4AD56A-6365-4D0B-BFCE-F5A54A34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D422EC-E025-4516-AED1-F951E24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03AE23-02BF-4E0B-80DD-B8CF93D4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4D1370-A646-4123-BF2A-092BEA66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8C3F49-7878-4D70-B3B5-8FBAA49D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9D9AB7-509E-42ED-A882-1834F2C5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DBE26E-4D90-4E2D-A6AD-3EE11111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B9AA1F-2540-4EA7-B27E-589184E4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F08FD0-0CBF-4EF2-ADFE-02C85EA1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D075A0-7794-4BA9-9DCD-DD0969CC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E0EE-48F8-4DB3-B0EB-E3B02B9A1053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9262-65BF-4240-854E-A5E3DAE902AA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C73F-8AB3-4BB2-BF54-BA47CCF4911C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DC94-E727-40C1-B424-C1B8FDBB5A50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2C24-BF08-41B0-8CD0-41693710BB11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DE56-26FB-49AA-A47B-89EB95353844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F6D7-59C8-4411-972D-0339FFDEF699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66E0-2897-4A92-937C-620D6BF5C770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78E5-A8BF-48AB-A781-13D6A0670790}" type="slidenum">
              <a:rPr b="0" lang="ru-RU" sz="1600" spc="-1" strike="noStrike">
                <a:solidFill>
                  <a:srgbClr val="dfe0d4"/>
                </a:solidFill>
                <a:latin typeface="Garamon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Ситников М.И. 2011 г. РМО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1752480" y="152280"/>
            <a:ext cx="601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db5353"/>
                </a:solidFill>
                <a:latin typeface="Book Antiqua"/>
              </a:rPr>
              <a:t>Гимнастика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5" name="Picture 3" descr="bd2065-002"/>
          <p:cNvPicPr/>
          <p:nvPr/>
        </p:nvPicPr>
        <p:blipFill>
          <a:blip r:embed="rId1"/>
          <a:stretch/>
        </p:blipFill>
        <p:spPr>
          <a:xfrm>
            <a:off x="1981080" y="2362320"/>
            <a:ext cx="541044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2"/>
          <p:cNvSpPr txBox="1"/>
          <p:nvPr/>
        </p:nvSpPr>
        <p:spPr>
          <a:xfrm>
            <a:off x="304920" y="457200"/>
            <a:ext cx="8458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хника выполнения гимнастических упражнени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0" y="15238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5353"/>
                </a:solidFill>
                <a:latin typeface="Garamond"/>
              </a:rPr>
              <a:t>Строевые  упражнения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—  двигательные  действия  учащихся, выполняемые  одновременно  всем  классом,  группами  учащихся или  отдельными  учениками.  С  помощью  строевых  упражнений решаются  задачи формирования  навыков  коллективных  действий (в строю), воспитания дисциплины и организованности, выработки чувства  темпа  и  ритма,  формирования  правильной  осан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rcRect l="0" t="0" r="0" b="7481"/>
          <a:stretch/>
        </p:blipFill>
        <p:spPr>
          <a:xfrm>
            <a:off x="762120" y="4267080"/>
            <a:ext cx="76960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664000" y="225360"/>
            <a:ext cx="454788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80880" y="12952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1440" indent="-271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Прыжки способствуют развитию силы мышц (прежде всего мышц ног), укрепляют связки и суставы, развивают прыгучесть, ловкость, смелость. При выполнении прыжков формируются прикладные навыки в преодолении препятствий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Гимнастические прыжки делятся на две группы: </a:t>
            </a:r>
            <a:r>
              <a:rPr b="0" lang="ru-RU" sz="3600" spc="-1" strike="noStrike" u="sng">
                <a:solidFill>
                  <a:srgbClr val="db5353"/>
                </a:solidFill>
                <a:uFillTx/>
                <a:latin typeface="Cambria"/>
              </a:rPr>
              <a:t>неопорные</a:t>
            </a: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 и </a:t>
            </a:r>
            <a:r>
              <a:rPr b="0" lang="ru-RU" sz="3600" spc="-1" strike="noStrike" u="sng">
                <a:solidFill>
                  <a:srgbClr val="db5353"/>
                </a:solidFill>
                <a:uFillTx/>
                <a:latin typeface="Cambria"/>
              </a:rPr>
              <a:t>опорные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ambri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467920" cy="16095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962160" y="19051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К этой группе относятся прыжки на месте на обеих ногах и на одной ноге, прыжки с высоты, с трамплина,</a:t>
            </a:r>
            <a:r>
              <a:rPr b="0" lang="ru-RU" sz="3600" spc="-1" strike="noStrike">
                <a:solidFill>
                  <a:srgbClr val="db5353"/>
                </a:solidFill>
                <a:latin typeface="Cambria"/>
              </a:rPr>
              <a:t> прыжки со скакалкой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238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380880" y="380880"/>
            <a:ext cx="8763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Прыжки со скакалкой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обеих ногах (обычные и простые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Скрестн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Петлей - скакалка вращается с поочередным сведением рук внутрь (образуя петлю) и разведением и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. С двойным вращением скакалк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. Со сменой ног («маятник»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6. В полуприседе и присед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7. Вдвоем, стоя спиной или лицом друг к друг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8. На одной ноге и на обеих ногах с продвижением в различных направления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9. На месте с вращением скакалки вправо и влево (одна рука сзади, другая впереди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0. Бег на месте с высоким подниманием бед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0" y="1447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полняются с разбега толчком двумя ногами о гимнастический мостик и обязательно с опорой руками о снаряд (конь, козел, гимнастический стол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26" name="Rectangle 3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10760" cy="1152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856345-001"/>
          <p:cNvPicPr/>
          <p:nvPr/>
        </p:nvPicPr>
        <p:blipFill>
          <a:blip r:embed="rId2"/>
          <a:stretch/>
        </p:blipFill>
        <p:spPr>
          <a:xfrm>
            <a:off x="2133720" y="3048120"/>
            <a:ext cx="4952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4237200" cy="9464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"/>
          <p:cNvSpPr/>
          <p:nvPr/>
        </p:nvSpPr>
        <p:spPr>
          <a:xfrm>
            <a:off x="533520" y="4753080"/>
            <a:ext cx="8229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5353"/>
                </a:solidFill>
                <a:latin typeface="Garamond"/>
              </a:rPr>
              <a:t>Вис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-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это такое положение тела на снаряде, при   котором плечи   находятся ниже точки хвата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396252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540240" cy="41148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3"/>
          <p:cNvSpPr/>
          <p:nvPr/>
        </p:nvSpPr>
        <p:spPr>
          <a:xfrm>
            <a:off x="533520" y="441972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5353"/>
                </a:solidFill>
                <a:latin typeface="Garamond"/>
              </a:rPr>
              <a:t>Упор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это такое положение тела на снаряде (или полу), при котором плечи находятся выше точки опор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5257800" y="44956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5353"/>
                </a:solidFill>
                <a:latin typeface="Garamond"/>
              </a:rPr>
              <a:t>Группиров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3962520" cy="1566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2819160" cy="16365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5"/>
          <p:cNvSpPr/>
          <p:nvPr/>
        </p:nvSpPr>
        <p:spPr>
          <a:xfrm>
            <a:off x="457200" y="3808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b5353"/>
                </a:solidFill>
                <a:latin typeface="Garamond"/>
              </a:rPr>
              <a:t>В  комплексной  программе  физического  воспитания  учащихся общеобразовательной  школы  большое  внимание  уделяется освоению  сравнительно  несложных  акробатических  упражнен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152280" y="54864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ни предусмотрены с I по XI класс как для мальчиков (юношей), так  и  для  девочек (девушек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686520" y="4419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5353"/>
                </a:solidFill>
                <a:latin typeface="Garamond"/>
              </a:rPr>
              <a:t>Перека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304920" y="373392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еречень  упражнений  в  целом невелик,  однако  благодаря  своей  динамичности  и  эмоциональности они широко используются на занятиях гимнастикой в  школе  и  являются  эффективным  средством  физическог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оспитания  учащихся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609480" y="2514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5353"/>
                </a:solidFill>
                <a:latin typeface="Garamond"/>
              </a:rPr>
              <a:t>Кувырок впере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429000" cy="14986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3809880" cy="148284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6"/>
          <p:cNvSpPr/>
          <p:nvPr/>
        </p:nvSpPr>
        <p:spPr>
          <a:xfrm>
            <a:off x="4665600" y="2590920"/>
            <a:ext cx="44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5353"/>
                </a:solidFill>
                <a:latin typeface="Garamond"/>
              </a:rPr>
              <a:t>Стойка на лопатк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"/>
          <p:cNvPicPr/>
          <p:nvPr/>
        </p:nvPicPr>
        <p:blipFill>
          <a:blip r:embed="rId1"/>
          <a:stretch/>
        </p:blipFill>
        <p:spPr>
          <a:xfrm>
            <a:off x="7315200" y="40384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"/>
          <p:cNvPicPr/>
          <p:nvPr/>
        </p:nvPicPr>
        <p:blipFill>
          <a:blip r:embed="rId2"/>
          <a:stretch/>
        </p:blipFill>
        <p:spPr>
          <a:xfrm>
            <a:off x="7162920" y="2286000"/>
            <a:ext cx="1676160" cy="12510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304920" y="1752480"/>
            <a:ext cx="6629400" cy="5946120"/>
          </a:xfrm>
          <a:prstGeom prst="rect">
            <a:avLst/>
          </a:prstGeom>
          <a:noFill/>
          <a:ln w="9360">
            <a:solidFill>
              <a:srgbClr val="db53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 Не выполнять самостоятельно сложных упражнений, требующих страхов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 При изучении отдельных упражнений соблюдать строгую последовательность, изложенную в учебник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 Нельзя заниматься на снаряде, под которым нет ма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 Маты должны лежать плотно друг к друг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.  Приземляться нужно на середину одного из ма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.  Нельзя заниматься на неисправных или незакрепленных снаряд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304920" y="228600"/>
            <a:ext cx="8610480" cy="1800360"/>
          </a:xfrm>
          <a:prstGeom prst="rect">
            <a:avLst/>
          </a:prstGeom>
          <a:noFill/>
          <a:ln w="9360">
            <a:solidFill>
              <a:srgbClr val="db53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ремя занятий гимнастическими упражнениями необходимо соблюдать </a:t>
            </a: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правила техники безопасности и страхов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152280" y="3352680"/>
            <a:ext cx="8763120" cy="4040280"/>
          </a:xfrm>
          <a:prstGeom prst="rect">
            <a:avLst/>
          </a:prstGeom>
          <a:noFill/>
          <a:ln w="9360">
            <a:solidFill>
              <a:srgbClr val="db53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3638"/>
                </a:solidFill>
                <a:latin typeface="Garamond"/>
              </a:rPr>
              <a:t>Гимнастика имеет свои достоинства: многообразие упражнений, разносторонность и гармоничность их влияния на формирование физических способностей занимающихся, воспитание социально приемлемых форм межличностных отношений, построенных на стратегии партнерства и сотрудничест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7" name="Picture 3" descr="889288-002"/>
          <p:cNvPicPr/>
          <p:nvPr/>
        </p:nvPicPr>
        <p:blipFill>
          <a:blip r:embed="rId1"/>
          <a:stretch/>
        </p:blipFill>
        <p:spPr>
          <a:xfrm>
            <a:off x="2743200" y="228600"/>
            <a:ext cx="3657600" cy="2701800"/>
          </a:xfrm>
          <a:prstGeom prst="rect">
            <a:avLst/>
          </a:prstGeom>
          <a:ln w="0">
            <a:noFill/>
          </a:ln>
        </p:spPr>
      </p:pic>
      <p:sp>
        <p:nvSpPr>
          <p:cNvPr id="398" name="Нижний колонтитул 5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Garamond"/>
              </a:rPr>
              <a:t>. 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Прямоугольник 3" descr=""/>
          <p:cNvPicPr/>
          <p:nvPr/>
        </p:nvPicPr>
        <p:blipFill>
          <a:blip r:embed="rId1"/>
          <a:stretch/>
        </p:blipFill>
        <p:spPr>
          <a:xfrm>
            <a:off x="695160" y="2724120"/>
            <a:ext cx="76266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228600"/>
            <a:ext cx="85341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3638"/>
                </a:solidFill>
                <a:latin typeface="Garamond"/>
              </a:rPr>
              <a:t>Впервые термин «гимнастика» появился у древних греков (эллинов) в </a:t>
            </a:r>
            <a:r>
              <a:rPr b="0" lang="en-US" sz="3600" spc="-1" strike="noStrike">
                <a:solidFill>
                  <a:srgbClr val="903638"/>
                </a:solidFill>
                <a:latin typeface="Garamond"/>
              </a:rPr>
              <a:t>VIII </a:t>
            </a:r>
            <a:r>
              <a:rPr b="0" lang="ru-RU" sz="3600" spc="-1" strike="noStrike">
                <a:solidFill>
                  <a:srgbClr val="903638"/>
                </a:solidFill>
                <a:latin typeface="Garamond"/>
              </a:rPr>
              <a:t>в. до н. э. Занятия физическими упражнениями они проводили в специальных заведениях - гимнасиях. В те времена гимнастика включала в себя все известные в античную эпоху физические упражнения (то, что мы теперь относим к легкой атлетике, тяжелой атлетике, борьбе, фехтованию, гребле), а также акробатику, игры с мячом, танц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457200" y="304920"/>
            <a:ext cx="8458200" cy="32918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В настоящее время гимнастика включает в себя основную гимнастику, которой занимаются во всех учебных заведениях и в армии; спортивные виды гимнастики — спортивная гимнастика, художественная гимнастика, аэробика, акробатик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6172200" y="2819520"/>
            <a:ext cx="2362320" cy="2124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762120" y="2819520"/>
            <a:ext cx="2286000" cy="2133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3"/>
          <a:stretch/>
        </p:blipFill>
        <p:spPr>
          <a:xfrm>
            <a:off x="3505320" y="3581280"/>
            <a:ext cx="22240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228600" y="27936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Основная гимнастика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— это строевые и общеразвивающие упражнения, упражнения на снарядах, прыжки и акробатические упражн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Спортивная гимнастик</a:t>
            </a: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ключает в себя женское многоборье (опорный прыжок, брусья разновысокие, бревно, вольные упражнений) и мужское многоборье (конь с ручками, кольца, перекладина, вольные упражнения, брусья параллельные, опорный прыжок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2667240" cy="1981080"/>
          </a:xfrm>
          <a:prstGeom prst="rect">
            <a:avLst/>
          </a:prstGeom>
          <a:ln w="0">
            <a:noFill/>
          </a:ln>
        </p:spPr>
      </p:pic>
      <p:sp>
        <p:nvSpPr>
          <p:cNvPr id="407" name="Нижний колонтитул 6"/>
          <p:cNvSpPr/>
          <p:nvPr/>
        </p:nvSpPr>
        <p:spPr>
          <a:xfrm>
            <a:off x="1295280" y="6400800"/>
            <a:ext cx="421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457200" y="4572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Художественная гимнастика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женский олимпийский вид спорта. В нее входят упражнения танцевального характера с предметами (мячом, обручем, булавами, скакалкой, лентой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Garamond"/>
              </a:rPr>
              <a:t>Спортивная акробатика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ключает четыре группы упражнений: акробатические прыжки, парные (мужские и смешанные) и групповые упражн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2233440" cy="2514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4343400" y="4343400"/>
            <a:ext cx="350532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304560" y="33526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mbria"/>
              </a:rPr>
              <a:t>Гимнастика является частью комплексной программы по физическому воспитанию и одной из основных дисциплин учебного плана физической культуры в  школе.</a:t>
            </a:r>
            <a:br>
              <a:rPr sz="3300"/>
            </a:br>
            <a:endParaRPr b="0" lang="en-US" sz="33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2" name="Picture 3" descr="bb1243-006"/>
          <p:cNvPicPr/>
          <p:nvPr/>
        </p:nvPicPr>
        <p:blipFill>
          <a:blip r:embed="rId1"/>
          <a:stretch/>
        </p:blipFill>
        <p:spPr>
          <a:xfrm>
            <a:off x="914400" y="609480"/>
            <a:ext cx="3429000" cy="2351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856349-001"/>
          <p:cNvPicPr/>
          <p:nvPr/>
        </p:nvPicPr>
        <p:blipFill>
          <a:blip r:embed="rId2"/>
          <a:stretch/>
        </p:blipFill>
        <p:spPr>
          <a:xfrm>
            <a:off x="4876920" y="609480"/>
            <a:ext cx="34290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380880" y="914400"/>
            <a:ext cx="85345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роки гимнастики имеют большие возможности для решения</a:t>
            </a:r>
            <a:r>
              <a:rPr b="1" lang="ru-RU" sz="3200" spc="-1" strike="noStrike">
                <a:solidFill>
                  <a:srgbClr val="db5353"/>
                </a:solidFill>
                <a:latin typeface="Garamond"/>
              </a:rPr>
              <a:t> </a:t>
            </a:r>
            <a:r>
              <a:rPr b="1" lang="ru-RU" sz="3600" spc="-1" strike="noStrike" u="sng">
                <a:solidFill>
                  <a:srgbClr val="db5353"/>
                </a:solidFill>
                <a:uFillTx/>
                <a:latin typeface="Garamond"/>
              </a:rPr>
              <a:t>воспитательных задач</a:t>
            </a:r>
            <a:r>
              <a:rPr b="1" lang="ru-RU" sz="3200" spc="-1" strike="noStrike" u="sng">
                <a:solidFill>
                  <a:srgbClr val="db5353"/>
                </a:solidFill>
                <a:uFillTx/>
                <a:latin typeface="Garamond"/>
              </a:rPr>
              <a:t>,</a:t>
            </a:r>
            <a:r>
              <a:rPr b="1" lang="ru-RU" sz="3200" spc="-1" strike="noStrike">
                <a:solidFill>
                  <a:srgbClr val="db535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аких как дисциплинированность, внимательность, аккуратность, коллективизм, настойчивость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одолении трудностей, эстетика движений и т. д. Оздоровительные и воспитательные задачи должны решаться в неразрывной связи с образовательны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380880" y="380880"/>
            <a:ext cx="8534520" cy="68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b5353"/>
                </a:solidFill>
                <a:uFillTx/>
                <a:latin typeface="Garamond"/>
              </a:rPr>
              <a:t>Оздоровительные задачи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Формирование у детей правильной осанки;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Соблюдение гигиенических условий проведения занятий и мер предупреждения травматизма;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Обучение правильному дыханию при их выполнении гимнастических упражнений;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400" spc="-1" strike="noStrike">
                <a:solidFill>
                  <a:srgbClr val="ffffff"/>
                </a:solidFill>
                <a:latin typeface="Garamond"/>
              </a:rPr>
              <a:t>Обучение учащихся методам самоконтроля и оценки состояния здоровья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12-18T13:34:17Z</dcterms:modified>
  <cp:revision>7</cp:revision>
  <dc:subject/>
  <dc:title>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