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2CB8D-F17C-4F32-ACD1-245558758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45C23-F208-4217-BD8D-A7B74D44B3F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79970-F45B-4C24-A964-768E8E52878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5DA82-AD59-4B61-ACA8-8D22BFDF3DA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 дошкольное образовательное  учреждение  детский сад № 4 «Родничок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167edc"/>
                </a:solidFill>
                <a:latin typeface="Microsoft Sans Serif"/>
              </a:rPr>
              <a:t>«Технолог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167edc"/>
                </a:solidFill>
                <a:latin typeface="Microsoft Sans Serif"/>
              </a:rPr>
              <a:t>лего –конструирования                    с дошкольникам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Microsoft Sans Serif"/>
              </a:rPr>
              <a:t>Баширова А.К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977040"/>
            <a:ext cx="7848360" cy="372096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Игра "Назови похожий предме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Цель: развитие зрительного внимания, наблюдательности и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Взрослый просит ребенка назвать предметы, похожие на разные геометрические фигуры, например, «Найди, что похоже на квадрат» или найди все круглые предметы. В такую игру легко можно играть в путешествии или по пути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08240" y="4572000"/>
            <a:ext cx="2200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86400" y="749160"/>
            <a:ext cx="3435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e0077"/>
                </a:solidFill>
                <a:latin typeface="Microsoft Sans Serif"/>
              </a:rPr>
              <a:t>Что такое робо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723960"/>
            <a:ext cx="4191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5335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icrosoft Sans Serif"/>
              </a:rPr>
              <a:t>Современные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140000">
            <a:off x="5125680" y="1639800"/>
            <a:ext cx="3444840" cy="258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011480" y="434196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20400000">
            <a:off x="555120" y="1758600"/>
            <a:ext cx="411336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38480" y="109440"/>
            <a:ext cx="48006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20220000">
            <a:off x="437760" y="2671920"/>
            <a:ext cx="3868920" cy="290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840000">
            <a:off x="5356080" y="3676680"/>
            <a:ext cx="315144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1120" y="33012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6520" y="6094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icrosoft Sans Serif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7524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Дети  проявляют  интерес к самостоятельному изготовлению построек, умение применять полученные знания при проектировании и сборке конструкций, познавательная активность, воображение, фантазия и творческая инициат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  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Совершенствуются коммуникативные навыки детей при работе в паре, коллективе, распределении обяза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Сформируются предпосылки учебной деятельности: умение и желание трудиться, выполнять задания в соответствии с инструкцией и поставленной целью, доводить начатое дело до конца, планировать будущ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0" b="38027"/>
          <a:stretch/>
        </p:blipFill>
        <p:spPr>
          <a:xfrm>
            <a:off x="228600" y="1447920"/>
            <a:ext cx="8458200" cy="518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9100" t="6204" r="5943" b="9064"/>
          <a:stretch/>
        </p:blipFill>
        <p:spPr>
          <a:xfrm>
            <a:off x="4724280" y="1447920"/>
            <a:ext cx="3954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46080" y="10666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167edc"/>
                </a:solidFill>
                <a:latin typeface="Calibri"/>
                <a:ea typeface="Calibri"/>
              </a:rPr>
              <a:t>Пояснительная запис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временные дети живут в эпоху активной информатизации, компьютеризации и роботостроения. Технические достижения всё быстрее проникают во все сферы человеческой жизнедеятельности и вызывают интерес детей к современной технике. Технические объекты окружают нас повсеместно, в виде бытовых приборов и аппаратов, игрушек, транспортных, строительных и других машин. Детям с раннего возраста интересны двигательные игрушки. В дошкольном возрасте они пытаются понимать, как это устрое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струирование - любимый детьми вид деятельности, оно не только увлекательное, но и полезное занятие, которое теснейшим образом связано с чувственным и интеллектуальным развитием ребенка. Особое значение оно имеет для совершенствования остроты зрения, точности цветовосприятия, тактильных качеств, развития мелкой моторики рук, восприятия формы и размеров объекта, простра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LEGO - конструктор является наиболее предпочтительным развивающим материалом, позволяющим разнообразить процесс обучения дошкольников.  Основой образовательной деятельности с использованием LEGO технологии является игра-ведущий вид детской  деятельности. LEGO позволяет учиться, играя, и обучаться в иг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icrosoft Sans Serif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5720" y="1066680"/>
            <a:ext cx="396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Данный проект актуален тем, что раскрывает для старшего дошкольника мир техники. LEGO-конструирование больше, чем другие виды деятельности, подготавливает почву для развития технических способностей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LEGO–конструирование объединяет в себе элементы игры с экспериментированием, а следовательно, активизирует мыслительно-речевую деятельность дошкольников, развивает конструкторские способности и техническое мышление, воображение и навыки общения, способствует интерпретации и самовыражению, расширяет кругозор, позволяет поднять на более высокий уровень развитие познавательной активности дошкольников, а это – одна из составляющих успешности их дальнейшего обучения в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4920" y="213372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6858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Цель: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 у детей способностей к техническому  творчеству,  конструктивной деятельности посредством лего-конструирова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205740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индивидуальных способностей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вать у дошкольников интерес к моделированию и конструированию, стимулировать детское научно техническое творч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развивать умение конструировать по образцу, чертежу, заданной схеме, по замысл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развивать познавательную активность детей, воображение, фантазию и творческую инициати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формировать предпосылки учебной деятельности: умение и желание трудиться, выполнять задания в соответствии с инструкцией и поставленной целью, доводить начатое дело до конца, планировать будущую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0666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icrosoft Sans Serif"/>
              </a:rPr>
              <a:t>Пример интеграции образовательных областей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828800"/>
            <a:ext cx="4648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Использование  лего - конструктора является великолепным средством для интеллектуального  развития   дошкольников, обеспечивающее интеграцию различных видов детской деятельности (игровая, коммуникативная, познавательно – исследовательская, конструктивная, самообслуживание и элементарный бытовой труд, двигательна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1430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icrosoft Sans Serif"/>
              </a:rPr>
              <a:t>Развитие речевых и коммуникационных навыков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90512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Созданные постройки из ЛЕГО можно использовать в играх-театрализациях, в которых содержание, роли, игровые действия обусловлены сюжетом и содержанием того или иного литературного произведения, сказки и т. д., а также имеются элементы творчества. Чаще всего основой игр-театрализаций являются народные сказки «Репка», «Колобок», «Теремок» 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98880" y="190332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066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Хорошие результаты дает проведение игры «Запомни и повтори», направленной на коррекцию памяти, мышления и речи детей.   В конце игры проводится анализ результатов. Развивая речевое творчество, в конце игры можно добавить еще одно задание: сочинить загадку о постройке.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14800" y="308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91120" y="1523880"/>
            <a:ext cx="4647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3716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Применение дидактических упражнений с использованием ЛЕГО - элементов достаточно эффективно при проведении занятий по подготовке к обучению грамоте, коррекции звукопроизношения, ознакомлению с окружающим миром и т.д.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647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14176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icrosoft Sans Serif"/>
              </a:rPr>
              <a:t>Игра "Что изменилось?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05120"/>
            <a:ext cx="80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icrosoft Sans Serif"/>
              </a:rPr>
              <a:t>Педагог показывает детям модель из 5-7 деталей в течении некоторого времени. Затем закрывает модель и меняет в ней положение 1-2 деталей или заменяет 1-2 детали на другие. После чего опять показывает модель и просит рассказать что измен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лилия назарова</cp:lastModifiedBy>
  <dcterms:modified xsi:type="dcterms:W3CDTF">2021-04-06T04:23:10Z</dcterms:modified>
  <cp:revision>249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