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1.png" ContentType="image/png"/>
  <Override PartName="/ppt/media/image4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2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6DC5-D88C-4E5F-BED1-4EAE8256D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51AC-F849-4A34-A4C3-54C8BD17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312D-25B2-411C-B2AE-5C77827A7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0154-14D2-4328-8713-3101F4A33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16B1-3ABD-44F0-BC3A-9F3DA7E9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F01F-35FF-4D19-B8C4-19BDD524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0401-0BDF-4342-A6D6-C8F1210C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2D4D-0A3E-48DC-8B4A-119F9991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7D3D-67BE-4827-8D61-E8DC417E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0963-C88B-4C0C-BF6F-09FCF4D4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B612-2ACE-483B-9382-407AB8DD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7826-44E0-4CC7-8651-D4E1F08F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219A-5E82-48EE-AFA3-9CD8E016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CA00-01E5-4B69-A206-6C4092C7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644C-86A5-41B5-BAE9-1F2577AF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07AF-93B6-4C0F-8737-C216F9C4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E402-A42C-4111-9A75-2014D06FA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07EDD-733B-45B2-A5C3-8B6961A8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8D099-32E7-4CF7-8845-5E5E3AFB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948A9-43DF-495E-874E-16DD3593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87324-92AE-4342-8D5E-5D1C21A4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8C658-B9BC-4D69-A055-3F1F1A9E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1934-CE37-4232-A8A1-FAA1936F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179EC-A3DB-4A1A-BD31-8BC42105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D9F16-222C-44C6-A784-99638FE7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65BE4-4ABE-4D28-BB6B-334CEC51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D393C-ABB5-4EF1-BAB3-6C0FDAF7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1CA80-B8A4-405A-B130-84212800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A84A8-614C-40E4-8C9F-5EE6DC5E8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52036-A752-4967-8A15-1F325389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BA96-DB76-4C81-B578-812300F5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86B9-FEAF-4779-ADE0-40D315DE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2957-947B-48ED-A682-4419D29A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6A7D-F558-4AD4-8A08-BA1C8C89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00D9-D9E3-47B3-A162-0CB04E7C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8920-FF3A-4B9B-970F-2972D1DC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7343-3D21-43B7-B931-AFD564F295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5" descr="D:\фоны и шаблоны\93e9c2ceda63.jpg"/>
          <p:cNvPicPr/>
          <p:nvPr/>
        </p:nvPicPr>
        <p:blipFill>
          <a:blip r:embed="rId2"/>
          <a:stretch/>
        </p:blipFill>
        <p:spPr>
          <a:xfrm>
            <a:off x="0" y="0"/>
            <a:ext cx="12859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D:\фоны и шаблоны\93e9c2ceda63.jpg"/>
          <p:cNvPicPr/>
          <p:nvPr/>
        </p:nvPicPr>
        <p:blipFill>
          <a:blip r:embed="rId2"/>
          <a:stretch/>
        </p:blipFill>
        <p:spPr>
          <a:xfrm>
            <a:off x="0" y="0"/>
            <a:ext cx="12859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D:\фоны и шаблоны\93e9c2ceda6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6AC9-60BC-4D1E-AD4E-E6CF205539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D:\фоны и шаблоны\93e9c2ceda63.jpg"/>
          <p:cNvPicPr/>
          <p:nvPr/>
        </p:nvPicPr>
        <p:blipFill>
          <a:blip r:embed="rId2"/>
          <a:stretch/>
        </p:blipFill>
        <p:spPr>
          <a:xfrm>
            <a:off x="0" y="0"/>
            <a:ext cx="12859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87C4-68B8-40E0-98D4-E74F187F805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1 "А"класс ГБОУ СОШ № 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22A4-3751-4C77-BA89-BA8D4CFF97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21268200">
            <a:off x="1386720" y="1993680"/>
            <a:ext cx="6000840" cy="38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Использование элементов проектных технологий в целях организации образовательной среды , способствующей формированию жизненных компетенций учащихся с ОВ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Чтение сообщения о жираф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3090960" y="3191040"/>
            <a:ext cx="2874960" cy="3666960"/>
          </a:xfrm>
          <a:prstGeom prst="rect">
            <a:avLst/>
          </a:prstGeom>
          <a:ln w="0">
            <a:noFill/>
          </a:ln>
        </p:spPr>
      </p:pic>
      <p:sp>
        <p:nvSpPr>
          <p:cNvPr id="19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Объект 1" descr=""/>
          <p:cNvPicPr/>
          <p:nvPr/>
        </p:nvPicPr>
        <p:blipFill>
          <a:blip r:embed="rId2"/>
          <a:stretch/>
        </p:blipFill>
        <p:spPr>
          <a:xfrm>
            <a:off x="108000" y="1044720"/>
            <a:ext cx="2879640" cy="458136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2" descr=""/>
          <p:cNvPicPr/>
          <p:nvPr/>
        </p:nvPicPr>
        <p:blipFill>
          <a:blip r:embed="rId3"/>
          <a:stretch/>
        </p:blipFill>
        <p:spPr>
          <a:xfrm>
            <a:off x="6068880" y="1052640"/>
            <a:ext cx="29671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95640" y="12240"/>
            <a:ext cx="3960720" cy="32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         </a:t>
            </a: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Закрепление: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    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кто где живёт</a:t>
            </a:r>
            <a:br>
              <a:rPr sz="3200"/>
            </a:br>
            <a:r>
              <a:rPr b="0" lang="ru-RU" sz="8000" spc="-1" strike="noStrike">
                <a:solidFill>
                  <a:srgbClr val="ff0000"/>
                </a:solidFill>
                <a:latin typeface="Comic Sans MS"/>
              </a:rPr>
              <a:t>?</a:t>
            </a:r>
            <a:br>
              <a:rPr sz="32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Объект 6" descr=""/>
          <p:cNvPicPr/>
          <p:nvPr/>
        </p:nvPicPr>
        <p:blipFill>
          <a:blip r:embed="rId1"/>
          <a:stretch/>
        </p:blipFill>
        <p:spPr>
          <a:xfrm>
            <a:off x="1262160" y="2066760"/>
            <a:ext cx="1881000" cy="2509920"/>
          </a:xfrm>
          <a:prstGeom prst="rect">
            <a:avLst/>
          </a:prstGeom>
          <a:ln w="0">
            <a:noFill/>
          </a:ln>
        </p:spPr>
      </p:pic>
      <p:pic>
        <p:nvPicPr>
          <p:cNvPr id="201" name="Объект 5" descr=""/>
          <p:cNvPicPr/>
          <p:nvPr/>
        </p:nvPicPr>
        <p:blipFill>
          <a:blip r:embed="rId2"/>
          <a:stretch/>
        </p:blipFill>
        <p:spPr>
          <a:xfrm>
            <a:off x="69840" y="144360"/>
            <a:ext cx="1981080" cy="264312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8" descr=""/>
          <p:cNvPicPr/>
          <p:nvPr/>
        </p:nvPicPr>
        <p:blipFill>
          <a:blip r:embed="rId3"/>
          <a:stretch/>
        </p:blipFill>
        <p:spPr>
          <a:xfrm>
            <a:off x="2395440" y="4219560"/>
            <a:ext cx="1974960" cy="263376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10" descr=""/>
          <p:cNvPicPr/>
          <p:nvPr/>
        </p:nvPicPr>
        <p:blipFill>
          <a:blip r:embed="rId4"/>
          <a:stretch/>
        </p:blipFill>
        <p:spPr>
          <a:xfrm>
            <a:off x="4606920" y="4224240"/>
            <a:ext cx="1971720" cy="262908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7" descr=""/>
          <p:cNvPicPr/>
          <p:nvPr/>
        </p:nvPicPr>
        <p:blipFill>
          <a:blip r:embed="rId5"/>
          <a:stretch/>
        </p:blipFill>
        <p:spPr>
          <a:xfrm>
            <a:off x="5457960" y="2066760"/>
            <a:ext cx="1998360" cy="266400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9" descr=""/>
          <p:cNvPicPr/>
          <p:nvPr/>
        </p:nvPicPr>
        <p:blipFill>
          <a:blip r:embed="rId6"/>
          <a:stretch/>
        </p:blipFill>
        <p:spPr>
          <a:xfrm>
            <a:off x="7020000" y="123840"/>
            <a:ext cx="193356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85880" y="785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214280" y="2428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утешествие подошло к конц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 каких районах нашей Земли мы побыва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Какой там клима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Кого увиде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Овал 5"/>
          <p:cNvSpPr/>
          <p:nvPr/>
        </p:nvSpPr>
        <p:spPr>
          <a:xfrm>
            <a:off x="250920" y="1700280"/>
            <a:ext cx="3754440" cy="4897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Закрепление изученного материала при работе с 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L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3" descr="C:\Documents and Settings\Administrator\Desktop\1 класс фото\ОМ жаркие районы\0 018.jpg"/>
          <p:cNvPicPr/>
          <p:nvPr/>
        </p:nvPicPr>
        <p:blipFill>
          <a:blip r:embed="rId1"/>
          <a:stretch/>
        </p:blipFill>
        <p:spPr>
          <a:xfrm>
            <a:off x="4664160" y="1652760"/>
            <a:ext cx="4138560" cy="6705360"/>
          </a:xfrm>
          <a:prstGeom prst="rect">
            <a:avLst/>
          </a:prstGeom>
          <a:ln w="0">
            <a:noFill/>
          </a:ln>
        </p:spPr>
      </p:pic>
      <p:sp>
        <p:nvSpPr>
          <p:cNvPr id="21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Объект 3" descr=""/>
          <p:cNvPicPr/>
          <p:nvPr/>
        </p:nvPicPr>
        <p:blipFill>
          <a:blip r:embed="rId2"/>
          <a:stretch/>
        </p:blipFill>
        <p:spPr>
          <a:xfrm>
            <a:off x="324000" y="1719360"/>
            <a:ext cx="3608280" cy="63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E:\люди\images (10).jpg"/>
          <p:cNvPicPr/>
          <p:nvPr/>
        </p:nvPicPr>
        <p:blipFill>
          <a:blip r:embed="rId1"/>
          <a:stretch/>
        </p:blipFill>
        <p:spPr>
          <a:xfrm>
            <a:off x="3780000" y="2571840"/>
            <a:ext cx="3357360" cy="335736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2"/>
          <p:cNvSpPr/>
          <p:nvPr/>
        </p:nvSpPr>
        <p:spPr>
          <a:xfrm>
            <a:off x="6889680" y="2665440"/>
            <a:ext cx="2071800" cy="728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ет умения познаватель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6889680" y="3643200"/>
            <a:ext cx="207180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ет самооцен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4"/>
          <p:cNvSpPr/>
          <p:nvPr/>
        </p:nvSpPr>
        <p:spPr>
          <a:xfrm>
            <a:off x="6889680" y="4719600"/>
            <a:ext cx="207180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 общ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5"/>
          <p:cNvSpPr/>
          <p:nvPr/>
        </p:nvSpPr>
        <p:spPr>
          <a:xfrm>
            <a:off x="6889680" y="5823000"/>
            <a:ext cx="207180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дальнейшему личностному рос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6"/>
          <p:cNvSpPr/>
          <p:nvPr/>
        </p:nvSpPr>
        <p:spPr>
          <a:xfrm>
            <a:off x="1476360" y="1749600"/>
            <a:ext cx="207180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батывает чувства ответств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7"/>
          <p:cNvSpPr/>
          <p:nvPr/>
        </p:nvSpPr>
        <p:spPr>
          <a:xfrm>
            <a:off x="1476360" y="3225960"/>
            <a:ext cx="207180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изирует в современном ми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8"/>
          <p:cNvSpPr/>
          <p:nvPr/>
        </p:nvSpPr>
        <p:spPr>
          <a:xfrm>
            <a:off x="1482840" y="4457880"/>
            <a:ext cx="207144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ёт возможность реализовать свои способ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9"/>
          <p:cNvSpPr/>
          <p:nvPr/>
        </p:nvSpPr>
        <p:spPr>
          <a:xfrm>
            <a:off x="1571760" y="5823000"/>
            <a:ext cx="207144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ет мотивацию к учеб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0"/>
          <p:cNvSpPr/>
          <p:nvPr/>
        </p:nvSpPr>
        <p:spPr>
          <a:xfrm>
            <a:off x="4071960" y="1643040"/>
            <a:ext cx="2286000" cy="92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 работать с различными источниками информ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11"/>
          <p:cNvSpPr/>
          <p:nvPr/>
        </p:nvSpPr>
        <p:spPr>
          <a:xfrm>
            <a:off x="6588000" y="1563840"/>
            <a:ext cx="207180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ет активность психических проце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12"/>
          <p:cNvSpPr/>
          <p:nvPr/>
        </p:nvSpPr>
        <p:spPr>
          <a:xfrm>
            <a:off x="1835280" y="317520"/>
            <a:ext cx="6538680" cy="66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 !!  метод про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1571760" y="214200"/>
            <a:ext cx="707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ецифические особенности метода проекта в специальной коррекционной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"/>
          <p:cNvSpPr/>
          <p:nvPr/>
        </p:nvSpPr>
        <p:spPr>
          <a:xfrm>
            <a:off x="1571760" y="185724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иентировка на психофизические возможности обучаю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"/>
          <p:cNvSpPr/>
          <p:nvPr/>
        </p:nvSpPr>
        <p:spPr>
          <a:xfrm>
            <a:off x="1643040" y="314316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лективна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"/>
          <p:cNvSpPr/>
          <p:nvPr/>
        </p:nvSpPr>
        <p:spPr>
          <a:xfrm>
            <a:off x="1643040" y="392904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дущая и направляющая роль 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1643040" y="5143680"/>
            <a:ext cx="728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ние психолого-педагогических ситу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1"/>
          <p:cNvSpPr/>
          <p:nvPr/>
        </p:nvSpPr>
        <p:spPr>
          <a:xfrm>
            <a:off x="1285920" y="642960"/>
            <a:ext cx="76438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бразован не тот, кто много зна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тот, кто хочет много зна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кто умеет добывать знания»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.П. Вахт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TextBox 2" descr=""/>
          <p:cNvPicPr/>
          <p:nvPr/>
        </p:nvPicPr>
        <p:blipFill>
          <a:blip r:embed="rId1"/>
          <a:stretch/>
        </p:blipFill>
        <p:spPr>
          <a:xfrm>
            <a:off x="1646280" y="4498920"/>
            <a:ext cx="728496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Трапеция 2"/>
          <p:cNvSpPr/>
          <p:nvPr/>
        </p:nvSpPr>
        <p:spPr>
          <a:xfrm rot="10800000">
            <a:off x="2143080" y="4143240"/>
            <a:ext cx="6215040" cy="1857600"/>
          </a:xfrm>
          <a:custGeom>
            <a:avLst/>
            <a:gdLst/>
            <a:ahLst/>
            <a:rect l="l" t="t" r="r" b="b"/>
            <a:pathLst>
              <a:path w="6215063" h="1857375">
                <a:moveTo>
                  <a:pt x="0" y="1857375"/>
                </a:moveTo>
                <a:lnTo>
                  <a:pt x="887714" y="0"/>
                </a:lnTo>
                <a:lnTo>
                  <a:pt x="5327349" y="0"/>
                </a:lnTo>
                <a:lnTo>
                  <a:pt x="6215063" y="1857375"/>
                </a:lnTo>
                <a:lnTo>
                  <a:pt x="0" y="1857375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5400000"/>
          </a:gradFill>
          <a:ln w="38160">
            <a:solidFill>
              <a:srgbClr val="376092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3429000" y="4286160"/>
            <a:ext cx="414324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I –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одготовительный эта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облема, цели, задачи, определение результата, создание команды, совместное планирование, сроки, ответстве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3143160" y="2643120"/>
            <a:ext cx="4214880" cy="1500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381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с одним вырезанным скругленным углом 5"/>
          <p:cNvSpPr/>
          <p:nvPr/>
        </p:nvSpPr>
        <p:spPr>
          <a:xfrm>
            <a:off x="3571920" y="1357200"/>
            <a:ext cx="3286080" cy="1214640"/>
          </a:xfrm>
          <a:custGeom>
            <a:avLst/>
            <a:gdLst/>
            <a:ahLst/>
            <a:rect l="l" t="t" r="r" b="b"/>
            <a:pathLst>
              <a:path w="3286125" h="1214437">
                <a:moveTo>
                  <a:pt x="0" y="0"/>
                </a:moveTo>
                <a:lnTo>
                  <a:pt x="2985430" y="0"/>
                </a:lnTo>
                <a:lnTo>
                  <a:pt x="3286125" y="300695"/>
                </a:lnTo>
                <a:lnTo>
                  <a:pt x="3286125" y="1214437"/>
                </a:lnTo>
                <a:lnTo>
                  <a:pt x="0" y="121443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38160">
            <a:solidFill>
              <a:srgbClr val="00b05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олилиния 6"/>
          <p:cNvSpPr/>
          <p:nvPr/>
        </p:nvSpPr>
        <p:spPr>
          <a:xfrm>
            <a:off x="1285920" y="6000840"/>
            <a:ext cx="7542000" cy="528480"/>
          </a:xfrm>
          <a:custGeom>
            <a:avLst/>
            <a:gdLst/>
            <a:ahLst/>
            <a:rect l="l" t="t" r="r" b="b"/>
            <a:pathLst>
              <a:path w="7542756" h="528181">
                <a:moveTo>
                  <a:pt x="0" y="294362"/>
                </a:moveTo>
                <a:cubicBezTo>
                  <a:pt x="727553" y="156575"/>
                  <a:pt x="1455107" y="18789"/>
                  <a:pt x="1929008" y="56367"/>
                </a:cubicBezTo>
                <a:cubicBezTo>
                  <a:pt x="2402909" y="93945"/>
                  <a:pt x="2404997" y="511479"/>
                  <a:pt x="2843408" y="519830"/>
                </a:cubicBezTo>
                <a:cubicBezTo>
                  <a:pt x="3281819" y="528181"/>
                  <a:pt x="4010417" y="108560"/>
                  <a:pt x="4559474" y="106472"/>
                </a:cubicBezTo>
                <a:cubicBezTo>
                  <a:pt x="5108532" y="104384"/>
                  <a:pt x="5676378" y="511479"/>
                  <a:pt x="6137753" y="507304"/>
                </a:cubicBezTo>
                <a:cubicBezTo>
                  <a:pt x="6599128" y="503129"/>
                  <a:pt x="7112696" y="162838"/>
                  <a:pt x="7327726" y="81419"/>
                </a:cubicBezTo>
                <a:cubicBezTo>
                  <a:pt x="7542756" y="0"/>
                  <a:pt x="7427934" y="18789"/>
                  <a:pt x="7427934" y="18789"/>
                </a:cubicBezTo>
                <a:lnTo>
                  <a:pt x="7427934" y="18789"/>
                </a:lnTo>
                <a:lnTo>
                  <a:pt x="7427934" y="18789"/>
                </a:lnTo>
                <a:lnTo>
                  <a:pt x="7427934" y="18789"/>
                </a:lnTo>
                <a:cubicBezTo>
                  <a:pt x="7427934" y="20877"/>
                  <a:pt x="7423759" y="29227"/>
                  <a:pt x="7427934" y="31315"/>
                </a:cubicBezTo>
                <a:cubicBezTo>
                  <a:pt x="7432109" y="33403"/>
                  <a:pt x="7452986" y="31315"/>
                  <a:pt x="7452986" y="31315"/>
                </a:cubicBezTo>
                <a:lnTo>
                  <a:pt x="7452986" y="31315"/>
                </a:lnTo>
                <a:lnTo>
                  <a:pt x="7452986" y="31315"/>
                </a:lnTo>
                <a:lnTo>
                  <a:pt x="7452986" y="31315"/>
                </a:lnTo>
                <a:lnTo>
                  <a:pt x="7452986" y="31315"/>
                </a:lnTo>
                <a:cubicBezTo>
                  <a:pt x="7446723" y="31315"/>
                  <a:pt x="7415408" y="33403"/>
                  <a:pt x="7415408" y="31315"/>
                </a:cubicBezTo>
                <a:cubicBezTo>
                  <a:pt x="7415408" y="29227"/>
                  <a:pt x="7452986" y="18789"/>
                  <a:pt x="7452986" y="18789"/>
                </a:cubicBezTo>
                <a:lnTo>
                  <a:pt x="7452986" y="18789"/>
                </a:lnTo>
                <a:lnTo>
                  <a:pt x="7302674" y="106472"/>
                </a:lnTo>
                <a:cubicBezTo>
                  <a:pt x="7304762" y="104384"/>
                  <a:pt x="7465512" y="6263"/>
                  <a:pt x="7465512" y="6263"/>
                </a:cubicBezTo>
                <a:lnTo>
                  <a:pt x="7465512" y="6263"/>
                </a:lnTo>
                <a:lnTo>
                  <a:pt x="7465512" y="6263"/>
                </a:lnTo>
              </a:path>
            </a:pathLst>
          </a:custGeom>
          <a:noFill/>
          <a:ln w="38160">
            <a:solidFill>
              <a:srgbClr val="4f81b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олилиния 7"/>
          <p:cNvSpPr/>
          <p:nvPr/>
        </p:nvSpPr>
        <p:spPr>
          <a:xfrm>
            <a:off x="2000160" y="6000840"/>
            <a:ext cx="7542360" cy="528480"/>
          </a:xfrm>
          <a:custGeom>
            <a:avLst/>
            <a:gdLst/>
            <a:ahLst/>
            <a:rect l="l" t="t" r="r" b="b"/>
            <a:pathLst>
              <a:path w="7542756" h="528181">
                <a:moveTo>
                  <a:pt x="0" y="294362"/>
                </a:moveTo>
                <a:cubicBezTo>
                  <a:pt x="727553" y="156575"/>
                  <a:pt x="1455107" y="18789"/>
                  <a:pt x="1929008" y="56367"/>
                </a:cubicBezTo>
                <a:cubicBezTo>
                  <a:pt x="2402909" y="93945"/>
                  <a:pt x="2404997" y="511479"/>
                  <a:pt x="2843408" y="519830"/>
                </a:cubicBezTo>
                <a:cubicBezTo>
                  <a:pt x="3281819" y="528181"/>
                  <a:pt x="4010417" y="108560"/>
                  <a:pt x="4559474" y="106472"/>
                </a:cubicBezTo>
                <a:cubicBezTo>
                  <a:pt x="5108532" y="104384"/>
                  <a:pt x="5676378" y="511479"/>
                  <a:pt x="6137753" y="507304"/>
                </a:cubicBezTo>
                <a:cubicBezTo>
                  <a:pt x="6599128" y="503129"/>
                  <a:pt x="7112696" y="162838"/>
                  <a:pt x="7327726" y="81419"/>
                </a:cubicBezTo>
                <a:cubicBezTo>
                  <a:pt x="7542756" y="0"/>
                  <a:pt x="7427934" y="18789"/>
                  <a:pt x="7427934" y="18789"/>
                </a:cubicBezTo>
                <a:lnTo>
                  <a:pt x="7427934" y="18789"/>
                </a:lnTo>
                <a:lnTo>
                  <a:pt x="7427934" y="18789"/>
                </a:lnTo>
                <a:lnTo>
                  <a:pt x="7427934" y="18789"/>
                </a:lnTo>
                <a:cubicBezTo>
                  <a:pt x="7427934" y="20877"/>
                  <a:pt x="7423759" y="29227"/>
                  <a:pt x="7427934" y="31315"/>
                </a:cubicBezTo>
                <a:cubicBezTo>
                  <a:pt x="7432109" y="33403"/>
                  <a:pt x="7452986" y="31315"/>
                  <a:pt x="7452986" y="31315"/>
                </a:cubicBezTo>
                <a:lnTo>
                  <a:pt x="7452986" y="31315"/>
                </a:lnTo>
                <a:lnTo>
                  <a:pt x="7452986" y="31315"/>
                </a:lnTo>
                <a:lnTo>
                  <a:pt x="7452986" y="31315"/>
                </a:lnTo>
                <a:lnTo>
                  <a:pt x="7452986" y="31315"/>
                </a:lnTo>
                <a:cubicBezTo>
                  <a:pt x="7446723" y="31315"/>
                  <a:pt x="7415408" y="33403"/>
                  <a:pt x="7415408" y="31315"/>
                </a:cubicBezTo>
                <a:cubicBezTo>
                  <a:pt x="7415408" y="29227"/>
                  <a:pt x="7452986" y="18789"/>
                  <a:pt x="7452986" y="18789"/>
                </a:cubicBezTo>
                <a:lnTo>
                  <a:pt x="7452986" y="18789"/>
                </a:lnTo>
                <a:lnTo>
                  <a:pt x="7302674" y="106472"/>
                </a:lnTo>
                <a:cubicBezTo>
                  <a:pt x="7304762" y="104384"/>
                  <a:pt x="7465512" y="6263"/>
                  <a:pt x="7465512" y="6263"/>
                </a:cubicBezTo>
                <a:lnTo>
                  <a:pt x="7465512" y="6263"/>
                </a:lnTo>
                <a:lnTo>
                  <a:pt x="7465512" y="6263"/>
                </a:lnTo>
              </a:path>
            </a:pathLst>
          </a:custGeom>
          <a:noFill/>
          <a:ln w="38160">
            <a:solidFill>
              <a:srgbClr val="4f81b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3214800" y="292896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II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– практический эта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еализация проекта, коррекция пл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3429000" y="1500120"/>
            <a:ext cx="35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III –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еализация проекта: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анализ результата, показ конечного проду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Волна 10"/>
          <p:cNvSpPr/>
          <p:nvPr/>
        </p:nvSpPr>
        <p:spPr>
          <a:xfrm>
            <a:off x="4857840" y="214200"/>
            <a:ext cx="1214280" cy="571680"/>
          </a:xfrm>
          <a:custGeom>
            <a:avLst/>
            <a:gdLst>
              <a:gd name="textAreaLeft" fmla="*/ 0 w 1214280"/>
              <a:gd name="textAreaRight" fmla="*/ 1214640 w 1214280"/>
              <a:gd name="textAreaTop" fmla="*/ 142920 h 571680"/>
              <a:gd name="textAreaBottom" fmla="*/ 4287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12"/>
          <p:cNvSpPr/>
          <p:nvPr/>
        </p:nvSpPr>
        <p:spPr>
          <a:xfrm flipH="1">
            <a:off x="4857840" y="333360"/>
            <a:ext cx="1440" cy="10238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1403280" y="12312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Как реализовать проект или об этапах проект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Овал 7"/>
          <p:cNvSpPr/>
          <p:nvPr/>
        </p:nvSpPr>
        <p:spPr>
          <a:xfrm>
            <a:off x="3786120" y="2428920"/>
            <a:ext cx="2714760" cy="3643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" descr="E:\люди\images (5).jpg"/>
          <p:cNvPicPr/>
          <p:nvPr/>
        </p:nvPicPr>
        <p:blipFill>
          <a:blip r:embed="rId1"/>
          <a:stretch/>
        </p:blipFill>
        <p:spPr>
          <a:xfrm>
            <a:off x="4214880" y="3357720"/>
            <a:ext cx="1928880" cy="192852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10"/>
          <p:cNvSpPr/>
          <p:nvPr/>
        </p:nvSpPr>
        <p:spPr>
          <a:xfrm>
            <a:off x="1428840" y="500040"/>
            <a:ext cx="207144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ологическая инертность (тугоподвижност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Прямоугольник 11" descr=""/>
          <p:cNvPicPr/>
          <p:nvPr/>
        </p:nvPicPr>
        <p:blipFill>
          <a:blip r:embed="rId2"/>
          <a:stretch/>
        </p:blipFill>
        <p:spPr>
          <a:xfrm>
            <a:off x="4059360" y="549360"/>
            <a:ext cx="2097000" cy="68904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12"/>
          <p:cNvSpPr/>
          <p:nvPr/>
        </p:nvSpPr>
        <p:spPr>
          <a:xfrm>
            <a:off x="6572160" y="189000"/>
            <a:ext cx="2071800" cy="116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еотипность мыш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а активность психических проце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3"/>
          <p:cNvSpPr/>
          <p:nvPr/>
        </p:nvSpPr>
        <p:spPr>
          <a:xfrm>
            <a:off x="6500880" y="1857240"/>
            <a:ext cx="207180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ая точность и прочность запоми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4"/>
          <p:cNvSpPr/>
          <p:nvPr/>
        </p:nvSpPr>
        <p:spPr>
          <a:xfrm>
            <a:off x="6786720" y="3214800"/>
            <a:ext cx="207144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ое недоразвитие ре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5"/>
          <p:cNvSpPr/>
          <p:nvPr/>
        </p:nvSpPr>
        <p:spPr>
          <a:xfrm>
            <a:off x="6786720" y="4786200"/>
            <a:ext cx="207144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критичности мыш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6"/>
          <p:cNvSpPr/>
          <p:nvPr/>
        </p:nvSpPr>
        <p:spPr>
          <a:xfrm>
            <a:off x="1785960" y="1857240"/>
            <a:ext cx="207180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лектуальная пассив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7"/>
          <p:cNvSpPr/>
          <p:nvPr/>
        </p:nvSpPr>
        <p:spPr>
          <a:xfrm>
            <a:off x="1428840" y="3214800"/>
            <a:ext cx="207144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целенаправленности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8"/>
          <p:cNvSpPr/>
          <p:nvPr/>
        </p:nvSpPr>
        <p:spPr>
          <a:xfrm>
            <a:off x="1428840" y="4714920"/>
            <a:ext cx="207144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потенциала для творч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6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Животные жарких районов Земли»</a:t>
            </a:r>
            <a:br>
              <a:rPr sz="3600"/>
            </a:br>
            <a:r>
              <a:rPr b="0" lang="ru-RU" sz="3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мини проект по природоведению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4400" spc="-1" strike="noStrike">
                <a:solidFill>
                  <a:srgbClr val="c00000"/>
                </a:solidFill>
                <a:latin typeface="Constantia"/>
              </a:rPr>
              <a:t>Цели мини-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258560" y="1876320"/>
            <a:ext cx="777708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рмировать у обучающихся представления о разнообразии природы Земл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знакомить с  животными жарких районов Земл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чить приёмам самостоятельного поиска  и изложения информ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onstantia"/>
              </a:rPr>
              <a:t>Повтор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Объект 2" descr=""/>
          <p:cNvPicPr/>
          <p:nvPr/>
        </p:nvPicPr>
        <p:blipFill>
          <a:blip r:embed="rId1"/>
          <a:stretch/>
        </p:blipFill>
        <p:spPr>
          <a:xfrm>
            <a:off x="3929040" y="1285920"/>
            <a:ext cx="4721400" cy="334332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5"/>
          <p:cNvSpPr/>
          <p:nvPr/>
        </p:nvSpPr>
        <p:spPr>
          <a:xfrm>
            <a:off x="1000080" y="1285920"/>
            <a:ext cx="25718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айоны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6"/>
          <p:cNvSpPr/>
          <p:nvPr/>
        </p:nvSpPr>
        <p:spPr>
          <a:xfrm>
            <a:off x="214200" y="2714760"/>
            <a:ext cx="235764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Холо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7"/>
          <p:cNvSpPr/>
          <p:nvPr/>
        </p:nvSpPr>
        <p:spPr>
          <a:xfrm>
            <a:off x="285840" y="4714920"/>
            <a:ext cx="25002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еверный Ледовитый оке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8"/>
          <p:cNvSpPr/>
          <p:nvPr/>
        </p:nvSpPr>
        <p:spPr>
          <a:xfrm>
            <a:off x="3357720" y="4714920"/>
            <a:ext cx="27860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Антаркти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Прямая со стрелкой 10"/>
          <p:cNvCxnSpPr>
            <a:stCxn id="155" idx="2"/>
          </p:cNvCxnSpPr>
          <p:nvPr/>
        </p:nvCxnSpPr>
        <p:spPr>
          <a:xfrm flipH="1">
            <a:off x="1356840" y="2200320"/>
            <a:ext cx="929520" cy="443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Прямая со стрелкой 12"/>
          <p:cNvCxnSpPr>
            <a:stCxn id="156" idx="2"/>
            <a:endCxn id="157" idx="0"/>
          </p:cNvCxnSpPr>
          <p:nvPr/>
        </p:nvCxnSpPr>
        <p:spPr>
          <a:xfrm>
            <a:off x="1391040" y="3429000"/>
            <a:ext cx="143640" cy="1286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1" name="Прямая со стрелкой 14"/>
          <p:cNvCxnSpPr>
            <a:stCxn id="156" idx="2"/>
            <a:endCxn id="158" idx="0"/>
          </p:cNvCxnSpPr>
          <p:nvPr/>
        </p:nvCxnSpPr>
        <p:spPr>
          <a:xfrm>
            <a:off x="1391040" y="3429000"/>
            <a:ext cx="3359880" cy="1286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2" name="Нижний колонтитул 11"/>
          <p:cNvSpPr/>
          <p:nvPr/>
        </p:nvSpPr>
        <p:spPr>
          <a:xfrm flipV="1">
            <a:off x="3124080" y="6307920"/>
            <a:ext cx="2671920" cy="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55280" y="1600200"/>
            <a:ext cx="3740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6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6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6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6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6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6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6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6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6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6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onstantia"/>
              </a:rPr>
              <a:t>Составление схем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929280" y="5715000"/>
            <a:ext cx="175752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5"/>
          <p:cNvSpPr/>
          <p:nvPr/>
        </p:nvSpPr>
        <p:spPr>
          <a:xfrm>
            <a:off x="3143160" y="1285920"/>
            <a:ext cx="25718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айоны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6"/>
          <p:cNvSpPr/>
          <p:nvPr/>
        </p:nvSpPr>
        <p:spPr>
          <a:xfrm>
            <a:off x="1500120" y="2714760"/>
            <a:ext cx="2357640" cy="714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Холо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7"/>
          <p:cNvSpPr/>
          <p:nvPr/>
        </p:nvSpPr>
        <p:spPr>
          <a:xfrm>
            <a:off x="285840" y="4714920"/>
            <a:ext cx="25002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еверный Ледовитый оке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8"/>
          <p:cNvSpPr/>
          <p:nvPr/>
        </p:nvSpPr>
        <p:spPr>
          <a:xfrm>
            <a:off x="3357720" y="4714920"/>
            <a:ext cx="27860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Антаркти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Прямая со стрелкой 10"/>
          <p:cNvCxnSpPr>
            <a:stCxn id="166" idx="2"/>
          </p:cNvCxnSpPr>
          <p:nvPr/>
        </p:nvCxnSpPr>
        <p:spPr>
          <a:xfrm flipH="1">
            <a:off x="3499920" y="2200320"/>
            <a:ext cx="929520" cy="443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1" name="Прямая со стрелкой 12"/>
          <p:cNvCxnSpPr>
            <a:stCxn id="167" idx="2"/>
            <a:endCxn id="168" idx="0"/>
          </p:cNvCxnSpPr>
          <p:nvPr/>
        </p:nvCxnSpPr>
        <p:spPr>
          <a:xfrm flipH="1">
            <a:off x="1536480" y="3429000"/>
            <a:ext cx="1141920" cy="1286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2" name="Прямая со стрелкой 14"/>
          <p:cNvCxnSpPr>
            <a:stCxn id="167" idx="2"/>
            <a:endCxn id="169" idx="0"/>
          </p:cNvCxnSpPr>
          <p:nvPr/>
        </p:nvCxnSpPr>
        <p:spPr>
          <a:xfrm>
            <a:off x="2676960" y="3429000"/>
            <a:ext cx="2072520" cy="1286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3" name=""/>
          <p:cNvSpPr txBox="1"/>
          <p:nvPr/>
        </p:nvSpPr>
        <p:spPr>
          <a:xfrm>
            <a:off x="2785680" y="5786280"/>
            <a:ext cx="1709640" cy="3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рямоугольник 16"/>
          <p:cNvSpPr/>
          <p:nvPr/>
        </p:nvSpPr>
        <p:spPr>
          <a:xfrm>
            <a:off x="5929200" y="2714760"/>
            <a:ext cx="2357640" cy="785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Жар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17"/>
          <p:cNvSpPr/>
          <p:nvPr/>
        </p:nvSpPr>
        <p:spPr>
          <a:xfrm>
            <a:off x="4286160" y="3857760"/>
            <a:ext cx="257184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Тропические л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18"/>
          <p:cNvSpPr/>
          <p:nvPr/>
        </p:nvSpPr>
        <p:spPr>
          <a:xfrm>
            <a:off x="7143840" y="3857760"/>
            <a:ext cx="17859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ава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Прямая со стрелкой 20"/>
          <p:cNvCxnSpPr>
            <a:stCxn id="166" idx="2"/>
            <a:endCxn id="174" idx="0"/>
          </p:cNvCxnSpPr>
          <p:nvPr/>
        </p:nvCxnSpPr>
        <p:spPr>
          <a:xfrm>
            <a:off x="4429080" y="2199960"/>
            <a:ext cx="2680560" cy="515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8" name="Прямая со стрелкой 22"/>
          <p:cNvCxnSpPr>
            <a:stCxn id="174" idx="2"/>
            <a:endCxn id="175" idx="0"/>
          </p:cNvCxnSpPr>
          <p:nvPr/>
        </p:nvCxnSpPr>
        <p:spPr>
          <a:xfrm flipH="1">
            <a:off x="5571360" y="3499920"/>
            <a:ext cx="1537560" cy="358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9" name="Прямая со стрелкой 24"/>
          <p:cNvCxnSpPr>
            <a:stCxn id="174" idx="2"/>
            <a:endCxn id="176" idx="0"/>
          </p:cNvCxnSpPr>
          <p:nvPr/>
        </p:nvCxnSpPr>
        <p:spPr>
          <a:xfrm>
            <a:off x="7107840" y="3499920"/>
            <a:ext cx="929160" cy="358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0" name="Нижний колонтитул 1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6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6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6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6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6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6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17375e"/>
                </a:solidFill>
                <a:latin typeface="Constantia"/>
              </a:rPr>
              <a:t>Изучение нового материала: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чтение сообщения о слон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Объект 2" descr=""/>
          <p:cNvPicPr/>
          <p:nvPr/>
        </p:nvPicPr>
        <p:blipFill>
          <a:blip r:embed="rId1"/>
          <a:stretch/>
        </p:blipFill>
        <p:spPr>
          <a:xfrm>
            <a:off x="2771640" y="2290680"/>
            <a:ext cx="3959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661500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0253f"/>
                </a:solidFill>
                <a:latin typeface="Comic Sans MS"/>
              </a:rPr>
              <a:t>Работа с учебник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4643280" cy="12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Кто из животных живёт в тропическом лес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Объект 2" descr=""/>
          <p:cNvPicPr/>
          <p:nvPr/>
        </p:nvPicPr>
        <p:blipFill>
          <a:blip r:embed="rId1"/>
          <a:stretch/>
        </p:blipFill>
        <p:spPr>
          <a:xfrm>
            <a:off x="509760" y="2637000"/>
            <a:ext cx="3198600" cy="408456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4" descr=""/>
          <p:cNvPicPr/>
          <p:nvPr/>
        </p:nvPicPr>
        <p:blipFill>
          <a:blip r:embed="rId2"/>
          <a:stretch/>
        </p:blipFill>
        <p:spPr>
          <a:xfrm>
            <a:off x="4932360" y="1573200"/>
            <a:ext cx="386064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71360" y="285840"/>
            <a:ext cx="6615000" cy="62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Работа с учебник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9680" y="1125000"/>
            <a:ext cx="8032680" cy="15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0253f"/>
                </a:solidFill>
                <a:latin typeface="Comic Sans MS"/>
              </a:rPr>
              <a:t>Кто из животных живёт в саванн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Объект 2" descr=""/>
          <p:cNvPicPr/>
          <p:nvPr/>
        </p:nvPicPr>
        <p:blipFill>
          <a:blip r:embed="rId1"/>
          <a:stretch/>
        </p:blipFill>
        <p:spPr>
          <a:xfrm>
            <a:off x="2585880" y="1916280"/>
            <a:ext cx="39722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7:33:40Z</dcterms:created>
  <dc:creator>Helen</dc:creator>
  <dc:description/>
  <dc:language>en-US</dc:language>
  <cp:lastModifiedBy>Масленникова Валерия Вадимовна</cp:lastModifiedBy>
  <dcterms:modified xsi:type="dcterms:W3CDTF">2021-04-06T08:39:04Z</dcterms:modified>
  <cp:revision>36</cp:revision>
  <dc:subject/>
  <dc:title>Слайд 1</dc:title>
</cp:coreProperties>
</file>