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3A6-CAEF-4693-B50F-D1713300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20A-3C72-4CFE-A888-60EAD258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4F82-EB60-43CA-92AA-16EC7F81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39D-FCC9-4521-990B-FAD64A18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DD9E-1EEC-4E95-B5EE-1BC8996C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A5DD-EE70-49BE-AE68-33554625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9FCD-7A2D-47D4-ACC8-6BE956D6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34CC-49D8-4D32-878F-8DD07BDB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BE6F-45F4-4669-B8F5-65C3F1B8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114B-2F58-45B3-A560-3657D0B3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7451-CC95-41C7-B3D7-E18F415F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A1D8-AA15-4840-BC24-8E4EA378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078C-824C-41E5-B461-D3AFD05E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A7E0-AC65-4D91-B533-C0C04FAF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AE85-73F2-4B4A-99E6-8909A2C5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B992-DA0B-4A63-9B63-4FC51DE7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5DD8-28A2-4FF4-91D9-3F5AE7EA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A7795-9347-4942-AC34-45F16C69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2A885-F7F8-41F0-A10C-2F5680CE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71FC1-DA1D-4F32-B843-804FC4CF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5B006-0132-494C-B67D-4E63F18E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A3634-4B27-4491-89C0-5629F9E2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ABD8-C8A3-4B32-A0F9-08F95EF3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CA6AC-7113-4DE8-9AF7-B43E9F85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96789-E714-4291-9CD0-9A7D28BA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28D12-AD4D-4F14-B073-8BB4C6E7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DDE62-5598-4972-8E24-6C84D02B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6ACF5-25D8-4BE6-AC5D-7ED01A2B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AD2A8-8DFA-44AC-A59D-F5B95CED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F0088-FD90-4029-9442-EFC8601B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8EE-918D-4EE5-99B3-FFD13BC5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5DE-BAB1-4BCD-A5DC-AEAA0717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36BC-1710-47BC-9927-7A770586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2C1A-128A-42E7-B557-DEFD9BA7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821-8A7A-465D-8D88-0F9E41BD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8B1-806F-4FFE-BDE5-70DFC900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74D3-FCE6-43C7-92AB-341234891D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" descr="D:\фоны и шаблоны\93e9c2ceda63.jpg"/>
          <p:cNvPicPr/>
          <p:nvPr/>
        </p:nvPicPr>
        <p:blipFill>
          <a:blip r:embed="rId2"/>
          <a:stretch/>
        </p:blipFill>
        <p:spPr>
          <a:xfrm>
            <a:off x="0" y="0"/>
            <a:ext cx="12859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D:\фоны и шаблоны\93e9c2ceda63.jpg"/>
          <p:cNvPicPr/>
          <p:nvPr/>
        </p:nvPicPr>
        <p:blipFill>
          <a:blip r:embed="rId2"/>
          <a:stretch/>
        </p:blipFill>
        <p:spPr>
          <a:xfrm>
            <a:off x="0" y="0"/>
            <a:ext cx="12859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D:\фоны и шаблоны\93e9c2ceda6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C090-FBAC-4F7B-BEE8-BE02BC36DE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D:\фоны и шаблоны\93e9c2ceda63.jpg"/>
          <p:cNvPicPr/>
          <p:nvPr/>
        </p:nvPicPr>
        <p:blipFill>
          <a:blip r:embed="rId2"/>
          <a:stretch/>
        </p:blipFill>
        <p:spPr>
          <a:xfrm>
            <a:off x="0" y="0"/>
            <a:ext cx="1285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3F5A-7094-4723-B75B-214ED674226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 "А"класс ГБОУ СОШ № 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7AB3-3F67-4B2E-856D-E4E1580A10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21268200">
            <a:off x="1386720" y="1993680"/>
            <a:ext cx="600084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Использование элементов проектных технологий в целях организации образовательной среды , способствующей формированию жизненных компетенций учащихся с ОВ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Чтение сообщения о жираф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3090960" y="3191040"/>
            <a:ext cx="2874960" cy="3666960"/>
          </a:xfrm>
          <a:prstGeom prst="rect">
            <a:avLst/>
          </a:prstGeom>
          <a:ln w="0">
            <a:noFill/>
          </a:ln>
        </p:spPr>
      </p:pic>
      <p:sp>
        <p:nvSpPr>
          <p:cNvPr id="1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Объект 1" descr=""/>
          <p:cNvPicPr/>
          <p:nvPr/>
        </p:nvPicPr>
        <p:blipFill>
          <a:blip r:embed="rId2"/>
          <a:stretch/>
        </p:blipFill>
        <p:spPr>
          <a:xfrm>
            <a:off x="108000" y="1044720"/>
            <a:ext cx="2879640" cy="458136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2" descr=""/>
          <p:cNvPicPr/>
          <p:nvPr/>
        </p:nvPicPr>
        <p:blipFill>
          <a:blip r:embed="rId3"/>
          <a:stretch/>
        </p:blipFill>
        <p:spPr>
          <a:xfrm>
            <a:off x="6068880" y="1052640"/>
            <a:ext cx="2967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95640" y="12240"/>
            <a:ext cx="3960720" cy="32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         </a:t>
            </a: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Закрепление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то где живёт</a:t>
            </a:r>
            <a:br>
              <a:rPr sz="3200"/>
            </a:br>
            <a:r>
              <a:rPr b="0" lang="ru-RU" sz="8000" spc="-1" strike="noStrike">
                <a:solidFill>
                  <a:srgbClr val="ff0000"/>
                </a:solidFill>
                <a:latin typeface="Comic Sans MS"/>
              </a:rPr>
              <a:t>?</a:t>
            </a:r>
            <a:br>
              <a:rPr sz="32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Объект 6" descr=""/>
          <p:cNvPicPr/>
          <p:nvPr/>
        </p:nvPicPr>
        <p:blipFill>
          <a:blip r:embed="rId1"/>
          <a:stretch/>
        </p:blipFill>
        <p:spPr>
          <a:xfrm>
            <a:off x="1262160" y="2066760"/>
            <a:ext cx="1881000" cy="2509920"/>
          </a:xfrm>
          <a:prstGeom prst="rect">
            <a:avLst/>
          </a:prstGeom>
          <a:ln w="0">
            <a:noFill/>
          </a:ln>
        </p:spPr>
      </p:pic>
      <p:pic>
        <p:nvPicPr>
          <p:cNvPr id="201" name="Объект 5" descr=""/>
          <p:cNvPicPr/>
          <p:nvPr/>
        </p:nvPicPr>
        <p:blipFill>
          <a:blip r:embed="rId2"/>
          <a:stretch/>
        </p:blipFill>
        <p:spPr>
          <a:xfrm>
            <a:off x="69840" y="144360"/>
            <a:ext cx="1981080" cy="264312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8" descr=""/>
          <p:cNvPicPr/>
          <p:nvPr/>
        </p:nvPicPr>
        <p:blipFill>
          <a:blip r:embed="rId3"/>
          <a:stretch/>
        </p:blipFill>
        <p:spPr>
          <a:xfrm>
            <a:off x="2395440" y="4219560"/>
            <a:ext cx="1974960" cy="26337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10" descr=""/>
          <p:cNvPicPr/>
          <p:nvPr/>
        </p:nvPicPr>
        <p:blipFill>
          <a:blip r:embed="rId4"/>
          <a:stretch/>
        </p:blipFill>
        <p:spPr>
          <a:xfrm>
            <a:off x="4606920" y="4224240"/>
            <a:ext cx="1971720" cy="262908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7" descr=""/>
          <p:cNvPicPr/>
          <p:nvPr/>
        </p:nvPicPr>
        <p:blipFill>
          <a:blip r:embed="rId5"/>
          <a:stretch/>
        </p:blipFill>
        <p:spPr>
          <a:xfrm>
            <a:off x="5457960" y="2066760"/>
            <a:ext cx="1998360" cy="266400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9" descr=""/>
          <p:cNvPicPr/>
          <p:nvPr/>
        </p:nvPicPr>
        <p:blipFill>
          <a:blip r:embed="rId6"/>
          <a:stretch/>
        </p:blipFill>
        <p:spPr>
          <a:xfrm>
            <a:off x="7020000" y="123840"/>
            <a:ext cx="19335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214280" y="2428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утешествие подошло к конц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каких районах нашей Земли мы побыва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акой там клима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ого увиде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Овал 5"/>
          <p:cNvSpPr/>
          <p:nvPr/>
        </p:nvSpPr>
        <p:spPr>
          <a:xfrm>
            <a:off x="250920" y="1700280"/>
            <a:ext cx="3754440" cy="4897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Закрепление изученного материала при работе с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L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3" descr="C:\Documents and Settings\Administrator\Desktop\1 класс фото\ОМ жаркие районы\0 018.jpg"/>
          <p:cNvPicPr/>
          <p:nvPr/>
        </p:nvPicPr>
        <p:blipFill>
          <a:blip r:embed="rId1"/>
          <a:stretch/>
        </p:blipFill>
        <p:spPr>
          <a:xfrm>
            <a:off x="4664160" y="1652760"/>
            <a:ext cx="4138560" cy="6705360"/>
          </a:xfrm>
          <a:prstGeom prst="rect">
            <a:avLst/>
          </a:prstGeom>
          <a:ln w="0">
            <a:noFill/>
          </a:ln>
        </p:spPr>
      </p:pic>
      <p:sp>
        <p:nvSpPr>
          <p:cNvPr id="21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Объект 3" descr=""/>
          <p:cNvPicPr/>
          <p:nvPr/>
        </p:nvPicPr>
        <p:blipFill>
          <a:blip r:embed="rId2"/>
          <a:stretch/>
        </p:blipFill>
        <p:spPr>
          <a:xfrm>
            <a:off x="324000" y="1719360"/>
            <a:ext cx="3608280" cy="63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E:\люди\images (10).jpg"/>
          <p:cNvPicPr/>
          <p:nvPr/>
        </p:nvPicPr>
        <p:blipFill>
          <a:blip r:embed="rId1"/>
          <a:stretch/>
        </p:blipFill>
        <p:spPr>
          <a:xfrm>
            <a:off x="3780000" y="2571840"/>
            <a:ext cx="3357360" cy="335736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2"/>
          <p:cNvSpPr/>
          <p:nvPr/>
        </p:nvSpPr>
        <p:spPr>
          <a:xfrm>
            <a:off x="6889680" y="2665440"/>
            <a:ext cx="2071800" cy="728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умения познаватель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6889680" y="3643200"/>
            <a:ext cx="20718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самооцен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6889680" y="4719600"/>
            <a:ext cx="20718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 общ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6889680" y="5823000"/>
            <a:ext cx="20718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дальнейшему личностному рос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6"/>
          <p:cNvSpPr/>
          <p:nvPr/>
        </p:nvSpPr>
        <p:spPr>
          <a:xfrm>
            <a:off x="1476360" y="1749600"/>
            <a:ext cx="207180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атывает чувства ответств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1476360" y="3225960"/>
            <a:ext cx="207180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изирует в современном ми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8"/>
          <p:cNvSpPr/>
          <p:nvPr/>
        </p:nvSpPr>
        <p:spPr>
          <a:xfrm>
            <a:off x="1482840" y="4457880"/>
            <a:ext cx="207144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ёт возможность реализовать свои способ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9"/>
          <p:cNvSpPr/>
          <p:nvPr/>
        </p:nvSpPr>
        <p:spPr>
          <a:xfrm>
            <a:off x="1571760" y="5823000"/>
            <a:ext cx="20714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мотивацию к учеб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0"/>
          <p:cNvSpPr/>
          <p:nvPr/>
        </p:nvSpPr>
        <p:spPr>
          <a:xfrm>
            <a:off x="4071960" y="1643040"/>
            <a:ext cx="228600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 работать с различными источниками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1"/>
          <p:cNvSpPr/>
          <p:nvPr/>
        </p:nvSpPr>
        <p:spPr>
          <a:xfrm>
            <a:off x="6588000" y="1563840"/>
            <a:ext cx="207180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ет активность психических проце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2"/>
          <p:cNvSpPr/>
          <p:nvPr/>
        </p:nvSpPr>
        <p:spPr>
          <a:xfrm>
            <a:off x="1835280" y="317520"/>
            <a:ext cx="6538680" cy="66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 !!  метод 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1571760" y="214200"/>
            <a:ext cx="70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ецифические особенности метода проекта в специальной коррекцион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1571760" y="18572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иентировка на психофизические возможности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1643040" y="31431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лектив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1643040" y="39290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дущая и направляющая роль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643040" y="5143680"/>
            <a:ext cx="728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психолого-педагогических ситу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1285920" y="642960"/>
            <a:ext cx="7643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бразован не тот, кто много зна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тот, кто хочет много зн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кто умеет добывать знания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.П. Вахт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TextBox 2" descr=""/>
          <p:cNvPicPr/>
          <p:nvPr/>
        </p:nvPicPr>
        <p:blipFill>
          <a:blip r:embed="rId1"/>
          <a:stretch/>
        </p:blipFill>
        <p:spPr>
          <a:xfrm>
            <a:off x="1646280" y="4498920"/>
            <a:ext cx="728496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Трапеция 2"/>
          <p:cNvSpPr/>
          <p:nvPr/>
        </p:nvSpPr>
        <p:spPr>
          <a:xfrm rot="10800000">
            <a:off x="2143080" y="4143240"/>
            <a:ext cx="6215040" cy="1857600"/>
          </a:xfrm>
          <a:custGeom>
            <a:avLst/>
            <a:gdLst/>
            <a:ahLst/>
            <a:rect l="l" t="t" r="r" b="b"/>
            <a:pathLst>
              <a:path w="6215063" h="1857375">
                <a:moveTo>
                  <a:pt x="0" y="1857375"/>
                </a:moveTo>
                <a:lnTo>
                  <a:pt x="887714" y="0"/>
                </a:lnTo>
                <a:lnTo>
                  <a:pt x="5327349" y="0"/>
                </a:lnTo>
                <a:lnTo>
                  <a:pt x="6215063" y="1857375"/>
                </a:lnTo>
                <a:lnTo>
                  <a:pt x="0" y="1857375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38160">
            <a:solidFill>
              <a:srgbClr val="376092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3429000" y="4286160"/>
            <a:ext cx="41432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I –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одготовительный эта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блема, цели, задачи, определение результата, создание команды, совместное планирование, сроки, ответ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3143160" y="2643120"/>
            <a:ext cx="4214880" cy="1500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с одним вырезанным скругленным углом 5"/>
          <p:cNvSpPr/>
          <p:nvPr/>
        </p:nvSpPr>
        <p:spPr>
          <a:xfrm>
            <a:off x="3571920" y="1357200"/>
            <a:ext cx="3286080" cy="1214640"/>
          </a:xfrm>
          <a:custGeom>
            <a:avLst/>
            <a:gdLst/>
            <a:ahLst/>
            <a:rect l="l" t="t" r="r" b="b"/>
            <a:pathLst>
              <a:path w="3286125" h="1214437">
                <a:moveTo>
                  <a:pt x="0" y="0"/>
                </a:moveTo>
                <a:lnTo>
                  <a:pt x="2985430" y="0"/>
                </a:lnTo>
                <a:lnTo>
                  <a:pt x="3286125" y="300695"/>
                </a:lnTo>
                <a:lnTo>
                  <a:pt x="3286125" y="1214437"/>
                </a:lnTo>
                <a:lnTo>
                  <a:pt x="0" y="12144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38160">
            <a:solidFill>
              <a:srgbClr val="00b05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олилиния 6"/>
          <p:cNvSpPr/>
          <p:nvPr/>
        </p:nvSpPr>
        <p:spPr>
          <a:xfrm>
            <a:off x="1285920" y="6000840"/>
            <a:ext cx="7542000" cy="528480"/>
          </a:xfrm>
          <a:custGeom>
            <a:avLst/>
            <a:gdLst/>
            <a:ahLst/>
            <a:rect l="l" t="t" r="r" b="b"/>
            <a:pathLst>
              <a:path w="7542756" h="528181">
                <a:moveTo>
                  <a:pt x="0" y="294362"/>
                </a:moveTo>
                <a:cubicBezTo>
                  <a:pt x="727553" y="156575"/>
                  <a:pt x="1455107" y="18789"/>
                  <a:pt x="1929008" y="56367"/>
                </a:cubicBezTo>
                <a:cubicBezTo>
                  <a:pt x="2402909" y="93945"/>
                  <a:pt x="2404997" y="511479"/>
                  <a:pt x="2843408" y="519830"/>
                </a:cubicBezTo>
                <a:cubicBezTo>
                  <a:pt x="3281819" y="528181"/>
                  <a:pt x="4010417" y="108560"/>
                  <a:pt x="4559474" y="106472"/>
                </a:cubicBezTo>
                <a:cubicBezTo>
                  <a:pt x="5108532" y="104384"/>
                  <a:pt x="5676378" y="511479"/>
                  <a:pt x="6137753" y="507304"/>
                </a:cubicBezTo>
                <a:cubicBezTo>
                  <a:pt x="6599128" y="503129"/>
                  <a:pt x="7112696" y="162838"/>
                  <a:pt x="7327726" y="81419"/>
                </a:cubicBezTo>
                <a:cubicBezTo>
                  <a:pt x="7542756" y="0"/>
                  <a:pt x="7427934" y="18789"/>
                  <a:pt x="7427934" y="18789"/>
                </a:cubicBezTo>
                <a:lnTo>
                  <a:pt x="7427934" y="18789"/>
                </a:lnTo>
                <a:lnTo>
                  <a:pt x="7427934" y="18789"/>
                </a:lnTo>
                <a:lnTo>
                  <a:pt x="7427934" y="18789"/>
                </a:lnTo>
                <a:cubicBezTo>
                  <a:pt x="7427934" y="20877"/>
                  <a:pt x="7423759" y="29227"/>
                  <a:pt x="7427934" y="31315"/>
                </a:cubicBezTo>
                <a:cubicBezTo>
                  <a:pt x="7432109" y="33403"/>
                  <a:pt x="7452986" y="31315"/>
                  <a:pt x="7452986" y="31315"/>
                </a:cubicBezTo>
                <a:lnTo>
                  <a:pt x="7452986" y="31315"/>
                </a:lnTo>
                <a:lnTo>
                  <a:pt x="7452986" y="31315"/>
                </a:lnTo>
                <a:lnTo>
                  <a:pt x="7452986" y="31315"/>
                </a:lnTo>
                <a:lnTo>
                  <a:pt x="7452986" y="31315"/>
                </a:lnTo>
                <a:cubicBezTo>
                  <a:pt x="7446723" y="31315"/>
                  <a:pt x="7415408" y="33403"/>
                  <a:pt x="7415408" y="31315"/>
                </a:cubicBezTo>
                <a:cubicBezTo>
                  <a:pt x="7415408" y="29227"/>
                  <a:pt x="7452986" y="18789"/>
                  <a:pt x="7452986" y="18789"/>
                </a:cubicBezTo>
                <a:lnTo>
                  <a:pt x="7452986" y="18789"/>
                </a:lnTo>
                <a:lnTo>
                  <a:pt x="7302674" y="106472"/>
                </a:lnTo>
                <a:cubicBezTo>
                  <a:pt x="7304762" y="104384"/>
                  <a:pt x="7465512" y="6263"/>
                  <a:pt x="7465512" y="6263"/>
                </a:cubicBezTo>
                <a:lnTo>
                  <a:pt x="7465512" y="6263"/>
                </a:lnTo>
                <a:lnTo>
                  <a:pt x="7465512" y="6263"/>
                </a:lnTo>
              </a:path>
            </a:pathLst>
          </a:custGeom>
          <a:noFill/>
          <a:ln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7"/>
          <p:cNvSpPr/>
          <p:nvPr/>
        </p:nvSpPr>
        <p:spPr>
          <a:xfrm>
            <a:off x="2000160" y="6000840"/>
            <a:ext cx="7542360" cy="528480"/>
          </a:xfrm>
          <a:custGeom>
            <a:avLst/>
            <a:gdLst/>
            <a:ahLst/>
            <a:rect l="l" t="t" r="r" b="b"/>
            <a:pathLst>
              <a:path w="7542756" h="528181">
                <a:moveTo>
                  <a:pt x="0" y="294362"/>
                </a:moveTo>
                <a:cubicBezTo>
                  <a:pt x="727553" y="156575"/>
                  <a:pt x="1455107" y="18789"/>
                  <a:pt x="1929008" y="56367"/>
                </a:cubicBezTo>
                <a:cubicBezTo>
                  <a:pt x="2402909" y="93945"/>
                  <a:pt x="2404997" y="511479"/>
                  <a:pt x="2843408" y="519830"/>
                </a:cubicBezTo>
                <a:cubicBezTo>
                  <a:pt x="3281819" y="528181"/>
                  <a:pt x="4010417" y="108560"/>
                  <a:pt x="4559474" y="106472"/>
                </a:cubicBezTo>
                <a:cubicBezTo>
                  <a:pt x="5108532" y="104384"/>
                  <a:pt x="5676378" y="511479"/>
                  <a:pt x="6137753" y="507304"/>
                </a:cubicBezTo>
                <a:cubicBezTo>
                  <a:pt x="6599128" y="503129"/>
                  <a:pt x="7112696" y="162838"/>
                  <a:pt x="7327726" y="81419"/>
                </a:cubicBezTo>
                <a:cubicBezTo>
                  <a:pt x="7542756" y="0"/>
                  <a:pt x="7427934" y="18789"/>
                  <a:pt x="7427934" y="18789"/>
                </a:cubicBezTo>
                <a:lnTo>
                  <a:pt x="7427934" y="18789"/>
                </a:lnTo>
                <a:lnTo>
                  <a:pt x="7427934" y="18789"/>
                </a:lnTo>
                <a:lnTo>
                  <a:pt x="7427934" y="18789"/>
                </a:lnTo>
                <a:cubicBezTo>
                  <a:pt x="7427934" y="20877"/>
                  <a:pt x="7423759" y="29227"/>
                  <a:pt x="7427934" y="31315"/>
                </a:cubicBezTo>
                <a:cubicBezTo>
                  <a:pt x="7432109" y="33403"/>
                  <a:pt x="7452986" y="31315"/>
                  <a:pt x="7452986" y="31315"/>
                </a:cubicBezTo>
                <a:lnTo>
                  <a:pt x="7452986" y="31315"/>
                </a:lnTo>
                <a:lnTo>
                  <a:pt x="7452986" y="31315"/>
                </a:lnTo>
                <a:lnTo>
                  <a:pt x="7452986" y="31315"/>
                </a:lnTo>
                <a:lnTo>
                  <a:pt x="7452986" y="31315"/>
                </a:lnTo>
                <a:cubicBezTo>
                  <a:pt x="7446723" y="31315"/>
                  <a:pt x="7415408" y="33403"/>
                  <a:pt x="7415408" y="31315"/>
                </a:cubicBezTo>
                <a:cubicBezTo>
                  <a:pt x="7415408" y="29227"/>
                  <a:pt x="7452986" y="18789"/>
                  <a:pt x="7452986" y="18789"/>
                </a:cubicBezTo>
                <a:lnTo>
                  <a:pt x="7452986" y="18789"/>
                </a:lnTo>
                <a:lnTo>
                  <a:pt x="7302674" y="106472"/>
                </a:lnTo>
                <a:cubicBezTo>
                  <a:pt x="7304762" y="104384"/>
                  <a:pt x="7465512" y="6263"/>
                  <a:pt x="7465512" y="6263"/>
                </a:cubicBezTo>
                <a:lnTo>
                  <a:pt x="7465512" y="6263"/>
                </a:lnTo>
                <a:lnTo>
                  <a:pt x="7465512" y="6263"/>
                </a:lnTo>
              </a:path>
            </a:pathLst>
          </a:custGeom>
          <a:noFill/>
          <a:ln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3214800" y="292896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II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– практический эта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екта, коррекция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3429000" y="150012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III –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екта: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анализ результата, показ конечного проду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Волна 10"/>
          <p:cNvSpPr/>
          <p:nvPr/>
        </p:nvSpPr>
        <p:spPr>
          <a:xfrm>
            <a:off x="4857840" y="214200"/>
            <a:ext cx="1214280" cy="571680"/>
          </a:xfrm>
          <a:custGeom>
            <a:avLst/>
            <a:gdLst>
              <a:gd name="textAreaLeft" fmla="*/ 0 w 1214280"/>
              <a:gd name="textAreaRight" fmla="*/ 1214640 w 121428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12"/>
          <p:cNvSpPr/>
          <p:nvPr/>
        </p:nvSpPr>
        <p:spPr>
          <a:xfrm flipH="1">
            <a:off x="4857840" y="333360"/>
            <a:ext cx="1440" cy="10238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1403280" y="1231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Как реализовать проект или об этапах проект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Овал 7"/>
          <p:cNvSpPr/>
          <p:nvPr/>
        </p:nvSpPr>
        <p:spPr>
          <a:xfrm>
            <a:off x="3786120" y="2428920"/>
            <a:ext cx="2714760" cy="3643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" descr="E:\люди\images (5).jpg"/>
          <p:cNvPicPr/>
          <p:nvPr/>
        </p:nvPicPr>
        <p:blipFill>
          <a:blip r:embed="rId1"/>
          <a:stretch/>
        </p:blipFill>
        <p:spPr>
          <a:xfrm>
            <a:off x="4214880" y="3357720"/>
            <a:ext cx="1928880" cy="19285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10"/>
          <p:cNvSpPr/>
          <p:nvPr/>
        </p:nvSpPr>
        <p:spPr>
          <a:xfrm>
            <a:off x="1428840" y="500040"/>
            <a:ext cx="20714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логическая инертность (тугоподвижност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Прямоугольник 11" descr=""/>
          <p:cNvPicPr/>
          <p:nvPr/>
        </p:nvPicPr>
        <p:blipFill>
          <a:blip r:embed="rId2"/>
          <a:stretch/>
        </p:blipFill>
        <p:spPr>
          <a:xfrm>
            <a:off x="4059360" y="549360"/>
            <a:ext cx="2097000" cy="68904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12"/>
          <p:cNvSpPr/>
          <p:nvPr/>
        </p:nvSpPr>
        <p:spPr>
          <a:xfrm>
            <a:off x="6572160" y="189000"/>
            <a:ext cx="2071800" cy="116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типность мыш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а активность психических проце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3"/>
          <p:cNvSpPr/>
          <p:nvPr/>
        </p:nvSpPr>
        <p:spPr>
          <a:xfrm>
            <a:off x="6500880" y="1857240"/>
            <a:ext cx="20718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 точность и прочность запоми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4"/>
          <p:cNvSpPr/>
          <p:nvPr/>
        </p:nvSpPr>
        <p:spPr>
          <a:xfrm>
            <a:off x="6786720" y="3214800"/>
            <a:ext cx="20714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недоразвитие ре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5"/>
          <p:cNvSpPr/>
          <p:nvPr/>
        </p:nvSpPr>
        <p:spPr>
          <a:xfrm>
            <a:off x="6786720" y="4786200"/>
            <a:ext cx="20714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критичности мыш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1785960" y="1857240"/>
            <a:ext cx="20718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ая пасс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7"/>
          <p:cNvSpPr/>
          <p:nvPr/>
        </p:nvSpPr>
        <p:spPr>
          <a:xfrm>
            <a:off x="1428840" y="3214800"/>
            <a:ext cx="20714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целенаправленности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8"/>
          <p:cNvSpPr/>
          <p:nvPr/>
        </p:nvSpPr>
        <p:spPr>
          <a:xfrm>
            <a:off x="1428840" y="4714920"/>
            <a:ext cx="20714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потенциала для творч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6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Животные жарких районов Земли»</a:t>
            </a:r>
            <a:br>
              <a:rPr sz="3600"/>
            </a:br>
            <a:r>
              <a:rPr b="0" lang="ru-RU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мини проект по природоведению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c00000"/>
                </a:solidFill>
                <a:latin typeface="Constantia"/>
              </a:rPr>
              <a:t>Цели мини-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258560" y="1876320"/>
            <a:ext cx="7777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ть у обучающихся представления о разнообразии природы Земл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накомить с  животными жарких районов Земл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ить приёмам самостоятельного поиска  и изложения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nstantia"/>
              </a:rPr>
              <a:t>Повтор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Объект 2" descr=""/>
          <p:cNvPicPr/>
          <p:nvPr/>
        </p:nvPicPr>
        <p:blipFill>
          <a:blip r:embed="rId1"/>
          <a:stretch/>
        </p:blipFill>
        <p:spPr>
          <a:xfrm>
            <a:off x="3929040" y="1285920"/>
            <a:ext cx="4721400" cy="334332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5"/>
          <p:cNvSpPr/>
          <p:nvPr/>
        </p:nvSpPr>
        <p:spPr>
          <a:xfrm>
            <a:off x="1000080" y="1285920"/>
            <a:ext cx="25718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айоны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6"/>
          <p:cNvSpPr/>
          <p:nvPr/>
        </p:nvSpPr>
        <p:spPr>
          <a:xfrm>
            <a:off x="214200" y="2714760"/>
            <a:ext cx="235764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Хол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285840" y="4714920"/>
            <a:ext cx="25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еверный Ледовиты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8"/>
          <p:cNvSpPr/>
          <p:nvPr/>
        </p:nvSpPr>
        <p:spPr>
          <a:xfrm>
            <a:off x="3357720" y="4714920"/>
            <a:ext cx="27860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нтаркт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Прямая со стрелкой 10"/>
          <p:cNvCxnSpPr>
            <a:stCxn id="155" idx="2"/>
          </p:cNvCxnSpPr>
          <p:nvPr/>
        </p:nvCxnSpPr>
        <p:spPr>
          <a:xfrm flipH="1">
            <a:off x="1356840" y="2200320"/>
            <a:ext cx="929520" cy="44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Прямая со стрелкой 12"/>
          <p:cNvCxnSpPr>
            <a:stCxn id="156" idx="2"/>
            <a:endCxn id="157" idx="0"/>
          </p:cNvCxnSpPr>
          <p:nvPr/>
        </p:nvCxnSpPr>
        <p:spPr>
          <a:xfrm>
            <a:off x="1391040" y="3429000"/>
            <a:ext cx="143640" cy="128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Прямая со стрелкой 14"/>
          <p:cNvCxnSpPr>
            <a:stCxn id="156" idx="2"/>
            <a:endCxn id="158" idx="0"/>
          </p:cNvCxnSpPr>
          <p:nvPr/>
        </p:nvCxnSpPr>
        <p:spPr>
          <a:xfrm>
            <a:off x="1391040" y="3429000"/>
            <a:ext cx="3359880" cy="128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2" name="Нижний колонтитул 11"/>
          <p:cNvSpPr/>
          <p:nvPr/>
        </p:nvSpPr>
        <p:spPr>
          <a:xfrm flipV="1">
            <a:off x="3124080" y="6307920"/>
            <a:ext cx="2671920" cy="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55280" y="1600200"/>
            <a:ext cx="3740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6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6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6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6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6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6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6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6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6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nstantia"/>
              </a:rPr>
              <a:t>Составление схем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929280" y="5715000"/>
            <a:ext cx="175752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5"/>
          <p:cNvSpPr/>
          <p:nvPr/>
        </p:nvSpPr>
        <p:spPr>
          <a:xfrm>
            <a:off x="3143160" y="1285920"/>
            <a:ext cx="25718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айоны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1500120" y="2714760"/>
            <a:ext cx="235764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Хол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7"/>
          <p:cNvSpPr/>
          <p:nvPr/>
        </p:nvSpPr>
        <p:spPr>
          <a:xfrm>
            <a:off x="285840" y="4714920"/>
            <a:ext cx="25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еверный Ледовиты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8"/>
          <p:cNvSpPr/>
          <p:nvPr/>
        </p:nvSpPr>
        <p:spPr>
          <a:xfrm>
            <a:off x="3357720" y="4714920"/>
            <a:ext cx="27860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нтаркт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Прямая со стрелкой 10"/>
          <p:cNvCxnSpPr>
            <a:stCxn id="166" idx="2"/>
          </p:cNvCxnSpPr>
          <p:nvPr/>
        </p:nvCxnSpPr>
        <p:spPr>
          <a:xfrm flipH="1">
            <a:off x="3499920" y="2200320"/>
            <a:ext cx="929520" cy="44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1" name="Прямая со стрелкой 12"/>
          <p:cNvCxnSpPr>
            <a:stCxn id="167" idx="2"/>
            <a:endCxn id="168" idx="0"/>
          </p:cNvCxnSpPr>
          <p:nvPr/>
        </p:nvCxnSpPr>
        <p:spPr>
          <a:xfrm flipH="1">
            <a:off x="1536480" y="3429000"/>
            <a:ext cx="1141920" cy="128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2" name="Прямая со стрелкой 14"/>
          <p:cNvCxnSpPr>
            <a:stCxn id="167" idx="2"/>
            <a:endCxn id="169" idx="0"/>
          </p:cNvCxnSpPr>
          <p:nvPr/>
        </p:nvCxnSpPr>
        <p:spPr>
          <a:xfrm>
            <a:off x="2676960" y="3429000"/>
            <a:ext cx="2072520" cy="128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3" name=""/>
          <p:cNvSpPr txBox="1"/>
          <p:nvPr/>
        </p:nvSpPr>
        <p:spPr>
          <a:xfrm>
            <a:off x="2785680" y="5786280"/>
            <a:ext cx="1709640" cy="3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16"/>
          <p:cNvSpPr/>
          <p:nvPr/>
        </p:nvSpPr>
        <p:spPr>
          <a:xfrm>
            <a:off x="5929200" y="2714760"/>
            <a:ext cx="2357640" cy="785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Жар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7"/>
          <p:cNvSpPr/>
          <p:nvPr/>
        </p:nvSpPr>
        <p:spPr>
          <a:xfrm>
            <a:off x="4286160" y="3857760"/>
            <a:ext cx="25718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ропические л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8"/>
          <p:cNvSpPr/>
          <p:nvPr/>
        </p:nvSpPr>
        <p:spPr>
          <a:xfrm>
            <a:off x="7143840" y="3857760"/>
            <a:ext cx="17859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ав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Прямая со стрелкой 20"/>
          <p:cNvCxnSpPr>
            <a:stCxn id="166" idx="2"/>
            <a:endCxn id="174" idx="0"/>
          </p:cNvCxnSpPr>
          <p:nvPr/>
        </p:nvCxnSpPr>
        <p:spPr>
          <a:xfrm>
            <a:off x="4429080" y="2199960"/>
            <a:ext cx="2680560" cy="515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8" name="Прямая со стрелкой 22"/>
          <p:cNvCxnSpPr>
            <a:stCxn id="174" idx="2"/>
            <a:endCxn id="175" idx="0"/>
          </p:cNvCxnSpPr>
          <p:nvPr/>
        </p:nvCxnSpPr>
        <p:spPr>
          <a:xfrm flipH="1">
            <a:off x="5571360" y="3499920"/>
            <a:ext cx="1537560" cy="358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9" name="Прямая со стрелкой 24"/>
          <p:cNvCxnSpPr>
            <a:stCxn id="174" idx="2"/>
            <a:endCxn id="176" idx="0"/>
          </p:cNvCxnSpPr>
          <p:nvPr/>
        </p:nvCxnSpPr>
        <p:spPr>
          <a:xfrm>
            <a:off x="7107840" y="3499920"/>
            <a:ext cx="929160" cy="358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0" name="Нижний колонтитул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6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6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6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6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17375e"/>
                </a:solidFill>
                <a:latin typeface="Constantia"/>
              </a:rPr>
              <a:t>Изучение нового материала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чтение сообщения о слон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Объект 2" descr=""/>
          <p:cNvPicPr/>
          <p:nvPr/>
        </p:nvPicPr>
        <p:blipFill>
          <a:blip r:embed="rId1"/>
          <a:stretch/>
        </p:blipFill>
        <p:spPr>
          <a:xfrm>
            <a:off x="2771640" y="2290680"/>
            <a:ext cx="3959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661500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omic Sans MS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64328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то из животных живёт в тропическом лес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Объект 2" descr=""/>
          <p:cNvPicPr/>
          <p:nvPr/>
        </p:nvPicPr>
        <p:blipFill>
          <a:blip r:embed="rId1"/>
          <a:stretch/>
        </p:blipFill>
        <p:spPr>
          <a:xfrm>
            <a:off x="509760" y="2637000"/>
            <a:ext cx="3198600" cy="40845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4" descr=""/>
          <p:cNvPicPr/>
          <p:nvPr/>
        </p:nvPicPr>
        <p:blipFill>
          <a:blip r:embed="rId2"/>
          <a:stretch/>
        </p:blipFill>
        <p:spPr>
          <a:xfrm>
            <a:off x="4932360" y="1573200"/>
            <a:ext cx="386064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71360" y="285840"/>
            <a:ext cx="6615000" cy="62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9680" y="1125000"/>
            <a:ext cx="8032680" cy="15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Comic Sans MS"/>
              </a:rPr>
              <a:t>Кто из животных живёт в саванн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Объект 2" descr=""/>
          <p:cNvPicPr/>
          <p:nvPr/>
        </p:nvPicPr>
        <p:blipFill>
          <a:blip r:embed="rId1"/>
          <a:stretch/>
        </p:blipFill>
        <p:spPr>
          <a:xfrm>
            <a:off x="2585880" y="1916280"/>
            <a:ext cx="39722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7:33:40Z</dcterms:created>
  <dc:creator>Helen</dc:creator>
  <dc:description/>
  <dc:language>en-US</dc:language>
  <cp:lastModifiedBy>Масленникова Валерия Вадимовна</cp:lastModifiedBy>
  <dcterms:modified xsi:type="dcterms:W3CDTF">2021-04-06T08:39:04Z</dcterms:modified>
  <cp:revision>36</cp:revision>
  <dc:subject/>
  <dc:title>Слайд 1</dc:title>
</cp:coreProperties>
</file>