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20.png" ContentType="image/png"/>
  <Override PartName="/ppt/media/image36.png" ContentType="image/png"/>
  <Override PartName="/ppt/media/image43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7AB5-D9F8-4743-8235-CB27758F79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79D5-8228-46FC-A9CB-C0F9663D50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E2E2-5294-4877-AA85-9A1B6E9B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0CDF-785C-47BD-B2E0-F10C640B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C843-47E4-44A0-8CCA-E0429C6A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B297-290A-4406-943F-B0FB0C3F1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60F5-B31C-4054-B264-A71B7261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2E00-D534-4327-A456-CD67EE96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9C9A-BF5B-4AA2-A4FF-7E4E48A1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CD04-4C71-48C6-AF91-5A02A2FC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055F-7431-470F-8988-740E7D27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BF25-1773-41B5-A9CA-3B764BFA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2EE6-C77B-4C2F-B48B-D18D7D68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CCE5-8546-4657-8B2C-3F77A8E0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4AD7-CDE9-4321-B67C-BC2BB9F1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30CE-9E80-49D4-B3EC-BE5F047B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C02F-1A72-41FE-BCB1-D29FE362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CA10-E91F-4761-8A02-C2C2F6BE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2876-CF0C-4F7C-872E-D1A48ED15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7685F-A569-4893-B6BD-2B1D2628D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D8770-BCC7-4EA8-A7F1-DB00DB2D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15833-3CBD-4FF3-B9E7-B7AF3EE7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8E447-5675-4E34-B1DF-B310D276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EF215-FE47-4F8F-A1C5-0E706EBD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9DC0-9C78-4214-8A9C-A0138E08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2411F-AEAE-4CF2-B51E-AC66EC6E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2B158-4F28-4834-878F-49870716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B18B0-E6C8-432E-BDDA-DBE7B930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6822B-1B23-49EF-879D-A06E738C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91B67-8342-411A-BA59-D18A3813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66FEE-FA1D-4E9E-AF45-F53FB94CF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D67CA-8155-40A2-B936-81F2D5A76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2D0F5-B398-4887-8175-5B618F1C9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2AD5E-6285-4225-8C20-495D3CA8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681D6-6D23-4E8E-A508-A77F8ADD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5218-2ACC-47E9-8627-C732295E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20394-AC1C-4582-A51F-CF94E421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9D811-390B-4C8A-929F-FE10B005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D0C77-36DA-4284-BF2D-B42CBDFF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2C4E3-2703-4725-B91B-EAEC941C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3BD9B-1C8D-414B-AD07-78E19AAD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74411-75C6-4D34-B2C6-6F5327D3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08A4F-38B0-41BF-9974-FD5AA655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1EF93-2BFA-4965-ACAB-F24DEAA4E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F9199-29D7-408B-B2B4-7627F5C6B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A7F53-7F13-44E2-8028-BB64C8B3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AF57-2A3C-4DE2-8E20-1AEB1346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47657-4734-488E-A4C4-6E73351C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CD9BA-AEED-420B-9B41-966A8E2F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08307-AFA4-4598-96A4-81D1EECC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BA039-FA1D-4C52-B598-FF5C69C7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E3F52-72AC-4F46-B041-D27B47DD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B020E-496B-4091-8ADF-2918865B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FEDEC-AC50-4978-B727-34FAEF11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5798F-9C19-4725-945F-327D63A3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0A9B4-6027-4312-8CBB-03C2F8B0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79871-6A02-4BC1-9874-371FFB90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25B8-441A-4E60-AF42-6CB6B46F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512FA-9F28-4A9E-AECF-FB791454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1DF7-DE35-4056-9613-7D82FEDA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8838-8930-4F67-ABC2-879B0905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26D3-9AA9-4A5E-B7B0-3C7D7589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E58D-0C6D-4B84-B210-F600A5049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67E8-8001-4D47-8871-B67CDDA44B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7608-9114-44B4-96F3-1E03050A1B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F28B-D206-4523-99CB-594670BA16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D700-7805-4973-B576-AB52C5244B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pn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14360"/>
            <a:ext cx="7772400" cy="36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262699"/>
                </a:solidFill>
                <a:latin typeface="Constantia"/>
              </a:rPr>
              <a:t>Народное искусство </a:t>
            </a:r>
            <a:br>
              <a:rPr sz="4000"/>
            </a:br>
            <a:r>
              <a:rPr b="1" i="1" lang="ru-RU" sz="4000" spc="-1" strike="noStrike">
                <a:solidFill>
                  <a:srgbClr val="262699"/>
                </a:solidFill>
                <a:latin typeface="Constantia"/>
              </a:rPr>
              <a:t>ненцев.</a:t>
            </a:r>
            <a:br>
              <a:rPr sz="4000"/>
            </a:br>
            <a:br>
              <a:rPr sz="4000"/>
            </a:br>
            <a:r>
              <a:rPr b="1" lang="ru-RU" sz="1800" spc="-1" strike="noStrike">
                <a:solidFill>
                  <a:srgbClr val="262699"/>
                </a:solidFill>
                <a:latin typeface="Constantia"/>
              </a:rPr>
              <a:t>Презентацию выполнила  Киселева Елена Ивановна, </a:t>
            </a:r>
            <a:br>
              <a:rPr sz="1800"/>
            </a:br>
            <a:r>
              <a:rPr b="1" lang="ru-RU" sz="1800" spc="-1" strike="noStrike">
                <a:solidFill>
                  <a:srgbClr val="262699"/>
                </a:solidFill>
                <a:latin typeface="Constantia"/>
              </a:rPr>
              <a:t>воспитатель МАДОУ «Русалочка»</a:t>
            </a:r>
            <a:br>
              <a:rPr sz="1800"/>
            </a:br>
            <a:r>
              <a:rPr b="1" lang="ru-RU" sz="1800" spc="-1" strike="noStrike">
                <a:solidFill>
                  <a:srgbClr val="262699"/>
                </a:solidFill>
                <a:latin typeface="Constantia"/>
              </a:rPr>
              <a:t>г. Губкинский </a:t>
            </a:r>
            <a:br>
              <a:rPr sz="1800"/>
            </a:br>
            <a:r>
              <a:rPr b="1" lang="ru-RU" sz="1800" spc="-1" strike="noStrike">
                <a:solidFill>
                  <a:srgbClr val="262699"/>
                </a:solidFill>
                <a:latin typeface="Constantia"/>
              </a:rPr>
              <a:t>2021 г.</a:t>
            </a:r>
            <a:endParaRPr b="0" i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8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10" descr="Фрагменты суконного орнамента. Вылло Ф.Т.. &quot; Соседи. Лесные ненцы&quot;.  Губкинский музей освоения Севера. Artefact"/>
          <p:cNvPicPr/>
          <p:nvPr/>
        </p:nvPicPr>
        <p:blipFill>
          <a:blip r:embed="rId2"/>
          <a:stretch/>
        </p:blipFill>
        <p:spPr>
          <a:xfrm>
            <a:off x="1187280" y="260280"/>
            <a:ext cx="3240360" cy="2160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Рыбьи хвосты» и «заячьи ушки». Как уловить зашифрованный смысл ненецких  орнаментов? – Новости Салехарда и ЯНАО – Вести. Ямал. Актуальные новости  Ямала"/>
          <p:cNvPicPr/>
          <p:nvPr/>
        </p:nvPicPr>
        <p:blipFill>
          <a:blip r:embed="rId3"/>
          <a:stretch/>
        </p:blipFill>
        <p:spPr>
          <a:xfrm>
            <a:off x="4500720" y="260280"/>
            <a:ext cx="3527280" cy="21193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7164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d2db9"/>
                </a:solidFill>
                <a:latin typeface="Constantia"/>
              </a:rPr>
              <a:t>Ненецкие танцы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10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12" descr="Коллектив «Хаяр» представил Ненецкий округ на фестивале в Норвегии"/>
          <p:cNvPicPr/>
          <p:nvPr/>
        </p:nvPicPr>
        <p:blipFill>
          <a:blip r:embed="rId1"/>
          <a:stretch/>
        </p:blipFill>
        <p:spPr>
          <a:xfrm>
            <a:off x="4067280" y="4221000"/>
            <a:ext cx="4876560" cy="225756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1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1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18" descr="Новости : Дом дружбы народов Красноярского края"/>
          <p:cNvPicPr/>
          <p:nvPr/>
        </p:nvPicPr>
        <p:blipFill>
          <a:blip r:embed="rId2"/>
          <a:stretch/>
        </p:blipFill>
        <p:spPr>
          <a:xfrm>
            <a:off x="5292720" y="1557360"/>
            <a:ext cx="3529080" cy="2592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0" descr="Департамент образования, культуры и спорта Ненецкого автономного округа |  Новости"/>
          <p:cNvPicPr/>
          <p:nvPr/>
        </p:nvPicPr>
        <p:blipFill>
          <a:blip r:embed="rId3"/>
          <a:stretch/>
        </p:blipFill>
        <p:spPr>
          <a:xfrm>
            <a:off x="900000" y="1557360"/>
            <a:ext cx="3888000" cy="25923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Юность Севера в сердце моем | Общественно-политическая газета Ненецкого АО  - Няръяна вындер"/>
          <p:cNvPicPr/>
          <p:nvPr/>
        </p:nvPicPr>
        <p:blipFill>
          <a:blip r:embed="rId4"/>
          <a:stretch/>
        </p:blipFill>
        <p:spPr>
          <a:xfrm>
            <a:off x="611280" y="4221000"/>
            <a:ext cx="3352680" cy="2232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2803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3333cc"/>
                </a:solidFill>
                <a:latin typeface="Constantia"/>
              </a:rPr>
              <a:t>Орнаменты лесных ненцев</a:t>
            </a:r>
            <a:br>
              <a:rPr sz="3600"/>
            </a:br>
            <a:r>
              <a:rPr b="1" i="1" lang="ru-RU" sz="2000" spc="-1" strike="noStrike">
                <a:solidFill>
                  <a:srgbClr val="3333cc"/>
                </a:solidFill>
                <a:latin typeface="Constantia"/>
              </a:rPr>
              <a:t>У ненцев  встречаются орнаментальные мотивы, отдельно напоминающие фигурки зверей, птиц, людей, растений.</a:t>
            </a:r>
            <a:br>
              <a:rPr sz="2000"/>
            </a:br>
            <a:r>
              <a:rPr b="1" i="1" lang="ru-RU" sz="2000" spc="-1" strike="noStrike">
                <a:solidFill>
                  <a:srgbClr val="3333cc"/>
                </a:solidFill>
                <a:latin typeface="Constantia"/>
              </a:rPr>
              <a:t>Попробуйте угадать, как называется такой орнамент?</a:t>
            </a:r>
            <a:br>
              <a:rPr sz="3600"/>
            </a:br>
            <a:endParaRPr b="0" i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38844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647960" y="2421000"/>
            <a:ext cx="38113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647960" y="3938760"/>
            <a:ext cx="3668760" cy="9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4" name="Picture 2" descr="Исследовательская работа &quot;Секреты ненецкого орнамента&quot;"/>
          <p:cNvPicPr/>
          <p:nvPr/>
        </p:nvPicPr>
        <p:blipFill>
          <a:blip r:embed="rId1"/>
          <a:stretch/>
        </p:blipFill>
        <p:spPr>
          <a:xfrm>
            <a:off x="4716360" y="2060640"/>
            <a:ext cx="1938600" cy="15127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C:\Users\Елена\Desktop\IMG_7193.JPG"/>
          <p:cNvPicPr/>
          <p:nvPr/>
        </p:nvPicPr>
        <p:blipFill>
          <a:blip r:embed="rId2"/>
          <a:stretch/>
        </p:blipFill>
        <p:spPr>
          <a:xfrm>
            <a:off x="0" y="1916280"/>
            <a:ext cx="4753080" cy="47527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Кто в теремочке живёт? На фестивале РГО появится многонациональная деревня  | Русское географическое общество"/>
          <p:cNvPicPr/>
          <p:nvPr/>
        </p:nvPicPr>
        <p:blipFill>
          <a:blip r:embed="rId3"/>
          <a:stretch/>
        </p:blipFill>
        <p:spPr>
          <a:xfrm>
            <a:off x="6864480" y="3716280"/>
            <a:ext cx="2279520" cy="16574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Как и кто будет спасать лосей от машин под Петербургом"/>
          <p:cNvPicPr/>
          <p:nvPr/>
        </p:nvPicPr>
        <p:blipFill>
          <a:blip r:embed="rId4"/>
          <a:stretch/>
        </p:blipFill>
        <p:spPr>
          <a:xfrm>
            <a:off x="4859280" y="3573360"/>
            <a:ext cx="2160720" cy="144000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9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11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13" descr="Обои Взлетающая красивая утка на рабочий стол"/>
          <p:cNvPicPr/>
          <p:nvPr/>
        </p:nvPicPr>
        <p:blipFill>
          <a:blip r:embed="rId5"/>
          <a:stretch/>
        </p:blipFill>
        <p:spPr>
          <a:xfrm>
            <a:off x="6732720" y="1844640"/>
            <a:ext cx="2124000" cy="15606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5" descr="Кто такие ненцы и где они проживают. Где живут ненцы"/>
          <p:cNvPicPr/>
          <p:nvPr/>
        </p:nvPicPr>
        <p:blipFill>
          <a:blip r:embed="rId6"/>
          <a:stretch/>
        </p:blipFill>
        <p:spPr>
          <a:xfrm>
            <a:off x="4932360" y="5084640"/>
            <a:ext cx="2376360" cy="1582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39640" y="260280"/>
            <a:ext cx="61182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d2db9"/>
                </a:solidFill>
                <a:latin typeface="Constantia"/>
              </a:rPr>
              <a:t>Амулет - оберег, предмет, который приносит счастье и уберегает от потерь </a:t>
            </a:r>
            <a:endParaRPr b="0" i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539640" y="0"/>
            <a:ext cx="1728720" cy="2303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C:\Users\Елена\Desktop\фото\IMG_7179.JPG"/>
          <p:cNvPicPr/>
          <p:nvPr/>
        </p:nvPicPr>
        <p:blipFill>
          <a:blip r:embed="rId2"/>
          <a:stretch/>
        </p:blipFill>
        <p:spPr>
          <a:xfrm>
            <a:off x="4716360" y="1268280"/>
            <a:ext cx="3527640" cy="53085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Амулет оберег - Космический талисман удачи – купить на Ярмарке Мастеров –  KNNFYRU | Оберег, Москва"/>
          <p:cNvPicPr/>
          <p:nvPr/>
        </p:nvPicPr>
        <p:blipFill>
          <a:blip r:embed="rId3"/>
          <a:stretch/>
        </p:blipFill>
        <p:spPr>
          <a:xfrm>
            <a:off x="2700360" y="2060640"/>
            <a:ext cx="1727280" cy="1728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8" descr="Амулеты с солнцем — значение славянского оберега Ярило и талисманов с  солнцем других культур"/>
          <p:cNvPicPr/>
          <p:nvPr/>
        </p:nvPicPr>
        <p:blipFill>
          <a:blip r:embed="rId4"/>
          <a:stretch/>
        </p:blipFill>
        <p:spPr>
          <a:xfrm>
            <a:off x="539640" y="270828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Амулет богатства от бабы Нины оптом - купить оптом по выгодной цене |  «Тренд-опт»"/>
          <p:cNvPicPr/>
          <p:nvPr/>
        </p:nvPicPr>
        <p:blipFill>
          <a:blip r:embed="rId5"/>
          <a:stretch/>
        </p:blipFill>
        <p:spPr>
          <a:xfrm>
            <a:off x="2627280" y="4149720"/>
            <a:ext cx="1728720" cy="1727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2" descr="Пояс в жизни ненца. Сакральное"/>
          <p:cNvPicPr/>
          <p:nvPr/>
        </p:nvPicPr>
        <p:blipFill>
          <a:blip r:embed="rId6"/>
          <a:stretch/>
        </p:blipFill>
        <p:spPr>
          <a:xfrm>
            <a:off x="539640" y="5013360"/>
            <a:ext cx="1800360" cy="1511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0" name="Picture 2" descr="C:\Users\Елена\Desktop\фото\IMG_7223.PNG"/>
          <p:cNvPicPr/>
          <p:nvPr/>
        </p:nvPicPr>
        <p:blipFill>
          <a:blip r:embed="rId1"/>
          <a:stretch/>
        </p:blipFill>
        <p:spPr>
          <a:xfrm>
            <a:off x="684360" y="333360"/>
            <a:ext cx="8137440" cy="5800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991280" cy="4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d2db9"/>
                </a:solidFill>
                <a:latin typeface="Constantia"/>
              </a:rPr>
              <a:t>Поэтапное изготовление амулета</a:t>
            </a: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2" name="Picture 2" descr="C:\Users\Елена\Desktop\фото\IMG_E7219.JPG"/>
          <p:cNvPicPr/>
          <p:nvPr/>
        </p:nvPicPr>
        <p:blipFill>
          <a:blip r:embed="rId1"/>
          <a:stretch/>
        </p:blipFill>
        <p:spPr>
          <a:xfrm>
            <a:off x="684360" y="2276640"/>
            <a:ext cx="3678120" cy="26650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C:\Users\Елена\Desktop\фото\IMG_E7221.JPG"/>
          <p:cNvPicPr/>
          <p:nvPr/>
        </p:nvPicPr>
        <p:blipFill>
          <a:blip r:embed="rId2"/>
          <a:stretch/>
        </p:blipFill>
        <p:spPr>
          <a:xfrm>
            <a:off x="4716360" y="1773360"/>
            <a:ext cx="4059360" cy="4032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708360" y="765000"/>
            <a:ext cx="49672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d2db9"/>
                </a:solidFill>
                <a:latin typeface="Constantia"/>
              </a:rPr>
              <a:t>Амулет «Нашки – дети»</a:t>
            </a:r>
            <a:endParaRPr b="0" i="1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5" name="Picture 2" descr="C:\Users\Елена\Desktop\фото\IMG_E7216.JPG"/>
          <p:cNvPicPr/>
          <p:nvPr/>
        </p:nvPicPr>
        <p:blipFill>
          <a:blip r:embed="rId1"/>
          <a:stretch/>
        </p:blipFill>
        <p:spPr>
          <a:xfrm>
            <a:off x="468360" y="907920"/>
            <a:ext cx="3024000" cy="29322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C:\Users\Елена\Desktop\фото\IMG_E7217.JPG"/>
          <p:cNvPicPr/>
          <p:nvPr/>
        </p:nvPicPr>
        <p:blipFill>
          <a:blip r:embed="rId2"/>
          <a:stretch/>
        </p:blipFill>
        <p:spPr>
          <a:xfrm>
            <a:off x="3492360" y="2349360"/>
            <a:ext cx="3784680" cy="2232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C:\Users\Елена\Desktop\фото\IMG_7222.JPG"/>
          <p:cNvPicPr/>
          <p:nvPr/>
        </p:nvPicPr>
        <p:blipFill>
          <a:blip r:embed="rId3"/>
          <a:stretch/>
        </p:blipFill>
        <p:spPr>
          <a:xfrm>
            <a:off x="7020000" y="3933720"/>
            <a:ext cx="1908000" cy="2543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47280" y="672480"/>
            <a:ext cx="7139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42560" y="1844280"/>
            <a:ext cx="345276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2" name="Picture 2" descr="Лесные ненцы"/>
          <p:cNvPicPr/>
          <p:nvPr/>
        </p:nvPicPr>
        <p:blipFill>
          <a:blip r:embed="rId1"/>
          <a:stretch/>
        </p:blipFill>
        <p:spPr>
          <a:xfrm>
            <a:off x="873000" y="0"/>
            <a:ext cx="8271000" cy="6359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86920" y="836640"/>
            <a:ext cx="727092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" descr="На Ямале с размахом отметили главный праздник северян. «Слабым оленям  иногда дают немного водки». ФОТОРЕПОРТАЖ — URA.RU"/>
          <p:cNvPicPr/>
          <p:nvPr/>
        </p:nvPicPr>
        <p:blipFill>
          <a:blip r:embed="rId1"/>
          <a:stretch/>
        </p:blipFill>
        <p:spPr>
          <a:xfrm>
            <a:off x="684360" y="692280"/>
            <a:ext cx="7910280" cy="5473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На Ямале с размахом отметили главный праздник северян. «Слабым оленям  иногда дают немного водки». ФОТОРЕПОРТАЖ — URA.RU"/>
          <p:cNvPicPr/>
          <p:nvPr/>
        </p:nvPicPr>
        <p:blipFill>
          <a:blip r:embed="rId2"/>
          <a:stretch/>
        </p:blipFill>
        <p:spPr>
          <a:xfrm>
            <a:off x="684360" y="692280"/>
            <a:ext cx="7910280" cy="5473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На Ямале с размахом отметили главный праздник северян. «Слабым оленям  иногда дают немного водки». ФОТОРЕПОРТАЖ — URA.RU"/>
          <p:cNvPicPr/>
          <p:nvPr/>
        </p:nvPicPr>
        <p:blipFill>
          <a:blip r:embed="rId3"/>
          <a:stretch/>
        </p:blipFill>
        <p:spPr>
          <a:xfrm>
            <a:off x="836640" y="844560"/>
            <a:ext cx="7910640" cy="5473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На Ямале с размахом отметили главный праздник северян. «Слабым оленям  иногда дают немного водки». ФОТОРЕПОРТАЖ — URA.RU"/>
          <p:cNvPicPr/>
          <p:nvPr/>
        </p:nvPicPr>
        <p:blipFill>
          <a:blip r:embed="rId4"/>
          <a:stretch/>
        </p:blipFill>
        <p:spPr>
          <a:xfrm>
            <a:off x="826920" y="836640"/>
            <a:ext cx="7910640" cy="5473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8469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2db9"/>
                </a:solidFill>
                <a:latin typeface="Constantia"/>
              </a:rPr>
              <a:t>Жизнь лесных ненцев</a:t>
            </a:r>
            <a:br>
              <a:rPr sz="2400"/>
            </a:br>
            <a:r>
              <a:rPr b="1" lang="ru-RU" sz="2000" spc="-1" strike="noStrike">
                <a:solidFill>
                  <a:srgbClr val="2d2db9"/>
                </a:solidFill>
                <a:latin typeface="Constantia"/>
              </a:rPr>
              <a:t>основными занятиями ненцев издавна являются охота, рыбалка, оленеводство. Они называют себя «дети оленя». Вся жизнь народа связана с оленями.</a:t>
            </a:r>
            <a:endParaRPr b="0" i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2" descr="Если запретят привлекать коренных – придется ловить настоящих браконьеров».  Почему на Ямале не удается победить браконьерство - УралПолит.Ru"/>
          <p:cNvPicPr/>
          <p:nvPr/>
        </p:nvPicPr>
        <p:blipFill>
          <a:blip r:embed="rId1"/>
          <a:stretch/>
        </p:blipFill>
        <p:spPr>
          <a:xfrm>
            <a:off x="250920" y="1557360"/>
            <a:ext cx="4118040" cy="2735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Как охотятся Коренные Народы. Ружья и ловушки. Секреты охоты на оленя,  гуся, утку, песца | Факты - YouTube"/>
          <p:cNvPicPr/>
          <p:nvPr/>
        </p:nvPicPr>
        <p:blipFill>
          <a:blip r:embed="rId2"/>
          <a:stretch/>
        </p:blipFill>
        <p:spPr>
          <a:xfrm>
            <a:off x="4067280" y="1557360"/>
            <a:ext cx="4789440" cy="2692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Бежим в лес!&quot; Коренному народу Севера грозит катастрофа - РИА Новости,  12.02.2020"/>
          <p:cNvPicPr/>
          <p:nvPr/>
        </p:nvPicPr>
        <p:blipFill>
          <a:blip r:embed="rId3"/>
          <a:stretch/>
        </p:blipFill>
        <p:spPr>
          <a:xfrm>
            <a:off x="3635280" y="4194000"/>
            <a:ext cx="2665440" cy="2664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Летние дары тундры | Пикабу"/>
          <p:cNvPicPr/>
          <p:nvPr/>
        </p:nvPicPr>
        <p:blipFill>
          <a:blip r:embed="rId4"/>
          <a:stretch/>
        </p:blipFill>
        <p:spPr>
          <a:xfrm>
            <a:off x="6804000" y="4581360"/>
            <a:ext cx="1944720" cy="1943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Ненцы культура и традиции — ненецкие узоры"/>
          <p:cNvPicPr/>
          <p:nvPr/>
        </p:nvPicPr>
        <p:blipFill>
          <a:blip r:embed="rId5"/>
          <a:stretch/>
        </p:blipFill>
        <p:spPr>
          <a:xfrm>
            <a:off x="468360" y="4581360"/>
            <a:ext cx="3024000" cy="2011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62699"/>
                </a:solidFill>
                <a:latin typeface="Constantia"/>
              </a:rPr>
              <a:t>Одежда, обувь, сумки</a:t>
            </a:r>
            <a:endParaRPr b="0" i="1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10" descr="од"/>
          <p:cNvPicPr/>
          <p:nvPr/>
        </p:nvPicPr>
        <p:blipFill>
          <a:blip r:embed="rId1"/>
          <a:stretch/>
        </p:blipFill>
        <p:spPr>
          <a:xfrm>
            <a:off x="900000" y="1052640"/>
            <a:ext cx="4579920" cy="5310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Рубаха маличная. Пяк Х.И.. &quot; Соседи. Лесные ненцы&quot;. Губкинский музей  освоения Севера. Artefact"/>
          <p:cNvPicPr/>
          <p:nvPr/>
        </p:nvPicPr>
        <p:blipFill>
          <a:blip r:embed="rId2"/>
          <a:stretch/>
        </p:blipFill>
        <p:spPr>
          <a:xfrm>
            <a:off x="5435640" y="1052640"/>
            <a:ext cx="3529080" cy="52941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2843280" y="549000"/>
            <a:ext cx="439272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2db9"/>
                </a:solidFill>
                <a:latin typeface="Constantia"/>
              </a:rPr>
              <a:t>     </a:t>
            </a:r>
            <a:r>
              <a:rPr b="1" lang="ru-RU" sz="2800" spc="-1" strike="noStrike">
                <a:solidFill>
                  <a:srgbClr val="2d2db9"/>
                </a:solidFill>
                <a:latin typeface="Constantia"/>
              </a:rPr>
              <a:t>лесных ненцев</a:t>
            </a:r>
            <a:endParaRPr b="0" i="1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8" descr="Этнографическая коллекция"/>
          <p:cNvPicPr/>
          <p:nvPr/>
        </p:nvPicPr>
        <p:blipFill>
          <a:blip r:embed="rId3"/>
          <a:stretch/>
        </p:blipFill>
        <p:spPr>
          <a:xfrm>
            <a:off x="971640" y="4581360"/>
            <a:ext cx="1152360" cy="1320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Мужской пояс (ни). Снаряжение охотника | Муниципальное бюджетное учреждение  культуры &quot;Музейный Ресурсный Центр&quot; | Ноябрьск"/>
          <p:cNvPicPr/>
          <p:nvPr/>
        </p:nvPicPr>
        <p:blipFill>
          <a:blip r:embed="rId4"/>
          <a:stretch/>
        </p:blipFill>
        <p:spPr>
          <a:xfrm>
            <a:off x="7693200" y="1052640"/>
            <a:ext cx="1234800" cy="100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2228b"/>
                </a:solidFill>
                <a:latin typeface="Times New Roman"/>
              </a:rPr>
              <a:t>Национальный костюм</a:t>
            </a:r>
            <a:endParaRPr b="0" i="1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785760" y="1483920"/>
            <a:ext cx="50720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ru-RU" sz="2100" spc="-1" strike="noStrike">
                <a:solidFill>
                  <a:srgbClr val="3333cc"/>
                </a:solidFill>
                <a:latin typeface="Franklin Gothic Medium"/>
              </a:rPr>
              <a:t>Мужская верхняя одежда </a:t>
            </a:r>
            <a:r>
              <a:rPr b="1" lang="ru-RU" sz="2100" spc="-1" strike="noStrike" u="sng">
                <a:solidFill>
                  <a:srgbClr val="3333cc"/>
                </a:solidFill>
                <a:uFillTx/>
                <a:latin typeface="Franklin Gothic Medium"/>
              </a:rPr>
              <a:t>малица</a:t>
            </a:r>
            <a:r>
              <a:rPr b="0" lang="ru-RU" sz="2100" spc="-1" strike="noStrike" u="sng">
                <a:solidFill>
                  <a:srgbClr val="3333cc"/>
                </a:solidFill>
                <a:uFillTx/>
                <a:latin typeface="Franklin Gothic Medium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Franklin Gothic Medium"/>
              </a:rPr>
              <a:t>– нательная меховая рубаха с пришитыми к ней  капюшоном и рукавицами. Она очень теплая и хорошо защищает тело и голову от холода, оставляя открытым только лицо. Она шьется и одевается мехом внутрь, к телу преимущественно из шкур молодых оленей. Для предохранения малицы от сырости и солнца с давних пор народы Севера носят поверх нее маличную рубаху из сукна разных цветов. Мастерицы украшают ее неповторимым орнаментом из разного меха, цветного сукна, бисера. </a:t>
            </a:r>
            <a:endParaRPr b="0" i="1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Text Box 6">
            <a:hlinkClick r:id="rId1" action="ppaction://hlinksldjump"/>
          </p:cNvPr>
          <p:cNvSpPr/>
          <p:nvPr/>
        </p:nvSpPr>
        <p:spPr>
          <a:xfrm>
            <a:off x="5867280" y="8143920"/>
            <a:ext cx="2590920" cy="4618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9">
            <a:hlinkClick r:id="" action="ppaction://hlinkshowjump?jump=nextslide"/>
          </p:cNvPr>
          <p:cNvSpPr/>
          <p:nvPr/>
        </p:nvSpPr>
        <p:spPr>
          <a:xfrm>
            <a:off x="1557360" y="7572240"/>
            <a:ext cx="838080" cy="285840"/>
          </a:xfrm>
          <a:custGeom>
            <a:avLst/>
            <a:gdLst>
              <a:gd name="textAreaLeft" fmla="*/ 18360 w 838080"/>
              <a:gd name="textAreaRight" fmla="*/ 819720 w 83808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63278" h="21600">
                <a:moveTo>
                  <a:pt x="0" y="0"/>
                </a:moveTo>
                <a:lnTo>
                  <a:pt x="63278" y="0"/>
                </a:lnTo>
                <a:lnTo>
                  <a:pt x="63278" y="21600"/>
                </a:lnTo>
                <a:lnTo>
                  <a:pt x="0" y="21600"/>
                </a:lnTo>
                <a:close/>
              </a:path>
              <a:path fill="lightenLess" w="63278" h="21600">
                <a:moveTo>
                  <a:pt x="0" y="0"/>
                </a:moveTo>
                <a:lnTo>
                  <a:pt x="63278" y="0"/>
                </a:lnTo>
                <a:lnTo>
                  <a:pt x="61878" y="1400"/>
                </a:lnTo>
                <a:lnTo>
                  <a:pt x="1400" y="1400"/>
                </a:lnTo>
                <a:close/>
              </a:path>
              <a:path fill="darken" w="63278" h="21600">
                <a:moveTo>
                  <a:pt x="63278" y="0"/>
                </a:moveTo>
                <a:lnTo>
                  <a:pt x="63278" y="21600"/>
                </a:lnTo>
                <a:lnTo>
                  <a:pt x="61878" y="20200"/>
                </a:lnTo>
                <a:lnTo>
                  <a:pt x="61878" y="1400"/>
                </a:lnTo>
                <a:close/>
              </a:path>
              <a:path fill="darkenLess" w="63278" h="21600">
                <a:moveTo>
                  <a:pt x="63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878" y="20200"/>
                </a:lnTo>
                <a:close/>
              </a:path>
              <a:path fill="lighten" w="63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278" h="21600">
                <a:moveTo>
                  <a:pt x="24633" y="3794"/>
                </a:moveTo>
                <a:lnTo>
                  <a:pt x="38646" y="10800"/>
                </a:lnTo>
                <a:lnTo>
                  <a:pt x="24633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7" descr="C:\Documents and Settings\Администратор\Мои документы\Мои рисунки\орнамент 004.jpg"/>
          <p:cNvPicPr/>
          <p:nvPr/>
        </p:nvPicPr>
        <p:blipFill>
          <a:blip r:embed="rId2"/>
          <a:stretch/>
        </p:blipFill>
        <p:spPr>
          <a:xfrm>
            <a:off x="285840" y="1071720"/>
            <a:ext cx="3816360" cy="52149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1262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b9"/>
                </a:solidFill>
                <a:latin typeface="Franklin Gothic Medium"/>
              </a:rPr>
              <a:t>Малица непременно подпоясывается поясом – </a:t>
            </a:r>
            <a:r>
              <a:rPr b="1" lang="ru-RU" sz="2000" spc="-1" strike="noStrike" u="sng">
                <a:solidFill>
                  <a:srgbClr val="2d2db9"/>
                </a:solidFill>
                <a:uFillTx/>
                <a:latin typeface="Franklin Gothic Medium"/>
              </a:rPr>
              <a:t>ни.</a:t>
            </a:r>
            <a:r>
              <a:rPr b="0" lang="ru-RU" sz="2000" spc="-1" strike="noStrike">
                <a:solidFill>
                  <a:srgbClr val="2d2db9"/>
                </a:solidFill>
                <a:latin typeface="Franklin Gothic Medium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2d2db9"/>
                </a:solidFill>
                <a:latin typeface="Franklin Gothic Medium"/>
              </a:rPr>
              <a:t>Его делают из кожи. Снаружи обшивают сукном.</a:t>
            </a:r>
            <a:endParaRPr b="0" i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0" name="Picture 2" descr="Традиционная ненецкая одежда&quot; - изо, презентации"/>
          <p:cNvPicPr/>
          <p:nvPr/>
        </p:nvPicPr>
        <p:blipFill>
          <a:blip r:embed="rId1"/>
          <a:stretch/>
        </p:blipFill>
        <p:spPr>
          <a:xfrm>
            <a:off x="1619280" y="1700280"/>
            <a:ext cx="6527880" cy="48956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285840" y="428400"/>
            <a:ext cx="48578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i="1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Franklin Gothic Medium"/>
              </a:rPr>
              <a:t>В стужу, в пургу и при поездках на дальние расстояния поверх малицы надевают меховой </a:t>
            </a:r>
            <a:r>
              <a:rPr b="0" i="1" lang="ru-RU" sz="2200" spc="-1" strike="noStrike" u="sng">
                <a:solidFill>
                  <a:srgbClr val="22228b"/>
                </a:solidFill>
                <a:uFillTx/>
                <a:latin typeface="Franklin Gothic Medium"/>
              </a:rPr>
              <a:t>совик.</a:t>
            </a:r>
            <a:r>
              <a:rPr b="0" lang="ru-RU" sz="2200" spc="-1" strike="noStrike">
                <a:solidFill>
                  <a:srgbClr val="000000"/>
                </a:solidFill>
                <a:latin typeface="Franklin Gothic Medium"/>
              </a:rPr>
              <a:t> Его капюшон обрамляется опушкой из песцовых хвостов. Совик бывает обычно белого цвета, но иногда его делают черно-белым, в шахматную клетку. </a:t>
            </a:r>
            <a:endParaRPr b="0" i="1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ranklin Gothic Medium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Franklin Gothic Medium"/>
              </a:rPr>
              <a:t>Совик называли словом </a:t>
            </a:r>
            <a:r>
              <a:rPr b="0" i="1" lang="ru-RU" sz="2200" spc="-1" strike="noStrike" u="sng">
                <a:solidFill>
                  <a:srgbClr val="22228b"/>
                </a:solidFill>
                <a:uFillTx/>
                <a:latin typeface="Franklin Gothic Medium"/>
              </a:rPr>
              <a:t>«гусь», </a:t>
            </a:r>
            <a:r>
              <a:rPr b="0" lang="ru-RU" sz="2200" spc="-1" strike="noStrike">
                <a:solidFill>
                  <a:srgbClr val="000000"/>
                </a:solidFill>
                <a:latin typeface="Franklin Gothic Medium"/>
              </a:rPr>
              <a:t>Совик был снабжен пришивным капюшоном, но не имел рукавиц. </a:t>
            </a:r>
            <a:endParaRPr b="0" i="1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AutoShape 4">
            <a:hlinkClick r:id="" action="ppaction://hlinkshowjump?jump=nextslide"/>
          </p:cNvPr>
          <p:cNvSpPr/>
          <p:nvPr/>
        </p:nvSpPr>
        <p:spPr>
          <a:xfrm>
            <a:off x="1557360" y="7715160"/>
            <a:ext cx="838080" cy="214560"/>
          </a:xfrm>
          <a:custGeom>
            <a:avLst/>
            <a:gdLst>
              <a:gd name="textAreaLeft" fmla="*/ 13680 w 838080"/>
              <a:gd name="textAreaRight" fmla="*/ 824400 w 8380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84265" h="21600">
                <a:moveTo>
                  <a:pt x="0" y="0"/>
                </a:moveTo>
                <a:lnTo>
                  <a:pt x="84265" y="0"/>
                </a:lnTo>
                <a:lnTo>
                  <a:pt x="84265" y="21600"/>
                </a:lnTo>
                <a:lnTo>
                  <a:pt x="0" y="21600"/>
                </a:lnTo>
                <a:close/>
              </a:path>
              <a:path fill="lightenLess" w="84265" h="21600">
                <a:moveTo>
                  <a:pt x="0" y="0"/>
                </a:moveTo>
                <a:lnTo>
                  <a:pt x="84265" y="0"/>
                </a:lnTo>
                <a:lnTo>
                  <a:pt x="82865" y="1400"/>
                </a:lnTo>
                <a:lnTo>
                  <a:pt x="1400" y="1400"/>
                </a:lnTo>
                <a:close/>
              </a:path>
              <a:path fill="darken" w="84265" h="21600">
                <a:moveTo>
                  <a:pt x="84265" y="0"/>
                </a:moveTo>
                <a:lnTo>
                  <a:pt x="84265" y="21600"/>
                </a:lnTo>
                <a:lnTo>
                  <a:pt x="82865" y="20200"/>
                </a:lnTo>
                <a:lnTo>
                  <a:pt x="82865" y="1400"/>
                </a:lnTo>
                <a:close/>
              </a:path>
              <a:path fill="darkenLess" w="84265" h="21600">
                <a:moveTo>
                  <a:pt x="842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865" y="20200"/>
                </a:lnTo>
                <a:close/>
              </a:path>
              <a:path fill="lighten" w="842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4265" h="21600">
                <a:moveTo>
                  <a:pt x="35126" y="3794"/>
                </a:moveTo>
                <a:lnTo>
                  <a:pt x="49139" y="10800"/>
                </a:lnTo>
                <a:lnTo>
                  <a:pt x="35126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5">
            <a:hlinkClick r:id="" action="ppaction://hlinkshowjump?jump=previousslide"/>
          </p:cNvPr>
          <p:cNvSpPr/>
          <p:nvPr/>
        </p:nvSpPr>
        <p:spPr>
          <a:xfrm>
            <a:off x="1071720" y="8072280"/>
            <a:ext cx="838080" cy="38124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7459" h="21600">
                <a:moveTo>
                  <a:pt x="0" y="0"/>
                </a:moveTo>
                <a:lnTo>
                  <a:pt x="47459" y="0"/>
                </a:lnTo>
                <a:lnTo>
                  <a:pt x="47459" y="21600"/>
                </a:lnTo>
                <a:lnTo>
                  <a:pt x="0" y="21600"/>
                </a:lnTo>
                <a:close/>
              </a:path>
              <a:path fill="lightenLess" w="47459" h="21600">
                <a:moveTo>
                  <a:pt x="0" y="0"/>
                </a:moveTo>
                <a:lnTo>
                  <a:pt x="47459" y="0"/>
                </a:lnTo>
                <a:lnTo>
                  <a:pt x="46059" y="1400"/>
                </a:lnTo>
                <a:lnTo>
                  <a:pt x="1400" y="1400"/>
                </a:lnTo>
                <a:close/>
              </a:path>
              <a:path fill="darken" w="47459" h="21600">
                <a:moveTo>
                  <a:pt x="47459" y="0"/>
                </a:moveTo>
                <a:lnTo>
                  <a:pt x="47459" y="21600"/>
                </a:lnTo>
                <a:lnTo>
                  <a:pt x="46059" y="20200"/>
                </a:lnTo>
                <a:lnTo>
                  <a:pt x="46059" y="1400"/>
                </a:lnTo>
                <a:close/>
              </a:path>
              <a:path fill="darkenLess" w="47459" h="21600">
                <a:moveTo>
                  <a:pt x="47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59" y="20200"/>
                </a:lnTo>
                <a:close/>
              </a:path>
              <a:path fill="lighten" w="47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59" h="21600">
                <a:moveTo>
                  <a:pt x="16723" y="10800"/>
                </a:moveTo>
                <a:lnTo>
                  <a:pt x="30736" y="3794"/>
                </a:lnTo>
                <a:lnTo>
                  <a:pt x="30736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">
            <a:hlinkClick r:id="rId1" action="ppaction://hlinksldjump"/>
          </p:cNvPr>
          <p:cNvSpPr/>
          <p:nvPr/>
        </p:nvSpPr>
        <p:spPr>
          <a:xfrm flipV="1">
            <a:off x="3348000" y="7549560"/>
            <a:ext cx="2590920" cy="4618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18" descr="сокуй"/>
          <p:cNvPicPr/>
          <p:nvPr/>
        </p:nvPicPr>
        <p:blipFill>
          <a:blip r:embed="rId2"/>
          <a:stretch/>
        </p:blipFill>
        <p:spPr>
          <a:xfrm>
            <a:off x="5286240" y="642960"/>
            <a:ext cx="3643560" cy="53276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4608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i="1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052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052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2d2db9"/>
                </a:solidFill>
                <a:latin typeface="Franklin Gothic Medium"/>
              </a:rPr>
              <a:t>     </a:t>
            </a:r>
            <a:r>
              <a:rPr b="0" lang="ru-RU" sz="2100" spc="-1" strike="noStrike">
                <a:solidFill>
                  <a:srgbClr val="2d2db9"/>
                </a:solidFill>
                <a:latin typeface="Franklin Gothic Medium"/>
              </a:rPr>
              <a:t>распашная шуба</a:t>
            </a:r>
            <a:r>
              <a:rPr b="0" i="1" lang="ru-RU" sz="2100" spc="-1" strike="noStrike">
                <a:solidFill>
                  <a:srgbClr val="2d2db9"/>
                </a:solidFill>
                <a:latin typeface="Franklin Gothic Medium"/>
              </a:rPr>
              <a:t> – </a:t>
            </a:r>
            <a:r>
              <a:rPr b="1" i="1" lang="ru-RU" sz="2100" spc="-1" strike="noStrike" u="sng">
                <a:solidFill>
                  <a:srgbClr val="2d2db9"/>
                </a:solidFill>
                <a:uFillTx/>
                <a:latin typeface="Franklin Gothic Medium"/>
              </a:rPr>
              <a:t>паны</a:t>
            </a:r>
            <a:r>
              <a:rPr b="1" i="1" lang="ru-RU" sz="2100" spc="-1" strike="noStrike" u="sng">
                <a:solidFill>
                  <a:srgbClr val="22228b"/>
                </a:solidFill>
                <a:uFillTx/>
                <a:latin typeface="Franklin Gothic Medium"/>
              </a:rPr>
              <a:t>.</a:t>
            </a:r>
            <a:endParaRPr b="0" i="1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3052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Franklin Gothic Medium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Franklin Gothic Medium"/>
              </a:rPr>
              <a:t>К рукавам пришивают рукавицы. Украшают паны меховой мозаикой, кистями и кантами из цветного сукна. Полы шубы завязываются шнурками. Русские раньше называли этот тип женской одежды  – </a:t>
            </a:r>
            <a:r>
              <a:rPr b="1" i="1" lang="ru-RU" sz="2100" spc="-1" strike="noStrike" u="sng">
                <a:solidFill>
                  <a:srgbClr val="22228b"/>
                </a:solidFill>
                <a:uFillTx/>
                <a:latin typeface="Franklin Gothic Medium"/>
              </a:rPr>
              <a:t>яга</a:t>
            </a:r>
            <a:r>
              <a:rPr b="0" i="1" lang="ru-RU" sz="2100" spc="-1" strike="noStrike">
                <a:solidFill>
                  <a:srgbClr val="22228b"/>
                </a:solidFill>
                <a:latin typeface="Franklin Gothic Medium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Franklin Gothic Medium"/>
              </a:rPr>
              <a:t>или </a:t>
            </a:r>
            <a:r>
              <a:rPr b="1" i="1" lang="ru-RU" sz="2100" spc="-1" strike="noStrike" u="sng">
                <a:solidFill>
                  <a:srgbClr val="22228b"/>
                </a:solidFill>
                <a:uFillTx/>
                <a:latin typeface="Franklin Gothic Medium"/>
              </a:rPr>
              <a:t>ягушка</a:t>
            </a:r>
            <a:r>
              <a:rPr b="0" i="1" lang="ru-RU" sz="2100" spc="-1" strike="noStrike" u="sng">
                <a:solidFill>
                  <a:srgbClr val="22228b"/>
                </a:solidFill>
                <a:uFillTx/>
                <a:latin typeface="Franklin Gothic Medium"/>
              </a:rPr>
              <a:t>.</a:t>
            </a:r>
            <a:r>
              <a:rPr b="0" lang="ru-RU" sz="21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i="1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3052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Franklin Gothic Medium"/>
              </a:rPr>
              <a:t>Верхнюю одежду подпоясывают длинными поясами из ткани, богато украшенными медью и кисточками. </a:t>
            </a:r>
            <a:endParaRPr b="0" i="1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3052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endParaRPr b="0" i="1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052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endParaRPr b="0" i="1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Text Box 6">
            <a:hlinkClick r:id="rId1" action="ppaction://hlinksldjump"/>
          </p:cNvPr>
          <p:cNvSpPr/>
          <p:nvPr/>
        </p:nvSpPr>
        <p:spPr>
          <a:xfrm>
            <a:off x="5867280" y="7402680"/>
            <a:ext cx="2590920" cy="8254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Завершить рабо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8">
            <a:hlinkClick r:id="" action="ppaction://hlinkshowjump?jump=nextslide"/>
          </p:cNvPr>
          <p:cNvSpPr/>
          <p:nvPr/>
        </p:nvSpPr>
        <p:spPr>
          <a:xfrm flipV="1">
            <a:off x="1557360" y="7572240"/>
            <a:ext cx="838080" cy="571680"/>
          </a:xfrm>
          <a:custGeom>
            <a:avLst/>
            <a:gdLst>
              <a:gd name="textAreaLeft" fmla="*/ 36720 w 838080"/>
              <a:gd name="textAreaRight" fmla="*/ 801360 w 8380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31659" h="21600">
                <a:moveTo>
                  <a:pt x="0" y="0"/>
                </a:moveTo>
                <a:lnTo>
                  <a:pt x="31659" y="0"/>
                </a:lnTo>
                <a:lnTo>
                  <a:pt x="31659" y="21600"/>
                </a:lnTo>
                <a:lnTo>
                  <a:pt x="0" y="21600"/>
                </a:lnTo>
                <a:close/>
              </a:path>
              <a:path fill="lightenLess" w="31659" h="21600">
                <a:moveTo>
                  <a:pt x="0" y="0"/>
                </a:moveTo>
                <a:lnTo>
                  <a:pt x="31659" y="0"/>
                </a:lnTo>
                <a:lnTo>
                  <a:pt x="30259" y="1400"/>
                </a:lnTo>
                <a:lnTo>
                  <a:pt x="1400" y="1400"/>
                </a:lnTo>
                <a:close/>
              </a:path>
              <a:path fill="darken" w="31659" h="21600">
                <a:moveTo>
                  <a:pt x="31659" y="0"/>
                </a:moveTo>
                <a:lnTo>
                  <a:pt x="31659" y="21600"/>
                </a:lnTo>
                <a:lnTo>
                  <a:pt x="30259" y="20200"/>
                </a:lnTo>
                <a:lnTo>
                  <a:pt x="30259" y="1400"/>
                </a:lnTo>
                <a:close/>
              </a:path>
              <a:path fill="darkenLess" w="31659" h="21600">
                <a:moveTo>
                  <a:pt x="316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259" y="20200"/>
                </a:lnTo>
                <a:close/>
              </a:path>
              <a:path fill="lighten" w="316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659" h="21600">
                <a:moveTo>
                  <a:pt x="8823" y="3794"/>
                </a:moveTo>
                <a:lnTo>
                  <a:pt x="22836" y="10800"/>
                </a:lnTo>
                <a:lnTo>
                  <a:pt x="8823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9">
            <a:hlinkClick r:id="" action="ppaction://hlinkshowjump?jump=previousslide"/>
          </p:cNvPr>
          <p:cNvSpPr/>
          <p:nvPr/>
        </p:nvSpPr>
        <p:spPr>
          <a:xfrm flipV="1">
            <a:off x="755640" y="7571520"/>
            <a:ext cx="838080" cy="142920"/>
          </a:xfrm>
          <a:custGeom>
            <a:avLst/>
            <a:gdLst>
              <a:gd name="textAreaLeft" fmla="*/ 9000 w 838080"/>
              <a:gd name="textAreaRight" fmla="*/ 829080 w 83808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126398" h="21600">
                <a:moveTo>
                  <a:pt x="0" y="0"/>
                </a:moveTo>
                <a:lnTo>
                  <a:pt x="126398" y="0"/>
                </a:lnTo>
                <a:lnTo>
                  <a:pt x="126398" y="21600"/>
                </a:lnTo>
                <a:lnTo>
                  <a:pt x="0" y="21600"/>
                </a:lnTo>
                <a:close/>
              </a:path>
              <a:path fill="lightenLess" w="126398" h="21600">
                <a:moveTo>
                  <a:pt x="0" y="0"/>
                </a:moveTo>
                <a:lnTo>
                  <a:pt x="126398" y="0"/>
                </a:lnTo>
                <a:lnTo>
                  <a:pt x="124998" y="1400"/>
                </a:lnTo>
                <a:lnTo>
                  <a:pt x="1400" y="1400"/>
                </a:lnTo>
                <a:close/>
              </a:path>
              <a:path fill="darken" w="126398" h="21600">
                <a:moveTo>
                  <a:pt x="126398" y="0"/>
                </a:moveTo>
                <a:lnTo>
                  <a:pt x="126398" y="21600"/>
                </a:lnTo>
                <a:lnTo>
                  <a:pt x="124998" y="20200"/>
                </a:lnTo>
                <a:lnTo>
                  <a:pt x="124998" y="1400"/>
                </a:lnTo>
                <a:close/>
              </a:path>
              <a:path fill="darkenLess" w="126398" h="21600">
                <a:moveTo>
                  <a:pt x="126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4998" y="20200"/>
                </a:lnTo>
                <a:close/>
              </a:path>
              <a:path fill="lighten" w="126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6398" h="21600">
                <a:moveTo>
                  <a:pt x="56193" y="10800"/>
                </a:moveTo>
                <a:lnTo>
                  <a:pt x="70205" y="3794"/>
                </a:lnTo>
                <a:lnTo>
                  <a:pt x="70205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71280" y="836280"/>
            <a:ext cx="439236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d2db9"/>
                </a:solidFill>
                <a:latin typeface="Franklin Gothic Medium"/>
              </a:rPr>
              <a:t>Женской одеждой является</a:t>
            </a:r>
            <a:endParaRPr b="0" i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11" descr="Проект &quot;Ненецкие орнаменты&quot; 5 класс"/>
          <p:cNvPicPr/>
          <p:nvPr/>
        </p:nvPicPr>
        <p:blipFill>
          <a:blip r:embed="rId2"/>
          <a:stretch/>
        </p:blipFill>
        <p:spPr>
          <a:xfrm>
            <a:off x="5364000" y="907920"/>
            <a:ext cx="3286440" cy="42498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Пояс в жизни ненца. Сакральное"/>
          <p:cNvPicPr/>
          <p:nvPr/>
        </p:nvPicPr>
        <p:blipFill>
          <a:blip r:embed="rId3"/>
          <a:stretch/>
        </p:blipFill>
        <p:spPr>
          <a:xfrm>
            <a:off x="2843280" y="4653000"/>
            <a:ext cx="1717560" cy="18716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95640" y="274680"/>
            <a:ext cx="5689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Constantia"/>
              </a:rPr>
              <a:t>Женский головной убор</a:t>
            </a:r>
            <a:endParaRPr b="0" i="1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384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Medium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Franklin Gothic Medium"/>
              </a:rPr>
              <a:t>Женский головной убор – меховой капор </a:t>
            </a:r>
            <a:r>
              <a:rPr b="0" i="1" lang="ru-RU" sz="2400" spc="-1" strike="noStrike" u="sng">
                <a:solidFill>
                  <a:srgbClr val="22228b"/>
                </a:solidFill>
                <a:uFillTx/>
                <a:latin typeface="Franklin Gothic Medium"/>
              </a:rPr>
              <a:t>сава</a:t>
            </a:r>
            <a:r>
              <a:rPr b="0" lang="ru-RU" sz="2400" spc="-1" strike="noStrike">
                <a:solidFill>
                  <a:srgbClr val="000000"/>
                </a:solidFill>
                <a:latin typeface="Franklin Gothic Medium"/>
              </a:rPr>
              <a:t> шьется отдельно и не скрепляется с шубой.</a:t>
            </a:r>
            <a:endParaRPr b="0" i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724360" y="2205000"/>
            <a:ext cx="2448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6" name="Picture 2" descr="Виртуальная выставка «Зимняя женская ягушка» 2021, Тазовский район — дата и  место проведения, программа мероприятия."/>
          <p:cNvPicPr/>
          <p:nvPr/>
        </p:nvPicPr>
        <p:blipFill>
          <a:blip r:embed="rId1"/>
          <a:stretch/>
        </p:blipFill>
        <p:spPr>
          <a:xfrm>
            <a:off x="611280" y="3284640"/>
            <a:ext cx="4268520" cy="2881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Проект &quot;Традиционная одежда ненцев&quot;"/>
          <p:cNvPicPr/>
          <p:nvPr/>
        </p:nvPicPr>
        <p:blipFill>
          <a:blip r:embed="rId2"/>
          <a:stretch/>
        </p:blipFill>
        <p:spPr>
          <a:xfrm>
            <a:off x="5292720" y="1916280"/>
            <a:ext cx="3044880" cy="3960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17:16:10Z</dcterms:created>
  <dc:creator>Admin</dc:creator>
  <dc:description/>
  <dc:language>en-US</dc:language>
  <cp:lastModifiedBy>Елена</cp:lastModifiedBy>
  <dcterms:modified xsi:type="dcterms:W3CDTF">2021-04-06T09:50:55Z</dcterms:modified>
  <cp:revision>117</cp:revision>
  <dc:subject/>
  <dc:title>Your Title Here…</dc:title>
</cp:coreProperties>
</file>