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0.png" ContentType="image/png"/>
  <Override PartName="/ppt/media/image36.png" ContentType="image/png"/>
  <Override PartName="/ppt/media/image4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7043-0566-4E8A-A639-2638C2A20D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3751-6EC4-47E4-BFAB-2AB8A739D8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5B6-5199-48E3-88F5-224C7E6C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B4F-97BD-434A-90A6-E0B940BC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AF2-4AC0-4CBE-AED3-E31B4AAA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1FE-D828-4438-B8B3-F79060D6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54A3-E745-45AF-88BD-F73A8057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1794-FDB6-4CF1-8C77-F61D4A7D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A07C-8D2B-436C-ABE3-480FFF8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68AB-0167-4C71-810C-8B3839E2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EDB9-D037-4AE7-9EB3-F2C2FD92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8A81-6CCA-48CD-AE1A-F70BC8EC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AED3-AD6D-461E-B303-E759B975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333-2702-4E9B-8DBA-4F6182D8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B357-E1F6-42D3-83C6-E2F41D1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4911-926D-4D5A-8D06-F4B11C7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9937-C039-455B-8881-81011CE4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0D22-133D-4927-92FA-00E11F6B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2DA3-4476-48EB-8ED8-39D6583A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D958-91A3-4276-9F6C-E72E5E45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7490-E1E6-4B21-8FF3-91B07B18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4345-069C-44FF-9680-E7028E1B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90ED-FF35-4284-8E43-7E54BD75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FABF-67E7-4E67-B142-00DA6951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DA3-D119-4CFA-B5F1-2F9F8B65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C3FB-B616-4033-9F56-9AE37784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F933-9F08-4B9D-B6E0-5799EE7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276F-3600-4230-9C50-1A68037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7792-E426-4A05-B139-47D4375E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4B7A-3AF5-40C6-83E3-7B39794A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1A6F-7E1B-4B5C-9AC3-6423194D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6752-C0E5-464A-9FD5-81DA7032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B4F6-4610-46AD-92B9-82C5F2C5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4537A-B913-43EC-BBA1-CF8438E3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FA48-560C-49FD-AEE0-F8284D3E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7F0-5D0A-4D8C-A0E2-FE80685D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8543-87C6-4298-A371-F6D3ECA8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5EE3B-9AC6-4D75-9D7A-2A9D0F8D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B6318-DABE-450C-9EB6-88935613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A664E-EA48-4FB4-B0C2-5AA4736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C3CF-72EE-4652-BB64-AE89B1E1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79AA-6662-4182-95DC-9E1E2363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B1E19-5872-4A22-83D8-318A7848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E552-B312-4AEB-AC05-683B5D62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37CBD-D3A4-4523-BB35-79E7FAF3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4395-7884-442B-81D7-C2849BA1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FBE-1717-4E8A-9265-E19CCFE0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CF5F-1D16-42D5-9DDD-0E2563FB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545D8-41DD-4B00-BDA9-283E4AFF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A992-04C0-4246-B27E-8112D667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C404A-C8BA-45B0-B803-1BA34C8D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98ABC-1D9F-4C2B-B75F-64FFD934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F742-8BA7-4C12-B696-2A3F83D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82C5-94F6-4083-8C97-27591EC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8FEE-BDD8-4E8D-8EFB-A02F0B4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F211-64E1-4AE1-81A1-155DDBB1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CB899-36E6-427D-9D5F-0D911879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5B9-9550-48CE-BCCE-D7120202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92CCA-B063-405D-B592-51FF69D2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BF8-B2E7-4EAB-9500-CD9B08D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4A2-4273-4F53-B93B-77417A11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9DE-CD2E-4442-AB8A-95E66C8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B2DB-4943-4871-B98F-A62412570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4003-777C-464C-8E43-2DE935F834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6217-393F-4195-BC34-9C393639D7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1543-8E8B-477D-8149-78309AC802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2804-BDDE-4705-9834-1F896BA453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14360"/>
            <a:ext cx="7772400" cy="36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262699"/>
                </a:solidFill>
                <a:latin typeface="Constantia"/>
              </a:rPr>
              <a:t>Народное искусство </a:t>
            </a:r>
            <a:br>
              <a:rPr sz="4000"/>
            </a:br>
            <a:r>
              <a:rPr b="1" i="1" lang="ru-RU" sz="4000" spc="-1" strike="noStrike">
                <a:solidFill>
                  <a:srgbClr val="262699"/>
                </a:solidFill>
                <a:latin typeface="Constantia"/>
              </a:rPr>
              <a:t>ненцев.</a:t>
            </a:r>
            <a:br>
              <a:rPr sz="4000"/>
            </a:br>
            <a:br>
              <a:rPr sz="4000"/>
            </a:br>
            <a:r>
              <a:rPr b="1" lang="ru-RU" sz="1800" spc="-1" strike="noStrike">
                <a:solidFill>
                  <a:srgbClr val="262699"/>
                </a:solidFill>
                <a:latin typeface="Constantia"/>
              </a:rPr>
              <a:t>Презентацию выполнила  Киселева Елена Ивановна, </a:t>
            </a:r>
            <a:br>
              <a:rPr sz="1800"/>
            </a:br>
            <a:r>
              <a:rPr b="1" lang="ru-RU" sz="1800" spc="-1" strike="noStrike">
                <a:solidFill>
                  <a:srgbClr val="262699"/>
                </a:solidFill>
                <a:latin typeface="Constantia"/>
              </a:rPr>
              <a:t>воспитатель МАДОУ «Русалочка»</a:t>
            </a:r>
            <a:br>
              <a:rPr sz="1800"/>
            </a:br>
            <a:r>
              <a:rPr b="1" lang="ru-RU" sz="1800" spc="-1" strike="noStrike">
                <a:solidFill>
                  <a:srgbClr val="262699"/>
                </a:solidFill>
                <a:latin typeface="Constantia"/>
              </a:rPr>
              <a:t>г. Губкинский </a:t>
            </a:r>
            <a:br>
              <a:rPr sz="1800"/>
            </a:br>
            <a:r>
              <a:rPr b="1" lang="ru-RU" sz="1800" spc="-1" strike="noStrike">
                <a:solidFill>
                  <a:srgbClr val="262699"/>
                </a:solidFill>
                <a:latin typeface="Constantia"/>
              </a:rPr>
              <a:t>2021 г.</a:t>
            </a:r>
            <a:endParaRPr b="0" i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0" descr="Фрагменты суконного орнамента. Вылло Ф.Т.. &quot; Соседи. Лесные ненцы&quot;.  Губкинский музей освоения Севера. Artefact"/>
          <p:cNvPicPr/>
          <p:nvPr/>
        </p:nvPicPr>
        <p:blipFill>
          <a:blip r:embed="rId2"/>
          <a:stretch/>
        </p:blipFill>
        <p:spPr>
          <a:xfrm>
            <a:off x="1187280" y="26028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Рыбьи хвосты» и «заячьи ушки». Как уловить зашифрованный смысл ненецких  орнаментов? – Новости Салехарда и ЯНАО – Вести. Ямал. Актуальные новости  Ямала"/>
          <p:cNvPicPr/>
          <p:nvPr/>
        </p:nvPicPr>
        <p:blipFill>
          <a:blip r:embed="rId3"/>
          <a:stretch/>
        </p:blipFill>
        <p:spPr>
          <a:xfrm>
            <a:off x="4500720" y="260280"/>
            <a:ext cx="3527280" cy="2119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d2db9"/>
                </a:solidFill>
                <a:latin typeface="Constantia"/>
              </a:rPr>
              <a:t>Ненецкие танцы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12" descr="Коллектив «Хаяр» представил Ненецкий округ на фестивале в Норвегии"/>
          <p:cNvPicPr/>
          <p:nvPr/>
        </p:nvPicPr>
        <p:blipFill>
          <a:blip r:embed="rId1"/>
          <a:stretch/>
        </p:blipFill>
        <p:spPr>
          <a:xfrm>
            <a:off x="4067280" y="4221000"/>
            <a:ext cx="4876560" cy="225756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8" descr="Новости : Дом дружбы народов Красноярского края"/>
          <p:cNvPicPr/>
          <p:nvPr/>
        </p:nvPicPr>
        <p:blipFill>
          <a:blip r:embed="rId2"/>
          <a:stretch/>
        </p:blipFill>
        <p:spPr>
          <a:xfrm>
            <a:off x="5292720" y="1557360"/>
            <a:ext cx="3529080" cy="259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" descr="Департамент образования, культуры и спорта Ненецкого автономного округа |  Новости"/>
          <p:cNvPicPr/>
          <p:nvPr/>
        </p:nvPicPr>
        <p:blipFill>
          <a:blip r:embed="rId3"/>
          <a:stretch/>
        </p:blipFill>
        <p:spPr>
          <a:xfrm>
            <a:off x="900000" y="1557360"/>
            <a:ext cx="3888000" cy="2592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Юность Севера в сердце моем | Общественно-политическая газета Ненецкого АО  - Няръяна вындер"/>
          <p:cNvPicPr/>
          <p:nvPr/>
        </p:nvPicPr>
        <p:blipFill>
          <a:blip r:embed="rId4"/>
          <a:stretch/>
        </p:blipFill>
        <p:spPr>
          <a:xfrm>
            <a:off x="611280" y="4221000"/>
            <a:ext cx="3352680" cy="2232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Орнаменты лесных ненцев</a:t>
            </a:r>
            <a:br>
              <a:rPr sz="3600"/>
            </a:br>
            <a:r>
              <a:rPr b="1" i="1" lang="ru-RU" sz="2000" spc="-1" strike="noStrike">
                <a:solidFill>
                  <a:srgbClr val="3333cc"/>
                </a:solidFill>
                <a:latin typeface="Constantia"/>
              </a:rPr>
              <a:t>У ненцев  встречаются орнаментальные мотивы, отдельно напоминающие фигурки зверей, птиц, людей, растений.</a:t>
            </a:r>
            <a:br>
              <a:rPr sz="2000"/>
            </a:br>
            <a:r>
              <a:rPr b="1" i="1" lang="ru-RU" sz="2000" spc="-1" strike="noStrike">
                <a:solidFill>
                  <a:srgbClr val="3333cc"/>
                </a:solidFill>
                <a:latin typeface="Constantia"/>
              </a:rPr>
              <a:t>Попробуйте угадать, как называется такой орнамент?</a:t>
            </a:r>
            <a:br>
              <a:rPr sz="3600"/>
            </a:br>
            <a:endParaRPr b="0" i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38844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7960" y="2421000"/>
            <a:ext cx="38113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7960" y="3938760"/>
            <a:ext cx="366876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2" descr="Исследовательская работа &quot;Секреты ненецкого орнамента&quot;"/>
          <p:cNvPicPr/>
          <p:nvPr/>
        </p:nvPicPr>
        <p:blipFill>
          <a:blip r:embed="rId1"/>
          <a:stretch/>
        </p:blipFill>
        <p:spPr>
          <a:xfrm>
            <a:off x="4716360" y="2060640"/>
            <a:ext cx="1938600" cy="1512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Users\Елена\Desktop\IMG_7193.JPG"/>
          <p:cNvPicPr/>
          <p:nvPr/>
        </p:nvPicPr>
        <p:blipFill>
          <a:blip r:embed="rId2"/>
          <a:stretch/>
        </p:blipFill>
        <p:spPr>
          <a:xfrm>
            <a:off x="0" y="1916280"/>
            <a:ext cx="4753080" cy="4752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Кто в теремочке живёт? На фестивале РГО появится многонациональная деревня  | Русское географическое общество"/>
          <p:cNvPicPr/>
          <p:nvPr/>
        </p:nvPicPr>
        <p:blipFill>
          <a:blip r:embed="rId3"/>
          <a:stretch/>
        </p:blipFill>
        <p:spPr>
          <a:xfrm>
            <a:off x="6864480" y="3716280"/>
            <a:ext cx="2279520" cy="1657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Как и кто будет спасать лосей от машин под Петербургом"/>
          <p:cNvPicPr/>
          <p:nvPr/>
        </p:nvPicPr>
        <p:blipFill>
          <a:blip r:embed="rId4"/>
          <a:stretch/>
        </p:blipFill>
        <p:spPr>
          <a:xfrm>
            <a:off x="4859280" y="3573360"/>
            <a:ext cx="2160720" cy="1440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13" descr="Обои Взлетающая красивая утка на рабочий стол"/>
          <p:cNvPicPr/>
          <p:nvPr/>
        </p:nvPicPr>
        <p:blipFill>
          <a:blip r:embed="rId5"/>
          <a:stretch/>
        </p:blipFill>
        <p:spPr>
          <a:xfrm>
            <a:off x="6732720" y="1844640"/>
            <a:ext cx="2124000" cy="1560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Кто такие ненцы и где они проживают. Где живут ненцы"/>
          <p:cNvPicPr/>
          <p:nvPr/>
        </p:nvPicPr>
        <p:blipFill>
          <a:blip r:embed="rId6"/>
          <a:stretch/>
        </p:blipFill>
        <p:spPr>
          <a:xfrm>
            <a:off x="4932360" y="5084640"/>
            <a:ext cx="2376360" cy="1582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39640" y="260280"/>
            <a:ext cx="61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d2db9"/>
                </a:solidFill>
                <a:latin typeface="Constantia"/>
              </a:rPr>
              <a:t>Амулет - оберег, предмет, который приносит счастье и уберегает от потерь </a:t>
            </a:r>
            <a:endParaRPr b="0" i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539640" y="0"/>
            <a:ext cx="1728720" cy="2303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Елена\Desktop\фото\IMG_7179.JPG"/>
          <p:cNvPicPr/>
          <p:nvPr/>
        </p:nvPicPr>
        <p:blipFill>
          <a:blip r:embed="rId2"/>
          <a:stretch/>
        </p:blipFill>
        <p:spPr>
          <a:xfrm>
            <a:off x="4716360" y="1268280"/>
            <a:ext cx="3527640" cy="5308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Амулет оберег - Космический талисман удачи – купить на Ярмарке Мастеров –  KNNFYRU | Оберег, Москва"/>
          <p:cNvPicPr/>
          <p:nvPr/>
        </p:nvPicPr>
        <p:blipFill>
          <a:blip r:embed="rId3"/>
          <a:stretch/>
        </p:blipFill>
        <p:spPr>
          <a:xfrm>
            <a:off x="2700360" y="206064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Амулеты с солнцем — значение славянского оберега Ярило и талисманов с  солнцем других культур"/>
          <p:cNvPicPr/>
          <p:nvPr/>
        </p:nvPicPr>
        <p:blipFill>
          <a:blip r:embed="rId4"/>
          <a:stretch/>
        </p:blipFill>
        <p:spPr>
          <a:xfrm>
            <a:off x="539640" y="2708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Амулет богатства от бабы Нины оптом - купить оптом по выгодной цене |  «Тренд-опт»"/>
          <p:cNvPicPr/>
          <p:nvPr/>
        </p:nvPicPr>
        <p:blipFill>
          <a:blip r:embed="rId5"/>
          <a:stretch/>
        </p:blipFill>
        <p:spPr>
          <a:xfrm>
            <a:off x="2627280" y="414972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Пояс в жизни ненца. Сакральное"/>
          <p:cNvPicPr/>
          <p:nvPr/>
        </p:nvPicPr>
        <p:blipFill>
          <a:blip r:embed="rId6"/>
          <a:stretch/>
        </p:blipFill>
        <p:spPr>
          <a:xfrm>
            <a:off x="539640" y="501336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2" descr="C:\Users\Елена\Desktop\фото\IMG_7223.PNG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800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99128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d2db9"/>
                </a:solidFill>
                <a:latin typeface="Constantia"/>
              </a:rPr>
              <a:t>Поэтапное изготовление амулета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2" descr="C:\Users\Елена\Desktop\фото\IMG_E7219.JPG"/>
          <p:cNvPicPr/>
          <p:nvPr/>
        </p:nvPicPr>
        <p:blipFill>
          <a:blip r:embed="rId1"/>
          <a:stretch/>
        </p:blipFill>
        <p:spPr>
          <a:xfrm>
            <a:off x="684360" y="2276640"/>
            <a:ext cx="3678120" cy="2665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Users\Елена\Desktop\фото\IMG_E7221.JPG"/>
          <p:cNvPicPr/>
          <p:nvPr/>
        </p:nvPicPr>
        <p:blipFill>
          <a:blip r:embed="rId2"/>
          <a:stretch/>
        </p:blipFill>
        <p:spPr>
          <a:xfrm>
            <a:off x="4716360" y="1773360"/>
            <a:ext cx="4059360" cy="40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708360" y="765000"/>
            <a:ext cx="496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b9"/>
                </a:solidFill>
                <a:latin typeface="Constantia"/>
              </a:rPr>
              <a:t>Амулет «Нашки – дети»</a:t>
            </a:r>
            <a:endParaRPr b="0" i="1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2" descr="C:\Users\Елена\Desktop\фото\IMG_E7216.JPG"/>
          <p:cNvPicPr/>
          <p:nvPr/>
        </p:nvPicPr>
        <p:blipFill>
          <a:blip r:embed="rId1"/>
          <a:stretch/>
        </p:blipFill>
        <p:spPr>
          <a:xfrm>
            <a:off x="468360" y="907920"/>
            <a:ext cx="3024000" cy="293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Users\Елена\Desktop\фото\IMG_E7217.JPG"/>
          <p:cNvPicPr/>
          <p:nvPr/>
        </p:nvPicPr>
        <p:blipFill>
          <a:blip r:embed="rId2"/>
          <a:stretch/>
        </p:blipFill>
        <p:spPr>
          <a:xfrm>
            <a:off x="3492360" y="2349360"/>
            <a:ext cx="3784680" cy="223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C:\Users\Елена\Desktop\фото\IMG_7222.JPG"/>
          <p:cNvPicPr/>
          <p:nvPr/>
        </p:nvPicPr>
        <p:blipFill>
          <a:blip r:embed="rId3"/>
          <a:stretch/>
        </p:blipFill>
        <p:spPr>
          <a:xfrm>
            <a:off x="7020000" y="3933720"/>
            <a:ext cx="1908000" cy="2543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47280" y="672480"/>
            <a:ext cx="7139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34527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2" descr="Лесные ненцы"/>
          <p:cNvPicPr/>
          <p:nvPr/>
        </p:nvPicPr>
        <p:blipFill>
          <a:blip r:embed="rId1"/>
          <a:stretch/>
        </p:blipFill>
        <p:spPr>
          <a:xfrm>
            <a:off x="873000" y="0"/>
            <a:ext cx="8271000" cy="6359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836640"/>
            <a:ext cx="727092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На Ямале с размахом отметили главный праздник северян. «Слабым оленям  иногда дают немного водки». ФОТОРЕПОРТАЖ — URA.RU"/>
          <p:cNvPicPr/>
          <p:nvPr/>
        </p:nvPicPr>
        <p:blipFill>
          <a:blip r:embed="rId1"/>
          <a:stretch/>
        </p:blipFill>
        <p:spPr>
          <a:xfrm>
            <a:off x="684360" y="692280"/>
            <a:ext cx="7910280" cy="5473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На Ямале с размахом отметили главный праздник северян. «Слабым оленям  иногда дают немного водки». ФОТОРЕПОРТАЖ — URA.RU"/>
          <p:cNvPicPr/>
          <p:nvPr/>
        </p:nvPicPr>
        <p:blipFill>
          <a:blip r:embed="rId2"/>
          <a:stretch/>
        </p:blipFill>
        <p:spPr>
          <a:xfrm>
            <a:off x="684360" y="692280"/>
            <a:ext cx="7910280" cy="54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На Ямале с размахом отметили главный праздник северян. «Слабым оленям  иногда дают немного водки». ФОТОРЕПОРТАЖ — URA.RU"/>
          <p:cNvPicPr/>
          <p:nvPr/>
        </p:nvPicPr>
        <p:blipFill>
          <a:blip r:embed="rId3"/>
          <a:stretch/>
        </p:blipFill>
        <p:spPr>
          <a:xfrm>
            <a:off x="836640" y="844560"/>
            <a:ext cx="7910640" cy="5473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На Ямале с размахом отметили главный праздник северян. «Слабым оленям  иногда дают немного водки». ФОТОРЕПОРТАЖ — URA.RU"/>
          <p:cNvPicPr/>
          <p:nvPr/>
        </p:nvPicPr>
        <p:blipFill>
          <a:blip r:embed="rId4"/>
          <a:stretch/>
        </p:blipFill>
        <p:spPr>
          <a:xfrm>
            <a:off x="826920" y="836640"/>
            <a:ext cx="7910640" cy="5473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46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Constantia"/>
              </a:rPr>
              <a:t>Жизнь лесных ненцев</a:t>
            </a:r>
            <a:br>
              <a:rPr sz="2400"/>
            </a:br>
            <a:r>
              <a:rPr b="1" lang="ru-RU" sz="2000" spc="-1" strike="noStrike">
                <a:solidFill>
                  <a:srgbClr val="2d2db9"/>
                </a:solidFill>
                <a:latin typeface="Constantia"/>
              </a:rPr>
              <a:t>основными занятиями ненцев издавна являются охота, рыбалка, оленеводство. Они называют себя «дети оленя». Вся жизнь народа связана с оленями.</a:t>
            </a:r>
            <a:endParaRPr b="0" i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Если запретят привлекать коренных – придется ловить настоящих браконьеров».  Почему на Ямале не удается победить браконьерство - УралПолит.Ru"/>
          <p:cNvPicPr/>
          <p:nvPr/>
        </p:nvPicPr>
        <p:blipFill>
          <a:blip r:embed="rId1"/>
          <a:stretch/>
        </p:blipFill>
        <p:spPr>
          <a:xfrm>
            <a:off x="250920" y="1557360"/>
            <a:ext cx="4118040" cy="2735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Как охотятся Коренные Народы. Ружья и ловушки. Секреты охоты на оленя,  гуся, утку, песца | Факты - YouTube"/>
          <p:cNvPicPr/>
          <p:nvPr/>
        </p:nvPicPr>
        <p:blipFill>
          <a:blip r:embed="rId2"/>
          <a:stretch/>
        </p:blipFill>
        <p:spPr>
          <a:xfrm>
            <a:off x="4067280" y="1557360"/>
            <a:ext cx="4789440" cy="2692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Бежим в лес!&quot; Коренному народу Севера грозит катастрофа - РИА Новости,  12.02.2020"/>
          <p:cNvPicPr/>
          <p:nvPr/>
        </p:nvPicPr>
        <p:blipFill>
          <a:blip r:embed="rId3"/>
          <a:stretch/>
        </p:blipFill>
        <p:spPr>
          <a:xfrm>
            <a:off x="3635280" y="4194000"/>
            <a:ext cx="2665440" cy="266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Летние дары тундры | Пикабу"/>
          <p:cNvPicPr/>
          <p:nvPr/>
        </p:nvPicPr>
        <p:blipFill>
          <a:blip r:embed="rId4"/>
          <a:stretch/>
        </p:blipFill>
        <p:spPr>
          <a:xfrm>
            <a:off x="6804000" y="4581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Ненцы культура и традиции — ненецкие узоры"/>
          <p:cNvPicPr/>
          <p:nvPr/>
        </p:nvPicPr>
        <p:blipFill>
          <a:blip r:embed="rId5"/>
          <a:stretch/>
        </p:blipFill>
        <p:spPr>
          <a:xfrm>
            <a:off x="468360" y="4581360"/>
            <a:ext cx="3024000" cy="2011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99"/>
                </a:solidFill>
                <a:latin typeface="Constantia"/>
              </a:rPr>
              <a:t>Одежда, обувь, сумки</a:t>
            </a:r>
            <a:endParaRPr b="0" i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0" descr="од"/>
          <p:cNvPicPr/>
          <p:nvPr/>
        </p:nvPicPr>
        <p:blipFill>
          <a:blip r:embed="rId1"/>
          <a:stretch/>
        </p:blipFill>
        <p:spPr>
          <a:xfrm>
            <a:off x="900000" y="1052640"/>
            <a:ext cx="4579920" cy="531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Рубаха маличная. Пяк Х.И.. &quot; Соседи. Лесные ненцы&quot;. Губкинский музей  освоения Севера. Artefact"/>
          <p:cNvPicPr/>
          <p:nvPr/>
        </p:nvPicPr>
        <p:blipFill>
          <a:blip r:embed="rId2"/>
          <a:stretch/>
        </p:blipFill>
        <p:spPr>
          <a:xfrm>
            <a:off x="5435640" y="1052640"/>
            <a:ext cx="3529080" cy="52941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843280" y="549000"/>
            <a:ext cx="4392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Constantia"/>
              </a:rPr>
              <a:t>     </a:t>
            </a:r>
            <a:r>
              <a:rPr b="1" lang="ru-RU" sz="2800" spc="-1" strike="noStrike">
                <a:solidFill>
                  <a:srgbClr val="2d2db9"/>
                </a:solidFill>
                <a:latin typeface="Constantia"/>
              </a:rPr>
              <a:t>лесных ненцев</a:t>
            </a:r>
            <a:endParaRPr b="0" i="1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8" descr="Этнографическая коллекция"/>
          <p:cNvPicPr/>
          <p:nvPr/>
        </p:nvPicPr>
        <p:blipFill>
          <a:blip r:embed="rId3"/>
          <a:stretch/>
        </p:blipFill>
        <p:spPr>
          <a:xfrm>
            <a:off x="971640" y="4581360"/>
            <a:ext cx="1152360" cy="1320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Мужской пояс (ни). Снаряжение охотника | Муниципальное бюджетное учреждение  культуры &quot;Музейный Ресурсный Центр&quot; | Ноябрьск"/>
          <p:cNvPicPr/>
          <p:nvPr/>
        </p:nvPicPr>
        <p:blipFill>
          <a:blip r:embed="rId4"/>
          <a:stretch/>
        </p:blipFill>
        <p:spPr>
          <a:xfrm>
            <a:off x="7693200" y="1052640"/>
            <a:ext cx="1234800" cy="100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8b"/>
                </a:solidFill>
                <a:latin typeface="Times New Roman"/>
              </a:rPr>
              <a:t>Национальный костюм</a:t>
            </a:r>
            <a:endParaRPr b="0" i="1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85760" y="1483920"/>
            <a:ext cx="50720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3333cc"/>
                </a:solidFill>
                <a:latin typeface="Franklin Gothic Medium"/>
              </a:rPr>
              <a:t>Мужская верхняя одежда </a:t>
            </a:r>
            <a:r>
              <a:rPr b="1" lang="ru-RU" sz="2100" spc="-1" strike="noStrike" u="sng">
                <a:solidFill>
                  <a:srgbClr val="3333cc"/>
                </a:solidFill>
                <a:uFillTx/>
                <a:latin typeface="Franklin Gothic Medium"/>
              </a:rPr>
              <a:t>малица</a:t>
            </a:r>
            <a:r>
              <a:rPr b="0" lang="ru-RU" sz="2100" spc="-1" strike="noStrike" u="sng">
                <a:solidFill>
                  <a:srgbClr val="3333cc"/>
                </a:solidFill>
                <a:uFillTx/>
                <a:latin typeface="Franklin Gothic Medium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– нательная меховая рубаха с пришитыми к ней  капюшоном и рукавицами. Она очень теплая и хорошо защищает тело и голову от холода, оставляя открытым только лицо. Она шьется и одевается мехом внутрь, к телу преимущественно из шкур молодых оленей. Для предохранения малицы от сырости и солнца с давних пор народы Севера носят поверх нее маличную рубаху из сукна разных цветов. Мастерицы украшают ее неповторимым орнаментом из разного меха, цветного сукна, бисера. </a:t>
            </a:r>
            <a:endParaRPr b="0" i="1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 Box 6">
            <a:hlinkClick r:id="rId1" action="ppaction://hlinksldjump"/>
          </p:cNvPr>
          <p:cNvSpPr/>
          <p:nvPr/>
        </p:nvSpPr>
        <p:spPr>
          <a:xfrm>
            <a:off x="5867280" y="8143920"/>
            <a:ext cx="2590920" cy="461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9">
            <a:hlinkClick r:id="" action="ppaction://hlinkshowjump?jump=nextslide"/>
          </p:cNvPr>
          <p:cNvSpPr/>
          <p:nvPr/>
        </p:nvSpPr>
        <p:spPr>
          <a:xfrm>
            <a:off x="1557360" y="7572240"/>
            <a:ext cx="838080" cy="285840"/>
          </a:xfrm>
          <a:custGeom>
            <a:avLst/>
            <a:gdLst>
              <a:gd name="textAreaLeft" fmla="*/ 18360 w 838080"/>
              <a:gd name="textAreaRight" fmla="*/ 819720 w 8380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63278" h="21600">
                <a:moveTo>
                  <a:pt x="0" y="0"/>
                </a:moveTo>
                <a:lnTo>
                  <a:pt x="63278" y="0"/>
                </a:lnTo>
                <a:lnTo>
                  <a:pt x="63278" y="21600"/>
                </a:lnTo>
                <a:lnTo>
                  <a:pt x="0" y="21600"/>
                </a:lnTo>
                <a:close/>
              </a:path>
              <a:path fill="lightenLess" w="63278" h="21600">
                <a:moveTo>
                  <a:pt x="0" y="0"/>
                </a:moveTo>
                <a:lnTo>
                  <a:pt x="63278" y="0"/>
                </a:lnTo>
                <a:lnTo>
                  <a:pt x="61878" y="1400"/>
                </a:lnTo>
                <a:lnTo>
                  <a:pt x="1400" y="1400"/>
                </a:lnTo>
                <a:close/>
              </a:path>
              <a:path fill="darken" w="63278" h="21600">
                <a:moveTo>
                  <a:pt x="63278" y="0"/>
                </a:moveTo>
                <a:lnTo>
                  <a:pt x="63278" y="21600"/>
                </a:lnTo>
                <a:lnTo>
                  <a:pt x="61878" y="20200"/>
                </a:lnTo>
                <a:lnTo>
                  <a:pt x="61878" y="1400"/>
                </a:lnTo>
                <a:close/>
              </a:path>
              <a:path fill="darkenLess" w="63278" h="21600">
                <a:moveTo>
                  <a:pt x="63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78" y="20200"/>
                </a:lnTo>
                <a:close/>
              </a:path>
              <a:path fill="lighten" w="63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278" h="21600">
                <a:moveTo>
                  <a:pt x="24633" y="3794"/>
                </a:moveTo>
                <a:lnTo>
                  <a:pt x="38646" y="10800"/>
                </a:lnTo>
                <a:lnTo>
                  <a:pt x="24633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7" descr="C:\Documents and Settings\Администратор\Мои документы\Мои рисунки\орнамент 004.jpg"/>
          <p:cNvPicPr/>
          <p:nvPr/>
        </p:nvPicPr>
        <p:blipFill>
          <a:blip r:embed="rId2"/>
          <a:stretch/>
        </p:blipFill>
        <p:spPr>
          <a:xfrm>
            <a:off x="285840" y="1071720"/>
            <a:ext cx="3816360" cy="5214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1262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Franklin Gothic Medium"/>
              </a:rPr>
              <a:t>Малица непременно подпоясывается поясом – </a:t>
            </a:r>
            <a:r>
              <a:rPr b="1" lang="ru-RU" sz="2000" spc="-1" strike="noStrike" u="sng">
                <a:solidFill>
                  <a:srgbClr val="2d2db9"/>
                </a:solidFill>
                <a:uFillTx/>
                <a:latin typeface="Franklin Gothic Medium"/>
              </a:rPr>
              <a:t>ни.</a:t>
            </a:r>
            <a:r>
              <a:rPr b="0" lang="ru-RU" sz="2000" spc="-1" strike="noStrike">
                <a:solidFill>
                  <a:srgbClr val="2d2db9"/>
                </a:solidFill>
                <a:latin typeface="Franklin Gothic Medium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2d2db9"/>
                </a:solidFill>
                <a:latin typeface="Franklin Gothic Medium"/>
              </a:rPr>
              <a:t>Его делают из кожи. Снаружи обшивают сукном.</a:t>
            </a:r>
            <a:endParaRPr b="0" i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Традиционная ненецкая одежда&quot; - изо, презентации"/>
          <p:cNvPicPr/>
          <p:nvPr/>
        </p:nvPicPr>
        <p:blipFill>
          <a:blip r:embed="rId1"/>
          <a:stretch/>
        </p:blipFill>
        <p:spPr>
          <a:xfrm>
            <a:off x="1619280" y="1700280"/>
            <a:ext cx="6527880" cy="4895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4857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В стужу, в пургу и при поездках на дальние расстояния поверх малицы надевают меховой </a:t>
            </a:r>
            <a:r>
              <a:rPr b="0" i="1" lang="ru-RU" sz="2200" spc="-1" strike="noStrike" u="sng">
                <a:solidFill>
                  <a:srgbClr val="22228b"/>
                </a:solidFill>
                <a:uFillTx/>
                <a:latin typeface="Franklin Gothic Medium"/>
              </a:rPr>
              <a:t>совик.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 Его капюшон обрамляется опушкой из песцовых хвостов. Совик бывает обычно белого цвета, но иногда его делают черно-белым, в шахматную клетку. 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Совик называли словом </a:t>
            </a:r>
            <a:r>
              <a:rPr b="0" i="1" lang="ru-RU" sz="2200" spc="-1" strike="noStrike" u="sng">
                <a:solidFill>
                  <a:srgbClr val="22228b"/>
                </a:solidFill>
                <a:uFillTx/>
                <a:latin typeface="Franklin Gothic Medium"/>
              </a:rPr>
              <a:t>«гусь», 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Совик был снабжен пришивным капюшоном, но не имел рукавиц. 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4">
            <a:hlinkClick r:id="" action="ppaction://hlinkshowjump?jump=nextslide"/>
          </p:cNvPr>
          <p:cNvSpPr/>
          <p:nvPr/>
        </p:nvSpPr>
        <p:spPr>
          <a:xfrm>
            <a:off x="1557360" y="7715160"/>
            <a:ext cx="838080" cy="214560"/>
          </a:xfrm>
          <a:custGeom>
            <a:avLst/>
            <a:gdLst>
              <a:gd name="textAreaLeft" fmla="*/ 13680 w 838080"/>
              <a:gd name="textAreaRight" fmla="*/ 824400 w 8380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84265" h="21600">
                <a:moveTo>
                  <a:pt x="0" y="0"/>
                </a:moveTo>
                <a:lnTo>
                  <a:pt x="84265" y="0"/>
                </a:lnTo>
                <a:lnTo>
                  <a:pt x="84265" y="21600"/>
                </a:lnTo>
                <a:lnTo>
                  <a:pt x="0" y="21600"/>
                </a:lnTo>
                <a:close/>
              </a:path>
              <a:path fill="lightenLess" w="84265" h="21600">
                <a:moveTo>
                  <a:pt x="0" y="0"/>
                </a:moveTo>
                <a:lnTo>
                  <a:pt x="84265" y="0"/>
                </a:lnTo>
                <a:lnTo>
                  <a:pt x="82865" y="1400"/>
                </a:lnTo>
                <a:lnTo>
                  <a:pt x="1400" y="1400"/>
                </a:lnTo>
                <a:close/>
              </a:path>
              <a:path fill="darken" w="84265" h="21600">
                <a:moveTo>
                  <a:pt x="84265" y="0"/>
                </a:moveTo>
                <a:lnTo>
                  <a:pt x="84265" y="21600"/>
                </a:lnTo>
                <a:lnTo>
                  <a:pt x="82865" y="20200"/>
                </a:lnTo>
                <a:lnTo>
                  <a:pt x="82865" y="1400"/>
                </a:lnTo>
                <a:close/>
              </a:path>
              <a:path fill="darkenLess" w="84265" h="21600">
                <a:moveTo>
                  <a:pt x="8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865" y="20200"/>
                </a:lnTo>
                <a:close/>
              </a:path>
              <a:path fill="lighten" w="8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4265" h="21600">
                <a:moveTo>
                  <a:pt x="35126" y="3794"/>
                </a:moveTo>
                <a:lnTo>
                  <a:pt x="49139" y="10800"/>
                </a:lnTo>
                <a:lnTo>
                  <a:pt x="3512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5">
            <a:hlinkClick r:id="" action="ppaction://hlinkshowjump?jump=previousslide"/>
          </p:cNvPr>
          <p:cNvSpPr/>
          <p:nvPr/>
        </p:nvSpPr>
        <p:spPr>
          <a:xfrm>
            <a:off x="1071720" y="80722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59" h="21600">
                <a:moveTo>
                  <a:pt x="16723" y="10800"/>
                </a:moveTo>
                <a:lnTo>
                  <a:pt x="30736" y="3794"/>
                </a:lnTo>
                <a:lnTo>
                  <a:pt x="3073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>
            <a:hlinkClick r:id="rId1" action="ppaction://hlinksldjump"/>
          </p:cNvPr>
          <p:cNvSpPr/>
          <p:nvPr/>
        </p:nvSpPr>
        <p:spPr>
          <a:xfrm flipV="1">
            <a:off x="3348000" y="7549560"/>
            <a:ext cx="2590920" cy="461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8" descr="сокуй"/>
          <p:cNvPicPr/>
          <p:nvPr/>
        </p:nvPicPr>
        <p:blipFill>
          <a:blip r:embed="rId2"/>
          <a:stretch/>
        </p:blipFill>
        <p:spPr>
          <a:xfrm>
            <a:off x="5286240" y="642960"/>
            <a:ext cx="3643560" cy="5327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4608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d2db9"/>
                </a:solidFill>
                <a:latin typeface="Franklin Gothic Medium"/>
              </a:rPr>
              <a:t>     </a:t>
            </a:r>
            <a:r>
              <a:rPr b="0" lang="ru-RU" sz="2100" spc="-1" strike="noStrike">
                <a:solidFill>
                  <a:srgbClr val="2d2db9"/>
                </a:solidFill>
                <a:latin typeface="Franklin Gothic Medium"/>
              </a:rPr>
              <a:t>распашная шуба</a:t>
            </a:r>
            <a:r>
              <a:rPr b="0" i="1" lang="ru-RU" sz="2100" spc="-1" strike="noStrike">
                <a:solidFill>
                  <a:srgbClr val="2d2db9"/>
                </a:solidFill>
                <a:latin typeface="Franklin Gothic Medium"/>
              </a:rPr>
              <a:t> – </a:t>
            </a:r>
            <a:r>
              <a:rPr b="1" i="1" lang="ru-RU" sz="2100" spc="-1" strike="noStrike" u="sng">
                <a:solidFill>
                  <a:srgbClr val="2d2db9"/>
                </a:solidFill>
                <a:uFillTx/>
                <a:latin typeface="Franklin Gothic Medium"/>
              </a:rPr>
              <a:t>паны</a:t>
            </a:r>
            <a:r>
              <a:rPr b="1" i="1" lang="ru-RU" sz="2100" spc="-1" strike="noStrike" u="sng">
                <a:solidFill>
                  <a:srgbClr val="22228b"/>
                </a:solidFill>
                <a:uFillTx/>
                <a:latin typeface="Franklin Gothic Medium"/>
              </a:rPr>
              <a:t>.</a:t>
            </a:r>
            <a:endParaRPr b="0" i="1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К рукавам пришивают рукавицы. Украшают паны меховой мозаикой, кистями и кантами из цветного сукна. Полы шубы завязываются шнурками. Русские раньше называли этот тип женской одежды  – </a:t>
            </a:r>
            <a:r>
              <a:rPr b="1" i="1" lang="ru-RU" sz="2100" spc="-1" strike="noStrike" u="sng">
                <a:solidFill>
                  <a:srgbClr val="22228b"/>
                </a:solidFill>
                <a:uFillTx/>
                <a:latin typeface="Franklin Gothic Medium"/>
              </a:rPr>
              <a:t>яга</a:t>
            </a:r>
            <a:r>
              <a:rPr b="0" i="1" lang="ru-RU" sz="2100" spc="-1" strike="noStrike">
                <a:solidFill>
                  <a:srgbClr val="22228b"/>
                </a:solidFill>
                <a:latin typeface="Franklin Gothic Medium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или </a:t>
            </a:r>
            <a:r>
              <a:rPr b="1" i="1" lang="ru-RU" sz="2100" spc="-1" strike="noStrike" u="sng">
                <a:solidFill>
                  <a:srgbClr val="22228b"/>
                </a:solidFill>
                <a:uFillTx/>
                <a:latin typeface="Franklin Gothic Medium"/>
              </a:rPr>
              <a:t>ягушка</a:t>
            </a:r>
            <a:r>
              <a:rPr b="0" i="1" lang="ru-RU" sz="2100" spc="-1" strike="noStrike" u="sng">
                <a:solidFill>
                  <a:srgbClr val="22228b"/>
                </a:solidFill>
                <a:uFillTx/>
                <a:latin typeface="Franklin Gothic Medium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Верхнюю одежду подпоясывают длинными поясами из ткани, богато украшенными медью и кисточками. </a:t>
            </a:r>
            <a:endParaRPr b="0" i="1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 Box 6">
            <a:hlinkClick r:id="rId1" action="ppaction://hlinksldjump"/>
          </p:cNvPr>
          <p:cNvSpPr/>
          <p:nvPr/>
        </p:nvSpPr>
        <p:spPr>
          <a:xfrm>
            <a:off x="5867280" y="7402680"/>
            <a:ext cx="259092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Завершить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>
            <a:hlinkClick r:id="" action="ppaction://hlinkshowjump?jump=nextslide"/>
          </p:cNvPr>
          <p:cNvSpPr/>
          <p:nvPr/>
        </p:nvSpPr>
        <p:spPr>
          <a:xfrm flipV="1">
            <a:off x="1557360" y="7572240"/>
            <a:ext cx="838080" cy="571680"/>
          </a:xfrm>
          <a:custGeom>
            <a:avLst/>
            <a:gdLst>
              <a:gd name="textAreaLeft" fmla="*/ 36720 w 838080"/>
              <a:gd name="textAreaRight" fmla="*/ 801360 w 838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1659" h="21600">
                <a:moveTo>
                  <a:pt x="0" y="0"/>
                </a:moveTo>
                <a:lnTo>
                  <a:pt x="31659" y="0"/>
                </a:lnTo>
                <a:lnTo>
                  <a:pt x="31659" y="21600"/>
                </a:lnTo>
                <a:lnTo>
                  <a:pt x="0" y="21600"/>
                </a:lnTo>
                <a:close/>
              </a:path>
              <a:path fill="lightenLess" w="31659" h="21600">
                <a:moveTo>
                  <a:pt x="0" y="0"/>
                </a:moveTo>
                <a:lnTo>
                  <a:pt x="31659" y="0"/>
                </a:lnTo>
                <a:lnTo>
                  <a:pt x="30259" y="1400"/>
                </a:lnTo>
                <a:lnTo>
                  <a:pt x="1400" y="1400"/>
                </a:lnTo>
                <a:close/>
              </a:path>
              <a:path fill="darken" w="31659" h="21600">
                <a:moveTo>
                  <a:pt x="31659" y="0"/>
                </a:moveTo>
                <a:lnTo>
                  <a:pt x="31659" y="21600"/>
                </a:lnTo>
                <a:lnTo>
                  <a:pt x="30259" y="20200"/>
                </a:lnTo>
                <a:lnTo>
                  <a:pt x="30259" y="1400"/>
                </a:lnTo>
                <a:close/>
              </a:path>
              <a:path fill="darkenLess" w="31659" h="21600">
                <a:moveTo>
                  <a:pt x="31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59" y="20200"/>
                </a:lnTo>
                <a:close/>
              </a:path>
              <a:path fill="lighten" w="31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59" h="21600">
                <a:moveTo>
                  <a:pt x="8823" y="3794"/>
                </a:moveTo>
                <a:lnTo>
                  <a:pt x="22836" y="10800"/>
                </a:lnTo>
                <a:lnTo>
                  <a:pt x="8823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9">
            <a:hlinkClick r:id="" action="ppaction://hlinkshowjump?jump=previousslide"/>
          </p:cNvPr>
          <p:cNvSpPr/>
          <p:nvPr/>
        </p:nvSpPr>
        <p:spPr>
          <a:xfrm flipV="1">
            <a:off x="755640" y="7571520"/>
            <a:ext cx="838080" cy="142920"/>
          </a:xfrm>
          <a:custGeom>
            <a:avLst/>
            <a:gdLst>
              <a:gd name="textAreaLeft" fmla="*/ 9000 w 838080"/>
              <a:gd name="textAreaRight" fmla="*/ 829080 w 83808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126398" h="21600">
                <a:moveTo>
                  <a:pt x="0" y="0"/>
                </a:moveTo>
                <a:lnTo>
                  <a:pt x="126398" y="0"/>
                </a:lnTo>
                <a:lnTo>
                  <a:pt x="126398" y="21600"/>
                </a:lnTo>
                <a:lnTo>
                  <a:pt x="0" y="21600"/>
                </a:lnTo>
                <a:close/>
              </a:path>
              <a:path fill="lightenLess" w="126398" h="21600">
                <a:moveTo>
                  <a:pt x="0" y="0"/>
                </a:moveTo>
                <a:lnTo>
                  <a:pt x="126398" y="0"/>
                </a:lnTo>
                <a:lnTo>
                  <a:pt x="124998" y="1400"/>
                </a:lnTo>
                <a:lnTo>
                  <a:pt x="1400" y="1400"/>
                </a:lnTo>
                <a:close/>
              </a:path>
              <a:path fill="darken" w="126398" h="21600">
                <a:moveTo>
                  <a:pt x="126398" y="0"/>
                </a:moveTo>
                <a:lnTo>
                  <a:pt x="126398" y="21600"/>
                </a:lnTo>
                <a:lnTo>
                  <a:pt x="124998" y="20200"/>
                </a:lnTo>
                <a:lnTo>
                  <a:pt x="124998" y="1400"/>
                </a:lnTo>
                <a:close/>
              </a:path>
              <a:path fill="darkenLess" w="126398" h="21600">
                <a:moveTo>
                  <a:pt x="126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998" y="20200"/>
                </a:lnTo>
                <a:close/>
              </a:path>
              <a:path fill="lighten" w="126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398" h="21600">
                <a:moveTo>
                  <a:pt x="56193" y="10800"/>
                </a:moveTo>
                <a:lnTo>
                  <a:pt x="70205" y="3794"/>
                </a:lnTo>
                <a:lnTo>
                  <a:pt x="70205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71280" y="836280"/>
            <a:ext cx="4392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Franklin Gothic Medium"/>
              </a:rPr>
              <a:t>Женской одеждой является</a:t>
            </a:r>
            <a:endParaRPr b="0" i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Проект &quot;Ненецкие орнаменты&quot; 5 класс"/>
          <p:cNvPicPr/>
          <p:nvPr/>
        </p:nvPicPr>
        <p:blipFill>
          <a:blip r:embed="rId2"/>
          <a:stretch/>
        </p:blipFill>
        <p:spPr>
          <a:xfrm>
            <a:off x="5364000" y="907920"/>
            <a:ext cx="3286440" cy="4249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Пояс в жизни ненца. Сакральное"/>
          <p:cNvPicPr/>
          <p:nvPr/>
        </p:nvPicPr>
        <p:blipFill>
          <a:blip r:embed="rId3"/>
          <a:stretch/>
        </p:blipFill>
        <p:spPr>
          <a:xfrm>
            <a:off x="2843280" y="4653000"/>
            <a:ext cx="1717560" cy="1871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95640" y="274680"/>
            <a:ext cx="568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Женский головной убор</a:t>
            </a:r>
            <a:endParaRPr b="0" i="1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384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Женский головной убор – меховой капор </a:t>
            </a: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Franklin Gothic Medium"/>
              </a:rPr>
              <a:t>сава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 шьется отдельно и не скрепляется с шубой.</a:t>
            </a:r>
            <a:endParaRPr b="0" i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24360" y="220500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2" descr="Виртуальная выставка «Зимняя женская ягушка» 2021, Тазовский район — дата и  место проведения, программа мероприятия."/>
          <p:cNvPicPr/>
          <p:nvPr/>
        </p:nvPicPr>
        <p:blipFill>
          <a:blip r:embed="rId1"/>
          <a:stretch/>
        </p:blipFill>
        <p:spPr>
          <a:xfrm>
            <a:off x="611280" y="3284640"/>
            <a:ext cx="4268520" cy="288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Проект &quot;Традиционная одежда ненцев&quot;"/>
          <p:cNvPicPr/>
          <p:nvPr/>
        </p:nvPicPr>
        <p:blipFill>
          <a:blip r:embed="rId2"/>
          <a:stretch/>
        </p:blipFill>
        <p:spPr>
          <a:xfrm>
            <a:off x="5292720" y="1916280"/>
            <a:ext cx="3044880" cy="396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7:16:10Z</dcterms:created>
  <dc:creator>Admin</dc:creator>
  <dc:description/>
  <dc:language>en-US</dc:language>
  <cp:lastModifiedBy>Елена</cp:lastModifiedBy>
  <dcterms:modified xsi:type="dcterms:W3CDTF">2021-04-06T09:50:55Z</dcterms:modified>
  <cp:revision>117</cp:revision>
  <dc:subject/>
  <dc:title>Your Title Here…</dc:title>
</cp:coreProperties>
</file>