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B30-3E6E-42E0-936E-653C83E0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AD3-F9ED-4D78-9BC2-1BF131F6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A62-0268-4A0D-8A1E-01AB2F6A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E03-34A2-4B8B-A7D4-95CF350B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D3A6-4A57-4F7B-8CCC-2F8CBF12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E42E-11A2-4F27-ADFB-2E1EE290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A4A1-2325-467B-AA75-3037B07C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DB91-EE15-41C8-AEDB-6A2F902F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0E53-B68B-4DD7-A7AD-14B5162D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915D-C6C5-431D-AA76-F26D791B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D3A5-E2FE-48D3-A8B7-FCB5A721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A2F-4B0F-4CB4-AE47-9563C3DC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9FEE-8D77-421B-AC5A-B872C0A9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FF1D-724D-4A2F-9510-5E452B72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368F-BA28-4325-A66B-F6449E06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8580-86B0-480B-BA30-F6F84738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417F-24BB-40D7-8B61-9C811BF4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407-1E59-4471-8E6E-89A0B0FD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C72-6765-4A60-A247-8909BDEA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CA5-CB6B-4C2D-A54D-9385AA51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547-531A-41A6-BD34-94CF2803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14B-3D21-4423-A11A-1CC7A76C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CDF8-9EFA-4705-BD61-3C2DBB61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5BB-21CB-4DC9-A882-F764B19A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23E9-70DC-4D37-A508-DB9AD428C5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rcRect l="0" t="0" r="0" b="24081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40C1-5D31-4C05-856F-01608A24E7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6858000" cy="92052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" descr=""/>
          <p:cNvPicPr/>
          <p:nvPr/>
        </p:nvPicPr>
        <p:blipFill>
          <a:blip r:embed="rId3"/>
          <a:stretch/>
        </p:blipFill>
        <p:spPr>
          <a:xfrm>
            <a:off x="5145120" y="476280"/>
            <a:ext cx="1341360" cy="92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F:\клипарты\Дети\1c0ec7a6b4eb.png"/>
          <p:cNvPicPr/>
          <p:nvPr/>
        </p:nvPicPr>
        <p:blipFill>
          <a:blip r:embed="rId2"/>
          <a:srcRect l="0" t="0" r="45991" b="70020"/>
          <a:stretch/>
        </p:blipFill>
        <p:spPr>
          <a:xfrm>
            <a:off x="1763640" y="1413000"/>
            <a:ext cx="3113280" cy="172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rtgtv.ru/upload/s4y_siteusers/4558/photokonkurs/preview_1000/IMG_7962.jpg"/>
          <p:cNvPicPr/>
          <p:nvPr/>
        </p:nvPicPr>
        <p:blipFill>
          <a:blip r:embed="rId1"/>
          <a:srcRect l="7264" t="0" r="0" b="72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280800" y="1557360"/>
            <a:ext cx="835560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зеро в соседней роще налило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д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324000" y="189000"/>
            <a:ext cx="8496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черкните в предложении главные члены. Выпишите словосоче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250920" y="5157720"/>
            <a:ext cx="856908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олотистыми пуховками распустились кустики и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Записанный звук" descr=""/>
          <p:cNvPicPr/>
          <p:nvPr/>
        </p:nvPicPr>
        <p:blipFill>
          <a:blip r:embed="rId2"/>
          <a:stretch/>
        </p:blipFill>
        <p:spPr>
          <a:xfrm>
            <a:off x="802800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324000" y="260280"/>
            <a:ext cx="8496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ите падеж и род имён существительны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лагатель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179280" y="1413000"/>
            <a:ext cx="8496360" cy="411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 душист…. сена, к пушист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елке,  про чудесн…  картину,  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ив…  беседе, жирн… пятн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утк… камыш, перед пожил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ужчиной, част… дождик, 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ил…  доме, в больш…  ям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802080" y="6165720"/>
            <a:ext cx="7210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ьте предложение с одним из словосочет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Записанный звук" descr=""/>
          <p:cNvPicPr/>
          <p:nvPr/>
        </p:nvPicPr>
        <p:blipFill>
          <a:blip r:embed="rId1"/>
          <a:stretch/>
        </p:blipFill>
        <p:spPr>
          <a:xfrm>
            <a:off x="8172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286200" y="260280"/>
            <a:ext cx="80139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мените выделенные слова именами прилагатель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пределите их на 3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79280" y="1557360"/>
            <a:ext cx="8640720" cy="411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латье из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шёлк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ящик для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почты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 растение в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теплице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сок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вишни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небо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осенью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гайка из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стали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вагон для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багаж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парк в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городе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долька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апельсин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, поездка </a:t>
            </a: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зимой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Записанный звук" descr=""/>
          <p:cNvPicPr/>
          <p:nvPr/>
        </p:nvPicPr>
        <p:blipFill>
          <a:blip r:embed="rId1"/>
          <a:stretch/>
        </p:blipFill>
        <p:spPr>
          <a:xfrm>
            <a:off x="759636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24000" y="1006920"/>
            <a:ext cx="8496000" cy="545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гладили снежную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бабу  лопа..ко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И стала  спина  её  кругл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и  гла..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А чтобы  у  баб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сивый  был  но… 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Ей  Вова большу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морко..ку  принё…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947520" y="333360"/>
            <a:ext cx="5805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шите,  вставляя  пропущенные 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375600" y="907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7887600" y="148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807600" y="292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4934880" y="4292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5583600" y="486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150880" y="558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7599600" y="551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Записанный звук" descr=""/>
          <p:cNvPicPr/>
          <p:nvPr/>
        </p:nvPicPr>
        <p:blipFill>
          <a:blip r:embed="rId1"/>
          <a:stretch/>
        </p:blipFill>
        <p:spPr>
          <a:xfrm>
            <a:off x="83170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HP</cp:lastModifiedBy>
  <dcterms:modified xsi:type="dcterms:W3CDTF">2021-04-06T08:31:48Z</dcterms:modified>
  <cp:revision>31</cp:revision>
  <dc:subject/>
  <dc:title>Слайд 1</dc:title>
</cp:coreProperties>
</file>