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7E0-5D9F-4D67-A17B-C2FD1BB7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137-7858-4DD7-BE15-07CCC53D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D48-7751-46A0-8790-F4400E83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B6C-39E9-4CA5-A58A-0E20BA4E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7DAF-665E-4AD3-BE6C-27A1F745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9D03-39FE-444A-9E4B-EE2CC28C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25C2-5E68-42D1-9C20-FB2FF62F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EE62-F49C-483D-AB30-4C56EFC6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4D3F-9B36-46C8-AB65-7184F3BB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2B3A-AE8A-4E44-AE75-82A1C679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C49C-2653-4448-84CC-718F677E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708-0B53-4A0F-9072-CB705918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7D28-D86C-4586-972D-527E15B1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D4DA-25D7-44EB-BB29-9F148DE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71C1-E142-43F5-934B-D2E16ABD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D900-5245-4341-B3D9-E586AE5F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0B32-9AE5-46D0-8A73-17DB45BA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4C4-82DD-4063-800B-06C97BFA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B93-5BDC-474C-820E-1DE8C047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16E-D2B9-439F-97D6-B66DA22F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341-9330-4A69-B4FC-CBF88BEB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67B-1D9C-4B60-880F-5347A6CC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1C5-55FC-463C-AB53-0047711D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EF3-669F-4503-9A41-F71E353A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4264-314A-43FA-94B0-BCEBF1E159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A764-395D-4C6A-8F01-B149378596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6858000" cy="9205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3"/>
          <a:stretch/>
        </p:blipFill>
        <p:spPr>
          <a:xfrm>
            <a:off x="5145120" y="476280"/>
            <a:ext cx="1341360" cy="92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F:\клипарты\Дети\1c0ec7a6b4eb.png"/>
          <p:cNvPicPr/>
          <p:nvPr/>
        </p:nvPicPr>
        <p:blipFill>
          <a:blip r:embed="rId2"/>
          <a:srcRect l="0" t="0" r="45991" b="70020"/>
          <a:stretch/>
        </p:blipFill>
        <p:spPr>
          <a:xfrm>
            <a:off x="1763640" y="1413000"/>
            <a:ext cx="3113280" cy="172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rtgtv.ru/upload/s4y_siteusers/4558/photokonkurs/preview_1000/IMG_7962.jpg"/>
          <p:cNvPicPr/>
          <p:nvPr/>
        </p:nvPicPr>
        <p:blipFill>
          <a:blip r:embed="rId1"/>
          <a:srcRect l="7264" t="0" r="0" b="72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0800" y="1557360"/>
            <a:ext cx="835560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зеро в соседней роще налило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д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324000" y="189000"/>
            <a:ext cx="8496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черкните в предложении главные члены. Выпишите словосоч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250920" y="5157720"/>
            <a:ext cx="85690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олотистыми пуховками распустились кустики и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Записанный звук" descr=""/>
          <p:cNvPicPr/>
          <p:nvPr/>
        </p:nvPicPr>
        <p:blipFill>
          <a:blip r:embed="rId2"/>
          <a:stretch/>
        </p:blipFill>
        <p:spPr>
          <a:xfrm>
            <a:off x="802800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324000" y="260280"/>
            <a:ext cx="8496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ите падеж и род имён существительны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лага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179280" y="1413000"/>
            <a:ext cx="8496360" cy="411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 душист…. сена, к пушист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лке,  про чудесн…  картину, 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в…  беседе, жирн… пятн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утк… камыш, перед пожил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ужчиной, част… дождик,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л…  доме, в больш…  я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802080" y="6165720"/>
            <a:ext cx="7210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ьте предложение с одним из словосочет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Записанный звук" descr=""/>
          <p:cNvPicPr/>
          <p:nvPr/>
        </p:nvPicPr>
        <p:blipFill>
          <a:blip r:embed="rId1"/>
          <a:stretch/>
        </p:blipFill>
        <p:spPr>
          <a:xfrm>
            <a:off x="8172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86200" y="260280"/>
            <a:ext cx="8013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мените выделенные слова именами прилагатель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пределите их на 3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79280" y="1557360"/>
            <a:ext cx="8640720" cy="411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латье из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шёлк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ящик для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почты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 растение в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теплиц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сок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вишн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небо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осенью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гайка из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стал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вагон для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багаж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парк в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город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долька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апельсин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поездка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зимой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Записанный звук" descr=""/>
          <p:cNvPicPr/>
          <p:nvPr/>
        </p:nvPicPr>
        <p:blipFill>
          <a:blip r:embed="rId1"/>
          <a:stretch/>
        </p:blipFill>
        <p:spPr>
          <a:xfrm>
            <a:off x="759636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24000" y="1006920"/>
            <a:ext cx="8496000" cy="545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гладили снежную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бабу  лопа..ко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тала  спина  её  кругл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и  гла..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А чтобы  у  баб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сивый  был  но…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Ей  Вова большу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рко..ку  принё…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947520" y="333360"/>
            <a:ext cx="5805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шите,  вставляя  пропущенные 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375600" y="907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7887600" y="148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807600" y="29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93488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583600" y="486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150880" y="558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7599600" y="551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Записанный звук" descr=""/>
          <p:cNvPicPr/>
          <p:nvPr/>
        </p:nvPicPr>
        <p:blipFill>
          <a:blip r:embed="rId1"/>
          <a:stretch/>
        </p:blipFill>
        <p:spPr>
          <a:xfrm>
            <a:off x="83170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HP</cp:lastModifiedBy>
  <dcterms:modified xsi:type="dcterms:W3CDTF">2021-04-06T08:31:48Z</dcterms:modified>
  <cp:revision>31</cp:revision>
  <dc:subject/>
  <dc:title>Слайд 1</dc:title>
</cp:coreProperties>
</file>