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8E8-8AF9-4E32-B6AD-00D9FED2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A3C-8C92-4F04-B443-7CC323E0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D4F6-9BCA-4A8F-B7CC-E9CEB0C9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E7BF-D8CF-4766-BE87-A548A34C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DA4-844B-45C9-80F0-3BFA5393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960-C12E-4938-B398-84EB4E9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973-3338-4375-BCDC-208EF06D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0F0-1E36-4AFB-A6FF-808277B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E72-EE6F-4EBE-BD78-9AA92109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154-381E-4D0D-9539-B7969B3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39D-3BB9-4BC0-82EA-EAA3447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97E-F3C4-43D3-B189-C4BBD6FC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6940-00E4-4E9A-9D6D-FF6211C8D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формирования УУД в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1 классе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413080" y="5438880"/>
            <a:ext cx="58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читель начальных классов Симоненко Е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формированность УУД учащихся 1 «Д» класса в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397160"/>
          <a:ext cx="8077320" cy="31860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  <a:gridCol w="2019240"/>
                <a:gridCol w="2019240"/>
              </a:tblGrid>
              <a:tr h="900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ание – 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ыки поискового чтения – 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ние с печатного – 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етический разбор слова – 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ическое значение слов- 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ёт арифметические действия- 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вопроса – 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ировка природных объектов по признакам- 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ия объектов живой и неживой природы 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1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40824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интересующийся, активно познающий мир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щий основами умения уч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щий родной край и свою стра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ющий и принимающий ценности семьи и общества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самостоятельно действовать и отвечать за свои поступки перед семьей и школ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, умеющий слушать и слышать партнера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ющий высказать свое мнение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щий правила здорового и безопасного образа жизни для себя и окружающих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Цель програм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609480" y="198108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ребёнка интереса к познанию своей страны и её духовного величия, её значимости в мировых масштабах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учить себя - вот та задача,  решение которой в школе сегодня является первостепен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762120" y="4723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пишет то же, что и произносит, например, сапка (шапка).  Много ошибок из-за неумения ребенка передавать на письме мягкость согласных: сольить (солить), въезет (везе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685800" y="10807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вной задаче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 с этими детьми стала научить 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ушать и слышать учите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давать вопро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ам общения со сверст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тролировать свои действия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fs00.infourok.ru/images/doc/231/66961/2/img20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28600"/>
          <a:ext cx="8458200" cy="55674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469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лек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лексией - нарушения чт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графией – нарушения пись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2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дислексией допускают ошибки при чтении: пропускают звуки, добавляют ненужные, искажают звучание слов, скорость чтения у них невысокая, ребята меняют буквы местами, иногда пропускают начальные слоги с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дисграфии дети с трудом овладевают письмом: их диктанты, выполненные ими упражнения содержат множество грамматических ошибок. Они не используют заглавные буквы, знаки препинания, у них ужасный почерк. В средних и старших классах ребята стараются использовать при письме короткие фразы с ограниченным набором слов, но в написании этих слов они допускают грубые ошиб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2860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09480" y="334080"/>
            <a:ext cx="80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щая ориентация в структуре текста (деление текста на абзац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навыков ознакомительного, выборочного и поискового ч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ие прочитать и понять инструкцию, содержащуюся в тексте задания и неукоснительно ее придержив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 РУССКОГО 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ладение ребенком основными учебными действиями – списыванием с печатного текста, навыки пис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нетический разбор слова, звуко-бук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правописных навыков (в объеме изученного), техники оформления текста (в ситуации списывания слова или  предлож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м словарного запаса и сформированность умений его самостоятельного пополнения и обогащения (последнее задание каждой работ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533520" y="249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ладение ребенком основными системами понятий и дифференцированных предметных учебных действий по всем изученным разделам (счет, числа, арифметические действия, вычисл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ЛАСТИ ОКРУЖАЮЩ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ированность первичных представлений о природных объектах, их характерных признаках и используемых для их описания по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екты живой и неживой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44400"/>
                <a:tab algn="l" pos="5440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ификация и распознавание отдельных представителей различных классов животных 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инченко</dc:creator>
  <dc:description/>
  <dc:language>en-US</dc:language>
  <cp:lastModifiedBy>Симоненко Е.П.</cp:lastModifiedBy>
  <dcterms:modified xsi:type="dcterms:W3CDTF">2021-04-06T11:11:42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