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03D-A48F-4C4F-8B87-93BCFF3C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A32-F264-4527-88D3-AFAE0B5F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079-B4D5-41B3-B12F-E85BF9ED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B0F-0CFE-46AE-AE4D-CB82E2FD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ECD-B261-4EEB-BEE0-C0B6E63E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3A0-586F-4E1C-8541-429B6F14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3B4-7B51-42BB-A42E-02B16039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040-0D34-4D52-8F97-CFEB72C1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E21-6E3A-4F31-845C-1BA4F875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6CE-096F-43B4-B2C2-3D0B474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889-F8B0-4451-B7FB-0298382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F9F-6DCE-4214-95CF-4F3CB043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ED99-AF5F-4264-BDBD-00C3E11EE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формирования УУД в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1 классе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413080" y="5438880"/>
            <a:ext cx="589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читель начальных классов Симоненко Е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формированность УУД учащихся 1 «Д» класса в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397160"/>
          <a:ext cx="8077320" cy="31860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  <a:gridCol w="2019240"/>
                <a:gridCol w="2019240"/>
              </a:tblGrid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ие – 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ыки поискового чтения – 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 с печатного – 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нетический разбор слова – 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ическое значение слов- 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ёт арифметические действия- 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вопроса – 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ировка природных объектов по признакам- 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ия объектов живой и неживой природы -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1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40824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ый, интересующийся, активно познающий мир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щий основами умения уч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щий родной край и свою стра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ющий и принимающий ценности семьи и общества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й самостоятельно действовать и отвечать за свои поступки перед семьей и шко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желательный, умеющий слушать и слышать партнера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щий высказать свое мнение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щий правила здорового и безопасного образа жизни для себя и окружающих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Цель програм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609480" y="1981080"/>
            <a:ext cx="6248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ребёнка интереса к познанию своей страны и её духовного величия, её значимости в мировых масштабах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учить себя - вот та задача,  решение которой в школе сегодня является первостепен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762120" y="4723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ишет то же, что и произносит, например, сапка (шапка).  Много ошибок из-за неумения ребенка передавать на письме мягкость согласных: сольить (солить), въезет (везе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685800" y="10807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авной задаче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 с этими детьми стала научить 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ушать и слышать учите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давать вопро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ам общения со сверст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тролировать свои действи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s://fs00.infourok.ru/images/doc/231/66961/2/img20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228600"/>
          <a:ext cx="8458200" cy="556740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лек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лексией - нарушения чт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графией – нарушения пись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2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дислексией допускают ошибки при чтении: пропускают звуки, добавляют ненужные, искажают звучание слов, скорость чтения у них невысокая, ребята меняют буквы местами, иногда пропускают начальные слоги с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дисграфии дети с трудом овладевают письмом: их диктанты, выполненные ими упражнения содержат множество грамматических ошибок. Они не используют заглавные буквы, знаки препинания, у них ужасный почерк. В средних и старших классах ребята стараются использовать при письме короткие фразы с ограниченным набором слов, но в написании этих слов они допускают грубые ошибк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23888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09480" y="334080"/>
            <a:ext cx="807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БЛАСТИ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щая ориентация в структуре текста (деление текста на абзац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формированность навыков ознакомительного, выборочного и поискового чт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мение прочитать и понять инструкцию, содержащуюся в тексте задания и неукоснительно ее придержив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БЛАСТИ  РУССКОГО 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ладение ребенком основными учебными действиями – списыванием с печатного текста, навыки пис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нетический разбор слова, звуко-буквенны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формированность правописных навыков (в объеме изученного), техники оформления текста (в ситуации списывания слова или  предлож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ъем словарного запаса и сформированность умений его самостоятельного пополнения и обогащения (последнее задание каждой работ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533520" y="2491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БЛАСТИ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ладение ребенком основными системами понятий и дифференцированных предметных учебных действий по всем изученным разделам (счет, числа, арифметические действия, вычисл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БЛАСТИ ОКРУЖАЮЩ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формированность первичных представлений о природных объектах, их характерных признаках и используемых для их описания по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ъекты живой и неживой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ификация и распознавание отдельных представителей различных классов животных и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инченко</dc:creator>
  <dc:description/>
  <dc:language>en-US</dc:language>
  <cp:lastModifiedBy>Симоненко Е.П.</cp:lastModifiedBy>
  <dcterms:modified xsi:type="dcterms:W3CDTF">2021-04-06T11:11:4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