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D0F-AE46-40FE-BBB2-440BA638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F49-D0FA-4E3E-9C67-F647BB8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868-E614-4A4F-8EAA-D442DDC1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4B2-3A09-4445-B02E-583C6E1D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173B-9D96-4F0D-AB1F-B599BCD0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789-E4C9-4146-A2EA-0303F1D7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BBA-A0E8-42BA-9987-943C83C9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1096-2547-4654-8519-495545FB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3E70-2B37-4BED-A687-735FB21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D7A9-C7E4-49EF-AD5F-83D1070B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471-295B-4EED-81A9-7C15F44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EAD-E574-49BE-922F-4CD2C65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786-1AA6-4158-AF13-E2195CC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83F6-C4C3-47BC-8F36-060C1F9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819-DBCD-4197-B2F7-209A634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150-A562-457D-8A83-E2BE53A6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ED81-264A-4126-96B4-2D66C8E1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3F48-C047-4A1D-9F2A-96D04546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4929-4E95-47FD-85E7-6ED0CEE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A4BA-80E7-4E08-987B-907349E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DF7D-BFFB-4672-A1C0-4C51EC76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DEEE-EE00-4E7C-B738-63AF8F6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B57-AC56-48EC-95C0-5904236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4573-688E-4284-B6EA-EF5AAFA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B7DE-5B6D-4CC2-9BAE-979A13C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91A7-0080-4F34-A251-AFEF0CC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A66F-0D21-4778-99EA-69A2572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6C32-F670-405C-9386-BA4A59B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48CB-3875-4D32-819A-46B8CC09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CA65-4E18-444B-8647-8C0EE75C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829-7E16-44C7-A3C8-5B4C2B8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671-965C-4BA7-BA76-19F51E90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5B9-4690-4DCE-8C33-62E41526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D1F-B693-40B8-9905-BC9D1D8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988-E235-4E26-9D6E-C18B711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F3C-1585-43D6-9C9C-FC8BFAE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50A-6D30-4E17-828E-56BDAB9543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D93-BCA8-4467-949D-F6D5E4B7B6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6738-B4F6-45E0-801C-B0DAABF282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shb.ru/AKDiL/0005/pic/Image4042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.foto.radikal.ru/0604/7607e05c11a4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0920" y="620640"/>
            <a:ext cx="8109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крыт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русскому язы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 2 класс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теме «Устаревши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илько Ольг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Портрет писателя Владимира Ивановича Даля. 1872 Х. , м. 94х80, 5 ГТГ"/>
          <p:cNvPicPr/>
          <p:nvPr/>
        </p:nvPicPr>
        <p:blipFill>
          <a:blip r:embed="rId1"/>
          <a:stretch/>
        </p:blipFill>
        <p:spPr>
          <a:xfrm>
            <a:off x="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867280" y="476280"/>
            <a:ext cx="3025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ь Владимир Иван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01-187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-360" y="68760"/>
            <a:ext cx="853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ов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83200"/>
            <a:ext cx="85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9280" y="1628640"/>
            <a:ext cx="8425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Пальто, плащ, шуба,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0920" y="5229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6840" y="7920"/>
            <a:ext cx="91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оссовк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7020000" y="7650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7" descr="лапти 456.jpg"/>
          <p:cNvPicPr/>
          <p:nvPr/>
        </p:nvPicPr>
        <p:blipFill>
          <a:blip r:embed="rId1"/>
          <a:stretch/>
        </p:blipFill>
        <p:spPr>
          <a:xfrm>
            <a:off x="1403280" y="1844640"/>
            <a:ext cx="63802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50920" y="0"/>
            <a:ext cx="842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льто, плащ, шуба,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0" descr="зипун кафтан.jpg"/>
          <p:cNvPicPr/>
          <p:nvPr/>
        </p:nvPicPr>
        <p:blipFill>
          <a:blip r:embed="rId1"/>
          <a:srcRect l="3057" t="942" r="4215" b="8913"/>
          <a:stretch/>
        </p:blipFill>
        <p:spPr>
          <a:xfrm>
            <a:off x="2987640" y="2060640"/>
            <a:ext cx="2733840" cy="4608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кафтан.jpg"/>
          <p:cNvPicPr/>
          <p:nvPr/>
        </p:nvPicPr>
        <p:blipFill>
          <a:blip r:embed="rId2"/>
          <a:srcRect l="0" t="0" r="56768" b="0"/>
          <a:stretch/>
        </p:blipFill>
        <p:spPr>
          <a:xfrm>
            <a:off x="5892840" y="1197000"/>
            <a:ext cx="3251160" cy="47815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1258920" y="1557360"/>
            <a:ext cx="201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0" y="1773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24000" y="312840"/>
            <a:ext cx="8582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219640" y="1125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Картинка 20 из 12014"/>
          <p:cNvPicPr/>
          <p:nvPr/>
        </p:nvPicPr>
        <p:blipFill>
          <a:blip r:embed="rId1"/>
          <a:stretch/>
        </p:blipFill>
        <p:spPr>
          <a:xfrm>
            <a:off x="179280" y="2951280"/>
            <a:ext cx="3492720" cy="1900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Картинка 82 из 12014"/>
          <p:cNvPicPr/>
          <p:nvPr/>
        </p:nvPicPr>
        <p:blipFill>
          <a:blip r:embed="rId2"/>
          <a:stretch/>
        </p:blipFill>
        <p:spPr>
          <a:xfrm>
            <a:off x="3708360" y="2276640"/>
            <a:ext cx="5256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4211640" y="981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58920" y="2781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ЧИ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995640" y="2781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2599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ойско – р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0920" y="1557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оворить – молв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472428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лоб - ч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9280" y="3141720"/>
            <a:ext cx="81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олодой - млад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250920" y="1253160"/>
            <a:ext cx="810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ё настроени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52920"/>
            <a:ext cx="896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ртовский свет ворвался в тёмную комнату. Он, как фокусник, в одно мгновение преобразил всё вокруг. Комната засверкала, засияла, заблестела. Даже огромный ларь, стоящий в углу,  уже не казался таким мрачн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0" y="5516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р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старевшее) – большой деревянный ящик для хранения чего-нибудь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Мучной лар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Картинка 1465 из 67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41576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ь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341000"/>
            <a:ext cx="8715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ознаком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  устаревшими слов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9280" y="-110880"/>
            <a:ext cx="878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яснить, каки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аревш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знать,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ую рол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гр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ревшие слова 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ском язы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ься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ход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аревшие слов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в текс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объяснять их зна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-12420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ушачке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.С.Пушк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2268360" y="270828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0" y="364500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5867280" y="357336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611280" y="450864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5715000" y="528624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4365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бит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ытая повозка с верхом, телег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лета) и сани (для зимы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79280" y="573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луч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 передняя часть повозки, 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м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Картинка 36 из 24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3640" cy="326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Картинка 3 из 175"/>
          <p:cNvPicPr/>
          <p:nvPr/>
        </p:nvPicPr>
        <p:blipFill>
          <a:blip r:embed="rId3"/>
          <a:stretch/>
        </p:blipFill>
        <p:spPr>
          <a:xfrm>
            <a:off x="5003640" y="11970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артинка 37 из 6404"/>
          <p:cNvPicPr/>
          <p:nvPr/>
        </p:nvPicPr>
        <p:blipFill>
          <a:blip r:embed="rId4"/>
          <a:stretch/>
        </p:blipFill>
        <p:spPr>
          <a:xfrm>
            <a:off x="5796000" y="0"/>
            <a:ext cx="3165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41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мщ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естьянин на яму (станции) для перевозки почты, грузов, 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Картинка 1 из 17"/>
          <p:cNvPicPr/>
          <p:nvPr/>
        </p:nvPicPr>
        <p:blipFill>
          <a:blip r:embed="rId1"/>
          <a:stretch/>
        </p:blipFill>
        <p:spPr>
          <a:xfrm>
            <a:off x="-181080" y="0"/>
            <a:ext cx="329256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Картинка 6 из 17"/>
          <p:cNvPicPr/>
          <p:nvPr/>
        </p:nvPicPr>
        <p:blipFill>
          <a:blip r:embed="rId2"/>
          <a:stretch/>
        </p:blipFill>
        <p:spPr>
          <a:xfrm>
            <a:off x="2916360" y="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59560" y="608904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ш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пояс, обычно широкий, матер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3"/>
          <a:srcRect l="4230" t="33835" r="13960" b="7880"/>
          <a:stretch/>
        </p:blipFill>
        <p:spPr>
          <a:xfrm>
            <a:off x="5867280" y="1197000"/>
            <a:ext cx="3276720" cy="17510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79280" y="530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улу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еховая ш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500040" y="714240"/>
            <a:ext cx="842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ушачке. А.С.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8:56:52Z</dcterms:created>
  <dc:creator>Admin</dc:creator>
  <dc:description/>
  <dc:language>en-US</dc:language>
  <cp:lastModifiedBy>Dom</cp:lastModifiedBy>
  <dcterms:modified xsi:type="dcterms:W3CDTF">2021-04-06T13:32:55Z</dcterms:modified>
  <cp:revision>27</cp:revision>
  <dc:subject/>
  <dc:title>Слайд 1</dc:title>
</cp:coreProperties>
</file>