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485-99C2-4A8B-9652-9985C38E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2B3-7814-4FE6-A73C-F164EE3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C3C-AF30-4A87-95FE-9C1B8446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3A6-F7CA-4A5A-81B7-9C5AB6C4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864F-C67F-4222-8533-200B4A08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9E54-7B1A-4FED-8FCC-07C7FF6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54DE-BF79-4661-8849-2A8A35F6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3780-5F63-4814-A643-38132C34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3F43-F24B-4B8A-B694-0DC31DDC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C105-0EC1-4D40-85F8-0733F8B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3AC-B080-40C1-B84F-0C941A52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7C5-A756-42A4-9067-CC029C6C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A2D-623F-4F7A-8AD9-5DFADF3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AD1F-2048-445D-A5C6-C7879C96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7075-E919-4E27-86E5-72CF40E0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07C0-5C9A-4B31-B857-728EBF80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EF94-D0C5-4FD1-8E41-EA0A831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4056-F5A8-4AEA-992B-53E394F6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18AE-D27B-448C-8181-7998B9A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D355D-70C8-42D8-ABE0-24B4006D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42B3-7885-4927-A9AC-F6579172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EC84-24C3-4151-8AD1-F2A9E460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130-348F-478F-B316-D88204D7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E357-0DF4-467F-AD11-7CE72F0F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90A2-3E1F-4D58-BD4C-9F6A27FD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9FB8-EAE0-48EB-BCEF-3674C999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8066-69FE-412A-A4FF-C26B80F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54C2-28FB-4293-A2BE-E59742A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14F1-59E6-4E13-A721-9850676F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BACA-40F8-4F9E-B2A4-09EE0BDD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E3F-A581-4507-B3A7-D05553F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A62-E438-4816-99FB-8E3FDC4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619-813A-491E-BACA-C4232591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EA0-ECDA-4A92-BD5B-A823324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A61-6F84-49A1-8286-FF792C29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66C-B6DB-4B7A-889F-8375ADC7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E05A-ACA4-4D08-8035-20EB21CDA0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52F-D95B-4079-8707-B12EA6CE39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8A5-3B68-4AA1-8F36-5A6AE2A8A8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nshb.ru/AKDiL/0005/pic/Image4042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.foto.radikal.ru/0604/7607e05c11a4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0920" y="620640"/>
            <a:ext cx="81090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крытый 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русскому язы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 2 класс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 теме «Устаревши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илько Ольг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Портрет писателя Владимира Ивановича Даля. 1872 Х. , м. 94х80, 5 ГТГ"/>
          <p:cNvPicPr/>
          <p:nvPr/>
        </p:nvPicPr>
        <p:blipFill>
          <a:blip r:embed="rId1"/>
          <a:stretch/>
        </p:blipFill>
        <p:spPr>
          <a:xfrm>
            <a:off x="0" y="0"/>
            <a:ext cx="58374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5867280" y="476280"/>
            <a:ext cx="3025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ль Владимир Ивано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01-187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-360" y="68760"/>
            <a:ext cx="853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ов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3283200"/>
            <a:ext cx="85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79280" y="1628640"/>
            <a:ext cx="8425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Пальто, плащ, шуба,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0920" y="5229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6840" y="7920"/>
            <a:ext cx="91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еды,  босоножки,  лапт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россовк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7020000" y="7650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7" descr="лапти 456.jpg"/>
          <p:cNvPicPr/>
          <p:nvPr/>
        </p:nvPicPr>
        <p:blipFill>
          <a:blip r:embed="rId1"/>
          <a:stretch/>
        </p:blipFill>
        <p:spPr>
          <a:xfrm>
            <a:off x="1403280" y="1844640"/>
            <a:ext cx="63802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50920" y="0"/>
            <a:ext cx="8424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альто, плащ, шуба,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фта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10" descr="зипун кафтан.jpg"/>
          <p:cNvPicPr/>
          <p:nvPr/>
        </p:nvPicPr>
        <p:blipFill>
          <a:blip r:embed="rId1"/>
          <a:srcRect l="3057" t="942" r="4215" b="8913"/>
          <a:stretch/>
        </p:blipFill>
        <p:spPr>
          <a:xfrm>
            <a:off x="2987640" y="2060640"/>
            <a:ext cx="2733840" cy="46083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8" descr="кафтан.jpg"/>
          <p:cNvPicPr/>
          <p:nvPr/>
        </p:nvPicPr>
        <p:blipFill>
          <a:blip r:embed="rId2"/>
          <a:srcRect l="0" t="0" r="56768" b="0"/>
          <a:stretch/>
        </p:blipFill>
        <p:spPr>
          <a:xfrm>
            <a:off x="5892840" y="1197000"/>
            <a:ext cx="3251160" cy="4781520"/>
          </a:xfrm>
          <a:prstGeom prst="rect">
            <a:avLst/>
          </a:prstGeom>
          <a:ln w="0">
            <a:noFill/>
          </a:ln>
        </p:spPr>
      </p:pic>
      <p:sp>
        <p:nvSpPr>
          <p:cNvPr id="177" name="Line 7"/>
          <p:cNvSpPr/>
          <p:nvPr/>
        </p:nvSpPr>
        <p:spPr>
          <a:xfrm>
            <a:off x="1258920" y="1557360"/>
            <a:ext cx="201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0" y="1773360"/>
            <a:ext cx="27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324000" y="312840"/>
            <a:ext cx="8582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) Стол, утюг,  коромысл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астрюл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219640" y="1125360"/>
            <a:ext cx="338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Картинка 20 из 12014"/>
          <p:cNvPicPr/>
          <p:nvPr/>
        </p:nvPicPr>
        <p:blipFill>
          <a:blip r:embed="rId1"/>
          <a:stretch/>
        </p:blipFill>
        <p:spPr>
          <a:xfrm>
            <a:off x="179280" y="2951280"/>
            <a:ext cx="3492720" cy="1900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Картинка 82 из 12014"/>
          <p:cNvPicPr/>
          <p:nvPr/>
        </p:nvPicPr>
        <p:blipFill>
          <a:blip r:embed="rId2"/>
          <a:stretch/>
        </p:blipFill>
        <p:spPr>
          <a:xfrm>
            <a:off x="3708360" y="2276640"/>
            <a:ext cx="525636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) Нос, рот, очи, уш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4211640" y="981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58920" y="278136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ЧИ  -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995640" y="2781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324000" y="25992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ойско – р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250920" y="1557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оворить – молви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4724280"/>
            <a:ext cx="662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лоб - чел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9280" y="3141720"/>
            <a:ext cx="81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олодой - младо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250920" y="1253160"/>
            <a:ext cx="8107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еня удивил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ё настроени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52920"/>
            <a:ext cx="8964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ртовский свет ворвался в тёмную комнату. Он, как фокусник, в одно мгновение преобразил всё вокруг. Комната засверкала, засияла, заблестела. Даже огромный ларь, стоящий в углу,  уже не казался таким мрачны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5"/>
          <p:cNvSpPr/>
          <p:nvPr/>
        </p:nvSpPr>
        <p:spPr>
          <a:xfrm>
            <a:off x="0" y="551664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р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устаревшее) – большой деревянный ящик для хранения чего-нибудь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Мучной лар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Картинка 1465 из 67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4716360" y="333360"/>
            <a:ext cx="41576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ель уро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4200" y="1341000"/>
            <a:ext cx="8715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Познаком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с  устаревшими слов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79280" y="-110880"/>
            <a:ext cx="87854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яснить, каки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аревш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знать,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какую рол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гр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ревшие слова 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ском язы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иться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ход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старевшие слов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в текс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 объяснять их зна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-12420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ушачке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.С.Пушкин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2268360" y="270828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0" y="364500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5867280" y="357336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611280" y="4508640"/>
            <a:ext cx="26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5715000" y="5286240"/>
            <a:ext cx="266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50920" y="4365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бит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ытая повозка с верхом, телег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лета) и сани (для зимы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79280" y="5733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лучо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 передняя часть повозки,  ме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м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Картинка 36 из 24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03640" cy="3267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Картинка 3 из 175"/>
          <p:cNvPicPr/>
          <p:nvPr/>
        </p:nvPicPr>
        <p:blipFill>
          <a:blip r:embed="rId3"/>
          <a:stretch/>
        </p:blipFill>
        <p:spPr>
          <a:xfrm>
            <a:off x="5003640" y="119700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Картинка 37 из 6404"/>
          <p:cNvPicPr/>
          <p:nvPr/>
        </p:nvPicPr>
        <p:blipFill>
          <a:blip r:embed="rId4"/>
          <a:stretch/>
        </p:blipFill>
        <p:spPr>
          <a:xfrm>
            <a:off x="5796000" y="0"/>
            <a:ext cx="31654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79280" y="4149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мщ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рестьянин на яму (станции) для перевозки почты, грузов, 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Картинка 1 из 17"/>
          <p:cNvPicPr/>
          <p:nvPr/>
        </p:nvPicPr>
        <p:blipFill>
          <a:blip r:embed="rId1"/>
          <a:stretch/>
        </p:blipFill>
        <p:spPr>
          <a:xfrm>
            <a:off x="-181080" y="0"/>
            <a:ext cx="3292560" cy="3860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Картинка 6 из 17"/>
          <p:cNvPicPr/>
          <p:nvPr/>
        </p:nvPicPr>
        <p:blipFill>
          <a:blip r:embed="rId2"/>
          <a:stretch/>
        </p:blipFill>
        <p:spPr>
          <a:xfrm>
            <a:off x="2916360" y="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59560" y="6089040"/>
            <a:ext cx="81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9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уш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пояс, обычно широкий, матер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3"/>
          <a:srcRect l="4230" t="33835" r="13960" b="7880"/>
          <a:stretch/>
        </p:blipFill>
        <p:spPr>
          <a:xfrm>
            <a:off x="5867280" y="1197000"/>
            <a:ext cx="3276720" cy="17510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179280" y="530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улуп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еховая шу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500040" y="714240"/>
            <a:ext cx="8429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нега пушисты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зрыва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кибитка удал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мщик сидит на облуч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тулупе, в красн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ушачке. А.С.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8:56:52Z</dcterms:created>
  <dc:creator>Admin</dc:creator>
  <dc:description/>
  <dc:language>en-US</dc:language>
  <cp:lastModifiedBy>Dom</cp:lastModifiedBy>
  <dcterms:modified xsi:type="dcterms:W3CDTF">2021-04-06T13:32:55Z</dcterms:modified>
  <cp:revision>27</cp:revision>
  <dc:subject/>
  <dc:title>Слайд 1</dc:title>
</cp:coreProperties>
</file>