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29.jpeg" ContentType="image/jpeg"/>
  <Override PartName="/ppt/media/image5.png" ContentType="image/png"/>
  <Override PartName="/ppt/media/image9.jpeg" ContentType="image/jpeg"/>
  <Override PartName="/ppt/media/image36.jpeg" ContentType="image/jpeg"/>
  <Override PartName="/ppt/media/image30.png" ContentType="image/png"/>
  <Override PartName="/ppt/media/image37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7.jpeg" ContentType="image/jpeg"/>
  <Override PartName="/ppt/media/image38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7AAC-5F5B-4A42-9134-11DA4FF2D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75EC-B154-4D5B-8D5D-673B05DB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CDF2-D8B9-4260-AFFE-0005EBB1F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E70A-C912-4874-A821-BAA280160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1B3E-ABA3-4350-A8C2-F3E917914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2B79-E655-458A-98A4-DE531E29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0B04-95DD-4A74-B3D2-912B2C4A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6896-FD4C-4EFC-BF08-88C04263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663E-2853-43B6-AA82-DAA6DAFF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A92A-B1EC-4FB8-B127-11ED3DEE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1ABA-2500-4AC5-8E8B-0A78D953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BF7F-B22E-4060-8162-4C54A966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4283A-7A72-4504-A79D-E2B1B3E1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9BD3-C14C-49F3-AF15-E21FED2D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F5BD-36E0-4367-8DED-EB6B8FDF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6A40-DDA6-4272-B874-A22950374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71DE-922C-4719-8B1D-73AACE26D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D0F45-5899-4281-A3D3-9B28E4159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1E96B-C5F1-468D-A97B-3F4E6212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FB297-3CC8-4E75-8888-599937A7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DA15A-E7ED-4730-A182-B22C2B11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799AF-6AD4-4FC6-AA4A-C08BECEC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9DAA-C58B-4D06-BF03-5CA3E70B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5C627-9BE6-482A-8B84-A5CBEFA6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42DEE-7486-4F82-BB33-1941B849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35ABD-DF28-433C-B449-E6B3212A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C449A-4E19-454D-BD80-EF27B43F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22A84-DEF5-4711-A3A9-EB0BAC40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2BA7B-1027-42EA-A0D9-83CF7A545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3985E-6719-403A-ACF3-06FCF204E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72526-01E4-4D21-99F6-7909EDDD7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A30C5-F20A-46B3-8437-F93A3BFA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92E9D-176D-4459-A2C2-D29C25E3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9928-82FD-496F-B14D-53AF8749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0FCBC-EFE0-421C-B2EE-264F0672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0E064-5FC0-404B-9792-0809EDE2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618FB-4FC8-4BF3-95B4-6CD89895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27DC9-848D-466C-ABC1-EC4EC468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96FD7-4ACC-4115-B87F-5CEF68E3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E16C1-9D3A-493C-834E-0E23A5F9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EC3C0-ECCB-470D-A29F-34AAD65D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43EFD-FC45-424C-9459-479A36177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B9927-446C-4880-9560-E1DA65BE8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1516-2700-4B7E-8EB1-18D73CEF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9442-CCD6-4975-829D-DBEE3F84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27BF-2E73-46FB-A129-43AA0D91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B89E-4115-4CE8-86FC-FA58B2F3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66B6-F61D-4E0F-90F0-13EE1FD5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F31A-7DAE-4074-A75A-200EE586DF56}" type="slidenum">
              <a:rPr b="0" lang="ru-RU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DD82-4F35-46D3-8D56-83F2396C5988}" type="slidenum">
              <a:rPr b="0" lang="ru-RU" sz="1200" spc="-1" strike="noStrike">
                <a:solidFill>
                  <a:srgbClr val="d1eae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98A9-D437-4CD8-849C-14AC6B98127B}" type="slidenum">
              <a:rPr b="0" lang="ru-RU" sz="1200" spc="-1" strike="noStrike">
                <a:solidFill>
                  <a:srgbClr val="d1eae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6621-CDEC-44B8-BB46-C8ECFC45C294}" type="slidenum">
              <a:rPr b="0" lang="ru-RU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" Target="slide11.xml"/><Relationship Id="rId12" Type="http://schemas.openxmlformats.org/officeDocument/2006/relationships/slide" Target="slide12.xml"/><Relationship Id="rId13" Type="http://schemas.openxmlformats.org/officeDocument/2006/relationships/slide" Target="slide13.xml"/><Relationship Id="rId14" Type="http://schemas.openxmlformats.org/officeDocument/2006/relationships/image" Target="../media/image36.jpeg"/><Relationship Id="rId15" Type="http://schemas.openxmlformats.org/officeDocument/2006/relationships/image" Target="../media/image37.jpeg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Загнутый угол 3"/>
          <p:cNvGrpSpPr/>
          <p:nvPr/>
        </p:nvGrpSpPr>
        <p:grpSpPr>
          <a:xfrm>
            <a:off x="5473800" y="1182600"/>
            <a:ext cx="3547800" cy="4870440"/>
            <a:chOff x="5473800" y="1182600"/>
            <a:chExt cx="3547800" cy="4870440"/>
          </a:xfrm>
        </p:grpSpPr>
        <p:pic>
          <p:nvPicPr>
            <p:cNvPr id="196" name="Загнутый угол 3" descr=""/>
            <p:cNvPicPr/>
            <p:nvPr/>
          </p:nvPicPr>
          <p:blipFill>
            <a:blip r:embed="rId1"/>
            <a:stretch/>
          </p:blipFill>
          <p:spPr>
            <a:xfrm>
              <a:off x="5473800" y="1182600"/>
              <a:ext cx="3547800" cy="487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5562720" y="1219320"/>
              <a:ext cx="3276360" cy="41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Constantia"/>
                  <a:ea typeface="Aharoni"/>
                </a:rPr>
                <a:t>Михаил Михайлович Пришвин- певец русской природы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Constantia"/>
                  <a:ea typeface="Aharoni"/>
                </a:rPr>
                <a:t>(1873 – 1954)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98" name="Picture 9" descr="М.Пришвин: Есть прекрасные деревья, которые до самых морозов сохраняют листву и после морозов до снежных метелей стоят зеленые."/>
          <p:cNvPicPr/>
          <p:nvPr/>
        </p:nvPicPr>
        <p:blipFill>
          <a:blip r:embed="rId2"/>
          <a:stretch/>
        </p:blipFill>
        <p:spPr>
          <a:xfrm>
            <a:off x="762120" y="990720"/>
            <a:ext cx="3581280" cy="46418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Дунино (Московская область) фотографии"/>
          <p:cNvPicPr/>
          <p:nvPr/>
        </p:nvPicPr>
        <p:blipFill>
          <a:blip r:embed="rId1"/>
          <a:stretch/>
        </p:blipFill>
        <p:spPr>
          <a:xfrm>
            <a:off x="1803240" y="1143000"/>
            <a:ext cx="5816880" cy="43434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Дом-музей М.М. Пришвина - - www.Museum.ru"/>
          <p:cNvPicPr/>
          <p:nvPr/>
        </p:nvPicPr>
        <p:blipFill>
          <a:blip r:embed="rId1"/>
          <a:stretch/>
        </p:blipFill>
        <p:spPr>
          <a:xfrm>
            <a:off x="990720" y="1413000"/>
            <a:ext cx="7238880" cy="52718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толова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Фотография Дом-музей М.М.Пришвина. Город Дунино (Московская область)."/>
          <p:cNvPicPr/>
          <p:nvPr/>
        </p:nvPicPr>
        <p:blipFill>
          <a:blip r:embed="rId1"/>
          <a:stretch/>
        </p:blipFill>
        <p:spPr>
          <a:xfrm>
            <a:off x="1828800" y="12193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veksavic - ПРИШВИН -ПЕРВЫЙ АВТОМОБИЛИСТ ЛЕНИНА."/>
          <p:cNvPicPr/>
          <p:nvPr/>
        </p:nvPicPr>
        <p:blipFill>
          <a:blip r:embed="rId1"/>
          <a:stretch/>
        </p:blipFill>
        <p:spPr>
          <a:xfrm>
            <a:off x="977760" y="1170000"/>
            <a:ext cx="7175520" cy="53830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Москвич Пришвин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Музей и усадьба М.М.Пришвина - Московская область, Россия - фото, описание"/>
          <p:cNvPicPr/>
          <p:nvPr/>
        </p:nvPicPr>
        <p:blipFill>
          <a:blip r:embed="rId1"/>
          <a:stretch/>
        </p:blipFill>
        <p:spPr>
          <a:xfrm>
            <a:off x="1295280" y="1676520"/>
            <a:ext cx="5943600" cy="396216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еранда дома Пришвин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Могила М.М.Пришвина - Картинка 3454/48"/>
          <p:cNvPicPr/>
          <p:nvPr/>
        </p:nvPicPr>
        <p:blipFill>
          <a:blip r:embed="rId1"/>
          <a:stretch/>
        </p:blipFill>
        <p:spPr>
          <a:xfrm>
            <a:off x="3879720" y="343080"/>
            <a:ext cx="4502160" cy="57528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514080"/>
            <a:ext cx="396252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Могила М.М.Пришвина</a:t>
            </a:r>
            <a:br>
              <a:rPr sz="2800"/>
            </a:b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Введенское кладбище </a:t>
            </a:r>
            <a:br>
              <a:rPr sz="2400"/>
            </a:b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г. Москва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574800" y="1676520"/>
            <a:ext cx="511164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3124080" cy="40388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9000"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nstantia"/>
              </a:rPr>
              <a:t>Сидящая на уступе Птица-Сирин, таинственная птица счастья. Расправив крылья, запрокинув голову, она поёт, сливаясь в песне с травами, цветами, животными, птицами – всем тем, что так любил в своей жизни Михаил Михайлович Пришвин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showpic"/>
          <p:cNvPicPr/>
          <p:nvPr/>
        </p:nvPicPr>
        <p:blipFill>
          <a:blip r:embed="rId1"/>
          <a:stretch/>
        </p:blipFill>
        <p:spPr>
          <a:xfrm>
            <a:off x="228600" y="1295280"/>
            <a:ext cx="2649600" cy="3151440"/>
          </a:xfrm>
          <a:prstGeom prst="rect">
            <a:avLst/>
          </a:prstGeom>
          <a:ln w="101520">
            <a:solidFill>
              <a:srgbClr val="0000ff"/>
            </a:solidFill>
            <a:miter/>
          </a:ln>
          <a:effectLst>
            <a:outerShdw dist="17819" dir="2700000" blurRad="0" rotWithShape="0">
              <a:srgbClr val="ff9933"/>
            </a:outerShdw>
          </a:effectLst>
        </p:spPr>
      </p:pic>
      <p:sp>
        <p:nvSpPr>
          <p:cNvPr id="230" name="Rectangle 3"/>
          <p:cNvSpPr/>
          <p:nvPr/>
        </p:nvSpPr>
        <p:spPr>
          <a:xfrm>
            <a:off x="2806560" y="-31680"/>
            <a:ext cx="633744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Старик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ю жизнь бродил он по леса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ьев знал язык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ц различал по голоса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ый мне старик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да он ведал напере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ь сосен и дубрав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слаще ягода расте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где полно гриб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то не мог так перед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ы полей и рек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ом о лесе рассказ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этот человек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. Цуран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Rectangle 4" descr=""/>
          <p:cNvPicPr/>
          <p:nvPr/>
        </p:nvPicPr>
        <p:blipFill>
          <a:blip r:embed="rId1"/>
          <a:stretch/>
        </p:blipFill>
        <p:spPr>
          <a:xfrm>
            <a:off x="360360" y="493560"/>
            <a:ext cx="7753320" cy="5992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Книги Пришвина для детей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3" name="Picture 4" descr="_910218274[1]"/>
          <p:cNvPicPr/>
          <p:nvPr/>
        </p:nvPicPr>
        <p:blipFill>
          <a:blip r:embed="rId1"/>
          <a:stretch/>
        </p:blipFill>
        <p:spPr>
          <a:xfrm>
            <a:off x="304920" y="1295280"/>
            <a:ext cx="2295360" cy="3657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34" name="Picture 5" descr="300324241[1]"/>
          <p:cNvPicPr/>
          <p:nvPr/>
        </p:nvPicPr>
        <p:blipFill>
          <a:blip r:embed="rId2"/>
          <a:stretch/>
        </p:blipFill>
        <p:spPr>
          <a:xfrm>
            <a:off x="2895480" y="1371600"/>
            <a:ext cx="3194280" cy="4495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35" name="Picture 6" descr="1000384538[1]"/>
          <p:cNvPicPr/>
          <p:nvPr/>
        </p:nvPicPr>
        <p:blipFill>
          <a:blip r:embed="rId3"/>
          <a:stretch/>
        </p:blipFill>
        <p:spPr>
          <a:xfrm>
            <a:off x="1219320" y="2362320"/>
            <a:ext cx="3122640" cy="4495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1000615369[1]"/>
          <p:cNvPicPr/>
          <p:nvPr/>
        </p:nvPicPr>
        <p:blipFill>
          <a:blip r:embed="rId4"/>
          <a:stretch/>
        </p:blipFill>
        <p:spPr>
          <a:xfrm>
            <a:off x="6338880" y="1295280"/>
            <a:ext cx="2576520" cy="3886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37" name="Picture 8" descr="1000461260[1]"/>
          <p:cNvPicPr/>
          <p:nvPr/>
        </p:nvPicPr>
        <p:blipFill>
          <a:blip r:embed="rId5"/>
          <a:stretch/>
        </p:blipFill>
        <p:spPr>
          <a:xfrm>
            <a:off x="4775040" y="2362320"/>
            <a:ext cx="3149640" cy="4495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newsflash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3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6840" y="533160"/>
            <a:ext cx="3809880" cy="43434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</a:rPr>
              <a:t>Рассказы о весне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</a:rPr>
              <a:t>Начало весны свет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</a:rPr>
              <a:t>Весенний мороз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</a:rPr>
              <a:t>Дорога в конце март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</a:rPr>
              <a:t>Первые ручь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</a:rPr>
              <a:t>Весенний ручей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</a:rPr>
              <a:t>Весна воды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</a:rPr>
              <a:t>Песня воды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</a:rPr>
              <a:t>Весенняя уборк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</a:rPr>
              <a:t>Черёмух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</a:rPr>
              <a:t>Весенний переворот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723920" y="1904760"/>
            <a:ext cx="4038840" cy="4800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t">
            <a:normAutofit fontScale="95000"/>
          </a:bodyPr>
          <a:p>
            <a:pPr marL="259200" indent="-2592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</a:rPr>
              <a:t>Рассказы о лет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1" action="ppaction://hlinksldjump"/>
              </a:rPr>
              <a:t>Первый рак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Недовольная лягушк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3" action="ppaction://hlinksldjump"/>
              </a:rPr>
              <a:t>Осиновый пух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4" action="ppaction://hlinksldjump"/>
              </a:rPr>
              <a:t>Красные шишки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5" action="ppaction://hlinksldjump"/>
              </a:rPr>
              <a:t>Пень-муравейник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6" action="ppaction://hlinksldjump"/>
              </a:rPr>
              <a:t>Закат год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7" action="ppaction://hlinksldjump"/>
              </a:rPr>
              <a:t>Темный лес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8" action="ppaction://hlinksldjump"/>
              </a:rPr>
              <a:t>Зарастающая полян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9" action="ppaction://hlinksldjump"/>
              </a:rPr>
              <a:t>Рожь наливае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10" action="ppaction://hlinksldjump"/>
              </a:rPr>
              <a:t>Ель и березк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11" action="ppaction://hlinksldjump"/>
              </a:rPr>
              <a:t>Дяте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12" action="ppaction://hlinksldjump"/>
              </a:rPr>
              <a:t>Лесные жилищ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13" action="ppaction://hlinksldjump"/>
              </a:rPr>
              <a:t>У старого пня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1" name="Picture 2" descr="рассказы о природе М.М. Пришвина"/>
          <p:cNvPicPr/>
          <p:nvPr/>
        </p:nvPicPr>
        <p:blipFill>
          <a:blip r:embed="rId14"/>
          <a:stretch/>
        </p:blipFill>
        <p:spPr>
          <a:xfrm>
            <a:off x="685800" y="4952880"/>
            <a:ext cx="3048120" cy="173376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3"/>
          <p:cNvSpPr/>
          <p:nvPr/>
        </p:nvSpPr>
        <p:spPr>
          <a:xfrm>
            <a:off x="1259640" y="9720"/>
            <a:ext cx="6789960" cy="19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200" rIns="20520" tIns="31680" bIns="31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0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Picture 4" descr="рассказы о природе М.М. Пришвина"/>
          <p:cNvPicPr/>
          <p:nvPr/>
        </p:nvPicPr>
        <p:blipFill>
          <a:blip r:embed="rId15"/>
          <a:stretch/>
        </p:blipFill>
        <p:spPr>
          <a:xfrm>
            <a:off x="5257800" y="0"/>
            <a:ext cx="3048120" cy="1714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4952880" cy="6324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Михаил Михайлович Пришвин родился 4 февраля 1873 года в селе Хрущево-Лёвшино Орловской губернии в купеческой семье. Его отцу досталось богатое наследство, которое он истратил. Первое образование в биографии Михаила Пришвина было получено в деревенской школе. Затем же он стал обучаться в Елецкой гимназии.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Picture 6" descr="Читая и перечитывая классиков"/>
          <p:cNvPicPr/>
          <p:nvPr/>
        </p:nvPicPr>
        <p:blipFill>
          <a:blip r:embed="rId1"/>
          <a:stretch/>
        </p:blipFill>
        <p:spPr>
          <a:xfrm>
            <a:off x="5257800" y="838080"/>
            <a:ext cx="3505320" cy="4648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solidFill>
            <a:srgbClr val="546422"/>
          </a:solidFill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e2d700"/>
                </a:solidFill>
                <a:uFillTx/>
                <a:latin typeface="Constantia"/>
              </a:rPr>
              <a:t>Рассказы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200" spc="-1" strike="noStrike" u="sng">
                <a:solidFill>
                  <a:srgbClr val="e2d700"/>
                </a:solidFill>
                <a:uFillTx/>
                <a:latin typeface="Constantia"/>
                <a:hlinkClick r:id="rId1" action="ppaction://hlinksldjump"/>
              </a:rPr>
              <a:t>Начало осени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Осинкам холодно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e2d700"/>
                </a:solidFill>
                <a:uFillTx/>
                <a:latin typeface="Constantia"/>
                <a:hlinkClick r:id="rId3" action="ppaction://hlinksldjump"/>
              </a:rPr>
              <a:t>Осенняя роска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етренный день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Рос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Листопад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Рябина краснеет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Заводь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Иван-да-Марья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сенние листики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следние цветы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648320" y="228240"/>
            <a:ext cx="4038480" cy="4435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Рассказы о зим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ристальный день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Деревья в лесу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Беличья память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нежк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ождение месяц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2" descr="рассказы о природе М.М. Пришвина"/>
          <p:cNvPicPr/>
          <p:nvPr/>
        </p:nvPicPr>
        <p:blipFill>
          <a:blip r:embed="rId4"/>
          <a:stretch/>
        </p:blipFill>
        <p:spPr>
          <a:xfrm>
            <a:off x="762120" y="0"/>
            <a:ext cx="3047760" cy="18478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3"/>
          <p:cNvSpPr/>
          <p:nvPr/>
        </p:nvSpPr>
        <p:spPr>
          <a:xfrm>
            <a:off x="1260360" y="9360"/>
            <a:ext cx="679284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200" rIns="20520" tIns="31680" bIns="31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09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4" descr="рассказы о природе М.М. Пришвина"/>
          <p:cNvPicPr/>
          <p:nvPr/>
        </p:nvPicPr>
        <p:blipFill>
          <a:blip r:embed="rId5"/>
          <a:stretch/>
        </p:blipFill>
        <p:spPr>
          <a:xfrm>
            <a:off x="5410080" y="4952880"/>
            <a:ext cx="3048120" cy="1743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2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5-4"/>
          <p:cNvPicPr/>
          <p:nvPr/>
        </p:nvPicPr>
        <p:blipFill>
          <a:blip r:embed="rId1"/>
          <a:stretch/>
        </p:blipFill>
        <p:spPr>
          <a:xfrm>
            <a:off x="380880" y="990720"/>
            <a:ext cx="3657600" cy="4800600"/>
          </a:xfrm>
          <a:prstGeom prst="rect">
            <a:avLst/>
          </a:prstGeom>
          <a:ln w="101520">
            <a:solidFill>
              <a:srgbClr val="0000ff"/>
            </a:solidFill>
            <a:miter/>
          </a:ln>
          <a:effectLst>
            <a:outerShdw dist="89604" dir="2700000" blurRad="0" rotWithShape="0">
              <a:srgbClr val="ff9933"/>
            </a:outerShdw>
          </a:effectLst>
        </p:spPr>
      </p:pic>
      <p:sp>
        <p:nvSpPr>
          <p:cNvPr id="202" name="Text Box 3"/>
          <p:cNvSpPr/>
          <p:nvPr/>
        </p:nvSpPr>
        <p:spPr>
          <a:xfrm>
            <a:off x="4500720" y="765000"/>
            <a:ext cx="453708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Мария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Ивановн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Пришвин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(1842 – 1914 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мать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3"/>
          <p:cNvSpPr/>
          <p:nvPr/>
        </p:nvSpPr>
        <p:spPr>
          <a:xfrm>
            <a:off x="3962520" y="1371600"/>
            <a:ext cx="528948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Валерия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Дмитриевн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Пришвина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(1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99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-19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79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жен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Picture 4" descr="8a0b28fc655a13869e94133d7f2aedd2"/>
          <p:cNvPicPr/>
          <p:nvPr/>
        </p:nvPicPr>
        <p:blipFill>
          <a:blip r:embed="rId1"/>
          <a:stretch/>
        </p:blipFill>
        <p:spPr>
          <a:xfrm>
            <a:off x="609480" y="549360"/>
            <a:ext cx="3657600" cy="5470560"/>
          </a:xfrm>
          <a:prstGeom prst="rect">
            <a:avLst/>
          </a:prstGeom>
          <a:ln w="101520">
            <a:solidFill>
              <a:srgbClr val="0000ff"/>
            </a:solidFill>
            <a:miter/>
          </a:ln>
          <a:effectLst>
            <a:outerShdw dist="89604" dir="2700000" blurRad="0" rotWithShape="0">
              <a:srgbClr val="ff9933"/>
            </a:outerShdw>
          </a:effectLst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Михаил Пришвин: жив человек Русский Обозреватель"/>
          <p:cNvPicPr/>
          <p:nvPr/>
        </p:nvPicPr>
        <p:blipFill>
          <a:blip r:embed="rId1"/>
          <a:stretch/>
        </p:blipFill>
        <p:spPr>
          <a:xfrm>
            <a:off x="2209680" y="990720"/>
            <a:ext cx="5703840" cy="4114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Заголовок 1" descr=""/>
          <p:cNvPicPr/>
          <p:nvPr/>
        </p:nvPicPr>
        <p:blipFill>
          <a:blip r:embed="rId1"/>
          <a:stretch/>
        </p:blipFill>
        <p:spPr>
          <a:xfrm>
            <a:off x="450720" y="426960"/>
            <a:ext cx="8321760" cy="1408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Дунино (Московская область) фотографии"/>
          <p:cNvPicPr/>
          <p:nvPr/>
        </p:nvPicPr>
        <p:blipFill>
          <a:blip r:embed="rId2"/>
          <a:stretch/>
        </p:blipFill>
        <p:spPr>
          <a:xfrm>
            <a:off x="2133720" y="1981080"/>
            <a:ext cx="5105160" cy="3829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Rectangle 4" descr=""/>
          <p:cNvPicPr/>
          <p:nvPr/>
        </p:nvPicPr>
        <p:blipFill>
          <a:blip r:embed="rId1"/>
          <a:stretch/>
        </p:blipFill>
        <p:spPr>
          <a:xfrm>
            <a:off x="1962000" y="225360"/>
            <a:ext cx="5310360" cy="6181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Дом-музей М.М. Пришвина"/>
          <p:cNvPicPr/>
          <p:nvPr/>
        </p:nvPicPr>
        <p:blipFill>
          <a:blip r:embed="rId2"/>
          <a:stretch/>
        </p:blipFill>
        <p:spPr>
          <a:xfrm>
            <a:off x="7053120" y="914400"/>
            <a:ext cx="1916280" cy="1676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" descr="Дом-музей М.М. Пришвина"/>
          <p:cNvPicPr/>
          <p:nvPr/>
        </p:nvPicPr>
        <p:blipFill>
          <a:blip r:embed="rId3"/>
          <a:stretch/>
        </p:blipFill>
        <p:spPr>
          <a:xfrm>
            <a:off x="254160" y="3581280"/>
            <a:ext cx="1630080" cy="2438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2" descr="Дом-музей М.М.Пришвина"/>
          <p:cNvPicPr/>
          <p:nvPr/>
        </p:nvPicPr>
        <p:blipFill>
          <a:blip r:embed="rId4"/>
          <a:stretch/>
        </p:blipFill>
        <p:spPr>
          <a:xfrm>
            <a:off x="7391520" y="3581280"/>
            <a:ext cx="1579320" cy="2363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4" descr="Дом-музей М.М. Пришвина"/>
          <p:cNvPicPr/>
          <p:nvPr/>
        </p:nvPicPr>
        <p:blipFill>
          <a:blip r:embed="rId5"/>
          <a:stretch/>
        </p:blipFill>
        <p:spPr>
          <a:xfrm>
            <a:off x="304920" y="914400"/>
            <a:ext cx="1569960" cy="2286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Фотография Дом-музей М.М.Пришвина. Город Дунино (Московская область)."/>
          <p:cNvPicPr/>
          <p:nvPr/>
        </p:nvPicPr>
        <p:blipFill>
          <a:blip r:embed="rId1"/>
          <a:stretch/>
        </p:blipFill>
        <p:spPr>
          <a:xfrm>
            <a:off x="2057400" y="127620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Дом-музей М.М. Пришвина - - www.Museum.ru"/>
          <p:cNvPicPr/>
          <p:nvPr/>
        </p:nvPicPr>
        <p:blipFill>
          <a:blip r:embed="rId1"/>
          <a:stretch/>
        </p:blipFill>
        <p:spPr>
          <a:xfrm>
            <a:off x="355680" y="533520"/>
            <a:ext cx="4205160" cy="5867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Дом-музей М.М. Пришвина - - www.Museum.ru"/>
          <p:cNvPicPr/>
          <p:nvPr/>
        </p:nvPicPr>
        <p:blipFill>
          <a:blip r:embed="rId2"/>
          <a:stretch/>
        </p:blipFill>
        <p:spPr>
          <a:xfrm>
            <a:off x="4952880" y="533520"/>
            <a:ext cx="3905280" cy="5857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21-04-06T04:31:00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