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9.jpeg" ContentType="image/jpeg"/>
  <Override PartName="/ppt/media/image5.png" ContentType="image/png"/>
  <Override PartName="/ppt/media/image9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2D9-CE5D-4D72-919E-2759B904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1AD-73A3-4F2D-9D8D-4D83B196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20A-6B8F-4430-B2F3-1D586D00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EFD-90CC-4E04-99F5-0B82B266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C6BD-92C0-42A3-9B34-8DA19A52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1827-7FB7-41B8-8CBC-2F374873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AB1F-FBC0-4686-8A22-71BA59C3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1ECE-D98D-42C6-86BE-2463CB03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4F32-FDF7-422F-9062-BB1034C9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F8E1-E21E-457D-BCD4-BDA93EBA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8DEE-D336-4FB2-99C4-20E25805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600-8A1E-4BA2-89E6-486671F9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441E-6868-448C-A504-28C5313C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5043-7EFF-4CED-8394-F818D059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9060-7FE0-45AA-8047-0B29B378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187A-76AB-4D46-8101-6D221162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E8F4-C81C-429E-A963-6DF39BF6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124A-17D9-4891-9723-20B9CA5C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A68E-513F-4482-A237-BCEF9020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BF0F-CF81-485C-8426-EF4BEF34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C429-4CFC-49CE-9BDE-B0D0F6AD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281F2-DC7E-400E-98AB-83EB2384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8DE-DFD1-4668-B43A-3056842B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5F84-D106-4294-AA24-6DD6B93C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317B-69B8-4189-83D0-1AC23D9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9DAF-A080-4C5B-9EAF-B3E7F8C1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E6D8-F911-40AF-8813-87A08C0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BF319-1DF5-49B4-A6D4-7A0826D6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34A5-F5A6-463C-AA2A-57EE90EE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F065-2876-4C61-AA38-96B5E695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4B16-BE57-4AC0-AC89-2DA18473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E28C-E937-482C-AC8A-198EE29A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CD9DB-CD61-4BE7-BDDC-D3810DCA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03A-306A-4994-97C2-703653B7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C8CE-936D-453A-98CB-1DD3A5DE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12369-CA6B-406E-A32A-BAA93304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EA7C7-CDD2-4344-AD1C-E2355634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AFF40-4080-49A0-A5DE-FE1457B9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C0CF-2D98-4D5A-8237-D7B94AC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F653B-FC35-4C5E-8BB1-72FA4503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AAD3F-EBD6-4C53-83DD-60703265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02DA-95BE-4628-8479-8B21F57F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A8DB3-50C1-443A-B78D-44B2CFB5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BB3-64BE-4962-A1B0-7F87BFF8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BA5-E7DC-48BA-A0BD-D7EAA85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6BF-85AC-42D9-8AE1-526C5E6D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0B0-06B5-4E9F-81DE-C8C2F73C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EA9-F33F-4879-9473-928894A2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3B89-67C6-42FB-8CB3-520FD2B52C2A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5DC2-F2EB-4023-8025-472F786E8698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C942-68F6-449E-ABC8-E98725A4CB9A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77D5-FCA9-4C17-9448-B97E170A584A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Загнутый угол 3"/>
          <p:cNvGrpSpPr/>
          <p:nvPr/>
        </p:nvGrpSpPr>
        <p:grpSpPr>
          <a:xfrm>
            <a:off x="5473800" y="1182600"/>
            <a:ext cx="3547800" cy="4870440"/>
            <a:chOff x="5473800" y="1182600"/>
            <a:chExt cx="3547800" cy="4870440"/>
          </a:xfrm>
        </p:grpSpPr>
        <p:pic>
          <p:nvPicPr>
            <p:cNvPr id="196" name="Загнутый угол 3" descr=""/>
            <p:cNvPicPr/>
            <p:nvPr/>
          </p:nvPicPr>
          <p:blipFill>
            <a:blip r:embed="rId1"/>
            <a:stretch/>
          </p:blipFill>
          <p:spPr>
            <a:xfrm>
              <a:off x="5473800" y="1182600"/>
              <a:ext cx="3547800" cy="48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562720" y="1219320"/>
              <a:ext cx="3276360" cy="41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Constantia"/>
                  <a:ea typeface="Aharoni"/>
                </a:rPr>
                <a:t>Михаил Михайлович Пришвин- певец русской природы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Constantia"/>
                  <a:ea typeface="Aharoni"/>
                </a:rPr>
                <a:t>(1873 – 1954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8" name="Picture 9" descr="М.Пришвин: Есть прекрасные деревья, которые до самых морозов сохраняют листву и после морозов до снежных метелей стоят зеленые."/>
          <p:cNvPicPr/>
          <p:nvPr/>
        </p:nvPicPr>
        <p:blipFill>
          <a:blip r:embed="rId2"/>
          <a:stretch/>
        </p:blipFill>
        <p:spPr>
          <a:xfrm>
            <a:off x="762120" y="990720"/>
            <a:ext cx="3581280" cy="464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Дунино (Московская область) фотографии"/>
          <p:cNvPicPr/>
          <p:nvPr/>
        </p:nvPicPr>
        <p:blipFill>
          <a:blip r:embed="rId1"/>
          <a:stretch/>
        </p:blipFill>
        <p:spPr>
          <a:xfrm>
            <a:off x="1803240" y="1143000"/>
            <a:ext cx="5816880" cy="4343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Дом-музей М.М. Пришвина - - www.Museum.ru"/>
          <p:cNvPicPr/>
          <p:nvPr/>
        </p:nvPicPr>
        <p:blipFill>
          <a:blip r:embed="rId1"/>
          <a:stretch/>
        </p:blipFill>
        <p:spPr>
          <a:xfrm>
            <a:off x="990720" y="1413000"/>
            <a:ext cx="7238880" cy="52718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олова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Фотография Дом-музей М.М.Пришвина. Город Дунино (Московская область)."/>
          <p:cNvPicPr/>
          <p:nvPr/>
        </p:nvPicPr>
        <p:blipFill>
          <a:blip r:embed="rId1"/>
          <a:stretch/>
        </p:blipFill>
        <p:spPr>
          <a:xfrm>
            <a:off x="1828800" y="1219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veksavic - ПРИШВИН -ПЕРВЫЙ АВТОМОБИЛИСТ ЛЕНИНА."/>
          <p:cNvPicPr/>
          <p:nvPr/>
        </p:nvPicPr>
        <p:blipFill>
          <a:blip r:embed="rId1"/>
          <a:stretch/>
        </p:blipFill>
        <p:spPr>
          <a:xfrm>
            <a:off x="977760" y="1170000"/>
            <a:ext cx="7175520" cy="53830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осквич Пришв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Музей и усадьба М.М.Пришвина - Московская область, Россия - фото, описание"/>
          <p:cNvPicPr/>
          <p:nvPr/>
        </p:nvPicPr>
        <p:blipFill>
          <a:blip r:embed="rId1"/>
          <a:stretch/>
        </p:blipFill>
        <p:spPr>
          <a:xfrm>
            <a:off x="1295280" y="1676520"/>
            <a:ext cx="5943600" cy="3962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еранда дома Пришв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Могила М.М.Пришвина - Картинка 3454/48"/>
          <p:cNvPicPr/>
          <p:nvPr/>
        </p:nvPicPr>
        <p:blipFill>
          <a:blip r:embed="rId1"/>
          <a:stretch/>
        </p:blipFill>
        <p:spPr>
          <a:xfrm>
            <a:off x="3879720" y="343080"/>
            <a:ext cx="4502160" cy="57528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514080"/>
            <a:ext cx="396252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Могила М.М.Пришвина</a:t>
            </a:r>
            <a:br>
              <a:rPr sz="28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Введенское кладбище 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г. Москва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3124080" cy="4038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9000"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Сидящая на уступе Птица-Сирин, таинственная птица счастья. Расправив крылья, запрокинув голову, она поёт, сливаясь в песне с травами, цветами, животными, птицами – всем тем, что так любил в своей жизни Михаил Михайлович Пришви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showpic"/>
          <p:cNvPicPr/>
          <p:nvPr/>
        </p:nvPicPr>
        <p:blipFill>
          <a:blip r:embed="rId1"/>
          <a:stretch/>
        </p:blipFill>
        <p:spPr>
          <a:xfrm>
            <a:off x="228600" y="1295280"/>
            <a:ext cx="2649600" cy="315144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sp>
        <p:nvSpPr>
          <p:cNvPr id="230" name="Rectangle 3"/>
          <p:cNvSpPr/>
          <p:nvPr/>
        </p:nvSpPr>
        <p:spPr>
          <a:xfrm>
            <a:off x="2806560" y="-31680"/>
            <a:ext cx="63374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Старик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жизнь бродил он по лес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ев знал язык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 различал по голос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ый мне стари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он ведал напере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ь сосен и дубрав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лаще ягода расте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де полно гриб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мог так перед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ы полей и рек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м о лесе рассказ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т человек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. Цуран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4" descr=""/>
          <p:cNvPicPr/>
          <p:nvPr/>
        </p:nvPicPr>
        <p:blipFill>
          <a:blip r:embed="rId1"/>
          <a:stretch/>
        </p:blipFill>
        <p:spPr>
          <a:xfrm>
            <a:off x="360360" y="493560"/>
            <a:ext cx="7753320" cy="5992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ниги Пришвина для детей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4" descr="_910218274[1]"/>
          <p:cNvPicPr/>
          <p:nvPr/>
        </p:nvPicPr>
        <p:blipFill>
          <a:blip r:embed="rId1"/>
          <a:stretch/>
        </p:blipFill>
        <p:spPr>
          <a:xfrm>
            <a:off x="304920" y="1295280"/>
            <a:ext cx="2295360" cy="365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4" name="Picture 5" descr="300324241[1]"/>
          <p:cNvPicPr/>
          <p:nvPr/>
        </p:nvPicPr>
        <p:blipFill>
          <a:blip r:embed="rId2"/>
          <a:stretch/>
        </p:blipFill>
        <p:spPr>
          <a:xfrm>
            <a:off x="2895480" y="1371600"/>
            <a:ext cx="3194280" cy="4495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5" name="Picture 6" descr="1000384538[1]"/>
          <p:cNvPicPr/>
          <p:nvPr/>
        </p:nvPicPr>
        <p:blipFill>
          <a:blip r:embed="rId3"/>
          <a:stretch/>
        </p:blipFill>
        <p:spPr>
          <a:xfrm>
            <a:off x="1219320" y="2362320"/>
            <a:ext cx="3122640" cy="4495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1000615369[1]"/>
          <p:cNvPicPr/>
          <p:nvPr/>
        </p:nvPicPr>
        <p:blipFill>
          <a:blip r:embed="rId4"/>
          <a:stretch/>
        </p:blipFill>
        <p:spPr>
          <a:xfrm>
            <a:off x="6338880" y="1295280"/>
            <a:ext cx="2576520" cy="388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37" name="Picture 8" descr="1000461260[1]"/>
          <p:cNvPicPr/>
          <p:nvPr/>
        </p:nvPicPr>
        <p:blipFill>
          <a:blip r:embed="rId5"/>
          <a:stretch/>
        </p:blipFill>
        <p:spPr>
          <a:xfrm>
            <a:off x="4775040" y="2362320"/>
            <a:ext cx="3149640" cy="4495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533160"/>
            <a:ext cx="3809880" cy="4343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Рассказы о весн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Начало весны све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ий мороз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Дорога в конце март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Первые ручь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ий ручей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на вод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Песня воды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яя уборк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Черёмух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Весенний переворо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23920" y="1904760"/>
            <a:ext cx="4038840" cy="4800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2d700"/>
                </a:solidFill>
                <a:uFillTx/>
                <a:latin typeface="Constantia"/>
              </a:rPr>
              <a:t>Рассказы о лет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Первый ра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Недовольная лягуш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Осиновый п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Красные шишки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Пень-муравейни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Закат г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Темный лес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Зарастающая поляна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9" action="ppaction://hlinksldjump"/>
              </a:rPr>
              <a:t>Рожь налива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0" action="ppaction://hlinksldjump"/>
              </a:rPr>
              <a:t>Ель и берез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1" action="ppaction://hlinksldjump"/>
              </a:rPr>
              <a:t>Дяте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2" action="ppaction://hlinksldjump"/>
              </a:rPr>
              <a:t>Лесные жилищ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3" action="ppaction://hlinksldjump"/>
              </a:rPr>
              <a:t>У старого пн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рассказы о природе М.М. Пришвина"/>
          <p:cNvPicPr/>
          <p:nvPr/>
        </p:nvPicPr>
        <p:blipFill>
          <a:blip r:embed="rId14"/>
          <a:stretch/>
        </p:blipFill>
        <p:spPr>
          <a:xfrm>
            <a:off x="685800" y="4952880"/>
            <a:ext cx="3048120" cy="17337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1259640" y="9720"/>
            <a:ext cx="67899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200" rIns="20520" tIns="31680" bIns="31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0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4" descr="рассказы о природе М.М. Пришвина"/>
          <p:cNvPicPr/>
          <p:nvPr/>
        </p:nvPicPr>
        <p:blipFill>
          <a:blip r:embed="rId15"/>
          <a:stretch/>
        </p:blipFill>
        <p:spPr>
          <a:xfrm>
            <a:off x="5257800" y="0"/>
            <a:ext cx="3048120" cy="1714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495288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ихаил Михайлович Пришвин родился 4 февраля 1873 года в селе Хрущево-Лёвшино Орловской губернии в купеческой семье. Его отцу досталось богатое наследство, которое он истратил. Первое образование в биографии Михаила Пришвина было получено в деревенской школе. Затем же он стал обучаться в Елецкой гимназии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6" descr="Читая и перечитывая классиков"/>
          <p:cNvPicPr/>
          <p:nvPr/>
        </p:nvPicPr>
        <p:blipFill>
          <a:blip r:embed="rId1"/>
          <a:stretch/>
        </p:blipFill>
        <p:spPr>
          <a:xfrm>
            <a:off x="5257800" y="838080"/>
            <a:ext cx="3505320" cy="4648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solidFill>
            <a:srgbClr val="546422"/>
          </a:solidFill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</a:rPr>
              <a:t>Рассказ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Начало осени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Осинкам холодно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Осенняя роск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етренный ден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ос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Листопа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ябина краснеет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водь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Иван-да-Марь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сенние листики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следние цвет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228240"/>
            <a:ext cx="4038480" cy="443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ассказы о зим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ристальный ден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еревья в лесу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еличья памя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неж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ождение месяц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рассказы о природе М.М. Пришвина"/>
          <p:cNvPicPr/>
          <p:nvPr/>
        </p:nvPicPr>
        <p:blipFill>
          <a:blip r:embed="rId4"/>
          <a:stretch/>
        </p:blipFill>
        <p:spPr>
          <a:xfrm>
            <a:off x="762120" y="0"/>
            <a:ext cx="3047760" cy="18478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1260360" y="9360"/>
            <a:ext cx="67928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2200" rIns="20520" tIns="31680" bIns="31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09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рассказы о природе М.М. Пришвина"/>
          <p:cNvPicPr/>
          <p:nvPr/>
        </p:nvPicPr>
        <p:blipFill>
          <a:blip r:embed="rId5"/>
          <a:stretch/>
        </p:blipFill>
        <p:spPr>
          <a:xfrm>
            <a:off x="5410080" y="4952880"/>
            <a:ext cx="3048120" cy="174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5-4"/>
          <p:cNvPicPr/>
          <p:nvPr/>
        </p:nvPicPr>
        <p:blipFill>
          <a:blip r:embed="rId1"/>
          <a:stretch/>
        </p:blipFill>
        <p:spPr>
          <a:xfrm>
            <a:off x="380880" y="990720"/>
            <a:ext cx="3657600" cy="480060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89604" dir="2700000" blurRad="0" rotWithShape="0">
              <a:srgbClr val="ff9933"/>
            </a:outerShdw>
          </a:effectLst>
        </p:spPr>
      </p:pic>
      <p:sp>
        <p:nvSpPr>
          <p:cNvPr id="202" name="Text Box 3"/>
          <p:cNvSpPr/>
          <p:nvPr/>
        </p:nvSpPr>
        <p:spPr>
          <a:xfrm>
            <a:off x="4500720" y="765000"/>
            <a:ext cx="4537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ари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ванов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ришви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1842 – 1914 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ма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3962520" y="1371600"/>
            <a:ext cx="52894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алери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Дмитриев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ришвин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99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-19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же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4" descr="8a0b28fc655a13869e94133d7f2aedd2"/>
          <p:cNvPicPr/>
          <p:nvPr/>
        </p:nvPicPr>
        <p:blipFill>
          <a:blip r:embed="rId1"/>
          <a:stretch/>
        </p:blipFill>
        <p:spPr>
          <a:xfrm>
            <a:off x="609480" y="549360"/>
            <a:ext cx="3657600" cy="547056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89604" dir="2700000" blurRad="0" rotWithShape="0">
              <a:srgbClr val="ff9933"/>
            </a:outerShdw>
          </a:effectLst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Михаил Пришвин: жив человек Русский Обозреватель"/>
          <p:cNvPicPr/>
          <p:nvPr/>
        </p:nvPicPr>
        <p:blipFill>
          <a:blip r:embed="rId1"/>
          <a:stretch/>
        </p:blipFill>
        <p:spPr>
          <a:xfrm>
            <a:off x="2209680" y="990720"/>
            <a:ext cx="5703840" cy="411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0720" y="426960"/>
            <a:ext cx="8321760" cy="1408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Дунино (Московская область) фотографии"/>
          <p:cNvPicPr/>
          <p:nvPr/>
        </p:nvPicPr>
        <p:blipFill>
          <a:blip r:embed="rId2"/>
          <a:stretch/>
        </p:blipFill>
        <p:spPr>
          <a:xfrm>
            <a:off x="2133720" y="1981080"/>
            <a:ext cx="5105160" cy="3829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4" descr=""/>
          <p:cNvPicPr/>
          <p:nvPr/>
        </p:nvPicPr>
        <p:blipFill>
          <a:blip r:embed="rId1"/>
          <a:stretch/>
        </p:blipFill>
        <p:spPr>
          <a:xfrm>
            <a:off x="1962000" y="225360"/>
            <a:ext cx="5310360" cy="6181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Дом-музей М.М. Пришвина"/>
          <p:cNvPicPr/>
          <p:nvPr/>
        </p:nvPicPr>
        <p:blipFill>
          <a:blip r:embed="rId2"/>
          <a:stretch/>
        </p:blipFill>
        <p:spPr>
          <a:xfrm>
            <a:off x="7053120" y="914400"/>
            <a:ext cx="1916280" cy="167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Дом-музей М.М. Пришвина"/>
          <p:cNvPicPr/>
          <p:nvPr/>
        </p:nvPicPr>
        <p:blipFill>
          <a:blip r:embed="rId3"/>
          <a:stretch/>
        </p:blipFill>
        <p:spPr>
          <a:xfrm>
            <a:off x="254160" y="3581280"/>
            <a:ext cx="1630080" cy="243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Дом-музей М.М.Пришвина"/>
          <p:cNvPicPr/>
          <p:nvPr/>
        </p:nvPicPr>
        <p:blipFill>
          <a:blip r:embed="rId4"/>
          <a:stretch/>
        </p:blipFill>
        <p:spPr>
          <a:xfrm>
            <a:off x="7391520" y="3581280"/>
            <a:ext cx="1579320" cy="236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Дом-музей М.М. Пришвина"/>
          <p:cNvPicPr/>
          <p:nvPr/>
        </p:nvPicPr>
        <p:blipFill>
          <a:blip r:embed="rId5"/>
          <a:stretch/>
        </p:blipFill>
        <p:spPr>
          <a:xfrm>
            <a:off x="304920" y="914400"/>
            <a:ext cx="156996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Фотография Дом-музей М.М.Пришвина. Город Дунино (Московская область)."/>
          <p:cNvPicPr/>
          <p:nvPr/>
        </p:nvPicPr>
        <p:blipFill>
          <a:blip r:embed="rId1"/>
          <a:stretch/>
        </p:blipFill>
        <p:spPr>
          <a:xfrm>
            <a:off x="2057400" y="12762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Дом-музей М.М. Пришвина - - www.Museum.ru"/>
          <p:cNvPicPr/>
          <p:nvPr/>
        </p:nvPicPr>
        <p:blipFill>
          <a:blip r:embed="rId1"/>
          <a:stretch/>
        </p:blipFill>
        <p:spPr>
          <a:xfrm>
            <a:off x="355680" y="533520"/>
            <a:ext cx="4205160" cy="5867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Дом-музей М.М. Пришвина - - www.Museum.ru"/>
          <p:cNvPicPr/>
          <p:nvPr/>
        </p:nvPicPr>
        <p:blipFill>
          <a:blip r:embed="rId2"/>
          <a:stretch/>
        </p:blipFill>
        <p:spPr>
          <a:xfrm>
            <a:off x="4952880" y="533520"/>
            <a:ext cx="3905280" cy="5857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1-04-06T04:31:0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