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496-1ACD-412E-B645-C6F66635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814-2E1B-4E93-9739-5EA9885C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85F-7918-46EC-BB45-C9617B32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1F3-E1FD-4D9B-BD20-1B89330C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77CA-47F2-4FCA-A583-FB9EAD73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A97A-7D9A-4A35-9244-7937C3F8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23E2-78A1-46B7-A7B8-D6B748B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DA58-247D-4A80-B94F-13989552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4DA3-A3DC-4F13-95B3-C633344F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6F71-C1A3-41CC-8522-E2063599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A8FC-828D-4908-A194-81B4F25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B65-B1DB-4B0B-9762-D022AFE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71C3-C3EA-433E-9661-BAD5D3D4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2A19-EAB2-49BB-861E-3ABC916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CB85-6D1E-4BB8-9FE3-66E2FDAC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58D2-9C5B-4B78-8E91-7DD74A35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5F36-925B-4BC1-B83A-887FE887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B58-101B-4863-A690-99FC50BF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606-6C7A-4E25-B3B2-0D7EDF93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990-08CE-4F5F-BBE7-43B0DAF6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39D-8606-4A4F-96F2-2AD15C89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ED2-2486-46C9-9423-0C1476C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255-3184-4F5E-AAF2-7AD8CE5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876-947A-4158-A83D-A92968DC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A9A4A-9449-44FB-8ADC-3E4E58A7D857}" type="slidenum">
              <a:rPr b="0" lang="ru-RU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A19C4-7EC5-43DD-A7C5-F38B6BB8D10B}" type="slidenum">
              <a:rPr b="0" lang="ru-RU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75016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О-ИССЛЕДОВАТЕЛЬСКАЯ РАБОТА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СЛОВИЦЫ </a:t>
            </a:r>
            <a:r>
              <a:rPr b="1" lang="ru-RU" sz="32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О ТРУДЕ</a:t>
            </a:r>
            <a:br>
              <a:rPr sz="3200"/>
            </a:br>
            <a:r>
              <a:rPr b="1" lang="ru-RU" sz="32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УССКОМ И АНГЛИЙСКОМ ЯЗЫКАХ»</a:t>
            </a:r>
            <a:br>
              <a:rPr sz="3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РАВНИТЕЛЬНЫЙ АНАЛИЗ).</a:t>
            </a:r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516720" y="4365360"/>
            <a:ext cx="203976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и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щиеся 8А класса: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графов Кирилл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 Сергей.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стунова Т.Э.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3564000" y="4365720"/>
            <a:ext cx="2655720" cy="20556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"/>
          <p:cNvPicPr/>
          <p:nvPr/>
        </p:nvPicPr>
        <p:blipFill>
          <a:blip r:embed="rId2"/>
          <a:stretch/>
        </p:blipFill>
        <p:spPr>
          <a:xfrm rot="20854200">
            <a:off x="503280" y="2630520"/>
            <a:ext cx="2184480" cy="217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s://ru-static.z-dn.net/files/dff/d69f531226062f9f6c8be93d7936d7d2.jpg"/>
          <p:cNvPicPr/>
          <p:nvPr/>
        </p:nvPicPr>
        <p:blipFill>
          <a:blip r:embed="rId3"/>
          <a:stretch/>
        </p:blipFill>
        <p:spPr>
          <a:xfrm rot="414600">
            <a:off x="6156360" y="2336400"/>
            <a:ext cx="2305080" cy="17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ИЧЕСКИЕ ПОСЛОВИЦЫ РУССКОГО И АНГЛИЙСКОГО ПРОИСХОЖДЕНИЯ:</a:t>
            </a:r>
            <a:endParaRPr b="1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4920" y="2087280"/>
            <a:ext cx="41194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 не сразу строилась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0320" y="2087280"/>
            <a:ext cx="41180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me was not built in a day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м был не за один день построен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2" name="Picture 2" descr="https://img-fotki.yandex.ru/get/9749/97833783.775/0_df8cf_a5e71735_XXXL.jpg"/>
          <p:cNvPicPr/>
          <p:nvPr/>
        </p:nvPicPr>
        <p:blipFill>
          <a:blip r:embed="rId1"/>
          <a:stretch/>
        </p:blipFill>
        <p:spPr>
          <a:xfrm>
            <a:off x="395280" y="3789360"/>
            <a:ext cx="3670200" cy="2255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s://img.lookmytrips.com/images/look72jd/big-5728ca76ff936706980d6a29-572997b28ed1a-1bij5ti.jpg"/>
          <p:cNvPicPr/>
          <p:nvPr/>
        </p:nvPicPr>
        <p:blipFill>
          <a:blip r:embed="rId2"/>
          <a:stretch/>
        </p:blipFill>
        <p:spPr>
          <a:xfrm>
            <a:off x="5076720" y="3616200"/>
            <a:ext cx="367200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65920" cy="23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ЖИСЬ С КУРАМИ, ВСТАВАЙ С ПЕТУХОМ.</a:t>
            </a:r>
            <a:br>
              <a:rPr sz="29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TO BED WITH LAMB AND RISE WITH THE LAR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ЛОЖИСЬ СПАТЬ С ЯГНЁНКОМ, А ВСТАВАЙ С ЖАВОРОНКОМ.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280" y="2349000"/>
            <a:ext cx="3767400" cy="41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6" name="Picture 2" descr="https://sun9-52.userapi.com/c857436/v857436877/1c47b5/K6ayvLzyfGQ.jpg"/>
          <p:cNvPicPr/>
          <p:nvPr/>
        </p:nvPicPr>
        <p:blipFill>
          <a:blip r:embed="rId1"/>
          <a:stretch/>
        </p:blipFill>
        <p:spPr>
          <a:xfrm>
            <a:off x="584280" y="2579760"/>
            <a:ext cx="3767040" cy="387036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  <p:pic>
        <p:nvPicPr>
          <p:cNvPr id="97" name="Picture 4" descr="http://i.mycdn.me/i?r=AzEPZsRbOZEKgBhR0XGMT1RkWIcXsNODvr_2F7qF4qEk56aKTM5SRkZCeTgDn6uOyic"/>
          <p:cNvPicPr/>
          <p:nvPr/>
        </p:nvPicPr>
        <p:blipFill>
          <a:blip r:embed="rId2"/>
          <a:stretch/>
        </p:blipFill>
        <p:spPr>
          <a:xfrm>
            <a:off x="4932360" y="2579760"/>
            <a:ext cx="3819600" cy="394488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6448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ПЕШИШЬ, ЛЮДЕЙ НАСМЕШИШЬ. ПОСПЕШНОСТЬ НУЖНА ТОЛЬКО ПРИ ЛОВЛЕ БЛОХ.</a:t>
            </a:r>
            <a:br>
              <a:rPr sz="22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DO THINGS BY HALVES </a:t>
            </a: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-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КОГДА НИЧЕГО НЕ ДЕЛАЙ НАПОЛОВИНУ.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99" name="Picture 2" descr="C:\Users\Учитель\Desktop\3.jpg"/>
          <p:cNvPicPr/>
          <p:nvPr/>
        </p:nvPicPr>
        <p:blipFill>
          <a:blip r:embed="rId1"/>
          <a:stretch/>
        </p:blipFill>
        <p:spPr>
          <a:xfrm>
            <a:off x="500040" y="3500280"/>
            <a:ext cx="3828960" cy="279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Учитель\Desktop\6.jpg"/>
          <p:cNvPicPr/>
          <p:nvPr/>
        </p:nvPicPr>
        <p:blipFill>
          <a:blip r:embed="rId2"/>
          <a:stretch/>
        </p:blipFill>
        <p:spPr>
          <a:xfrm>
            <a:off x="4857840" y="2214720"/>
            <a:ext cx="3819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64480" cy="22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НА МИР НЕ НАРАБОТАЕШЬСЯ.</a:t>
            </a:r>
            <a:br>
              <a:rPr sz="31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LIGENCE IS THE MOTHER OF SUCCESS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-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ЕЖАНИЕ- МАТЬ УСПЕХА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30680" y="2087640"/>
            <a:ext cx="381960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2000"/>
            </a:br>
            <a:endParaRPr b="0" lang="en-US" sz="31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3" name="Picture 2" descr="https://p2.tabor.ru/feed/2016-07-27/11034881/115536_760x500.jpg"/>
          <p:cNvPicPr/>
          <p:nvPr/>
        </p:nvPicPr>
        <p:blipFill>
          <a:blip r:embed="rId1"/>
          <a:stretch/>
        </p:blipFill>
        <p:spPr>
          <a:xfrm>
            <a:off x="482760" y="3070080"/>
            <a:ext cx="4033800" cy="272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Учитель\Desktop\2.jpg"/>
          <p:cNvPicPr/>
          <p:nvPr/>
        </p:nvPicPr>
        <p:blipFill>
          <a:blip r:embed="rId2"/>
          <a:stretch/>
        </p:blipFill>
        <p:spPr>
          <a:xfrm>
            <a:off x="4859280" y="3645000"/>
            <a:ext cx="39132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5:47:53Z</dcterms:created>
  <dc:creator>User</dc:creator>
  <dc:description/>
  <dc:language>en-US</dc:language>
  <cp:lastModifiedBy>Khorst (Svistunova) Olga</cp:lastModifiedBy>
  <dcterms:modified xsi:type="dcterms:W3CDTF">2021-04-06T19:19:27Z</dcterms:modified>
  <cp:revision>88</cp:revision>
  <dc:subject/>
  <dc:title>Пословицы о труде на русском и немецком языке.</dc:title>
</cp:coreProperties>
</file>