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65BB-A324-48DF-9F79-56A1FEE2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B7FB-6A87-48BA-8F16-3652D0E4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E65-E93A-41F3-9C15-4B45242E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01FF-B927-42E9-A2C1-E909B5DD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C11A-8C9E-4577-8383-FC282A31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8D49-8EB1-4248-BC04-8CF29795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3B83-8C2A-4285-BC8C-FE35956E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AD15-5E57-4920-8278-277CC2D0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5780-F08F-4FA5-A36F-E8D4AA3C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F3DE-DA45-4C90-A3C6-35BB46FE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132D-E507-424E-A016-225C6867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138-1106-421D-AE05-5A78DACF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CC18-13A1-4A37-81D9-0140EDC7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29CB-ACDE-402F-88F3-9AE72EE5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BDAC-CD36-4BEB-AA58-16812682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5744-9B66-42A8-B03E-344B84D8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9503-D492-478A-B14B-667A68BA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7AA-BF44-424B-AC1E-852BE381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6B7-0789-4E4F-A902-1841EBDB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D82-2C5C-4A2E-97FF-1A95F29C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C10-F291-4918-A0AF-57F4F17E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1F2-9106-4689-8532-B153EDF3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32B1-7F3A-4182-9882-1071131A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6CE-6C3C-416F-AE7A-04F7022A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86233-D322-4E1F-B62F-236F2B0D88E2}" type="slidenum">
              <a:rPr b="0" lang="ru-RU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04720" y="6415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947000" y="3073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8B297-7F25-49C6-9C05-EA204055ECF8}" type="slidenum">
              <a:rPr b="0" lang="ru-RU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0" y="476280"/>
            <a:ext cx="875016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ЧНО-ИССЛЕДОВАТЕЛЬСКАЯ РАБОТА: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ОСЛОВИЦЫ </a:t>
            </a:r>
            <a:r>
              <a:rPr b="1" lang="ru-RU" sz="32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О ТРУДЕ</a:t>
            </a:r>
            <a:br>
              <a:rPr sz="3200"/>
            </a:br>
            <a:r>
              <a:rPr b="1" lang="ru-RU" sz="32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УССКОМ И АНГЛИЙСКОМ ЯЗЫКАХ»</a:t>
            </a:r>
            <a:br>
              <a:rPr sz="3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РАВНИТЕЛЬНЫЙ АНАЛИЗ).</a:t>
            </a:r>
            <a:endParaRPr b="1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516720" y="4365360"/>
            <a:ext cx="2039760" cy="20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и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еся 8А класса: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графов Кирилл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гин Сергей.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стунова Т.Э.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86" name="Рисунок 2" descr=""/>
          <p:cNvPicPr/>
          <p:nvPr/>
        </p:nvPicPr>
        <p:blipFill>
          <a:blip r:embed="rId1"/>
          <a:stretch/>
        </p:blipFill>
        <p:spPr>
          <a:xfrm>
            <a:off x="3564000" y="4365720"/>
            <a:ext cx="2655720" cy="20556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"/>
          <p:cNvPicPr/>
          <p:nvPr/>
        </p:nvPicPr>
        <p:blipFill>
          <a:blip r:embed="rId2"/>
          <a:stretch/>
        </p:blipFill>
        <p:spPr>
          <a:xfrm rot="20854200">
            <a:off x="503280" y="2630520"/>
            <a:ext cx="2184480" cy="217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s://ru-static.z-dn.net/files/dff/d69f531226062f9f6c8be93d7936d7d2.jpg"/>
          <p:cNvPicPr/>
          <p:nvPr/>
        </p:nvPicPr>
        <p:blipFill>
          <a:blip r:embed="rId3"/>
          <a:stretch/>
        </p:blipFill>
        <p:spPr>
          <a:xfrm rot="414600">
            <a:off x="6156360" y="2336400"/>
            <a:ext cx="2305080" cy="172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ОНИМИЧЕСКИЕ ПОСЛОВИЦЫ РУССКОГО И АНГЛИЙСКОГО ПРОИСХОЖДЕНИЯ:</a:t>
            </a:r>
            <a:endParaRPr b="1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4920" y="2087280"/>
            <a:ext cx="41194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 не сразу строилась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30320" y="2087280"/>
            <a:ext cx="41180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e was not built in a day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м был не за один день построен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92" name="Picture 2" descr="https://img-fotki.yandex.ru/get/9749/97833783.775/0_df8cf_a5e71735_XXXL.jpg"/>
          <p:cNvPicPr/>
          <p:nvPr/>
        </p:nvPicPr>
        <p:blipFill>
          <a:blip r:embed="rId1"/>
          <a:stretch/>
        </p:blipFill>
        <p:spPr>
          <a:xfrm>
            <a:off x="395280" y="3789360"/>
            <a:ext cx="3670200" cy="2255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https://img.lookmytrips.com/images/look72jd/big-5728ca76ff936706980d6a29-572997b28ed1a-1bij5ti.jpg"/>
          <p:cNvPicPr/>
          <p:nvPr/>
        </p:nvPicPr>
        <p:blipFill>
          <a:blip r:embed="rId2"/>
          <a:stretch/>
        </p:blipFill>
        <p:spPr>
          <a:xfrm>
            <a:off x="5076720" y="3616200"/>
            <a:ext cx="367200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65920" cy="23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ЖИСЬ С КУРАМИ, ВСТАВАЙ С ПЕТУХОМ.</a:t>
            </a:r>
            <a:br>
              <a:rPr sz="29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TO BED WITH LAMB AND RISE WITH THE LAR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ЛОЖИСЬ СПАТЬ С ЯГНЁНКОМ, А ВСТАВАЙ С ЖАВОРОНКОМ.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280" y="2349000"/>
            <a:ext cx="3767400" cy="41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96" name="Picture 2" descr="https://sun9-52.userapi.com/c857436/v857436877/1c47b5/K6ayvLzyfGQ.jpg"/>
          <p:cNvPicPr/>
          <p:nvPr/>
        </p:nvPicPr>
        <p:blipFill>
          <a:blip r:embed="rId1"/>
          <a:stretch/>
        </p:blipFill>
        <p:spPr>
          <a:xfrm>
            <a:off x="584280" y="2579760"/>
            <a:ext cx="3767040" cy="387036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97" name="Picture 4" descr="http://i.mycdn.me/i?r=AzEPZsRbOZEKgBhR0XGMT1RkWIcXsNODvr_2F7qF4qEk56aKTM5SRkZCeTgDn6uOyic"/>
          <p:cNvPicPr/>
          <p:nvPr/>
        </p:nvPicPr>
        <p:blipFill>
          <a:blip r:embed="rId2"/>
          <a:stretch/>
        </p:blipFill>
        <p:spPr>
          <a:xfrm>
            <a:off x="4932360" y="2579760"/>
            <a:ext cx="3819600" cy="394488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6448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ПЕШИШЬ, ЛЮДЕЙ НАСМЕШИШЬ. ПОСПЕШНОСТЬ НУЖНА ТОЛЬКО ПРИ ЛОВЛЕ БЛОХ.</a:t>
            </a:r>
            <a:br>
              <a:rPr sz="22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DO THINGS BY HALVES </a:t>
            </a:r>
            <a:r>
              <a:rPr b="1" lang="ru-RU" sz="3100" spc="-1" strike="noStrike">
                <a:solidFill>
                  <a:srgbClr val="ffffff"/>
                </a:solidFill>
                <a:latin typeface="Bookman Old Style"/>
              </a:rPr>
              <a:t>-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ГДА НИЧЕГО НЕ ДЕЛАЙ НАПОЛОВИНУ.</a:t>
            </a:r>
            <a:endParaRPr b="1" lang="en-US" sz="22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99" name="Picture 2" descr="C:\Users\Учитель\Desktop\3.jpg"/>
          <p:cNvPicPr/>
          <p:nvPr/>
        </p:nvPicPr>
        <p:blipFill>
          <a:blip r:embed="rId1"/>
          <a:stretch/>
        </p:blipFill>
        <p:spPr>
          <a:xfrm>
            <a:off x="500040" y="3500280"/>
            <a:ext cx="3828960" cy="279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Учитель\Desktop\6.jpg"/>
          <p:cNvPicPr/>
          <p:nvPr/>
        </p:nvPicPr>
        <p:blipFill>
          <a:blip r:embed="rId2"/>
          <a:stretch/>
        </p:blipFill>
        <p:spPr>
          <a:xfrm>
            <a:off x="4857840" y="2214720"/>
            <a:ext cx="38196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64480" cy="22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Bookman Old Style"/>
              </a:rPr>
              <a:t>НА МИР НЕ НАРАБОТАЕШЬСЯ.</a:t>
            </a:r>
            <a:br>
              <a:rPr sz="31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LIGENCE IS THE MOTHER OF SUCCESS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-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ЛЕЖАНИЕ- МАТЬ УСПЕХА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30680" y="2087640"/>
            <a:ext cx="3819600" cy="37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2000"/>
            </a:br>
            <a:endParaRPr b="0" lang="en-US" sz="31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103" name="Picture 2" descr="https://p2.tabor.ru/feed/2016-07-27/11034881/115536_760x500.jpg"/>
          <p:cNvPicPr/>
          <p:nvPr/>
        </p:nvPicPr>
        <p:blipFill>
          <a:blip r:embed="rId1"/>
          <a:stretch/>
        </p:blipFill>
        <p:spPr>
          <a:xfrm>
            <a:off x="482760" y="3070080"/>
            <a:ext cx="4033800" cy="2721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Users\Учитель\Desktop\2.jpg"/>
          <p:cNvPicPr/>
          <p:nvPr/>
        </p:nvPicPr>
        <p:blipFill>
          <a:blip r:embed="rId2"/>
          <a:stretch/>
        </p:blipFill>
        <p:spPr>
          <a:xfrm>
            <a:off x="4859280" y="3645000"/>
            <a:ext cx="39132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5:47:53Z</dcterms:created>
  <dc:creator>User</dc:creator>
  <dc:description/>
  <dc:language>en-US</dc:language>
  <cp:lastModifiedBy>Khorst (Svistunova) Olga</cp:lastModifiedBy>
  <dcterms:modified xsi:type="dcterms:W3CDTF">2021-04-06T19:19:27Z</dcterms:modified>
  <cp:revision>88</cp:revision>
  <dc:subject/>
  <dc:title>Пословицы о труде на русском и немецком языке.</dc:title>
</cp:coreProperties>
</file>