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0C-9A4F-4AE3-B19E-068CFE12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B76-2F9A-4656-9E70-C321A49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756-1118-4DDC-8298-9BEE5FA3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AC8-74ED-4EF5-B8C6-F8BAC650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470-DD5B-4F09-B9F8-69C72B0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5A9-2188-4492-A377-CECFBB1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CEA-0CD6-41A5-A5E0-D302B82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B62-BD60-47E6-9953-B1D56C02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E8D-DB01-4C4A-8A54-5D059FBF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B39-C06D-434B-B77F-6F93E64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72-A110-4FF4-8029-DE7D13B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88C-5D26-41A6-A59A-5970A37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4250B-BE5D-4F33-88D4-CAB7886F13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уровень: Узнавание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54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актуализация имеющихся знаний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ащихся по теме «  » без их видоизменений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724000" y="4481640"/>
            <a:ext cx="322344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уровень: Воспроизвед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Воспроизведение усвоенных ранее знаний от буквальной копии до применения в типов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уровень: Понимание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Осмысленное восприятие новой информаци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510160" y="3645000"/>
            <a:ext cx="3633480" cy="29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уровень: Применение в знакомых услов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Самостоятельное преобразование усвоенной информации в знаком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 уровень: Применение в нестандартных услов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7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Самостоятельное преобразование усвоенной информации в разнообразн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DMIN\Desktop\magnifying-glass-1.jpeg"/>
          <p:cNvPicPr/>
          <p:nvPr/>
        </p:nvPicPr>
        <p:blipFill>
          <a:blip r:embed="rId1"/>
          <a:stretch/>
        </p:blipFill>
        <p:spPr>
          <a:xfrm>
            <a:off x="6228360" y="3573000"/>
            <a:ext cx="3154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75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15:08:39Z</dcterms:created>
  <dc:creator>дом</dc:creator>
  <dc:description/>
  <dc:language>en-US</dc:language>
  <cp:lastModifiedBy>ADMIN</cp:lastModifiedBy>
  <dcterms:modified xsi:type="dcterms:W3CDTF">2021-04-06T16:19:19Z</dcterms:modified>
  <cp:revision>3</cp:revision>
  <dc:subject/>
  <dc:title>1 уровень: Узнава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