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DE4-B871-4A16-83B2-BB1CD44C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C3F-1562-4116-AA00-C71F01F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A93-F93E-4472-B848-0E31C61D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23E-ED46-464A-91C0-386B7E86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E51-801B-474C-B763-BAE066D0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855-DC7D-443F-8A7C-2A49E9D4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C9E-308A-4954-BD73-FBA6618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2F1-B4A4-4D90-AD3C-348E6FC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24F-79A5-4245-9FE7-9F6E1CA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8E0-6537-4B24-9242-7872CD42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D29-28C3-4CAD-AC1F-66CD09E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3BE-6A8F-4EE0-87A8-8E54519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309A19-379E-4068-8BC8-6727C9CF4D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 уровень: Узнавание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3640" y="1454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актуализация имеющихся знаний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чащихся по теме «  » без их видоизменений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724000" y="4481640"/>
            <a:ext cx="322344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 уровень: Воспроизвед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Воспроизведение усвоенных ранее знаний от буквальной копии до применения в типов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 уровень: Понимание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Осмысленное восприятие новой информаци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510160" y="3645000"/>
            <a:ext cx="3633480" cy="29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 уровень: Применение в знакомых услов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Самостоятельное преобразование усвоенной информации в знаком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 уровень: Применение в нестандартных условиях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7640" y="155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Цель: Самостоятельное преобразование усвоенной информации в разнообразных ситуациях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DMIN\Desktop\magnifying-glass-1.jpeg"/>
          <p:cNvPicPr/>
          <p:nvPr/>
        </p:nvPicPr>
        <p:blipFill>
          <a:blip r:embed="rId1"/>
          <a:stretch/>
        </p:blipFill>
        <p:spPr>
          <a:xfrm>
            <a:off x="6228360" y="3573000"/>
            <a:ext cx="31546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75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6T15:08:39Z</dcterms:created>
  <dc:creator>дом</dc:creator>
  <dc:description/>
  <dc:language>en-US</dc:language>
  <cp:lastModifiedBy>ADMIN</cp:lastModifiedBy>
  <dcterms:modified xsi:type="dcterms:W3CDTF">2021-04-06T16:19:19Z</dcterms:modified>
  <cp:revision>3</cp:revision>
  <dc:subject/>
  <dc:title>1 уровень: Узнава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