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FDC-8870-4436-BF05-294A9EFD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90D-D782-4F0E-B236-D10571CB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99B-0630-42AC-A4F3-60AEE60A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11B-7EC3-4731-AA69-EC675920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F0B-DFC7-44BB-BEE7-3FF16B1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5EC-0D60-4281-87F8-DE0213DD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1E3-1CD0-4245-B5A9-24A860FB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0EB-D566-4A6A-93A5-31DEF28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397-FB16-4F46-8B84-701A108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8CE-F782-416A-AF7D-EA55974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CB0-59BB-49DC-A403-A5DD16A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5C5-DB5F-4550-B747-21B8E81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6D7-BCAB-425E-BCE6-43DFD8C0D9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11BB-2725-4B8C-89FD-9436E105D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рис Степанович Житков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882—1938)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3643200" y="3929040"/>
            <a:ext cx="2214720" cy="1343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4500720" y="1773360"/>
            <a:ext cx="43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ис Житков родился 30 августа (11 сентября) 1882 г. в Новгороде;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отец был преподавателем математики в Новгородском учительском институте,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 — пианистка. 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о провел в Одессе. Получил начальное домашнее образование, затем окончил гимназию. Во время учебы подружился с К. И. Чуковским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4" name="Picture 8" descr="http://baby-scool.narod.ru/media/book/img/foto/pisateli_20_07.jpg"/>
          <p:cNvPicPr/>
          <p:nvPr/>
        </p:nvPicPr>
        <p:blipFill>
          <a:blip r:embed="rId1"/>
          <a:srcRect l="0" t="0" r="321" b="6134"/>
          <a:stretch/>
        </p:blipFill>
        <p:spPr>
          <a:xfrm>
            <a:off x="428760" y="1143000"/>
            <a:ext cx="386856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40000" y="907560"/>
            <a:ext cx="4546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му не было и десяти лет, а он уже великолепно плавал, нырял, один уходил на лодке далеко в море, вызывая зависть соседских мальчишек. Никто из одноклассников не мог лучше и быстрее его вязать морские узлы, грести, предсказывать погоду, распознавать насекомых и птиц. Ему всегда нравились простые и мужественные люди, которые не боятся никаких трудностей и опасностей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356000" y="4221000"/>
            <a:ext cx="45720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ля и настойчивость помогли ему овладеть многими профессиями. Житков работал химиком, кораблестроителем и даже штурманом дальнего плавания. Он осуществил свою мечту: побывал во многих городах и странах земного шара, в кругосветном плавании и в научных экспедициях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059000" cy="5369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80000" y="836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643280" y="1479960"/>
            <a:ext cx="403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т стать писателем Борис Житков не собирался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 он славился среди знакомых как чудесный рассказчик. Однажды по просьб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И. Чуковского Житков записал один из своих рассказов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решило его судьбу.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0" name="Picture 8" descr="http://hydrobio.onu.edu.ua/foto%20sotrudnikov%20biostancii/Zhitkov_Boris.jpg"/>
          <p:cNvPicPr/>
          <p:nvPr/>
        </p:nvPicPr>
        <p:blipFill>
          <a:blip r:embed="rId1"/>
          <a:stretch/>
        </p:blipFill>
        <p:spPr>
          <a:xfrm>
            <a:off x="785880" y="1071720"/>
            <a:ext cx="3564000" cy="5000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50920" y="836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коре в журналах появились веселые истории Житкова для детей: «Про слона», «Про обезьяну», «Мангуста», «Компас», «Гривенник» и др. Борис Степанович писал о настоящей храбрости, о товариществе, о массе интереснейших на свете вещей. И дети сразу полюбили его книги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18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1800360" cy="30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3714840" y="2000160"/>
            <a:ext cx="1735200" cy="273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5072040" y="3643200"/>
            <a:ext cx="2381400" cy="300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bookbox.com.ua/uploads/posts/2012-05/1337795464_26539.jpg"/>
          <p:cNvPicPr/>
          <p:nvPr/>
        </p:nvPicPr>
        <p:blipFill>
          <a:blip r:embed="rId5"/>
          <a:stretch/>
        </p:blipFill>
        <p:spPr>
          <a:xfrm>
            <a:off x="7143840" y="2000160"/>
            <a:ext cx="1771560" cy="235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 rot="20295000">
            <a:off x="1187280" y="1106640"/>
            <a:ext cx="1905120" cy="29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173052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 rot="1135800">
            <a:off x="6497280" y="1028520"/>
            <a:ext cx="199224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500280" y="3643200"/>
            <a:ext cx="2144880" cy="284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img2.labirint.ru/books/31256/big.jpg"/>
          <p:cNvPicPr/>
          <p:nvPr/>
        </p:nvPicPr>
        <p:blipFill>
          <a:blip r:embed="rId5"/>
          <a:stretch/>
        </p:blipFill>
        <p:spPr>
          <a:xfrm rot="1192800">
            <a:off x="872640" y="3780000"/>
            <a:ext cx="1719360" cy="26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g-fotki.yandex.ru/get/4705/olga-zagadki1969.1b/0_64281_fbc91b53_XL"/>
          <p:cNvPicPr/>
          <p:nvPr/>
        </p:nvPicPr>
        <p:blipFill>
          <a:blip r:embed="rId6"/>
          <a:stretch/>
        </p:blipFill>
        <p:spPr>
          <a:xfrm rot="21130800">
            <a:off x="6357600" y="3929040"/>
            <a:ext cx="1844640" cy="2505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50920" y="105264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о чем писал Житков, ему довелось увидеть в жизни своими глазами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делать своими руками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так увлекательны его рассказы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ервых же строк читателей волнует, спасутся ли пассажиры перевернувшегося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шторма парусного судна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 «Шквал»), удастся ли матросам снять компас с захваченного предателями парохода («Компас»), привыкнет ли одичавшая кошка к человеку и подружится ли она с собакой («Беспризорная кошка»). И таких правдивых историй о милосердии человека к «братьям нашим меньшим» — животным Борис Житков рассказал нам много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ков скончался от рака лёгких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ве 19 октября 1938 г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ронен на Ваганьковском кладбище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4" name="Picture 10" descr="http://www.libex.ru/dimg/55ae4.jpg"/>
          <p:cNvPicPr/>
          <p:nvPr/>
        </p:nvPicPr>
        <p:blipFill>
          <a:blip r:embed="rId1"/>
          <a:stretch/>
        </p:blipFill>
        <p:spPr>
          <a:xfrm>
            <a:off x="6286680" y="3571920"/>
            <a:ext cx="2043000" cy="282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lionspalace.ru/img/photo/21/21784.jpg"/>
          <p:cNvPicPr/>
          <p:nvPr/>
        </p:nvPicPr>
        <p:blipFill>
          <a:blip r:embed="rId2"/>
          <a:stretch/>
        </p:blipFill>
        <p:spPr>
          <a:xfrm>
            <a:off x="5572080" y="1071720"/>
            <a:ext cx="3143160" cy="2199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5:40:38Z</dcterms:created>
  <dc:creator>1</dc:creator>
  <dc:description>http://aida.ucoz.ru</dc:description>
  <dc:language>en-US</dc:language>
  <cp:lastModifiedBy>Татьяна Мальцева</cp:lastModifiedBy>
  <dcterms:modified xsi:type="dcterms:W3CDTF">2020-12-02T02:17:25Z</dcterms:modified>
  <cp:revision>8</cp:revision>
  <dc:subject/>
  <dc:title>Борис Степанович Житков (1882—1938) </dc:title>
</cp:coreProperties>
</file>