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1C47-D5F4-441B-9F30-08CE90BB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053-4D90-4867-869B-62FB0335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F29-C74D-4D44-A75E-68EF4C12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A91-32CB-490B-A079-EA5F3203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787-38D8-4854-A39B-BB893DF2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C50-3EBD-459D-A84D-0AA31FC5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EF24-53FD-4854-ACA6-A833503F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167-554D-41C6-B45B-92482224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8B5-D6C6-4020-AFE3-8D12E8F2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4E1-BDBF-4FF7-B57D-C62B187C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F06-0173-462C-97B9-9452A494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789-9DC1-4A0E-B208-65AAD15D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BA2B-BFBD-4EAB-BB2C-C20CEB064C5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4049-01AA-4251-9873-8AF9918E82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рис Степанович Житков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1882—1938)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3643200" y="3929040"/>
            <a:ext cx="2214720" cy="13431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4500720" y="1773360"/>
            <a:ext cx="43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рис Житков родился 30 августа (11 сентября) 1882 г. в Новгороде;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го отец был преподавателем математики в Новгородском учительском институте,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ь — пианистка. 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ство провел в Одессе. Получил начальное домашнее образование, затем окончил гимназию. Во время учебы подружился с К. И. Чуковским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44" name="Picture 8" descr="http://baby-scool.narod.ru/media/book/img/foto/pisateli_20_07.jpg"/>
          <p:cNvPicPr/>
          <p:nvPr/>
        </p:nvPicPr>
        <p:blipFill>
          <a:blip r:embed="rId1"/>
          <a:srcRect l="0" t="0" r="321" b="6134"/>
          <a:stretch/>
        </p:blipFill>
        <p:spPr>
          <a:xfrm>
            <a:off x="428760" y="1143000"/>
            <a:ext cx="3868560" cy="4572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140000" y="907560"/>
            <a:ext cx="4546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Ему не было и десяти лет, а он уже великолепно плавал, нырял, один уходил на лодке далеко в море, вызывая зависть соседских мальчишек. Никто из одноклассников не мог лучше и быстрее его вязать морские узлы, грести, предсказывать погоду, распознавать насекомых и птиц. Ему всегда нравились простые и мужественные люди, которые не боятся никаких трудностей и опасностей.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356000" y="4221000"/>
            <a:ext cx="457200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оля и настойчивость помогли ему овладеть многими профессиями. Житков работал химиком, кораблестроителем и даже штурманом дальнего плавания. Он осуществил свою мечту: побывал во многих городах и странах земного шара, в кругосветном плавании и в научных экспедициях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059000" cy="53690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780000" y="83664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643280" y="1479960"/>
            <a:ext cx="4030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от стать писателем Борис Житков не собирался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о он славился среди знакомых как чудесный рассказчик. Однажды по просьбе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 И. Чуковского Житков записал один из своих рассказов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решило его судьбу. 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50" name="Picture 8" descr="http://hydrobio.onu.edu.ua/foto%20sotrudnikov%20biostancii/Zhitkov_Boris.jpg"/>
          <p:cNvPicPr/>
          <p:nvPr/>
        </p:nvPicPr>
        <p:blipFill>
          <a:blip r:embed="rId1"/>
          <a:stretch/>
        </p:blipFill>
        <p:spPr>
          <a:xfrm>
            <a:off x="785880" y="1071720"/>
            <a:ext cx="3564000" cy="50004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250920" y="836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коре в журналах появились веселые истории Житкова для детей: «Про слона», «Про обезьяну», «Мангуста», «Компас», «Гривенник» и др. Борис Степанович писал о настоящей храбрости, о товариществе, о массе интереснейших на свете вещей. И дети сразу полюбили его книги. 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2428920" y="3571920"/>
            <a:ext cx="1871640" cy="2735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1800360" cy="309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3714840" y="2000160"/>
            <a:ext cx="1735200" cy="273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5072040" y="3643200"/>
            <a:ext cx="2381400" cy="3000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bookbox.com.ua/uploads/posts/2012-05/1337795464_26539.jpg"/>
          <p:cNvPicPr/>
          <p:nvPr/>
        </p:nvPicPr>
        <p:blipFill>
          <a:blip r:embed="rId5"/>
          <a:stretch/>
        </p:blipFill>
        <p:spPr>
          <a:xfrm>
            <a:off x="7143840" y="2000160"/>
            <a:ext cx="1771560" cy="2357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 rot="20295000">
            <a:off x="1187280" y="1106640"/>
            <a:ext cx="1905120" cy="292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643200" y="857160"/>
            <a:ext cx="1730520" cy="266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 rot="1135800">
            <a:off x="6497280" y="1028520"/>
            <a:ext cx="199224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3500280" y="3643200"/>
            <a:ext cx="2144880" cy="284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http://img2.labirint.ru/books/31256/big.jpg"/>
          <p:cNvPicPr/>
          <p:nvPr/>
        </p:nvPicPr>
        <p:blipFill>
          <a:blip r:embed="rId5"/>
          <a:stretch/>
        </p:blipFill>
        <p:spPr>
          <a:xfrm rot="1192800">
            <a:off x="872640" y="3780000"/>
            <a:ext cx="1719360" cy="2657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img-fotki.yandex.ru/get/4705/olga-zagadki1969.1b/0_64281_fbc91b53_XL"/>
          <p:cNvPicPr/>
          <p:nvPr/>
        </p:nvPicPr>
        <p:blipFill>
          <a:blip r:embed="rId6"/>
          <a:stretch/>
        </p:blipFill>
        <p:spPr>
          <a:xfrm rot="21130800">
            <a:off x="6357600" y="3929040"/>
            <a:ext cx="1844640" cy="25052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250920" y="1052640"/>
            <a:ext cx="5257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, о чем писал Житков, ему довелось увидеть в жизни своими глазами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сделать своими руками.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му так увлекательны его рассказы.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ервых же строк читателей волнует, спасутся ли пассажиры перевернувшегося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ремя шторма парусного судна 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ассказ «Шквал»), удастся ли матросам снять компас с захваченного предателями парохода («Компас»), привыкнет ли одичавшая кошка к человеку и подружится ли она с собакой («Беспризорная кошка»). И таких правдивых историй о милосердии человека к «братьям нашим меньшим» — животным Борис Житков рассказал нам много. 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тков скончался от рака лёгких 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оскве 19 октября 1938 г. 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ронен на Ваганьковском кладбище.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64" name="Picture 10" descr="http://www.libex.ru/dimg/55ae4.jpg"/>
          <p:cNvPicPr/>
          <p:nvPr/>
        </p:nvPicPr>
        <p:blipFill>
          <a:blip r:embed="rId1"/>
          <a:stretch/>
        </p:blipFill>
        <p:spPr>
          <a:xfrm>
            <a:off x="6286680" y="3571920"/>
            <a:ext cx="2043000" cy="2825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http://www.lionspalace.ru/img/photo/21/21784.jpg"/>
          <p:cNvPicPr/>
          <p:nvPr/>
        </p:nvPicPr>
        <p:blipFill>
          <a:blip r:embed="rId2"/>
          <a:stretch/>
        </p:blipFill>
        <p:spPr>
          <a:xfrm>
            <a:off x="5572080" y="1071720"/>
            <a:ext cx="3143160" cy="21999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5:40:38Z</dcterms:created>
  <dc:creator>1</dc:creator>
  <dc:description>http://aida.ucoz.ru</dc:description>
  <dc:language>en-US</dc:language>
  <cp:lastModifiedBy>Татьяна Мальцева</cp:lastModifiedBy>
  <dcterms:modified xsi:type="dcterms:W3CDTF">2020-12-02T02:17:25Z</dcterms:modified>
  <cp:revision>8</cp:revision>
  <dc:subject/>
  <dc:title>Борис Степанович Житков (1882—1938) </dc:title>
</cp:coreProperties>
</file>