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F5D-B433-4F51-916D-D226BF53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680C-D51C-4C27-9B3E-D0B79D7D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0F1-4628-4F44-854C-2A4C6B13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55C-8372-47AF-87CF-0B98C7AE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ADB-9AC9-49B4-B186-D9E0E24B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76F-2EFB-4FE2-A40F-64C38762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289-044B-4AB7-A9F1-7D128A74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C09-3F01-45B7-9712-6EDF31B4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97B-793D-45F9-A146-5A3076D6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03A-18ED-4EF0-ADF1-27418667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48E-B398-49E2-A597-AFCC20F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2EF-8306-4ABD-B430-45DF2BEB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99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5890-631A-4EAF-8AFE-DFF18AABEB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9.xml"/><Relationship Id="rId9" Type="http://schemas.openxmlformats.org/officeDocument/2006/relationships/slide" Target="slide12.xml"/><Relationship Id="rId10" Type="http://schemas.openxmlformats.org/officeDocument/2006/relationships/slide" Target="slide16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ТЕЛЛЕКТУАЛЬНАЯ ИГРА «САМЫЙ УМНЫЙ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95280" y="126828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акой нотой следует нота «ре»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95280" y="2133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аком музыкальном инструменте играл крокодил Ген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армошк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итара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95280" y="3141720"/>
            <a:ext cx="71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то пел песенку «Я от бабушки ушёл и от дедушки ушёл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козлёнок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обок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24000" y="41497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Сколько нот в нотном стан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9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95280" y="5157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 На чём играл кот Матроскин из Простокваши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армошке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гитаре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тру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468360" y="198900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468360" y="292428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3924360" y="393372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6588000" y="494172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4067280" y="595008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8244000" y="6165720"/>
            <a:ext cx="900000" cy="692280"/>
          </a:xfrm>
          <a:custGeom>
            <a:avLst/>
            <a:gdLst>
              <a:gd name="textAreaLeft" fmla="*/ 44640 w 900000"/>
              <a:gd name="textAreaRight" fmla="*/ 855360 w 90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836640"/>
            <a:ext cx="856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 красной шапочке расту среди корней осиновых. Меня увидишь за версту – зовусь 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95280" y="213372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А вот кто-то важный на беленькой ножке. Он в красненькой шапке, на шляпке – гор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ички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ушки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ухо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24000" y="3213000"/>
            <a:ext cx="835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Я родился в день дождливый под берёзкой молодой, круглый, гладенький, красивый, с ножкой толстой и прям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24000" y="4437000"/>
            <a:ext cx="842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лотный, крепкий, статный в шляпке бурой и нарядной. Это гордость всех лесов, настоящий царь гриб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елый гриб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ерезовик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синов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95280" y="551664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Очень дружные сестрички. Ходят в рыженьких беретах, осень в лес приносят ле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ушки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сички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3419640" y="184464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300720" y="3213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324000" y="4292640"/>
            <a:ext cx="2087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395280" y="5516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3203640" y="65977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7626"/>
                </a:moveTo>
                <a:lnTo>
                  <a:pt x="7301" y="7626"/>
                </a:lnTo>
                <a:lnTo>
                  <a:pt x="7301" y="12962"/>
                </a:lnTo>
                <a:cubicBezTo>
                  <a:pt x="7301" y="13884"/>
                  <a:pt x="8102" y="14615"/>
                  <a:pt x="9138" y="14615"/>
                </a:cubicBezTo>
                <a:lnTo>
                  <a:pt x="10800" y="14615"/>
                </a:lnTo>
                <a:cubicBezTo>
                  <a:pt x="11836" y="14615"/>
                  <a:pt x="12636" y="13884"/>
                  <a:pt x="12636" y="12962"/>
                </a:cubicBezTo>
                <a:lnTo>
                  <a:pt x="12636" y="7626"/>
                </a:lnTo>
                <a:lnTo>
                  <a:pt x="10800" y="7626"/>
                </a:lnTo>
                <a:lnTo>
                  <a:pt x="14308" y="4119"/>
                </a:lnTo>
                <a:lnTo>
                  <a:pt x="17981" y="7626"/>
                </a:lnTo>
                <a:lnTo>
                  <a:pt x="16144" y="7626"/>
                </a:lnTo>
                <a:lnTo>
                  <a:pt x="16144" y="12962"/>
                </a:lnTo>
                <a:cubicBezTo>
                  <a:pt x="16144" y="15729"/>
                  <a:pt x="13568" y="18288"/>
                  <a:pt x="10800" y="18288"/>
                </a:cubicBezTo>
                <a:lnTo>
                  <a:pt x="9138" y="18288"/>
                </a:lnTo>
                <a:cubicBezTo>
                  <a:pt x="6370" y="18288"/>
                  <a:pt x="3794" y="15729"/>
                  <a:pt x="3794" y="12962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9640" y="907920"/>
            <a:ext cx="820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огнём бороться мы должны – мы смелые работники, с водою мы напарники. Мы очень людям всем нужны, так кто же 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ар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ожарные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ицей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9640" y="1844640"/>
            <a:ext cx="820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Щёлкнул ножницами звонко, раз-другой взмахнул гребёнкой, от затылка до висков выстриг много воло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арикмахер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дельер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давец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68360" y="285264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идит, склонившись над столом и час, и два, и три. И водит тоненьким пером до утренней за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рач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сатель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борщ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39640" y="386064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от на краешке с опаской он железо красит краской. У него в руках ведро, сам расписан он пест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удожник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троитель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39640" y="5013360"/>
            <a:ext cx="80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В семь часов он начал дело, в десять сумка похудела. А к двенадцати часам всё разнёс по адреса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чтальон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родавец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3419640" y="1916280"/>
            <a:ext cx="194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611280" y="2852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3276720" y="386064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6588000" y="494172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539640" y="6093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7493"/>
                </a:moveTo>
                <a:lnTo>
                  <a:pt x="8906" y="7493"/>
                </a:lnTo>
                <a:lnTo>
                  <a:pt x="8906" y="12828"/>
                </a:lnTo>
                <a:cubicBezTo>
                  <a:pt x="8906" y="13751"/>
                  <a:pt x="9707" y="14482"/>
                  <a:pt x="10743" y="14482"/>
                </a:cubicBezTo>
                <a:lnTo>
                  <a:pt x="12405" y="14482"/>
                </a:lnTo>
                <a:cubicBezTo>
                  <a:pt x="13441" y="14482"/>
                  <a:pt x="14242" y="13751"/>
                  <a:pt x="14242" y="12828"/>
                </a:cubicBezTo>
                <a:lnTo>
                  <a:pt x="14242" y="7493"/>
                </a:lnTo>
                <a:lnTo>
                  <a:pt x="12405" y="7493"/>
                </a:lnTo>
                <a:lnTo>
                  <a:pt x="15913" y="3985"/>
                </a:lnTo>
                <a:lnTo>
                  <a:pt x="19586" y="7493"/>
                </a:lnTo>
                <a:lnTo>
                  <a:pt x="17749" y="7493"/>
                </a:lnTo>
                <a:lnTo>
                  <a:pt x="17749" y="12828"/>
                </a:lnTo>
                <a:cubicBezTo>
                  <a:pt x="17749" y="15596"/>
                  <a:pt x="15173" y="18155"/>
                  <a:pt x="12405" y="18155"/>
                </a:cubicBezTo>
                <a:lnTo>
                  <a:pt x="10743" y="18155"/>
                </a:lnTo>
                <a:cubicBezTo>
                  <a:pt x="7975" y="18155"/>
                  <a:pt x="5399" y="15596"/>
                  <a:pt x="5399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900000" y="981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мнее лежбище медвед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берлога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тка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900000" y="184464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Дом без окон, без дверей, полна горница люд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амвай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кол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у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900000" y="263700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Жилище лиси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дупло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900000" y="3645000"/>
            <a:ext cx="741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Жилище турис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м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ба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ал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826920" y="479736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о узкой дорожке – голова да рожки. Кто так медленно ползёт, на себе свой дом везё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еница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литка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3564000" y="162864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6516720" y="2637000"/>
            <a:ext cx="115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826920" y="3429000"/>
            <a:ext cx="115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6443640" y="4437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3492360" y="587700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4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4000" y="836640"/>
            <a:ext cx="856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а трёх порося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юф-Нюф, Ниф-Ниф, Нуф- Нуф,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ф-Ниф, Наф-Наф, Нуф-Ну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иф-Ниф,     Наф-Наф,     Ноф-Но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24000" y="220500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вали собаку из мультфильма «Трое из Простоквашино»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ик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35772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ак называется команда зверьков, состоящая из двух бурундучков, крысы, мышки и мушк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я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асатели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жа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58136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птицы унесли братца Иванушку в дремучий лес к Бабе-Яг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и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беди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уси-леб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24000" y="566100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й какой сказки вырос в волчьей ста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лыш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Маугли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к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4932360" y="1557360"/>
            <a:ext cx="38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250920" y="3068640"/>
            <a:ext cx="1225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780000" y="443700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7020000" y="5373720"/>
            <a:ext cx="180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80000" y="645336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95280" y="126828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звезда находится ближе всех к нашей план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олнце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на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льдеба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95280" y="206064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ть ли на Луне вод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т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95280" y="299736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ервый космонавт нашей плане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агарин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тр 1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50920" y="4005360"/>
            <a:ext cx="864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Как называется прибор, с помощью которого учёные наблюдают за звёздам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икроскоп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лескоп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430200" y="5300640"/>
            <a:ext cx="8713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 называется прибор, который работает на Лун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негоход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уноход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с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95280" y="2060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68360" y="2852640"/>
            <a:ext cx="790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68360" y="3789360"/>
            <a:ext cx="1295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3995640" y="508464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924360" y="609300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тавь нужную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ЫЖ…                             МАШ…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…СЫ                               Щ…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ЕМ                               В…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…Т…Я                        ПОД…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…ГАН                              КОЛЛЕКЦ…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ЫЖ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МАШ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Ы                               Щ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                               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                          ПОД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З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Н                             КОЛЛЕКЦ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Отгадай, какое слово спряталось. Для этого нужно «взять» из каждого слова указанный слог, затем соединить слог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1-й слог – кап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2-й слог – оранж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3-й слог – по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5129"/>
                </a:solidFill>
                <a:latin typeface="Arial"/>
              </a:rPr>
              <a:t>2-й слог – маши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512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получилось слово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4716360" y="5445000"/>
            <a:ext cx="331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-ран-да-ши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5" descr="k_006"/>
          <p:cNvPicPr/>
          <p:nvPr/>
        </p:nvPicPr>
        <p:blipFill>
          <a:blip r:embed="rId3"/>
          <a:stretch/>
        </p:blipFill>
        <p:spPr>
          <a:xfrm>
            <a:off x="6516720" y="2060640"/>
            <a:ext cx="17128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468360" y="98100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2" action="ppaction://hlinksldjump"/>
          </p:cNvPr>
          <p:cNvSpPr/>
          <p:nvPr/>
        </p:nvSpPr>
        <p:spPr>
          <a:xfrm>
            <a:off x="468360" y="249228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rId3" action="ppaction://hlinksldjump"/>
          </p:cNvPr>
          <p:cNvSpPr/>
          <p:nvPr/>
        </p:nvSpPr>
        <p:spPr>
          <a:xfrm>
            <a:off x="468360" y="400536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>
            <a:hlinkClick r:id="rId4" action="ppaction://hlinksldjump"/>
          </p:cNvPr>
          <p:cNvSpPr/>
          <p:nvPr/>
        </p:nvSpPr>
        <p:spPr>
          <a:xfrm>
            <a:off x="2556000" y="98100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4643280" y="981000"/>
            <a:ext cx="2087640" cy="1511280"/>
          </a:xfrm>
          <a:custGeom>
            <a:avLst/>
            <a:gdLst>
              <a:gd name="textAreaLeft" fmla="*/ 97920 w 2087640"/>
              <a:gd name="textAreaRight" fmla="*/ 1989720 w 20876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6" h="21600">
                <a:moveTo>
                  <a:pt x="0" y="0"/>
                </a:moveTo>
                <a:lnTo>
                  <a:pt x="29836" y="0"/>
                </a:lnTo>
                <a:lnTo>
                  <a:pt x="29836" y="21600"/>
                </a:lnTo>
                <a:lnTo>
                  <a:pt x="0" y="21600"/>
                </a:lnTo>
                <a:close/>
              </a:path>
              <a:path fill="lightenLess" w="29836" h="21600">
                <a:moveTo>
                  <a:pt x="0" y="0"/>
                </a:moveTo>
                <a:lnTo>
                  <a:pt x="29836" y="0"/>
                </a:lnTo>
                <a:lnTo>
                  <a:pt x="28436" y="1400"/>
                </a:lnTo>
                <a:lnTo>
                  <a:pt x="1400" y="1400"/>
                </a:lnTo>
                <a:close/>
              </a:path>
              <a:path fill="darken" w="29836" h="21600">
                <a:moveTo>
                  <a:pt x="29836" y="0"/>
                </a:moveTo>
                <a:lnTo>
                  <a:pt x="29836" y="21600"/>
                </a:lnTo>
                <a:lnTo>
                  <a:pt x="28436" y="20200"/>
                </a:lnTo>
                <a:lnTo>
                  <a:pt x="28436" y="1400"/>
                </a:lnTo>
                <a:close/>
              </a:path>
              <a:path fill="darkenLess" w="29836" h="21600">
                <a:moveTo>
                  <a:pt x="29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6" y="20200"/>
                </a:lnTo>
                <a:close/>
              </a:path>
              <a:path fill="lighten" w="29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>
            <a:hlinkClick r:id="rId6" action="ppaction://hlinksldjump"/>
          </p:cNvPr>
          <p:cNvSpPr/>
          <p:nvPr/>
        </p:nvSpPr>
        <p:spPr>
          <a:xfrm>
            <a:off x="2556000" y="2492280"/>
            <a:ext cx="2087280" cy="15130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7" action="ppaction://hlinksldjump"/>
          </p:cNvPr>
          <p:cNvSpPr/>
          <p:nvPr/>
        </p:nvSpPr>
        <p:spPr>
          <a:xfrm>
            <a:off x="4643280" y="2492280"/>
            <a:ext cx="2089440" cy="1513080"/>
          </a:xfrm>
          <a:custGeom>
            <a:avLst/>
            <a:gdLst>
              <a:gd name="textAreaLeft" fmla="*/ 97920 w 2089440"/>
              <a:gd name="textAreaRight" fmla="*/ 1991520 w 208944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826" h="21600">
                <a:moveTo>
                  <a:pt x="0" y="0"/>
                </a:moveTo>
                <a:lnTo>
                  <a:pt x="29826" y="0"/>
                </a:lnTo>
                <a:lnTo>
                  <a:pt x="29826" y="21600"/>
                </a:lnTo>
                <a:lnTo>
                  <a:pt x="0" y="21600"/>
                </a:lnTo>
                <a:close/>
              </a:path>
              <a:path fill="lightenLess" w="29826" h="21600">
                <a:moveTo>
                  <a:pt x="0" y="0"/>
                </a:moveTo>
                <a:lnTo>
                  <a:pt x="29826" y="0"/>
                </a:lnTo>
                <a:lnTo>
                  <a:pt x="28426" y="1400"/>
                </a:lnTo>
                <a:lnTo>
                  <a:pt x="1400" y="1400"/>
                </a:lnTo>
                <a:close/>
              </a:path>
              <a:path fill="darken" w="29826" h="21600">
                <a:moveTo>
                  <a:pt x="29826" y="0"/>
                </a:moveTo>
                <a:lnTo>
                  <a:pt x="29826" y="21600"/>
                </a:lnTo>
                <a:lnTo>
                  <a:pt x="28426" y="20200"/>
                </a:lnTo>
                <a:lnTo>
                  <a:pt x="28426" y="1400"/>
                </a:lnTo>
                <a:close/>
              </a:path>
              <a:path fill="darkenLess" w="29826" h="21600">
                <a:moveTo>
                  <a:pt x="29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26" y="20200"/>
                </a:lnTo>
                <a:close/>
              </a:path>
              <a:path fill="lighten" w="29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>
            <a:hlinkClick r:id="rId8" action="ppaction://hlinksldjump"/>
          </p:cNvPr>
          <p:cNvSpPr/>
          <p:nvPr/>
        </p:nvSpPr>
        <p:spPr>
          <a:xfrm>
            <a:off x="2556000" y="400536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>
            <a:hlinkClick r:id="rId9" action="ppaction://hlinksldjump"/>
          </p:cNvPr>
          <p:cNvSpPr/>
          <p:nvPr/>
        </p:nvSpPr>
        <p:spPr>
          <a:xfrm>
            <a:off x="4643280" y="4005360"/>
            <a:ext cx="2089440" cy="1511280"/>
          </a:xfrm>
          <a:custGeom>
            <a:avLst/>
            <a:gdLst>
              <a:gd name="textAreaLeft" fmla="*/ 97920 w 2089440"/>
              <a:gd name="textAreaRight" fmla="*/ 1991520 w 208944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61" h="21600">
                <a:moveTo>
                  <a:pt x="0" y="0"/>
                </a:moveTo>
                <a:lnTo>
                  <a:pt x="29861" y="0"/>
                </a:lnTo>
                <a:lnTo>
                  <a:pt x="29861" y="21600"/>
                </a:lnTo>
                <a:lnTo>
                  <a:pt x="0" y="21600"/>
                </a:lnTo>
                <a:close/>
              </a:path>
              <a:path fill="lightenLess" w="29861" h="21600">
                <a:moveTo>
                  <a:pt x="0" y="0"/>
                </a:moveTo>
                <a:lnTo>
                  <a:pt x="29861" y="0"/>
                </a:lnTo>
                <a:lnTo>
                  <a:pt x="28461" y="1400"/>
                </a:lnTo>
                <a:lnTo>
                  <a:pt x="1400" y="1400"/>
                </a:lnTo>
                <a:close/>
              </a:path>
              <a:path fill="darken" w="29861" h="21600">
                <a:moveTo>
                  <a:pt x="29861" y="0"/>
                </a:moveTo>
                <a:lnTo>
                  <a:pt x="29861" y="21600"/>
                </a:lnTo>
                <a:lnTo>
                  <a:pt x="28461" y="20200"/>
                </a:lnTo>
                <a:lnTo>
                  <a:pt x="28461" y="1400"/>
                </a:lnTo>
                <a:close/>
              </a:path>
              <a:path fill="darkenLess" w="29861" h="21600">
                <a:moveTo>
                  <a:pt x="29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61" y="20200"/>
                </a:lnTo>
                <a:close/>
              </a:path>
              <a:path fill="lighten" w="29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3">
            <a:hlinkClick r:id="rId10" action="ppaction://hlinksldjump"/>
          </p:cNvPr>
          <p:cNvSpPr/>
          <p:nvPr/>
        </p:nvSpPr>
        <p:spPr>
          <a:xfrm>
            <a:off x="7740720" y="5589720"/>
            <a:ext cx="1079280" cy="1268280"/>
          </a:xfrm>
          <a:custGeom>
            <a:avLst/>
            <a:gdLst>
              <a:gd name="textAreaLeft" fmla="*/ 69840 w 1079280"/>
              <a:gd name="textAreaRight" fmla="*/ 1009440 w 1079280"/>
              <a:gd name="textAreaTop" fmla="*/ 69840 h 1268280"/>
              <a:gd name="textAreaBottom" fmla="*/ 1198440 h 1268280"/>
            </a:gdLst>
            <a:ahLst/>
            <a:rect l="textAreaLeft" t="textAreaTop" r="textAreaRight" b="textAreaBottom"/>
            <a:pathLst>
              <a:path w="21600" h="25381">
                <a:moveTo>
                  <a:pt x="0" y="0"/>
                </a:moveTo>
                <a:lnTo>
                  <a:pt x="21600" y="0"/>
                </a:lnTo>
                <a:lnTo>
                  <a:pt x="21600" y="25381"/>
                </a:lnTo>
                <a:lnTo>
                  <a:pt x="0" y="25381"/>
                </a:lnTo>
                <a:close/>
              </a:path>
              <a:path fill="lightenLess" w="21600" h="25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81">
                <a:moveTo>
                  <a:pt x="21600" y="0"/>
                </a:moveTo>
                <a:lnTo>
                  <a:pt x="21600" y="25381"/>
                </a:lnTo>
                <a:lnTo>
                  <a:pt x="20200" y="23981"/>
                </a:lnTo>
                <a:lnTo>
                  <a:pt x="20200" y="1400"/>
                </a:lnTo>
                <a:close/>
              </a:path>
              <a:path fill="darkenLess" w="21600" h="25381">
                <a:moveTo>
                  <a:pt x="21600" y="25381"/>
                </a:moveTo>
                <a:lnTo>
                  <a:pt x="0" y="25381"/>
                </a:lnTo>
                <a:lnTo>
                  <a:pt x="1400" y="23981"/>
                </a:lnTo>
                <a:lnTo>
                  <a:pt x="20200" y="23981"/>
                </a:lnTo>
                <a:close/>
              </a:path>
              <a:path fill="lighten" w="21600" h="25381">
                <a:moveTo>
                  <a:pt x="0" y="25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81"/>
                </a:lnTo>
                <a:close/>
              </a:path>
              <a:path fill="darkenLess" w="21600" h="25381">
                <a:moveTo>
                  <a:pt x="5273" y="5876"/>
                </a:moveTo>
                <a:lnTo>
                  <a:pt x="12271" y="5876"/>
                </a:lnTo>
                <a:lnTo>
                  <a:pt x="16327" y="9375"/>
                </a:lnTo>
                <a:lnTo>
                  <a:pt x="16327" y="19506"/>
                </a:lnTo>
                <a:lnTo>
                  <a:pt x="5273" y="19506"/>
                </a:lnTo>
                <a:close/>
              </a:path>
              <a:path fill="darken" w="21600" h="25381">
                <a:moveTo>
                  <a:pt x="12271" y="5876"/>
                </a:moveTo>
                <a:lnTo>
                  <a:pt x="16327" y="9375"/>
                </a:lnTo>
                <a:lnTo>
                  <a:pt x="12271" y="937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>
            <a:hlinkClick r:id="rId11" action="ppaction://hlinksldjump"/>
          </p:cNvPr>
          <p:cNvSpPr/>
          <p:nvPr/>
        </p:nvSpPr>
        <p:spPr>
          <a:xfrm>
            <a:off x="6732720" y="981000"/>
            <a:ext cx="2089080" cy="1511280"/>
          </a:xfrm>
          <a:custGeom>
            <a:avLst/>
            <a:gdLst>
              <a:gd name="textAreaLeft" fmla="*/ 97920 w 2089080"/>
              <a:gd name="textAreaRight" fmla="*/ 1991160 w 20890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56" h="21600">
                <a:moveTo>
                  <a:pt x="0" y="0"/>
                </a:moveTo>
                <a:lnTo>
                  <a:pt x="29856" y="0"/>
                </a:lnTo>
                <a:lnTo>
                  <a:pt x="29856" y="21600"/>
                </a:lnTo>
                <a:lnTo>
                  <a:pt x="0" y="21600"/>
                </a:lnTo>
                <a:close/>
              </a:path>
              <a:path fill="lightenLess" w="29856" h="21600">
                <a:moveTo>
                  <a:pt x="0" y="0"/>
                </a:moveTo>
                <a:lnTo>
                  <a:pt x="29856" y="0"/>
                </a:lnTo>
                <a:lnTo>
                  <a:pt x="28456" y="1400"/>
                </a:lnTo>
                <a:lnTo>
                  <a:pt x="1400" y="1400"/>
                </a:lnTo>
                <a:close/>
              </a:path>
              <a:path fill="darken" w="29856" h="21600">
                <a:moveTo>
                  <a:pt x="29856" y="0"/>
                </a:moveTo>
                <a:lnTo>
                  <a:pt x="29856" y="21600"/>
                </a:lnTo>
                <a:lnTo>
                  <a:pt x="28456" y="20200"/>
                </a:lnTo>
                <a:lnTo>
                  <a:pt x="28456" y="1400"/>
                </a:lnTo>
                <a:close/>
              </a:path>
              <a:path fill="darkenLess" w="29856" h="21600">
                <a:moveTo>
                  <a:pt x="29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56" y="20200"/>
                </a:lnTo>
                <a:close/>
              </a:path>
              <a:path fill="lighten" w="29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>
            <a:hlinkClick r:id="rId12" action="ppaction://hlinksldjump"/>
          </p:cNvPr>
          <p:cNvSpPr/>
          <p:nvPr/>
        </p:nvSpPr>
        <p:spPr>
          <a:xfrm>
            <a:off x="6732720" y="2492280"/>
            <a:ext cx="2087280" cy="15130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29795" h="21600">
                <a:moveTo>
                  <a:pt x="0" y="0"/>
                </a:moveTo>
                <a:lnTo>
                  <a:pt x="29795" y="0"/>
                </a:lnTo>
                <a:lnTo>
                  <a:pt x="29795" y="21600"/>
                </a:lnTo>
                <a:lnTo>
                  <a:pt x="0" y="21600"/>
                </a:lnTo>
                <a:close/>
              </a:path>
              <a:path fill="lightenLess" w="29795" h="21600">
                <a:moveTo>
                  <a:pt x="0" y="0"/>
                </a:moveTo>
                <a:lnTo>
                  <a:pt x="29795" y="0"/>
                </a:lnTo>
                <a:lnTo>
                  <a:pt x="28395" y="1400"/>
                </a:lnTo>
                <a:lnTo>
                  <a:pt x="1400" y="1400"/>
                </a:lnTo>
                <a:close/>
              </a:path>
              <a:path fill="darken" w="29795" h="21600">
                <a:moveTo>
                  <a:pt x="29795" y="0"/>
                </a:moveTo>
                <a:lnTo>
                  <a:pt x="29795" y="21600"/>
                </a:lnTo>
                <a:lnTo>
                  <a:pt x="28395" y="20200"/>
                </a:lnTo>
                <a:lnTo>
                  <a:pt x="28395" y="1400"/>
                </a:lnTo>
                <a:close/>
              </a:path>
              <a:path fill="darkenLess" w="29795" h="21600">
                <a:moveTo>
                  <a:pt x="29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95" y="20200"/>
                </a:lnTo>
                <a:close/>
              </a:path>
              <a:path fill="lighten" w="29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>
            <a:hlinkClick r:id="rId13" action="ppaction://hlinksldjump"/>
          </p:cNvPr>
          <p:cNvSpPr/>
          <p:nvPr/>
        </p:nvSpPr>
        <p:spPr>
          <a:xfrm>
            <a:off x="6732720" y="4005360"/>
            <a:ext cx="2087280" cy="1511280"/>
          </a:xfrm>
          <a:custGeom>
            <a:avLst/>
            <a:gdLst>
              <a:gd name="textAreaLeft" fmla="*/ 97920 w 2087280"/>
              <a:gd name="textAreaRight" fmla="*/ 1989360 w 208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9831" h="21600">
                <a:moveTo>
                  <a:pt x="0" y="0"/>
                </a:moveTo>
                <a:lnTo>
                  <a:pt x="29831" y="0"/>
                </a:lnTo>
                <a:lnTo>
                  <a:pt x="29831" y="21600"/>
                </a:lnTo>
                <a:lnTo>
                  <a:pt x="0" y="21600"/>
                </a:lnTo>
                <a:close/>
              </a:path>
              <a:path fill="lightenLess" w="29831" h="21600">
                <a:moveTo>
                  <a:pt x="0" y="0"/>
                </a:moveTo>
                <a:lnTo>
                  <a:pt x="29831" y="0"/>
                </a:lnTo>
                <a:lnTo>
                  <a:pt x="28431" y="1400"/>
                </a:lnTo>
                <a:lnTo>
                  <a:pt x="1400" y="1400"/>
                </a:lnTo>
                <a:close/>
              </a:path>
              <a:path fill="darken" w="29831" h="21600">
                <a:moveTo>
                  <a:pt x="29831" y="0"/>
                </a:moveTo>
                <a:lnTo>
                  <a:pt x="29831" y="21600"/>
                </a:lnTo>
                <a:lnTo>
                  <a:pt x="28431" y="20200"/>
                </a:lnTo>
                <a:lnTo>
                  <a:pt x="28431" y="1400"/>
                </a:lnTo>
                <a:close/>
              </a:path>
              <a:path fill="darkenLess" w="29831" h="21600">
                <a:moveTo>
                  <a:pt x="29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31" y="20200"/>
                </a:lnTo>
                <a:close/>
              </a:path>
              <a:path fill="lighten" w="29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611280" y="112536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11280" y="2637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611280" y="41497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2627280" y="1125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700360" y="256536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О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2700360" y="4149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4716360" y="112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716360" y="26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4716360" y="414972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6877080" y="112536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6877080" y="2637000"/>
            <a:ext cx="17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ЛЬ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877080" y="414972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119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Мы произносим и слы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звуки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4000" y="20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Звуки, при произнесении которых поток воздуха встречает во рту прег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огласные звуки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24000" y="3141720"/>
            <a:ext cx="882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Поставь ударение в сло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нит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нит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зв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H="1">
            <a:off x="1547280" y="3789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789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4000" y="436572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кончите фразу: «Ах, ты горе ……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солевое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луковое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оховое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24000" y="5254560"/>
            <a:ext cx="828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В каком из слов два сло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ой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й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плеск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6948000" y="378936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324000" y="177336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395280" y="2997360"/>
            <a:ext cx="216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395280" y="4221000"/>
            <a:ext cx="1944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2700360" y="5157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2556000" y="595008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>
            <a:hlinkClick r:id="rId1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69228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Назови произвед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укашек, блошек, муш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екла блинов и плюше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кипятила самова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ть паук меня не скуша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ые замыслы разруши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ческий ком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788000" y="765000"/>
            <a:ext cx="316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«Доктор Айбол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270828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 каком  порядке встретил Колобок зверей на своём пу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к, заяц, медведь, лиса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аяц, волк, медведь, лис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яц, медведь, волк, 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4000" y="3933720"/>
            <a:ext cx="88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де жил Карл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вартире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чердаке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кр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4000" y="479736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Какую сказку написал А.С. Пушкин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Сказка о потерянном времени».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Сказка о царе Салта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 Сказка о глупом мышон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788000" y="1484280"/>
            <a:ext cx="25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5219640" y="3500280"/>
            <a:ext cx="331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5148360" y="479736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796000" y="5589720"/>
            <a:ext cx="30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95280" y="602136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Что купила Муха на базар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амовар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рвиз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324000" y="6669000"/>
            <a:ext cx="201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7493"/>
                </a:moveTo>
                <a:lnTo>
                  <a:pt x="9400" y="7493"/>
                </a:lnTo>
                <a:lnTo>
                  <a:pt x="9400" y="12828"/>
                </a:lnTo>
                <a:cubicBezTo>
                  <a:pt x="9400" y="13751"/>
                  <a:pt x="10201" y="14482"/>
                  <a:pt x="11237" y="14482"/>
                </a:cubicBezTo>
                <a:lnTo>
                  <a:pt x="12899" y="14482"/>
                </a:lnTo>
                <a:cubicBezTo>
                  <a:pt x="13935" y="14482"/>
                  <a:pt x="14736" y="13751"/>
                  <a:pt x="14736" y="12828"/>
                </a:cubicBezTo>
                <a:lnTo>
                  <a:pt x="14736" y="7493"/>
                </a:lnTo>
                <a:lnTo>
                  <a:pt x="12899" y="7493"/>
                </a:lnTo>
                <a:lnTo>
                  <a:pt x="16407" y="3985"/>
                </a:lnTo>
                <a:lnTo>
                  <a:pt x="20080" y="7493"/>
                </a:lnTo>
                <a:lnTo>
                  <a:pt x="18243" y="7493"/>
                </a:lnTo>
                <a:lnTo>
                  <a:pt x="18243" y="12828"/>
                </a:lnTo>
                <a:cubicBezTo>
                  <a:pt x="18243" y="15596"/>
                  <a:pt x="15667" y="18155"/>
                  <a:pt x="12899" y="18155"/>
                </a:cubicBezTo>
                <a:lnTo>
                  <a:pt x="11237" y="18155"/>
                </a:lnTo>
                <a:cubicBezTo>
                  <a:pt x="8469" y="18155"/>
                  <a:pt x="5893" y="15596"/>
                  <a:pt x="5893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5280" y="549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, жаба, тритон –эт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млекопитающиеся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Б) 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пресмыкающиеся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В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земноводные</a:t>
            </a:r>
            <a:r>
              <a:rPr b="1" lang="ru-RU" sz="1800" spc="-1" strike="noStrike">
                <a:solidFill>
                  <a:srgbClr val="060606"/>
                </a:solidFill>
                <a:latin typeface="Arial"/>
              </a:rPr>
              <a:t>  Г)</a:t>
            </a:r>
            <a:r>
              <a:rPr b="0" lang="ru-RU" sz="1800" spc="-1" strike="noStrike">
                <a:solidFill>
                  <a:srgbClr val="060606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95280" y="1268280"/>
            <a:ext cx="820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У кого есть голова, грудь, брюшко и 6 но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насекомые   </a:t>
            </a: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             Б) 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земноводные   </a:t>
            </a:r>
            <a:r>
              <a:rPr b="1" lang="ru-RU" sz="1800" spc="-1" strike="noStrike">
                <a:solidFill>
                  <a:srgbClr val="0a0a0a"/>
                </a:solidFill>
                <a:latin typeface="Arial"/>
              </a:rPr>
              <a:t>       В)</a:t>
            </a:r>
            <a:r>
              <a:rPr b="0" lang="ru-RU" sz="1800" spc="-1" strike="noStrike">
                <a:solidFill>
                  <a:srgbClr val="0a0a0a"/>
                </a:solidFill>
                <a:latin typeface="Arial"/>
              </a:rPr>
              <a:t>млекопит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95280" y="1989000"/>
            <a:ext cx="87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О какой книге говор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ие вида в эту книгу – это сигнал об опасности, угрожающий его существ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ая кни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Б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ая книг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В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кн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95280" y="350028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Где обитают белые медве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Антарктида            Б) Арктика            В) Атлантида          Г) 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8360" y="43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ое животное «лишнее» и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z_003i"/>
          <p:cNvPicPr/>
          <p:nvPr/>
        </p:nvPicPr>
        <p:blipFill>
          <a:blip r:embed="rId1"/>
          <a:stretch/>
        </p:blipFill>
        <p:spPr>
          <a:xfrm>
            <a:off x="0" y="4848120"/>
            <a:ext cx="1806480" cy="20098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08" name="Picture 8" descr="l6894i"/>
          <p:cNvPicPr/>
          <p:nvPr/>
        </p:nvPicPr>
        <p:blipFill>
          <a:blip r:embed="rId2"/>
          <a:stretch/>
        </p:blipFill>
        <p:spPr>
          <a:xfrm>
            <a:off x="2195640" y="4878360"/>
            <a:ext cx="1778040" cy="197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09" name="Picture 14" descr="Копия морж1"/>
          <p:cNvPicPr/>
          <p:nvPr/>
        </p:nvPicPr>
        <p:blipFill>
          <a:blip r:embed="rId3"/>
          <a:stretch/>
        </p:blipFill>
        <p:spPr>
          <a:xfrm>
            <a:off x="4427640" y="4848120"/>
            <a:ext cx="2511360" cy="20098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110" name="Picture 10" descr="o_514i"/>
          <p:cNvPicPr/>
          <p:nvPr/>
        </p:nvPicPr>
        <p:blipFill>
          <a:blip r:embed="rId4"/>
          <a:stretch/>
        </p:blipFill>
        <p:spPr>
          <a:xfrm>
            <a:off x="7365960" y="4878360"/>
            <a:ext cx="1778040" cy="197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111" name="Line 13"/>
          <p:cNvSpPr/>
          <p:nvPr/>
        </p:nvSpPr>
        <p:spPr>
          <a:xfrm>
            <a:off x="5148360" y="112536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68360" y="1916280"/>
            <a:ext cx="1582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5435640" y="3429000"/>
            <a:ext cx="1873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556000" y="4292640"/>
            <a:ext cx="172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244000" y="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" dur="1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95280" y="1125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за трава, которую и слепые узн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орожник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апива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олчье лы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K3181i"/>
          <p:cNvPicPr/>
          <p:nvPr/>
        </p:nvPicPr>
        <p:blipFill>
          <a:blip r:embed="rId1"/>
          <a:stretch/>
        </p:blipFill>
        <p:spPr>
          <a:xfrm>
            <a:off x="6516720" y="692280"/>
            <a:ext cx="1860480" cy="207000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119" name="Text Box 9"/>
          <p:cNvSpPr/>
          <p:nvPr/>
        </p:nvSpPr>
        <p:spPr>
          <a:xfrm>
            <a:off x="468360" y="2133720"/>
            <a:ext cx="58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емена какого растения используют для приготовления шокола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ао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фе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окол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468360" y="328464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жарком солнышке подсох и рвется из стручков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б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асоль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р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68360" y="414972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Что получится, если высушить виногра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ага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юм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р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68360" y="5084640"/>
            <a:ext cx="7199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лепестков у цветка из сказки Катаева «Цветик-семицвети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8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2411280" y="191628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324000" y="3141720"/>
            <a:ext cx="158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4067280" y="407664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2268360" y="4941720"/>
            <a:ext cx="15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3924360" y="6165720"/>
            <a:ext cx="79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24000" y="83664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тера из сказки «Маугл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Акело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Табаки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Баг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50920" y="170028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рыса старухи Шапокляк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иска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ыска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ру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0920" y="249228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т из деревни Простокваши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арик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атроскин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питан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50920" y="3357720"/>
            <a:ext cx="86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«Слепой» кот из сказки «Золотой ключик, или Приключения Буратино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уремар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азилио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рти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50920" y="4365720"/>
            <a:ext cx="871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Как звали пуделя в сказке «Приключения Буратино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темон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лекин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брик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508720" y="1557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324000" y="249228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3203640" y="328464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276720" y="4149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395280" y="5013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ЛЕЙДОСК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95280" y="76500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Как называется жидкое косметическое средство для мытья волос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ель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шампунь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95280" y="155736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Какой месяц начинает зи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январь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евраль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95280" y="2565360"/>
            <a:ext cx="849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то на корабле главный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оцман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турман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п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95280" y="3357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  Кто основал город Санкт-Петербург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анта-Клаус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той Петр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тр 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Г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ён П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395280" y="4076640"/>
            <a:ext cx="69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 Сколько месяцев в г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4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3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2627280" y="1484280"/>
            <a:ext cx="1657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5003640" y="2349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5076720" y="335772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4932360" y="400536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5003640" y="486900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7493"/>
                </a:moveTo>
                <a:lnTo>
                  <a:pt x="8289" y="7493"/>
                </a:lnTo>
                <a:lnTo>
                  <a:pt x="8289" y="12828"/>
                </a:lnTo>
                <a:cubicBezTo>
                  <a:pt x="8289" y="13751"/>
                  <a:pt x="9090" y="14482"/>
                  <a:pt x="10126" y="14482"/>
                </a:cubicBezTo>
                <a:lnTo>
                  <a:pt x="11788" y="14482"/>
                </a:lnTo>
                <a:cubicBezTo>
                  <a:pt x="12824" y="14482"/>
                  <a:pt x="13624" y="13751"/>
                  <a:pt x="13624" y="12828"/>
                </a:cubicBezTo>
                <a:lnTo>
                  <a:pt x="13624" y="7493"/>
                </a:lnTo>
                <a:lnTo>
                  <a:pt x="11788" y="7493"/>
                </a:lnTo>
                <a:lnTo>
                  <a:pt x="15296" y="3985"/>
                </a:lnTo>
                <a:lnTo>
                  <a:pt x="18968" y="7493"/>
                </a:lnTo>
                <a:lnTo>
                  <a:pt x="17132" y="7493"/>
                </a:lnTo>
                <a:lnTo>
                  <a:pt x="17132" y="12828"/>
                </a:lnTo>
                <a:cubicBezTo>
                  <a:pt x="17132" y="15596"/>
                  <a:pt x="14556" y="18155"/>
                  <a:pt x="11788" y="18155"/>
                </a:cubicBezTo>
                <a:lnTo>
                  <a:pt x="10126" y="18155"/>
                </a:lnTo>
                <a:cubicBezTo>
                  <a:pt x="7358" y="18155"/>
                  <a:pt x="4781" y="15596"/>
                  <a:pt x="4781" y="12828"/>
                </a:cubicBez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9:34:59Z</dcterms:created>
  <dc:creator>user</dc:creator>
  <dc:description/>
  <dc:language>en-US</dc:language>
  <cp:lastModifiedBy>Дарья</cp:lastModifiedBy>
  <dcterms:modified xsi:type="dcterms:W3CDTF">2021-04-07T00:16:47Z</dcterms:modified>
  <cp:revision>8</cp:revision>
  <dc:subject/>
  <dc:title>ИНТЕЛЛЕКТУАЛЬНАЯ ИГРА «САМЫЙ УМНЫЙ» 1 КЛАСС</dc:title>
</cp:coreProperties>
</file>