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00D-E4F1-4BA6-A5D1-B52ACC13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B0E-4FFD-460D-9110-491607A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81B-B415-4BC8-AC08-1C7B721C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F64-7B10-465C-BBE6-3B6EC944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AA09-541D-46AA-B77F-242E0792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7C1-160C-49A0-9397-CEA92AA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F70C-8D53-4EFD-A3A5-C009415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DB13-73B0-4290-92D1-A4D5302E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034-53FA-4E23-9F0F-C88E50E7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516-3AF9-4BA1-8233-54E59CA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943F-FF94-4A89-B6BE-A9416F25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840-B444-4E62-BD96-FDC4CEC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386A-B392-425E-A409-FEBF53B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D30-9059-4F8F-940F-BC97BAF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B3E-FA5A-43AE-B2BE-9433341F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FEAF-D9CA-44B7-A7A8-65996A30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E3E0-CD4B-4DD1-9A7D-50734FE2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9D86-F32A-4C03-B697-2A60A87E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D0F2-69B9-4203-864C-754F96D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79F9-511E-45D1-98EB-FA57D23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1A8A-FC95-4498-A4D6-0431EAA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EFE3-2BB2-4756-A9F8-700C61DE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A36-0333-4565-8CD5-1B988A2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C433-64BA-4615-96D8-DE1DA0E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BE57-E2AB-482C-A35E-F21B5F2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5E23-C06D-49F6-9CC9-164D267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665D-53C0-42F9-9F5C-4B1D869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72FA-8195-4B1B-B2F0-96ABA48A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0823-200A-48D3-A0E8-AF6657F3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F6F8-021B-4F0F-B97B-A833380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EA1-664A-479F-984A-6C3D40A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C06-14A8-431A-9D71-2FBFEDC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A5B-B5DE-425F-BD26-F8EE9E3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7F2-9CB9-47CC-851D-5AC2192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C7D-39A6-48C1-B8CE-2F85C80C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25F-2A9C-45AD-85BD-DFAABE1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2BD21A-878C-4C7D-99EC-C8F7C61EA6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1C3D85-DD02-4A93-90E5-8243C944DA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6219D4-304B-448B-9A30-05EFD410FD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ближайшие сосед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Учитель: Серяева Г.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токгольм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Надюша\Рабочий стол\стокгольм1.jpg"/>
          <p:cNvPicPr/>
          <p:nvPr/>
        </p:nvPicPr>
        <p:blipFill>
          <a:blip r:embed="rId1"/>
          <a:stretch/>
        </p:blipFill>
        <p:spPr>
          <a:xfrm>
            <a:off x="5286240" y="1785960"/>
            <a:ext cx="2678400" cy="1785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Надюша\Рабочий стол\4.jpg"/>
          <p:cNvPicPr/>
          <p:nvPr/>
        </p:nvPicPr>
        <p:blipFill>
          <a:blip r:embed="rId2"/>
          <a:stretch/>
        </p:blipFill>
        <p:spPr>
          <a:xfrm>
            <a:off x="1500120" y="1785960"/>
            <a:ext cx="2392560" cy="180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Надюша\Рабочий стол\2.jpg"/>
          <p:cNvPicPr/>
          <p:nvPr/>
        </p:nvPicPr>
        <p:blipFill>
          <a:blip r:embed="rId3"/>
          <a:stretch/>
        </p:blipFill>
        <p:spPr>
          <a:xfrm>
            <a:off x="5357880" y="4214880"/>
            <a:ext cx="2533320" cy="189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Надюша\Рабочий стол\3.jpg"/>
          <p:cNvPicPr/>
          <p:nvPr/>
        </p:nvPicPr>
        <p:blipFill>
          <a:blip r:embed="rId4"/>
          <a:stretch/>
        </p:blipFill>
        <p:spPr>
          <a:xfrm>
            <a:off x="1285920" y="4286160"/>
            <a:ext cx="281484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инляндия- морская стран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ега Финляндии омыв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отнический и Финский заливы Балтийского мор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е называют: «страна тысячи озер» или «страна болот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Хельсин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государства- президен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апланд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еверная часть страны) живет народ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аами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водят олене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Лапландии живет Дед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ороз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нежная единица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инляндская мар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Documents and Settings\Надюша\Рабочий стол\флаг финов.jpeg"/>
          <p:cNvPicPr/>
          <p:nvPr/>
        </p:nvPicPr>
        <p:blipFill>
          <a:blip r:embed="rId1"/>
          <a:stretch/>
        </p:blipFill>
        <p:spPr>
          <a:xfrm>
            <a:off x="1320840" y="1571760"/>
            <a:ext cx="2469600" cy="1658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Documents and Settings\Надюша\Рабочий стол\герб фины.jpg"/>
          <p:cNvPicPr/>
          <p:nvPr/>
        </p:nvPicPr>
        <p:blipFill>
          <a:blip r:embed="rId2"/>
          <a:stretch/>
        </p:blipFill>
        <p:spPr>
          <a:xfrm>
            <a:off x="1571760" y="3571920"/>
            <a:ext cx="1884240" cy="23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трана тысячи озер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C:\Documents and Settings\Надюша\Рабочий стол\финск пейзаж.jpeg"/>
          <p:cNvPicPr/>
          <p:nvPr/>
        </p:nvPicPr>
        <p:blipFill>
          <a:blip r:embed="rId1"/>
          <a:stretch/>
        </p:blipFill>
        <p:spPr>
          <a:xfrm>
            <a:off x="6357960" y="4357800"/>
            <a:ext cx="2241000" cy="1785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Надюша\Рабочий стол\финские озера.jpeg"/>
          <p:cNvPicPr/>
          <p:nvPr/>
        </p:nvPicPr>
        <p:blipFill>
          <a:blip r:embed="rId2"/>
          <a:stretch/>
        </p:blipFill>
        <p:spPr>
          <a:xfrm>
            <a:off x="6286680" y="171432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:\Documents and Settings\Надюша\Рабочий стол\оз ф 2.jpg"/>
          <p:cNvPicPr/>
          <p:nvPr/>
        </p:nvPicPr>
        <p:blipFill>
          <a:blip r:embed="rId3"/>
          <a:stretch/>
        </p:blipFill>
        <p:spPr>
          <a:xfrm>
            <a:off x="548640" y="4286160"/>
            <a:ext cx="2487240" cy="185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C:\Documents and Settings\Надюша\Рабочий стол\оз ф 3.jpg"/>
          <p:cNvPicPr/>
          <p:nvPr/>
        </p:nvPicPr>
        <p:blipFill>
          <a:blip r:embed="rId4"/>
          <a:stretch/>
        </p:blipFill>
        <p:spPr>
          <a:xfrm>
            <a:off x="3357720" y="4643280"/>
            <a:ext cx="2571480" cy="1456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C:\Documents and Settings\Надюша\Рабочий стол\озера фин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59960" cy="192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C:\Documents and Settings\Надюша\Рабочий стол\R7YFCAJ9EPW4CAHUKTJACAOJDKPPCAM4MJODCALTLJ88CA9RJZDXCAAYNQX5CALX2382CATLO1W9CA3E87MTCARUI130CA2AAF3BCAECINN9CA0PP9M8CAVNUH5ECAHX6MN2CAULSEKBCACLOJW2CA61LTU5.jpg"/>
          <p:cNvPicPr/>
          <p:nvPr/>
        </p:nvPicPr>
        <p:blipFill>
          <a:blip r:embed="rId6"/>
          <a:stretch/>
        </p:blipFill>
        <p:spPr>
          <a:xfrm>
            <a:off x="500040" y="1714320"/>
            <a:ext cx="244908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 Лапландии у Деда Мо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Надюша\Рабочий стол\OE8UCAN6USJMCABLBPT2CAVQHY2UCA3FM5OXCAE3OR31CAECNVQWCAAG68Z1CADMX25GCAQG5ML1CAFBXBZFCAO0L6JWCALT1VUZCA7B16O0CAGE7YV7CAOWLE03CAS8XQZACALLML0ICACXXWRICABEADIR.jpg"/>
          <p:cNvPicPr/>
          <p:nvPr/>
        </p:nvPicPr>
        <p:blipFill>
          <a:blip r:embed="rId1"/>
          <a:stretch/>
        </p:blipFill>
        <p:spPr>
          <a:xfrm>
            <a:off x="1170000" y="4071960"/>
            <a:ext cx="3006360" cy="235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Надюша\Рабочий стол\дед.jpg"/>
          <p:cNvPicPr/>
          <p:nvPr/>
        </p:nvPicPr>
        <p:blipFill>
          <a:blip r:embed="rId2"/>
          <a:stretch/>
        </p:blipFill>
        <p:spPr>
          <a:xfrm>
            <a:off x="4786200" y="4071960"/>
            <a:ext cx="3335400" cy="2317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Documents and Settings\Надюша\Рабочий стол\олень.jpg"/>
          <p:cNvPicPr/>
          <p:nvPr/>
        </p:nvPicPr>
        <p:blipFill>
          <a:blip r:embed="rId3"/>
          <a:stretch/>
        </p:blipFill>
        <p:spPr>
          <a:xfrm>
            <a:off x="3429000" y="1641960"/>
            <a:ext cx="2571480" cy="1708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Надюша\Рабочий стол\финляндия.jpeg"/>
          <p:cNvPicPr/>
          <p:nvPr/>
        </p:nvPicPr>
        <p:blipFill>
          <a:blip r:embed="rId4"/>
          <a:stretch/>
        </p:blipFill>
        <p:spPr>
          <a:xfrm>
            <a:off x="571320" y="1571760"/>
            <a:ext cx="2285640" cy="1714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Documents and Settings\Надюша\Рабочий стол\1I4KCA2L6ZSCCAP8U9PNCACZFSHUCAIBRK6GCA9T3L1NCA8CCG0OCA0YNLUMCA0QZVVCCA5IXA3ZCAX5URIZCA9GK9M1CAOXXNVYCAUXU8I1CAWW6BQ0CAAPUUDPCAMGW51MCAVJ5D2MCA91OI32CAYN8WHR.jpg"/>
          <p:cNvPicPr/>
          <p:nvPr/>
        </p:nvPicPr>
        <p:blipFill>
          <a:blip r:embed="rId5"/>
          <a:stretch/>
        </p:blipFill>
        <p:spPr>
          <a:xfrm>
            <a:off x="6572160" y="1623960"/>
            <a:ext cx="2225520" cy="1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Аквапарк в Финлянд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Documents and Settings\Надюша\Рабочий стол\аквапф.jpg"/>
          <p:cNvPicPr/>
          <p:nvPr/>
        </p:nvPicPr>
        <p:blipFill>
          <a:blip r:embed="rId1"/>
          <a:stretch/>
        </p:blipFill>
        <p:spPr>
          <a:xfrm>
            <a:off x="3571920" y="3094920"/>
            <a:ext cx="2115360" cy="1405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Надюша\Рабочий стол\аквапарк.jpg"/>
          <p:cNvPicPr/>
          <p:nvPr/>
        </p:nvPicPr>
        <p:blipFill>
          <a:blip r:embed="rId2"/>
          <a:stretch/>
        </p:blipFill>
        <p:spPr>
          <a:xfrm>
            <a:off x="1071360" y="192996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Надюша\Рабочий стол\аквап.jpg"/>
          <p:cNvPicPr/>
          <p:nvPr/>
        </p:nvPicPr>
        <p:blipFill>
          <a:blip r:embed="rId3"/>
          <a:stretch/>
        </p:blipFill>
        <p:spPr>
          <a:xfrm>
            <a:off x="5929200" y="4071960"/>
            <a:ext cx="2118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Дания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ия расположена на самом большом острове в мире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ренланд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конструктор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ЛЕГО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пенгаге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 Х. Андерсе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ая скульптура- Русалоч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C:\Documents and Settings\Надюша\Рабочий стол\флаг дании.jpg"/>
          <p:cNvPicPr/>
          <p:nvPr/>
        </p:nvPicPr>
        <p:blipFill>
          <a:blip r:embed="rId1"/>
          <a:stretch/>
        </p:blipFill>
        <p:spPr>
          <a:xfrm>
            <a:off x="500040" y="1643040"/>
            <a:ext cx="2647080" cy="1999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Надюша\Рабочий стол\герб дании.jpg"/>
          <p:cNvPicPr/>
          <p:nvPr/>
        </p:nvPicPr>
        <p:blipFill>
          <a:blip r:embed="rId2"/>
          <a:stretch/>
        </p:blipFill>
        <p:spPr>
          <a:xfrm>
            <a:off x="3527640" y="1765440"/>
            <a:ext cx="888120" cy="181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Надюша\Рабочий стол\карта дании.jpg"/>
          <p:cNvPicPr/>
          <p:nvPr/>
        </p:nvPicPr>
        <p:blipFill>
          <a:blip r:embed="rId3"/>
          <a:stretch/>
        </p:blipFill>
        <p:spPr>
          <a:xfrm>
            <a:off x="384840" y="4317840"/>
            <a:ext cx="2005560" cy="1483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Надюша\Рабочий стол\карта дании 2.jpg"/>
          <p:cNvPicPr/>
          <p:nvPr/>
        </p:nvPicPr>
        <p:blipFill>
          <a:blip r:embed="rId4"/>
          <a:stretch/>
        </p:blipFill>
        <p:spPr>
          <a:xfrm>
            <a:off x="2553120" y="4317840"/>
            <a:ext cx="17650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ород Копенгаг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Documents and Settings\Надюша\Рабочий стол\копенгаген.jpg"/>
          <p:cNvPicPr/>
          <p:nvPr/>
        </p:nvPicPr>
        <p:blipFill>
          <a:blip r:embed="rId1"/>
          <a:stretch/>
        </p:blipFill>
        <p:spPr>
          <a:xfrm>
            <a:off x="571320" y="1643040"/>
            <a:ext cx="2071440" cy="154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Надюша\Рабочий стол\копенг.jpg"/>
          <p:cNvPicPr/>
          <p:nvPr/>
        </p:nvPicPr>
        <p:blipFill>
          <a:blip r:embed="rId2"/>
          <a:stretch/>
        </p:blipFill>
        <p:spPr>
          <a:xfrm>
            <a:off x="6215040" y="1643040"/>
            <a:ext cx="2356920" cy="165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Надюша\Рабочий стол\солдат копенг.jpg"/>
          <p:cNvPicPr/>
          <p:nvPr/>
        </p:nvPicPr>
        <p:blipFill>
          <a:blip r:embed="rId3"/>
          <a:stretch/>
        </p:blipFill>
        <p:spPr>
          <a:xfrm>
            <a:off x="3286080" y="1571760"/>
            <a:ext cx="2499120" cy="192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Надюша\Рабочий стол\андерсен.jpg"/>
          <p:cNvPicPr/>
          <p:nvPr/>
        </p:nvPicPr>
        <p:blipFill>
          <a:blip r:embed="rId4"/>
          <a:stretch/>
        </p:blipFill>
        <p:spPr>
          <a:xfrm>
            <a:off x="6286680" y="4357800"/>
            <a:ext cx="2285640" cy="1716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Надюша\Рабочий стол\русалка дания.jpg"/>
          <p:cNvPicPr/>
          <p:nvPr/>
        </p:nvPicPr>
        <p:blipFill>
          <a:blip r:embed="rId5"/>
          <a:stretch/>
        </p:blipFill>
        <p:spPr>
          <a:xfrm>
            <a:off x="571320" y="4286160"/>
            <a:ext cx="2370240" cy="1785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Надюша\Рабочий стол\F8HRCAYPSGI0CA32KM21CAY7Y57JCAQT69X0CA93SH78CAP56LM5CAESQL2LCALV209NCAZLJUEICATEK1K2CAWECILUCAVJ7F70CAOMVLE5CAVTDE3YCAVBNEU6CAWLJK27CAWMCM2GCAD0FOJBCAABTX17.jpg"/>
          <p:cNvPicPr/>
          <p:nvPr/>
        </p:nvPicPr>
        <p:blipFill>
          <a:blip r:embed="rId6"/>
          <a:stretch/>
        </p:blipFill>
        <p:spPr>
          <a:xfrm>
            <a:off x="3786120" y="3857760"/>
            <a:ext cx="1714320" cy="23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лан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857240"/>
            <a:ext cx="403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о Исландия расположено н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трове 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страны переводится как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ледяная страна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ак много ледник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 знаменит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ейзерами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ячей водой гейзеров отапливают дома и теплиц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Documents and Settings\Надюша\Рабочий стол\флаг  исландии.jpg"/>
          <p:cNvPicPr/>
          <p:nvPr/>
        </p:nvPicPr>
        <p:blipFill>
          <a:blip r:embed="rId1"/>
          <a:stretch/>
        </p:blipFill>
        <p:spPr>
          <a:xfrm>
            <a:off x="1143000" y="1714320"/>
            <a:ext cx="2558160" cy="1856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Надюша\Рабочий стол\герб исландии.jpg"/>
          <p:cNvPicPr/>
          <p:nvPr/>
        </p:nvPicPr>
        <p:blipFill>
          <a:blip r:embed="rId2"/>
          <a:stretch/>
        </p:blipFill>
        <p:spPr>
          <a:xfrm>
            <a:off x="6858000" y="285840"/>
            <a:ext cx="1159920" cy="121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Надюша\Рабочий стол\карта исландии.jpg"/>
          <p:cNvPicPr/>
          <p:nvPr/>
        </p:nvPicPr>
        <p:blipFill>
          <a:blip r:embed="rId3"/>
          <a:stretch/>
        </p:blipFill>
        <p:spPr>
          <a:xfrm>
            <a:off x="1143000" y="4098960"/>
            <a:ext cx="25754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орячие гейзеры Исланд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Documents and Settings\Надюша\Рабочий стол\гейзер исландия.jpg"/>
          <p:cNvPicPr/>
          <p:nvPr/>
        </p:nvPicPr>
        <p:blipFill>
          <a:blip r:embed="rId1"/>
          <a:stretch/>
        </p:blipFill>
        <p:spPr>
          <a:xfrm>
            <a:off x="357120" y="1857240"/>
            <a:ext cx="2428560" cy="1596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Надюша\Рабочий стол\гейзер.jpg"/>
          <p:cNvPicPr/>
          <p:nvPr/>
        </p:nvPicPr>
        <p:blipFill>
          <a:blip r:embed="rId2"/>
          <a:stretch/>
        </p:blipFill>
        <p:spPr>
          <a:xfrm>
            <a:off x="3429000" y="4840200"/>
            <a:ext cx="2393640" cy="1803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Documents and Settings\Надюша\Рабочий стол\гейзер2.jpg"/>
          <p:cNvPicPr/>
          <p:nvPr/>
        </p:nvPicPr>
        <p:blipFill>
          <a:blip r:embed="rId3"/>
          <a:stretch/>
        </p:blipFill>
        <p:spPr>
          <a:xfrm>
            <a:off x="357120" y="4071960"/>
            <a:ext cx="2499840" cy="166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Надюша\Рабочий стол\гейзер исланд.jpg"/>
          <p:cNvPicPr/>
          <p:nvPr/>
        </p:nvPicPr>
        <p:blipFill>
          <a:blip r:embed="rId4"/>
          <a:stretch/>
        </p:blipFill>
        <p:spPr>
          <a:xfrm>
            <a:off x="3786120" y="1143000"/>
            <a:ext cx="1515960" cy="201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Documents and Settings\Надюша\Рабочий стол\ге.jpg"/>
          <p:cNvPicPr/>
          <p:nvPr/>
        </p:nvPicPr>
        <p:blipFill>
          <a:blip r:embed="rId5"/>
          <a:stretch/>
        </p:blipFill>
        <p:spPr>
          <a:xfrm>
            <a:off x="6429240" y="4143240"/>
            <a:ext cx="2180880" cy="164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:\Documents and Settings\Надюша\Рабочий стол\г.jpg"/>
          <p:cNvPicPr/>
          <p:nvPr/>
        </p:nvPicPr>
        <p:blipFill>
          <a:blip r:embed="rId6"/>
          <a:stretch/>
        </p:blipFill>
        <p:spPr>
          <a:xfrm>
            <a:off x="3500280" y="3214800"/>
            <a:ext cx="2214360" cy="144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C:\Documents and Settings\Надюша\Рабочий стол\г2.jpg"/>
          <p:cNvPicPr/>
          <p:nvPr/>
        </p:nvPicPr>
        <p:blipFill>
          <a:blip r:embed="rId7"/>
          <a:stretch/>
        </p:blipFill>
        <p:spPr>
          <a:xfrm>
            <a:off x="6357960" y="1857240"/>
            <a:ext cx="2214360" cy="16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лан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Documents and Settings\Надюша\Рабочий стол\рыцари исланд.jpg"/>
          <p:cNvPicPr/>
          <p:nvPr/>
        </p:nvPicPr>
        <p:blipFill>
          <a:blip r:embed="rId1"/>
          <a:stretch/>
        </p:blipFill>
        <p:spPr>
          <a:xfrm>
            <a:off x="3500280" y="2928960"/>
            <a:ext cx="2009160" cy="1649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Надюша\Рабочий стол\исландия город.jpg"/>
          <p:cNvPicPr/>
          <p:nvPr/>
        </p:nvPicPr>
        <p:blipFill>
          <a:blip r:embed="rId2"/>
          <a:stretch/>
        </p:blipFill>
        <p:spPr>
          <a:xfrm>
            <a:off x="5786280" y="1571760"/>
            <a:ext cx="2572200" cy="1708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Надюша\Рабочий стол\исланд домики.jpg"/>
          <p:cNvPicPr/>
          <p:nvPr/>
        </p:nvPicPr>
        <p:blipFill>
          <a:blip r:embed="rId3"/>
          <a:stretch/>
        </p:blipFill>
        <p:spPr>
          <a:xfrm>
            <a:off x="785880" y="1643040"/>
            <a:ext cx="2499840" cy="174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Надюша\Рабочий стол\исландия собор.jpg"/>
          <p:cNvPicPr/>
          <p:nvPr/>
        </p:nvPicPr>
        <p:blipFill>
          <a:blip r:embed="rId4"/>
          <a:stretch/>
        </p:blipFill>
        <p:spPr>
          <a:xfrm>
            <a:off x="5786280" y="4214880"/>
            <a:ext cx="2413080" cy="1785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Documents and Settings\Надюша\Рабочий стол\RZKQCAQ67TELCAULHFV2CAQ7T0XVCA1SJJJKCAXN36JCCATLYB02CAKN3X22CAYCNUZQCAV42I5ACA8UPBFHCAKKMMS0CA1E60ETCAQ4M16MCAVN3S2ECA2L7F7HCA3IR4QHCA2FOZURCA75A572CAM1D2F9.jpg"/>
          <p:cNvPicPr/>
          <p:nvPr/>
        </p:nvPicPr>
        <p:blipFill>
          <a:blip r:embed="rId5"/>
          <a:stretch/>
        </p:blipFill>
        <p:spPr>
          <a:xfrm>
            <a:off x="714240" y="4143240"/>
            <a:ext cx="2693520" cy="18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ые границы-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линии раздела между территориями государст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оссия имеет сухопутные границы со странами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рвегия, Финляндия, Эстония, Латвия, Литва, Польша, Белоруссия, Украина, Грузия, Азербайджан, Казахстан, Монголия, Китай, Северная Коре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рскими соседями России являютс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пония и СШ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Documents and Settings\Надюша\Рабочий стол\GVCHCAASNTO1CAMEOBTQCAIUL8GLCAW14V7FCA883QSMCA8J984XCA720TOUCAVWVKX2CA8CJQWBCAUUHPYLCAJOOTDVCAY3CSRGCANW61AWCAU99LW0CAKJHZSZCAQVJEZUCA41JAYLCARLQ3LECAAZQ8UZ.jpg"/>
          <p:cNvPicPr/>
          <p:nvPr/>
        </p:nvPicPr>
        <p:blipFill>
          <a:blip r:embed="rId1"/>
          <a:stretch/>
        </p:blipFill>
        <p:spPr>
          <a:xfrm>
            <a:off x="2286000" y="785880"/>
            <a:ext cx="1928520" cy="255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Надюша\Рабочий стол\жи.jpg"/>
          <p:cNvPicPr/>
          <p:nvPr/>
        </p:nvPicPr>
        <p:blipFill>
          <a:blip r:embed="rId2"/>
          <a:stretch/>
        </p:blipFill>
        <p:spPr>
          <a:xfrm>
            <a:off x="3357720" y="4857840"/>
            <a:ext cx="2356920" cy="1587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Надюша\Рабочий стол\птицы исл.jpg"/>
          <p:cNvPicPr/>
          <p:nvPr/>
        </p:nvPicPr>
        <p:blipFill>
          <a:blip r:embed="rId3"/>
          <a:stretch/>
        </p:blipFill>
        <p:spPr>
          <a:xfrm>
            <a:off x="6143760" y="3714840"/>
            <a:ext cx="2571480" cy="1935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Надюша\Рабочий стол\жис.jpg"/>
          <p:cNvPicPr/>
          <p:nvPr/>
        </p:nvPicPr>
        <p:blipFill>
          <a:blip r:embed="rId4"/>
          <a:stretch/>
        </p:blipFill>
        <p:spPr>
          <a:xfrm>
            <a:off x="4714920" y="785880"/>
            <a:ext cx="1883160" cy="2499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Надюша\Рабочий стол\жисл.jpg"/>
          <p:cNvPicPr/>
          <p:nvPr/>
        </p:nvPicPr>
        <p:blipFill>
          <a:blip r:embed="rId5"/>
          <a:stretch/>
        </p:blipFill>
        <p:spPr>
          <a:xfrm>
            <a:off x="357120" y="3714840"/>
            <a:ext cx="27496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траны расположены на севере Европы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фьорды и где их можно увиде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есть музей одного- единственного корабл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страна знаменита своими озерами и аквапаркам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государство занимает отдельный остров и отапливает дома горячей водой из гейзеров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и в каком городе вас встречает героиня сказк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и в каком городе жили Малыш и Карлсон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стране принадлежит самый большой в мире остров и как он называетс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тве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вегия, Швеция, Финляндия, Дания, 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кие морские заливы с крутыми скалистыми берегам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Шве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нля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- Дания, город- Копенгаг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 Швеция, город- Стокголь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ров Гренландия принадлежит Дан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лан сообщ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государства. Его столи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расположение. С какими государствами граничит, какими морями омываетс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а государ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ый фл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ые фак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24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евере Европы ес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льшой полуостр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напоминает тигр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lang="ru-RU" sz="3600" spc="-1" strike="noStrike" u="sng">
                <a:solidFill>
                  <a:srgbClr val="0070c0"/>
                </a:solidFill>
                <a:uFillTx/>
                <a:latin typeface="Calibri"/>
              </a:rPr>
              <a:t>Скандинавский полуостро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ем расположены страны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орвег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Швец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оседству находятся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Финлянд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Дан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левее, на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льшом остров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расположена страна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Исланд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Это Скандинавские страны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На севере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92936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орвегия- это королевств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0" y="1643040"/>
            <a:ext cx="41144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Норд вег» значит «путь на север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ьер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зкие морские заливы с крутыми скалистыми берегами (возникли благодаря ледникам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- город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л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нежная единица- норвежская крон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Надюша\Рабочий стол\флаг норв.jpg"/>
          <p:cNvPicPr/>
          <p:nvPr/>
        </p:nvPicPr>
        <p:blipFill>
          <a:blip r:embed="rId1"/>
          <a:stretch/>
        </p:blipFill>
        <p:spPr>
          <a:xfrm>
            <a:off x="285840" y="142884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Надюша\Рабочий стол\герб норв.jpg"/>
          <p:cNvPicPr/>
          <p:nvPr/>
        </p:nvPicPr>
        <p:blipFill>
          <a:blip r:embed="rId2"/>
          <a:stretch/>
        </p:blipFill>
        <p:spPr>
          <a:xfrm>
            <a:off x="3429000" y="1428840"/>
            <a:ext cx="1071360" cy="188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Надюша\Рабочий стол\карта2.jpg"/>
          <p:cNvPicPr/>
          <p:nvPr/>
        </p:nvPicPr>
        <p:blipFill>
          <a:blip r:embed="rId3"/>
          <a:stretch/>
        </p:blipFill>
        <p:spPr>
          <a:xfrm>
            <a:off x="2143080" y="4143240"/>
            <a:ext cx="2318760" cy="207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Надюша\Рабочий стол\норвегия\карта1.jpg"/>
          <p:cNvPicPr/>
          <p:nvPr/>
        </p:nvPicPr>
        <p:blipFill>
          <a:blip r:embed="rId4"/>
          <a:stretch/>
        </p:blipFill>
        <p:spPr>
          <a:xfrm>
            <a:off x="230040" y="4071960"/>
            <a:ext cx="17240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ьерды Норвег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Documents and Settings\Надюша\Рабочий стол\норв горы.jpg"/>
          <p:cNvPicPr/>
          <p:nvPr/>
        </p:nvPicPr>
        <p:blipFill>
          <a:blip r:embed="rId1"/>
          <a:stretch/>
        </p:blipFill>
        <p:spPr>
          <a:xfrm>
            <a:off x="831240" y="2000160"/>
            <a:ext cx="2180880" cy="164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Надюша\Рабочий стол\горы норв.jpg"/>
          <p:cNvPicPr/>
          <p:nvPr/>
        </p:nvPicPr>
        <p:blipFill>
          <a:blip r:embed="rId2"/>
          <a:stretch/>
        </p:blipFill>
        <p:spPr>
          <a:xfrm>
            <a:off x="6500880" y="1928880"/>
            <a:ext cx="190116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Надюша\Рабочий стол\фьерды.jpg"/>
          <p:cNvPicPr/>
          <p:nvPr/>
        </p:nvPicPr>
        <p:blipFill>
          <a:blip r:embed="rId3"/>
          <a:stretch/>
        </p:blipFill>
        <p:spPr>
          <a:xfrm>
            <a:off x="714240" y="4286160"/>
            <a:ext cx="2464200" cy="197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Надюша\Рабочий стол\1.jpg"/>
          <p:cNvPicPr/>
          <p:nvPr/>
        </p:nvPicPr>
        <p:blipFill>
          <a:blip r:embed="rId4"/>
          <a:stretch/>
        </p:blipFill>
        <p:spPr>
          <a:xfrm>
            <a:off x="6215040" y="4143240"/>
            <a:ext cx="2512080" cy="189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Надюша\Рабочий стол\2.jpg"/>
          <p:cNvPicPr/>
          <p:nvPr/>
        </p:nvPicPr>
        <p:blipFill>
          <a:blip r:embed="rId5"/>
          <a:stretch/>
        </p:blipFill>
        <p:spPr>
          <a:xfrm>
            <a:off x="3714840" y="2919960"/>
            <a:ext cx="2084400" cy="28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ще о Норвег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Documents and Settings\Надюша\Рабочий стол\норвегия\города норвегии.jpeg"/>
          <p:cNvPicPr/>
          <p:nvPr/>
        </p:nvPicPr>
        <p:blipFill>
          <a:blip r:embed="rId1"/>
          <a:stretch/>
        </p:blipFill>
        <p:spPr>
          <a:xfrm>
            <a:off x="6357960" y="4643280"/>
            <a:ext cx="1999800" cy="163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Надюша\Рабочий стол\город в норвегии.jpeg"/>
          <p:cNvPicPr/>
          <p:nvPr/>
        </p:nvPicPr>
        <p:blipFill>
          <a:blip r:embed="rId2"/>
          <a:stretch/>
        </p:blipFill>
        <p:spPr>
          <a:xfrm>
            <a:off x="714240" y="4643280"/>
            <a:ext cx="2161440" cy="160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Надюша\Рабочий стол\норвегия\нац костюм норвегия.jpeg"/>
          <p:cNvPicPr/>
          <p:nvPr/>
        </p:nvPicPr>
        <p:blipFill>
          <a:blip r:embed="rId3"/>
          <a:stretch/>
        </p:blipFill>
        <p:spPr>
          <a:xfrm>
            <a:off x="1000080" y="1785960"/>
            <a:ext cx="1764000" cy="217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Надюша\Рабочий стол\норвегия\норвегия дома.jpeg"/>
          <p:cNvPicPr/>
          <p:nvPr/>
        </p:nvPicPr>
        <p:blipFill>
          <a:blip r:embed="rId4"/>
          <a:stretch/>
        </p:blipFill>
        <p:spPr>
          <a:xfrm>
            <a:off x="3571920" y="4643280"/>
            <a:ext cx="2118960" cy="158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Documents and Settings\Надюша\Рабочий стол\норвегия\норвегия горы.jpeg"/>
          <p:cNvPicPr/>
          <p:nvPr/>
        </p:nvPicPr>
        <p:blipFill>
          <a:blip r:embed="rId5"/>
          <a:stretch/>
        </p:blipFill>
        <p:spPr>
          <a:xfrm>
            <a:off x="6429240" y="1785960"/>
            <a:ext cx="1771200" cy="20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C:\Documents and Settings\Надюша\Рабочий стол\норвегия\карта норвегии.jpeg"/>
          <p:cNvPicPr/>
          <p:nvPr/>
        </p:nvPicPr>
        <p:blipFill>
          <a:blip r:embed="rId6"/>
          <a:stretch/>
        </p:blipFill>
        <p:spPr>
          <a:xfrm>
            <a:off x="3714840" y="1785960"/>
            <a:ext cx="1746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Швеция- это королевство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6160" y="1600200"/>
            <a:ext cx="440028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окголь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н расположен на 14 островах, соединенных мостам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0 лет не участвует в война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узей корабля «ВАСА»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33 года под водой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трид  Линдгрен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написала о Малыше и Карлсон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шведской  гимнастической стен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Надюша\Рабочий стол\карта ш.jpg"/>
          <p:cNvPicPr/>
          <p:nvPr/>
        </p:nvPicPr>
        <p:blipFill>
          <a:blip r:embed="rId1"/>
          <a:stretch/>
        </p:blipFill>
        <p:spPr>
          <a:xfrm>
            <a:off x="1000080" y="3571920"/>
            <a:ext cx="2577240" cy="29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Надюша\Рабочий стол\флаг шв.jpg"/>
          <p:cNvPicPr/>
          <p:nvPr/>
        </p:nvPicPr>
        <p:blipFill>
          <a:blip r:embed="rId2"/>
          <a:stretch/>
        </p:blipFill>
        <p:spPr>
          <a:xfrm>
            <a:off x="1000080" y="1571760"/>
            <a:ext cx="263628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узей корабля «Васа» в Стокгольм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Documents and Settings\Надюша\Рабочий стол\васа6.jpg"/>
          <p:cNvPicPr/>
          <p:nvPr/>
        </p:nvPicPr>
        <p:blipFill>
          <a:blip r:embed="rId1"/>
          <a:stretch/>
        </p:blipFill>
        <p:spPr>
          <a:xfrm>
            <a:off x="785880" y="1905120"/>
            <a:ext cx="2331000" cy="155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Надюша\Рабочий стол\васа7.jpg"/>
          <p:cNvPicPr/>
          <p:nvPr/>
        </p:nvPicPr>
        <p:blipFill>
          <a:blip r:embed="rId2"/>
          <a:stretch/>
        </p:blipFill>
        <p:spPr>
          <a:xfrm>
            <a:off x="6328800" y="1928880"/>
            <a:ext cx="2405160" cy="1571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Надюша\Рабочий стол\васа5.jpg"/>
          <p:cNvPicPr/>
          <p:nvPr/>
        </p:nvPicPr>
        <p:blipFill>
          <a:blip r:embed="rId3"/>
          <a:stretch/>
        </p:blipFill>
        <p:spPr>
          <a:xfrm>
            <a:off x="6286680" y="4071960"/>
            <a:ext cx="2428560" cy="182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Documents and Settings\Надюша\Рабочий стол\васа2.jpg"/>
          <p:cNvPicPr/>
          <p:nvPr/>
        </p:nvPicPr>
        <p:blipFill>
          <a:blip r:embed="rId4"/>
          <a:stretch/>
        </p:blipFill>
        <p:spPr>
          <a:xfrm>
            <a:off x="428760" y="4071960"/>
            <a:ext cx="2467440" cy="1856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Documents and Settings\Надюша\Рабочий стол\васа.jpg"/>
          <p:cNvPicPr/>
          <p:nvPr/>
        </p:nvPicPr>
        <p:blipFill>
          <a:blip r:embed="rId5"/>
          <a:stretch/>
        </p:blipFill>
        <p:spPr>
          <a:xfrm>
            <a:off x="3393360" y="4714920"/>
            <a:ext cx="2535840" cy="169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Надюша\Рабочий стол\васа3.jpg"/>
          <p:cNvPicPr/>
          <p:nvPr/>
        </p:nvPicPr>
        <p:blipFill>
          <a:blip r:embed="rId6"/>
          <a:stretch/>
        </p:blipFill>
        <p:spPr>
          <a:xfrm>
            <a:off x="3625200" y="1571760"/>
            <a:ext cx="2026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  <Words>509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30:15Z</dcterms:created>
  <dc:creator>Надюша</dc:creator>
  <dc:description/>
  <dc:language>en-US</dc:language>
  <cp:lastModifiedBy>саша</cp:lastModifiedBy>
  <dcterms:modified xsi:type="dcterms:W3CDTF">2013-04-25T02:08:59Z</dcterms:modified>
  <cp:revision>75</cp:revision>
  <dc:subject/>
  <dc:title>Наши ближайшие сосе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