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179-B5D6-478D-BECB-4B3B29A4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4F7-4CBC-4B28-9BFD-A7D26E64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73C3-5EB4-40A4-8FCD-C3B237D4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857E-D540-4BA8-ADCE-7C61690B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CD47-D48E-4655-8955-CEEBE39A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8E1E-C9E1-4EF2-B265-26D9FDA3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B149-3AFA-47BA-9DC6-76BF74DE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539B-F905-451A-AF01-8D9D32B6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F609-78B4-4BD2-A78E-6939CA9C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9654-2179-4352-9D4D-2CD602A6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CA03-2658-42EB-B217-C4AFE267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B5FB-5DCE-453E-B32E-90D59443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751B-22B2-4554-A133-3823D8F3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81BD-E755-42EE-A69A-35D7A55B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9D83-9A1A-475F-9BEE-E39BD9DC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9B0C-5C8F-4DAA-81B2-0D1D2A7D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9FD1-8713-460B-8C87-363B9BF0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50A88-3A1E-48A4-A6B5-82D811B3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26F9C-20E8-4249-A95C-8403DDA5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43A4A-3B9E-45DD-89BA-C57EBB77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665F3-8BED-4B04-ADB2-0EE033BB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02D44-D26C-4D68-9F63-68D4238F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B7DF-9288-405D-B602-F942997E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652E3-BD83-4D85-9C31-15D9FA86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3FB38-2A42-4B81-99F6-127B3E36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63E2F-DCA8-4C87-BA17-8195365F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42C1D-3681-495E-9BCA-D2E91106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B62A6-C885-4E18-98C5-8A176072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D50CD-5AFD-4A4B-9D3E-918FDD5D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49FAF-7B47-4A29-A5D4-7EA19AC3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A98B-0F74-4B6E-AAE3-65B2C692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FA2-9F4B-49C2-B083-3AA183C9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1F53-B279-4CB1-B8BA-8E9A8556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8F8-5D9E-455F-81AF-9EA05215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DD8-FEAE-40C0-A5F7-5391DC48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91C-D4F0-46DC-8F31-3B30921C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79797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9D993E-571A-41E6-9508-4AC61948815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79797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D826C1-9352-4799-BD7F-CD1B27FBF46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79797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FE5E38-5803-4F6F-A5BB-5C3E02A983F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63.jpeg"/><Relationship Id="rId8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ближайшие сосед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b8b8b"/>
                </a:solidFill>
                <a:latin typeface="Calibri"/>
              </a:rPr>
              <a:t>Учитель: Серяева Г.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Стокгольм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Documents and Settings\Надюша\Рабочий стол\стокгольм1.jpg"/>
          <p:cNvPicPr/>
          <p:nvPr/>
        </p:nvPicPr>
        <p:blipFill>
          <a:blip r:embed="rId1"/>
          <a:stretch/>
        </p:blipFill>
        <p:spPr>
          <a:xfrm>
            <a:off x="5286240" y="1785960"/>
            <a:ext cx="2678400" cy="1785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Documents and Settings\Надюша\Рабочий стол\4.jpg"/>
          <p:cNvPicPr/>
          <p:nvPr/>
        </p:nvPicPr>
        <p:blipFill>
          <a:blip r:embed="rId2"/>
          <a:stretch/>
        </p:blipFill>
        <p:spPr>
          <a:xfrm>
            <a:off x="1500120" y="1785960"/>
            <a:ext cx="2392560" cy="1802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Надюша\Рабочий стол\2.jpg"/>
          <p:cNvPicPr/>
          <p:nvPr/>
        </p:nvPicPr>
        <p:blipFill>
          <a:blip r:embed="rId3"/>
          <a:stretch/>
        </p:blipFill>
        <p:spPr>
          <a:xfrm>
            <a:off x="5357880" y="4214880"/>
            <a:ext cx="2533320" cy="1891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Documents and Settings\Надюша\Рабочий стол\3.jpg"/>
          <p:cNvPicPr/>
          <p:nvPr/>
        </p:nvPicPr>
        <p:blipFill>
          <a:blip r:embed="rId4"/>
          <a:stretch/>
        </p:blipFill>
        <p:spPr>
          <a:xfrm>
            <a:off x="1285920" y="4286160"/>
            <a:ext cx="2814840" cy="185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Финляндия- морская страна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2920" indent="-322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рега Финляндии омываю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Ботнический и Финский заливы Балтийского мор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е называют: «страна тысячи озер» или «страна болот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лица –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Хельсинк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ва государства- президент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Лапланд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северная часть страны) живет народ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аами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азводят оленей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Лапландии живет Дед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ороз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нежная единица-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финляндская мар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C:\Documents and Settings\Надюша\Рабочий стол\флаг финов.jpeg"/>
          <p:cNvPicPr/>
          <p:nvPr/>
        </p:nvPicPr>
        <p:blipFill>
          <a:blip r:embed="rId1"/>
          <a:stretch/>
        </p:blipFill>
        <p:spPr>
          <a:xfrm>
            <a:off x="1320840" y="1571760"/>
            <a:ext cx="2469600" cy="1658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Documents and Settings\Надюша\Рабочий стол\герб фины.jpg"/>
          <p:cNvPicPr/>
          <p:nvPr/>
        </p:nvPicPr>
        <p:blipFill>
          <a:blip r:embed="rId2"/>
          <a:stretch/>
        </p:blipFill>
        <p:spPr>
          <a:xfrm>
            <a:off x="1571760" y="3571920"/>
            <a:ext cx="1884240" cy="23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Страна тысячи озер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3" descr="C:\Documents and Settings\Надюша\Рабочий стол\финск пейзаж.jpeg"/>
          <p:cNvPicPr/>
          <p:nvPr/>
        </p:nvPicPr>
        <p:blipFill>
          <a:blip r:embed="rId1"/>
          <a:stretch/>
        </p:blipFill>
        <p:spPr>
          <a:xfrm>
            <a:off x="6357960" y="4357800"/>
            <a:ext cx="2241000" cy="1785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:\Documents and Settings\Надюша\Рабочий стол\финские озера.jpeg"/>
          <p:cNvPicPr/>
          <p:nvPr/>
        </p:nvPicPr>
        <p:blipFill>
          <a:blip r:embed="rId2"/>
          <a:stretch/>
        </p:blipFill>
        <p:spPr>
          <a:xfrm>
            <a:off x="6286680" y="1714320"/>
            <a:ext cx="2357280" cy="1768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C:\Documents and Settings\Надюша\Рабочий стол\оз ф 2.jpg"/>
          <p:cNvPicPr/>
          <p:nvPr/>
        </p:nvPicPr>
        <p:blipFill>
          <a:blip r:embed="rId3"/>
          <a:stretch/>
        </p:blipFill>
        <p:spPr>
          <a:xfrm>
            <a:off x="548640" y="4286160"/>
            <a:ext cx="2487240" cy="1856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C:\Documents and Settings\Надюша\Рабочий стол\оз ф 3.jpg"/>
          <p:cNvPicPr/>
          <p:nvPr/>
        </p:nvPicPr>
        <p:blipFill>
          <a:blip r:embed="rId4"/>
          <a:stretch/>
        </p:blipFill>
        <p:spPr>
          <a:xfrm>
            <a:off x="3357720" y="4643280"/>
            <a:ext cx="2571480" cy="1456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C:\Documents and Settings\Надюша\Рабочий стол\озера фин.jpg"/>
          <p:cNvPicPr/>
          <p:nvPr/>
        </p:nvPicPr>
        <p:blipFill>
          <a:blip r:embed="rId5"/>
          <a:stretch/>
        </p:blipFill>
        <p:spPr>
          <a:xfrm>
            <a:off x="3286080" y="1643040"/>
            <a:ext cx="2559960" cy="1928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C:\Documents and Settings\Надюша\Рабочий стол\R7YFCAJ9EPW4CAHUKTJACAOJDKPPCAM4MJODCALTLJ88CA9RJZDXCAAYNQX5CALX2382CATLO1W9CA3E87MTCARUI130CA2AAF3BCAECINN9CA0PP9M8CAVNUH5ECAHX6MN2CAULSEKBCACLOJW2CA61LTU5.jpg"/>
          <p:cNvPicPr/>
          <p:nvPr/>
        </p:nvPicPr>
        <p:blipFill>
          <a:blip r:embed="rId6"/>
          <a:stretch/>
        </p:blipFill>
        <p:spPr>
          <a:xfrm>
            <a:off x="500040" y="1714320"/>
            <a:ext cx="244908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 Лапландии у Деда Моро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C:\Documents and Settings\Надюша\Рабочий стол\OE8UCAN6USJMCABLBPT2CAVQHY2UCA3FM5OXCAE3OR31CAECNVQWCAAG68Z1CADMX25GCAQG5ML1CAFBXBZFCAO0L6JWCALT1VUZCA7B16O0CAGE7YV7CAOWLE03CAS8XQZACALLML0ICACXXWRICABEADIR.jpg"/>
          <p:cNvPicPr/>
          <p:nvPr/>
        </p:nvPicPr>
        <p:blipFill>
          <a:blip r:embed="rId1"/>
          <a:stretch/>
        </p:blipFill>
        <p:spPr>
          <a:xfrm>
            <a:off x="1170000" y="4071960"/>
            <a:ext cx="3006360" cy="2356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Documents and Settings\Надюша\Рабочий стол\дед.jpg"/>
          <p:cNvPicPr/>
          <p:nvPr/>
        </p:nvPicPr>
        <p:blipFill>
          <a:blip r:embed="rId2"/>
          <a:stretch/>
        </p:blipFill>
        <p:spPr>
          <a:xfrm>
            <a:off x="4786200" y="4071960"/>
            <a:ext cx="3335400" cy="2317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C:\Documents and Settings\Надюша\Рабочий стол\олень.jpg"/>
          <p:cNvPicPr/>
          <p:nvPr/>
        </p:nvPicPr>
        <p:blipFill>
          <a:blip r:embed="rId3"/>
          <a:stretch/>
        </p:blipFill>
        <p:spPr>
          <a:xfrm>
            <a:off x="3429000" y="1641960"/>
            <a:ext cx="2571480" cy="1708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Documents and Settings\Надюша\Рабочий стол\финляндия.jpeg"/>
          <p:cNvPicPr/>
          <p:nvPr/>
        </p:nvPicPr>
        <p:blipFill>
          <a:blip r:embed="rId4"/>
          <a:stretch/>
        </p:blipFill>
        <p:spPr>
          <a:xfrm>
            <a:off x="571320" y="1571760"/>
            <a:ext cx="2285640" cy="1714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C:\Documents and Settings\Надюша\Рабочий стол\1I4KCA2L6ZSCCAP8U9PNCACZFSHUCAIBRK6GCA9T3L1NCA8CCG0OCA0YNLUMCA0QZVVCCA5IXA3ZCAX5URIZCA9GK9M1CAOXXNVYCAUXU8I1CAWW6BQ0CAAPUUDPCAMGW51MCAVJ5D2MCA91OI32CAYN8WHR.jpg"/>
          <p:cNvPicPr/>
          <p:nvPr/>
        </p:nvPicPr>
        <p:blipFill>
          <a:blip r:embed="rId5"/>
          <a:stretch/>
        </p:blipFill>
        <p:spPr>
          <a:xfrm>
            <a:off x="6572160" y="1623960"/>
            <a:ext cx="2225520" cy="16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Аквапарк в Финлянд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C:\Documents and Settings\Надюша\Рабочий стол\аквапф.jpg"/>
          <p:cNvPicPr/>
          <p:nvPr/>
        </p:nvPicPr>
        <p:blipFill>
          <a:blip r:embed="rId1"/>
          <a:stretch/>
        </p:blipFill>
        <p:spPr>
          <a:xfrm>
            <a:off x="3571920" y="3094920"/>
            <a:ext cx="2115360" cy="1405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C:\Documents and Settings\Надюша\Рабочий стол\аквапарк.jpg"/>
          <p:cNvPicPr/>
          <p:nvPr/>
        </p:nvPicPr>
        <p:blipFill>
          <a:blip r:embed="rId2"/>
          <a:stretch/>
        </p:blipFill>
        <p:spPr>
          <a:xfrm>
            <a:off x="1071360" y="1929960"/>
            <a:ext cx="2071440" cy="1560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Надюша\Рабочий стол\аквап.jpg"/>
          <p:cNvPicPr/>
          <p:nvPr/>
        </p:nvPicPr>
        <p:blipFill>
          <a:blip r:embed="rId3"/>
          <a:stretch/>
        </p:blipFill>
        <p:spPr>
          <a:xfrm>
            <a:off x="5929200" y="4071960"/>
            <a:ext cx="21189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Дания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5680" indent="-35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ния расположена на самом большом острове в мире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Гренланд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на конструктора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«ЛЕГО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лица 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пенгаген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н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. Х. Андерсен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менитая скульптура- Русалочк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C:\Documents and Settings\Надюша\Рабочий стол\флаг дании.jpg"/>
          <p:cNvPicPr/>
          <p:nvPr/>
        </p:nvPicPr>
        <p:blipFill>
          <a:blip r:embed="rId1"/>
          <a:stretch/>
        </p:blipFill>
        <p:spPr>
          <a:xfrm>
            <a:off x="500040" y="1643040"/>
            <a:ext cx="2647080" cy="1999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Documents and Settings\Надюша\Рабочий стол\герб дании.jpg"/>
          <p:cNvPicPr/>
          <p:nvPr/>
        </p:nvPicPr>
        <p:blipFill>
          <a:blip r:embed="rId2"/>
          <a:stretch/>
        </p:blipFill>
        <p:spPr>
          <a:xfrm>
            <a:off x="3527640" y="1765440"/>
            <a:ext cx="888120" cy="1817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C:\Documents and Settings\Надюша\Рабочий стол\карта дании.jpg"/>
          <p:cNvPicPr/>
          <p:nvPr/>
        </p:nvPicPr>
        <p:blipFill>
          <a:blip r:embed="rId3"/>
          <a:stretch/>
        </p:blipFill>
        <p:spPr>
          <a:xfrm>
            <a:off x="384840" y="4317840"/>
            <a:ext cx="2005560" cy="1483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C:\Documents and Settings\Надюша\Рабочий стол\карта дании 2.jpg"/>
          <p:cNvPicPr/>
          <p:nvPr/>
        </p:nvPicPr>
        <p:blipFill>
          <a:blip r:embed="rId4"/>
          <a:stretch/>
        </p:blipFill>
        <p:spPr>
          <a:xfrm>
            <a:off x="2553120" y="4317840"/>
            <a:ext cx="17650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ород Копенгаге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C:\Documents and Settings\Надюша\Рабочий стол\копенгаген.jpg"/>
          <p:cNvPicPr/>
          <p:nvPr/>
        </p:nvPicPr>
        <p:blipFill>
          <a:blip r:embed="rId1"/>
          <a:stretch/>
        </p:blipFill>
        <p:spPr>
          <a:xfrm>
            <a:off x="571320" y="1643040"/>
            <a:ext cx="2071440" cy="1546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C:\Documents and Settings\Надюша\Рабочий стол\копенг.jpg"/>
          <p:cNvPicPr/>
          <p:nvPr/>
        </p:nvPicPr>
        <p:blipFill>
          <a:blip r:embed="rId2"/>
          <a:stretch/>
        </p:blipFill>
        <p:spPr>
          <a:xfrm>
            <a:off x="6215040" y="1643040"/>
            <a:ext cx="2356920" cy="1656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C:\Documents and Settings\Надюша\Рабочий стол\солдат копенг.jpg"/>
          <p:cNvPicPr/>
          <p:nvPr/>
        </p:nvPicPr>
        <p:blipFill>
          <a:blip r:embed="rId3"/>
          <a:stretch/>
        </p:blipFill>
        <p:spPr>
          <a:xfrm>
            <a:off x="3286080" y="1571760"/>
            <a:ext cx="2499120" cy="1928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C:\Documents and Settings\Надюша\Рабочий стол\андерсен.jpg"/>
          <p:cNvPicPr/>
          <p:nvPr/>
        </p:nvPicPr>
        <p:blipFill>
          <a:blip r:embed="rId4"/>
          <a:stretch/>
        </p:blipFill>
        <p:spPr>
          <a:xfrm>
            <a:off x="6286680" y="4357800"/>
            <a:ext cx="2285640" cy="1716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Documents and Settings\Надюша\Рабочий стол\русалка дания.jpg"/>
          <p:cNvPicPr/>
          <p:nvPr/>
        </p:nvPicPr>
        <p:blipFill>
          <a:blip r:embed="rId5"/>
          <a:stretch/>
        </p:blipFill>
        <p:spPr>
          <a:xfrm>
            <a:off x="571320" y="4286160"/>
            <a:ext cx="2370240" cy="1785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C:\Documents and Settings\Надюша\Рабочий стол\F8HRCAYPSGI0CA32KM21CAY7Y57JCAQT69X0CA93SH78CAP56LM5CAESQL2LCALV209NCAZLJUEICATEK1K2CAWECILUCAVJ7F70CAOMVLE5CAVTDE3YCAVBNEU6CAWLJK27CAWMCM2GCAD0FOJBCAABTX17.jpg"/>
          <p:cNvPicPr/>
          <p:nvPr/>
        </p:nvPicPr>
        <p:blipFill>
          <a:blip r:embed="rId6"/>
          <a:stretch/>
        </p:blipFill>
        <p:spPr>
          <a:xfrm>
            <a:off x="3786120" y="3857760"/>
            <a:ext cx="1714320" cy="23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ланд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857240"/>
            <a:ext cx="40381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03840" indent="-303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сударство Исландия расположено на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строве Исланд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03840" indent="-303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страны переводится как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«ледяная страна»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 как много леднико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03840" indent="-303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на знаменита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гейзерами 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03840" indent="-303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рячей водой гейзеров отапливают дома и теплиц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C:\Documents and Settings\Надюша\Рабочий стол\флаг  исландии.jpg"/>
          <p:cNvPicPr/>
          <p:nvPr/>
        </p:nvPicPr>
        <p:blipFill>
          <a:blip r:embed="rId1"/>
          <a:stretch/>
        </p:blipFill>
        <p:spPr>
          <a:xfrm>
            <a:off x="1143000" y="1714320"/>
            <a:ext cx="2558160" cy="1856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Documents and Settings\Надюша\Рабочий стол\герб исландии.jpg"/>
          <p:cNvPicPr/>
          <p:nvPr/>
        </p:nvPicPr>
        <p:blipFill>
          <a:blip r:embed="rId2"/>
          <a:stretch/>
        </p:blipFill>
        <p:spPr>
          <a:xfrm>
            <a:off x="6858000" y="285840"/>
            <a:ext cx="1159920" cy="121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:\Documents and Settings\Надюша\Рабочий стол\карта исландии.jpg"/>
          <p:cNvPicPr/>
          <p:nvPr/>
        </p:nvPicPr>
        <p:blipFill>
          <a:blip r:embed="rId3"/>
          <a:stretch/>
        </p:blipFill>
        <p:spPr>
          <a:xfrm>
            <a:off x="1143000" y="4098960"/>
            <a:ext cx="2575440" cy="17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142920"/>
            <a:ext cx="8229240" cy="13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орячие гейзеры Исланд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C:\Documents and Settings\Надюша\Рабочий стол\гейзер исландия.jpg"/>
          <p:cNvPicPr/>
          <p:nvPr/>
        </p:nvPicPr>
        <p:blipFill>
          <a:blip r:embed="rId1"/>
          <a:stretch/>
        </p:blipFill>
        <p:spPr>
          <a:xfrm>
            <a:off x="357120" y="1857240"/>
            <a:ext cx="2428560" cy="1596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C:\Documents and Settings\Надюша\Рабочий стол\гейзер.jpg"/>
          <p:cNvPicPr/>
          <p:nvPr/>
        </p:nvPicPr>
        <p:blipFill>
          <a:blip r:embed="rId2"/>
          <a:stretch/>
        </p:blipFill>
        <p:spPr>
          <a:xfrm>
            <a:off x="3429000" y="4840200"/>
            <a:ext cx="2393640" cy="1803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C:\Documents and Settings\Надюша\Рабочий стол\гейзер2.jpg"/>
          <p:cNvPicPr/>
          <p:nvPr/>
        </p:nvPicPr>
        <p:blipFill>
          <a:blip r:embed="rId3"/>
          <a:stretch/>
        </p:blipFill>
        <p:spPr>
          <a:xfrm>
            <a:off x="357120" y="4071960"/>
            <a:ext cx="2499840" cy="1666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C:\Documents and Settings\Надюша\Рабочий стол\гейзер исланд.jpg"/>
          <p:cNvPicPr/>
          <p:nvPr/>
        </p:nvPicPr>
        <p:blipFill>
          <a:blip r:embed="rId4"/>
          <a:stretch/>
        </p:blipFill>
        <p:spPr>
          <a:xfrm>
            <a:off x="3786120" y="1143000"/>
            <a:ext cx="1515960" cy="2014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C:\Documents and Settings\Надюша\Рабочий стол\ге.jpg"/>
          <p:cNvPicPr/>
          <p:nvPr/>
        </p:nvPicPr>
        <p:blipFill>
          <a:blip r:embed="rId5"/>
          <a:stretch/>
        </p:blipFill>
        <p:spPr>
          <a:xfrm>
            <a:off x="6429240" y="4143240"/>
            <a:ext cx="2180880" cy="1642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C:\Documents and Settings\Надюша\Рабочий стол\г.jpg"/>
          <p:cNvPicPr/>
          <p:nvPr/>
        </p:nvPicPr>
        <p:blipFill>
          <a:blip r:embed="rId6"/>
          <a:stretch/>
        </p:blipFill>
        <p:spPr>
          <a:xfrm>
            <a:off x="3500280" y="3214800"/>
            <a:ext cx="2214360" cy="1445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C:\Documents and Settings\Надюша\Рабочий стол\г2.jpg"/>
          <p:cNvPicPr/>
          <p:nvPr/>
        </p:nvPicPr>
        <p:blipFill>
          <a:blip r:embed="rId7"/>
          <a:stretch/>
        </p:blipFill>
        <p:spPr>
          <a:xfrm>
            <a:off x="6357960" y="1857240"/>
            <a:ext cx="2214360" cy="16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ланд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2" descr="C:\Documents and Settings\Надюша\Рабочий стол\рыцари исланд.jpg"/>
          <p:cNvPicPr/>
          <p:nvPr/>
        </p:nvPicPr>
        <p:blipFill>
          <a:blip r:embed="rId1"/>
          <a:stretch/>
        </p:blipFill>
        <p:spPr>
          <a:xfrm>
            <a:off x="3500280" y="2928960"/>
            <a:ext cx="2009160" cy="1649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Documents and Settings\Надюша\Рабочий стол\исландия город.jpg"/>
          <p:cNvPicPr/>
          <p:nvPr/>
        </p:nvPicPr>
        <p:blipFill>
          <a:blip r:embed="rId2"/>
          <a:stretch/>
        </p:blipFill>
        <p:spPr>
          <a:xfrm>
            <a:off x="5786280" y="1571760"/>
            <a:ext cx="2572200" cy="1708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Надюша\Рабочий стол\исланд домики.jpg"/>
          <p:cNvPicPr/>
          <p:nvPr/>
        </p:nvPicPr>
        <p:blipFill>
          <a:blip r:embed="rId3"/>
          <a:stretch/>
        </p:blipFill>
        <p:spPr>
          <a:xfrm>
            <a:off x="785880" y="1643040"/>
            <a:ext cx="2499840" cy="1748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Documents and Settings\Надюша\Рабочий стол\исландия собор.jpg"/>
          <p:cNvPicPr/>
          <p:nvPr/>
        </p:nvPicPr>
        <p:blipFill>
          <a:blip r:embed="rId4"/>
          <a:stretch/>
        </p:blipFill>
        <p:spPr>
          <a:xfrm>
            <a:off x="5786280" y="4214880"/>
            <a:ext cx="2413080" cy="1785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C:\Documents and Settings\Надюша\Рабочий стол\RZKQCAQ67TELCAULHFV2CAQ7T0XVCA1SJJJKCAXN36JCCATLYB02CAKN3X22CAYCNUZQCAV42I5ACA8UPBFHCAKKMMS0CA1E60ETCAQ4M16MCAVN3S2ECA2L7F7HCA3IR4QHCA2FOZURCA75A572CAM1D2F9.jpg"/>
          <p:cNvPicPr/>
          <p:nvPr/>
        </p:nvPicPr>
        <p:blipFill>
          <a:blip r:embed="rId5"/>
          <a:stretch/>
        </p:blipFill>
        <p:spPr>
          <a:xfrm>
            <a:off x="714240" y="4143240"/>
            <a:ext cx="2693520" cy="18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536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571320"/>
            <a:ext cx="8229240" cy="60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Государственные границы-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линии раздела между территориями государст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оссия имеет сухопутные границы со странами: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орвегия, Финляндия, Эстония, Латвия, Литва, Польша, Белоруссия, Украина, Грузия, Азербайджан, Казахстан, Монголия, Китай, Северная Корея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Морскими соседями России являются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Япония и США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C:\Documents and Settings\Надюша\Рабочий стол\GVCHCAASNTO1CAMEOBTQCAIUL8GLCAW14V7FCA883QSMCA8J984XCA720TOUCAVWVKX2CA8CJQWBCAUUHPYLCAJOOTDVCAY3CSRGCANW61AWCAU99LW0CAKJHZSZCAQVJEZUCA41JAYLCARLQ3LECAAZQ8UZ.jpg"/>
          <p:cNvPicPr/>
          <p:nvPr/>
        </p:nvPicPr>
        <p:blipFill>
          <a:blip r:embed="rId1"/>
          <a:stretch/>
        </p:blipFill>
        <p:spPr>
          <a:xfrm>
            <a:off x="2286000" y="785880"/>
            <a:ext cx="1928520" cy="255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C:\Documents and Settings\Надюша\Рабочий стол\жи.jpg"/>
          <p:cNvPicPr/>
          <p:nvPr/>
        </p:nvPicPr>
        <p:blipFill>
          <a:blip r:embed="rId2"/>
          <a:stretch/>
        </p:blipFill>
        <p:spPr>
          <a:xfrm>
            <a:off x="3357720" y="4857840"/>
            <a:ext cx="2356920" cy="1587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C:\Documents and Settings\Надюша\Рабочий стол\птицы исл.jpg"/>
          <p:cNvPicPr/>
          <p:nvPr/>
        </p:nvPicPr>
        <p:blipFill>
          <a:blip r:embed="rId3"/>
          <a:stretch/>
        </p:blipFill>
        <p:spPr>
          <a:xfrm>
            <a:off x="6143760" y="3714840"/>
            <a:ext cx="2571480" cy="1935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Documents and Settings\Надюша\Рабочий стол\жис.jpg"/>
          <p:cNvPicPr/>
          <p:nvPr/>
        </p:nvPicPr>
        <p:blipFill>
          <a:blip r:embed="rId4"/>
          <a:stretch/>
        </p:blipFill>
        <p:spPr>
          <a:xfrm>
            <a:off x="4714920" y="785880"/>
            <a:ext cx="1883160" cy="2499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Надюша\Рабочий стол\жисл.jpg"/>
          <p:cNvPicPr/>
          <p:nvPr/>
        </p:nvPicPr>
        <p:blipFill>
          <a:blip r:embed="rId5"/>
          <a:stretch/>
        </p:blipFill>
        <p:spPr>
          <a:xfrm>
            <a:off x="357120" y="3714840"/>
            <a:ext cx="27496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оверь себя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2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477360" indent="-477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страны расположены на севере Европы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7360" indent="-477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фьорды и где их можно увидеть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7360" indent="-477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ой стране есть музей одного- единственного корабля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7360" indent="-477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ая страна знаменита своими озерами и аквапарками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7360" indent="-477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государство занимает отдельный остров и отапливает дома горячей водой из гейзеров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7360" indent="-477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ой стране и в каком городе вас встречает героиня сказки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7360" indent="-477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ой стране и в каком городе жили Малыш и Карлсон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7360" indent="-477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й стране принадлежит самый большой в мире остров и как он называется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Ответы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24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вегия, Швеция, Финляндия, Дания, Исланд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зкие морские заливы с крутыми скалистыми берегам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Швеци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инлянд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ланд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на- Дания, город- Копенгаге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ана Швеция, город- Стокгольм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тров Гренландия принадлежит Дани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лан сообщения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вание государства. Его столиц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сторасположение. С какими государствами граничит, какими морями омываетс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а государств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енный фла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есные факт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00040" y="2000160"/>
            <a:ext cx="8229240" cy="40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268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севере Европы есть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большой полуостров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напоминает тигра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68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lang="ru-RU" sz="3600" spc="-1" strike="noStrike" u="sng">
                <a:solidFill>
                  <a:srgbClr val="0070c0"/>
                </a:solidFill>
                <a:uFillTx/>
                <a:latin typeface="Calibri"/>
              </a:rPr>
              <a:t>Скандинавский полуостров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68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нем расположены страны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Норвегия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 Швеци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68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 соседству находятся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Финляндия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 Дани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68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 левее, на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большом остров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расположена страна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Исланди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268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Это Скандинавские страны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На севере Европ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92936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орвегия- это королевство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0" y="1643040"/>
            <a:ext cx="4114440" cy="47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Норд вег» значит «путь на север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Фьерд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узкие морские заливы с крутыми скалистыми берегами (возникли благодаря ледникам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лица- город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сло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нежная единица- норвежская крон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Documents and Settings\Надюша\Рабочий стол\флаг норв.jpg"/>
          <p:cNvPicPr/>
          <p:nvPr/>
        </p:nvPicPr>
        <p:blipFill>
          <a:blip r:embed="rId1"/>
          <a:stretch/>
        </p:blipFill>
        <p:spPr>
          <a:xfrm>
            <a:off x="285840" y="1428840"/>
            <a:ext cx="2857320" cy="1904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Documents and Settings\Надюша\Рабочий стол\герб норв.jpg"/>
          <p:cNvPicPr/>
          <p:nvPr/>
        </p:nvPicPr>
        <p:blipFill>
          <a:blip r:embed="rId2"/>
          <a:stretch/>
        </p:blipFill>
        <p:spPr>
          <a:xfrm>
            <a:off x="3429000" y="1428840"/>
            <a:ext cx="1071360" cy="188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Documents and Settings\Надюша\Рабочий стол\карта2.jpg"/>
          <p:cNvPicPr/>
          <p:nvPr/>
        </p:nvPicPr>
        <p:blipFill>
          <a:blip r:embed="rId3"/>
          <a:stretch/>
        </p:blipFill>
        <p:spPr>
          <a:xfrm>
            <a:off x="2143080" y="4143240"/>
            <a:ext cx="2318760" cy="2071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Documents and Settings\Надюша\Рабочий стол\норвегия\карта1.jpg"/>
          <p:cNvPicPr/>
          <p:nvPr/>
        </p:nvPicPr>
        <p:blipFill>
          <a:blip r:embed="rId4"/>
          <a:stretch/>
        </p:blipFill>
        <p:spPr>
          <a:xfrm>
            <a:off x="230040" y="4071960"/>
            <a:ext cx="1724040" cy="21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Фьерды Норвег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C:\Documents and Settings\Надюша\Рабочий стол\норв горы.jpg"/>
          <p:cNvPicPr/>
          <p:nvPr/>
        </p:nvPicPr>
        <p:blipFill>
          <a:blip r:embed="rId1"/>
          <a:stretch/>
        </p:blipFill>
        <p:spPr>
          <a:xfrm>
            <a:off x="831240" y="2000160"/>
            <a:ext cx="2180880" cy="1642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Documents and Settings\Надюша\Рабочий стол\горы норв.jpg"/>
          <p:cNvPicPr/>
          <p:nvPr/>
        </p:nvPicPr>
        <p:blipFill>
          <a:blip r:embed="rId2"/>
          <a:stretch/>
        </p:blipFill>
        <p:spPr>
          <a:xfrm>
            <a:off x="6500880" y="1928880"/>
            <a:ext cx="1901160" cy="167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Documents and Settings\Надюша\Рабочий стол\фьерды.jpg"/>
          <p:cNvPicPr/>
          <p:nvPr/>
        </p:nvPicPr>
        <p:blipFill>
          <a:blip r:embed="rId3"/>
          <a:stretch/>
        </p:blipFill>
        <p:spPr>
          <a:xfrm>
            <a:off x="714240" y="4286160"/>
            <a:ext cx="2464200" cy="1971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C:\Documents and Settings\Надюша\Рабочий стол\1.jpg"/>
          <p:cNvPicPr/>
          <p:nvPr/>
        </p:nvPicPr>
        <p:blipFill>
          <a:blip r:embed="rId4"/>
          <a:stretch/>
        </p:blipFill>
        <p:spPr>
          <a:xfrm>
            <a:off x="6215040" y="4143240"/>
            <a:ext cx="2512080" cy="1892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Documents and Settings\Надюша\Рабочий стол\2.jpg"/>
          <p:cNvPicPr/>
          <p:nvPr/>
        </p:nvPicPr>
        <p:blipFill>
          <a:blip r:embed="rId5"/>
          <a:stretch/>
        </p:blipFill>
        <p:spPr>
          <a:xfrm>
            <a:off x="3714840" y="2919960"/>
            <a:ext cx="2084400" cy="28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ще о Норвег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Documents and Settings\Надюша\Рабочий стол\норвегия\города норвегии.jpeg"/>
          <p:cNvPicPr/>
          <p:nvPr/>
        </p:nvPicPr>
        <p:blipFill>
          <a:blip r:embed="rId1"/>
          <a:stretch/>
        </p:blipFill>
        <p:spPr>
          <a:xfrm>
            <a:off x="6357960" y="4643280"/>
            <a:ext cx="1999800" cy="1636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Надюша\Рабочий стол\город в норвегии.jpeg"/>
          <p:cNvPicPr/>
          <p:nvPr/>
        </p:nvPicPr>
        <p:blipFill>
          <a:blip r:embed="rId2"/>
          <a:stretch/>
        </p:blipFill>
        <p:spPr>
          <a:xfrm>
            <a:off x="714240" y="4643280"/>
            <a:ext cx="2161440" cy="1604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Надюша\Рабочий стол\норвегия\нац костюм норвегия.jpeg"/>
          <p:cNvPicPr/>
          <p:nvPr/>
        </p:nvPicPr>
        <p:blipFill>
          <a:blip r:embed="rId3"/>
          <a:stretch/>
        </p:blipFill>
        <p:spPr>
          <a:xfrm>
            <a:off x="1000080" y="1785960"/>
            <a:ext cx="1764000" cy="2170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C:\Documents and Settings\Надюша\Рабочий стол\норвегия\норвегия дома.jpeg"/>
          <p:cNvPicPr/>
          <p:nvPr/>
        </p:nvPicPr>
        <p:blipFill>
          <a:blip r:embed="rId4"/>
          <a:stretch/>
        </p:blipFill>
        <p:spPr>
          <a:xfrm>
            <a:off x="3571920" y="4643280"/>
            <a:ext cx="2118960" cy="1589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C:\Documents and Settings\Надюша\Рабочий стол\норвегия\норвегия горы.jpeg"/>
          <p:cNvPicPr/>
          <p:nvPr/>
        </p:nvPicPr>
        <p:blipFill>
          <a:blip r:embed="rId5"/>
          <a:stretch/>
        </p:blipFill>
        <p:spPr>
          <a:xfrm>
            <a:off x="6429240" y="1785960"/>
            <a:ext cx="1771200" cy="204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C:\Documents and Settings\Надюша\Рабочий стол\норвегия\карта норвегии.jpeg"/>
          <p:cNvPicPr/>
          <p:nvPr/>
        </p:nvPicPr>
        <p:blipFill>
          <a:blip r:embed="rId6"/>
          <a:stretch/>
        </p:blipFill>
        <p:spPr>
          <a:xfrm>
            <a:off x="3714840" y="1785960"/>
            <a:ext cx="17463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Швеция- это королевство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6160" y="1600200"/>
            <a:ext cx="4400280" cy="47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22560" indent="-3225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лица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токголь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он расположен на 14 островах, соединенных мостами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00 лет не участвует в войнах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узей корабля «ВАСА»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333 года под водой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стрид  Линдгрен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написала о Малыше и Карлсон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2560" indent="-3225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на шведской  гимнастической стенк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C:\Documents and Settings\Надюша\Рабочий стол\карта ш.jpg"/>
          <p:cNvPicPr/>
          <p:nvPr/>
        </p:nvPicPr>
        <p:blipFill>
          <a:blip r:embed="rId1"/>
          <a:stretch/>
        </p:blipFill>
        <p:spPr>
          <a:xfrm>
            <a:off x="1000080" y="3571920"/>
            <a:ext cx="2577240" cy="2928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Documents and Settings\Надюша\Рабочий стол\флаг шв.jpg"/>
          <p:cNvPicPr/>
          <p:nvPr/>
        </p:nvPicPr>
        <p:blipFill>
          <a:blip r:embed="rId2"/>
          <a:stretch/>
        </p:blipFill>
        <p:spPr>
          <a:xfrm>
            <a:off x="1000080" y="1571760"/>
            <a:ext cx="2636280" cy="16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Музей корабля «Васа» в Стокгольм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Documents and Settings\Надюша\Рабочий стол\васа6.jpg"/>
          <p:cNvPicPr/>
          <p:nvPr/>
        </p:nvPicPr>
        <p:blipFill>
          <a:blip r:embed="rId1"/>
          <a:stretch/>
        </p:blipFill>
        <p:spPr>
          <a:xfrm>
            <a:off x="785880" y="1905120"/>
            <a:ext cx="2331000" cy="1553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:\Documents and Settings\Надюша\Рабочий стол\васа7.jpg"/>
          <p:cNvPicPr/>
          <p:nvPr/>
        </p:nvPicPr>
        <p:blipFill>
          <a:blip r:embed="rId2"/>
          <a:stretch/>
        </p:blipFill>
        <p:spPr>
          <a:xfrm>
            <a:off x="6328800" y="1928880"/>
            <a:ext cx="2405160" cy="1571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C:\Documents and Settings\Надюша\Рабочий стол\васа5.jpg"/>
          <p:cNvPicPr/>
          <p:nvPr/>
        </p:nvPicPr>
        <p:blipFill>
          <a:blip r:embed="rId3"/>
          <a:stretch/>
        </p:blipFill>
        <p:spPr>
          <a:xfrm>
            <a:off x="6286680" y="4071960"/>
            <a:ext cx="2428560" cy="1829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C:\Documents and Settings\Надюша\Рабочий стол\васа2.jpg"/>
          <p:cNvPicPr/>
          <p:nvPr/>
        </p:nvPicPr>
        <p:blipFill>
          <a:blip r:embed="rId4"/>
          <a:stretch/>
        </p:blipFill>
        <p:spPr>
          <a:xfrm>
            <a:off x="428760" y="4071960"/>
            <a:ext cx="2467440" cy="1856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:\Documents and Settings\Надюша\Рабочий стол\васа.jpg"/>
          <p:cNvPicPr/>
          <p:nvPr/>
        </p:nvPicPr>
        <p:blipFill>
          <a:blip r:embed="rId5"/>
          <a:stretch/>
        </p:blipFill>
        <p:spPr>
          <a:xfrm>
            <a:off x="3393360" y="4714920"/>
            <a:ext cx="2535840" cy="1690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C:\Documents and Settings\Надюша\Рабочий стол\васа3.jpg"/>
          <p:cNvPicPr/>
          <p:nvPr/>
        </p:nvPicPr>
        <p:blipFill>
          <a:blip r:embed="rId6"/>
          <a:stretch/>
        </p:blipFill>
        <p:spPr>
          <a:xfrm>
            <a:off x="3625200" y="1571760"/>
            <a:ext cx="20264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  <Words>509</Words>
  <Paragraphs>8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2:30:15Z</dcterms:created>
  <dc:creator>Надюша</dc:creator>
  <dc:description/>
  <dc:language>en-US</dc:language>
  <cp:lastModifiedBy>саша</cp:lastModifiedBy>
  <dcterms:modified xsi:type="dcterms:W3CDTF">2013-04-25T02:08:59Z</dcterms:modified>
  <cp:revision>75</cp:revision>
  <dc:subject/>
  <dc:title>Наши ближайшие сосед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</Properties>
</file>