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7DA-F6F3-4723-AF1F-611F3BC6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568-15FB-4306-945F-33C4372E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F07-601D-4689-9D0D-C9A4B845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63B-E263-41C1-9B2A-C8DA1F8C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521-9C1E-4377-B7EC-FDA7F37C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538-37DE-4D0D-84BE-41A297D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B1E-1065-4674-B2AC-946B56D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59F-D548-4F87-8AB0-C097C354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648-31AE-47DD-9AB4-A7BAA5E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5A0-B07D-4E3F-BBE9-077CD6D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7B1-4251-44B8-8731-55B5CC71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C3B-BC05-44BB-94D3-61A014C5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E66-CBE3-4F1C-B5E7-A1B2700EE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3520" y="511200"/>
            <a:ext cx="8305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сийская Федерация  Краснодарский край  город Краснода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падный внутригородской ок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муниципального образования город Краснодар «Центр развития ребёнка – детский сад № 233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1901880"/>
            <a:ext cx="8607240" cy="284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25600" y="4564080"/>
            <a:ext cx="2616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А НАТАЛЬЯ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User\Downloads\51205.jpg"/>
          <p:cNvPicPr/>
          <p:nvPr/>
        </p:nvPicPr>
        <p:blipFill>
          <a:blip r:embed="rId2"/>
          <a:stretch/>
        </p:blipFill>
        <p:spPr>
          <a:xfrm>
            <a:off x="380880" y="4411800"/>
            <a:ext cx="28450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User\Downloads\51556.jpg"/>
          <p:cNvPicPr/>
          <p:nvPr/>
        </p:nvPicPr>
        <p:blipFill>
          <a:blip r:embed="rId3"/>
          <a:stretch/>
        </p:blipFill>
        <p:spPr>
          <a:xfrm>
            <a:off x="5867280" y="4411800"/>
            <a:ext cx="287028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638680" y="228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рай для скота, инвента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52280" y="6095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лега под нав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x_3b14829e"/>
          <p:cNvPicPr/>
          <p:nvPr/>
        </p:nvPicPr>
        <p:blipFill>
          <a:blip r:embed="rId1"/>
          <a:stretch/>
        </p:blipFill>
        <p:spPr>
          <a:xfrm>
            <a:off x="380880" y="304920"/>
            <a:ext cx="204156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" name="Picture 14" descr="Одинцов Николай Николаевич"/>
          <p:cNvPicPr/>
          <p:nvPr/>
        </p:nvPicPr>
        <p:blipFill>
          <a:blip r:embed="rId2"/>
          <a:stretch/>
        </p:blipFill>
        <p:spPr>
          <a:xfrm>
            <a:off x="2971800" y="380880"/>
            <a:ext cx="3236760" cy="235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4" name="Picture 15" descr="фото0003"/>
          <p:cNvPicPr/>
          <p:nvPr/>
        </p:nvPicPr>
        <p:blipFill>
          <a:blip r:embed="rId3"/>
          <a:stretch/>
        </p:blipFill>
        <p:spPr>
          <a:xfrm>
            <a:off x="6400800" y="304920"/>
            <a:ext cx="2521080" cy="312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Picture 16" descr="фото0007"/>
          <p:cNvPicPr/>
          <p:nvPr/>
        </p:nvPicPr>
        <p:blipFill>
          <a:blip r:embed="rId4"/>
          <a:stretch/>
        </p:blipFill>
        <p:spPr>
          <a:xfrm>
            <a:off x="2514600" y="3581280"/>
            <a:ext cx="4114800" cy="272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28600" y="3429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мья  казаков начал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048120" y="2895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адебная фотография  начал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62940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4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124080" y="6324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заки ЦР Сочи, 2008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5" descr=""/>
          <p:cNvPicPr/>
          <p:nvPr/>
        </p:nvPicPr>
        <p:blipFill>
          <a:blip r:embed="rId1"/>
          <a:stretch/>
        </p:blipFill>
        <p:spPr>
          <a:xfrm>
            <a:off x="609480" y="1616040"/>
            <a:ext cx="800424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Тамань 211"/>
          <p:cNvPicPr/>
          <p:nvPr/>
        </p:nvPicPr>
        <p:blipFill>
          <a:blip r:embed="rId2"/>
          <a:stretch/>
        </p:blipFill>
        <p:spPr>
          <a:xfrm>
            <a:off x="762120" y="0"/>
            <a:ext cx="4913280" cy="655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79132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ятой угол х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6172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вор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19920" y="685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няя п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16T06:53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