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B05-CBEB-4821-9CFF-1FB392F5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F84-49A6-4A31-B8CD-12E0272F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DA5-11DB-4712-8594-3983A630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45F2-3C06-440E-8053-C75489F4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F1D2-1280-4725-90A7-30F76298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A2DF-E843-4A4E-A29D-E81EAA4A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E888-3D66-412B-B0A8-ED8EFB64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CF76-A49D-41D3-9D3F-BBAD0C52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0EDD-7AD7-474A-91B0-8F78E60A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B3BB-4E7C-40C2-B3F4-9BECD001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7B4F-C223-410E-BB8B-D5C24BE4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6D5-FD52-4B7C-B619-94A612EB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A203-9406-4C84-BBDA-4CF5C108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8FD8-99E1-41C4-91C5-76DD5622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640E-6942-445E-9501-52D8AC5E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21D2-33BF-4DA1-8801-EE60D3B0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E055-377B-4B8C-B2C7-3E3F7A69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A09-7E89-4B3F-9C4F-13BDA187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1D2-028A-4EEA-9A97-C85F5492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16E-A53A-4402-ACC6-94B7ED8F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3D8-2FC5-4FAB-93EF-71602104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A4C-0AC2-4924-BF02-A47CA35E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7CB-C7F2-4CCC-8D38-242CFD03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A2A-4E28-4BA3-AFDD-6D824435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AD7C-AF32-44EA-8952-122590CE7EF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4E4E-D2A8-4163-92F2-33FD506ADBB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6633"/>
                </a:solidFill>
                <a:latin typeface="Garamond"/>
              </a:rPr>
              <a:t>Родительское собрание</a:t>
            </a:r>
            <a:br>
              <a:rPr sz="4100"/>
            </a:br>
            <a:r>
              <a:rPr b="1" i="1" lang="ru-RU" sz="4100" spc="-1" strike="noStrike">
                <a:solidFill>
                  <a:srgbClr val="006633"/>
                </a:solidFill>
                <a:latin typeface="Garamond"/>
              </a:rPr>
              <a:t>«Как помочь ребенку при подготовке к ВПР»</a:t>
            </a:r>
            <a:br>
              <a:rPr sz="4100"/>
            </a:br>
            <a:r>
              <a:rPr b="1" i="1" lang="ru-RU" sz="4100" spc="-1" strike="noStrike">
                <a:solidFill>
                  <a:srgbClr val="006633"/>
                </a:solidFill>
                <a:latin typeface="Garamond"/>
              </a:rPr>
              <a:t>«</a:t>
            </a: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Если ребёнку удается добиться успеха в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школе, у него есть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все шансы на 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успех в жизни.»  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У. Глассер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s://avatars.mds.yandex.net/get-zen_doc/3752452/pub_601c0697d496d2671315f2be_601c5a826695f61b58d1d334/scale_1200"/>
          <p:cNvPicPr/>
          <p:nvPr/>
        </p:nvPicPr>
        <p:blipFill>
          <a:blip r:embed="rId1"/>
          <a:stretch/>
        </p:blipFill>
        <p:spPr>
          <a:xfrm>
            <a:off x="5364000" y="2997360"/>
            <a:ext cx="2808360" cy="35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428400"/>
            <a:ext cx="822960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ть в семье благоприятный климат, эмоционально ровный настрой родителей, наличие поддержки детя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вивать самостоятельность в процессе жизненного самоопределени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едить за правильной организации режима дня ребёнк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едить за записями домашних заданий в дневнике, контролировать их выполнение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учать детей к самосто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асписание ВПР в 201</a:t>
            </a:r>
            <a:r>
              <a:rPr b="0" lang="ru-RU" sz="4200" spc="-1" strike="noStrike">
                <a:solidFill>
                  <a:srgbClr val="006633"/>
                </a:solidFill>
                <a:latin typeface="Arial"/>
              </a:rPr>
              <a:t>7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-201</a:t>
            </a:r>
            <a:r>
              <a:rPr b="0" lang="ru-RU" sz="4200" spc="-1" strike="noStrike">
                <a:solidFill>
                  <a:srgbClr val="006633"/>
                </a:solidFill>
                <a:latin typeface="Arial"/>
              </a:rPr>
              <a:t>8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год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реля- русский язы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реля – матема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реля – окружающий ми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рель литературное чт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ПР будет проходить по следующим правилам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каждый предмет будет отведен свой ден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написание ответов на каждый предмет отведено 45 мину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рещается пользоваться любыми учебниками во время выполнения зада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журнале будет выставлен бал за ВПР, как при контрольной рабо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ым моментом является выработка привычки к неукоснительному выполнению домашних заданий:</a:t>
            </a:r>
            <a:r>
              <a:rPr b="0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4360" y="2060640"/>
            <a:ext cx="820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бы погода ни бы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бы ни шли телепередач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• чей бы день рождения ни отмеча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и должны быть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олнены,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олнены хорошо. 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2613_NpAdvHover"/>
          <p:cNvPicPr/>
          <p:nvPr/>
        </p:nvPicPr>
        <p:blipFill>
          <a:blip r:embed="rId1"/>
          <a:stretch/>
        </p:blipFill>
        <p:spPr>
          <a:xfrm>
            <a:off x="250920" y="400536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468360" y="5057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Организация рабочего мест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Важным является и место выполнения  работы. 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0" y="1428480"/>
            <a:ext cx="9144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но должно быть постоян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икто не должен мешать уче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чень важно заниматься собран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рошем темпе,  не отвлекаясь на           посторонние дел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чень важен темп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Работают хорошо те, кто работают быстр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seminar3"/>
          <p:cNvPicPr/>
          <p:nvPr/>
        </p:nvPicPr>
        <p:blipFill>
          <a:blip r:embed="rId1"/>
          <a:stretch/>
        </p:blipFill>
        <p:spPr>
          <a:xfrm>
            <a:off x="0" y="3048120"/>
            <a:ext cx="1857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гда не называйте ребенка бестолковым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валите ребенка за любой успех, пусть даже самый незначительны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жедневно просматривайте без нареканий тетради, дневник, спокойно попросите объяснения по тому или иному факту, а затем спросите, чем вы можете помоч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юбите своего ребенка и вселяйте ежедневно в него уверен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ругайте, а учите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8560" y="6857640"/>
            <a:ext cx="4105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971640" y="620640"/>
            <a:ext cx="7466040" cy="540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дуйтесь тому,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у вас есть такое счастье -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кем-то делать уроки,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у-то помогать взрослеть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   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ЕШЕНИЕ СОБРАНИЯ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ть полученную информацию в своей работе с ребенк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ять различную популярную развивающую литературу для организации занятий с детьми (для развития памяти, мышления, внимания, наблюдательности, воображения и т. д.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2195640" y="1773360"/>
            <a:ext cx="4681440" cy="23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 внимание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285840" y="-46800"/>
            <a:ext cx="8358120" cy="62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ребенок чему-то учится. Общий итог будет состоять из нескольких частных результатов. Назовем четыре и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очевидный - это знание, которое он получит, или умение, которое он осво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менее очевидный - это тренировка общей способности учиться, то есть учить самого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- эмоциональный след от занятия: удовлетворение или разочарование, уверенность или неуверенность в своих си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19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- след ваших взаимоотношений с ним, если вы при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­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 участие в занятиях. Здесь итог может быть либо положительным (остались довольны друг другом), либо отрицательным (пополнилась копилка взаимных недовольст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сохранить у ребенка желание учиться, стремление к знаниям, необходимо научить его хорошо учитьс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значение в этом случае приобретает сотрудничество родителей и учителей, согласование их действий. Усилия семьи и школы в решении этой проблемы – един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детям должна быть эффективной, грамотной и должна идти в трех направлениях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5914800" cy="30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ежима дн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выполнением домашних задани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учение детей к самостоятельности 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"/>
          <p:cNvPicPr/>
          <p:nvPr/>
        </p:nvPicPr>
        <p:blipFill>
          <a:blip r:embed="rId1"/>
          <a:stretch/>
        </p:blipFill>
        <p:spPr>
          <a:xfrm>
            <a:off x="6215040" y="2492280"/>
            <a:ext cx="271476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Организация режима дня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режима дня позволяет ребен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че справиться с учебной нагрузк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ает нервную систему от переутомления, т.е. укрепляет здоров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20% школьников плохое здоровье - причина неуспеваемости. </a:t>
            </a:r>
            <a:br>
              <a:rPr sz="2200"/>
            </a:br>
            <a:br>
              <a:rPr sz="2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8832091_6546"/>
          <p:cNvPicPr/>
          <p:nvPr/>
        </p:nvPicPr>
        <p:blipFill>
          <a:blip r:embed="rId1"/>
          <a:stretch/>
        </p:blipFill>
        <p:spPr>
          <a:xfrm>
            <a:off x="7236000" y="333360"/>
            <a:ext cx="103788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Точный распорядок занятий - это основа любого труда</a:t>
            </a:r>
            <a:r>
              <a:rPr b="0" lang="ru-RU" sz="3800" spc="-1" strike="noStrike">
                <a:solidFill>
                  <a:srgbClr val="c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жедневное выполнение домашних обязанност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жедневное чтение кн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ация досуг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ь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ованный со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помощи — контроль за выполнением домашних заданий.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должен быть систематическим, а не от случая к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детям должна оказываться своеврем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больше требовательности к детям и как можно больше уважения, контроль должен быть ненавязчивым и тактич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о контролировать не конечный продукт их труда, а сам проце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учить их размышлять самостоятельно, анализировать, доказ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Для подготовки школьника к ВПР родителям необходимо соблюдать следующие правила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9680" y="999720"/>
            <a:ext cx="83581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создать ситуацию эмоционального комфорта для ребенка на этапе подготов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нагнетать обстановку, напоминая о серьезности предстоящей работы и значимости её результатов. Чрезмерное повышение тревоги приведет к дезорганизации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здать для ребёнка ситуацию успеха, поощрения, поддерж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беспечить детям ощущение эмоциональной поддержки во время проведения ВП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39:39Z</dcterms:created>
  <dc:creator>ЕГОР</dc:creator>
  <dc:description/>
  <dc:language>en-US</dc:language>
  <cp:lastModifiedBy>Админ</cp:lastModifiedBy>
  <dcterms:modified xsi:type="dcterms:W3CDTF">2021-04-07T12:18:29Z</dcterms:modified>
  <cp:revision>31</cp:revision>
  <dc:subject/>
  <dc:title>Родительское собрание «Нравственные законы семьи - законы жизни»</dc:title>
</cp:coreProperties>
</file>