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4C2-8342-44A3-922F-60B35932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A92-C62C-4C69-AAF9-46082E6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107-822E-43D8-A8EF-850C0C69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C18-6164-47EF-AECB-2881FA63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8B53-EE8F-4E6A-A161-9DC75F6E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FE2E-A6F5-491E-836B-DD44E6D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849-BB76-4382-80E6-B51B8DC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095-26AB-41B1-8DA9-195E8ABD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974-44FC-4CF0-B18F-85A479D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138F-05CF-4C63-A049-8C979AB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2EF6-4BBE-4B3E-8339-0E735AC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902-AC34-4D7C-ADBA-61B4321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43FD-D8D1-4378-AE82-2686E40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9DFA-8366-403A-910D-6A42EB1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248C-6D7A-4074-83F5-8BC3444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FC46-EFBB-4007-9D36-2512AB1D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1925-554A-4663-A3DB-FDE196F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641-F98D-4E61-918B-B3A439B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1FC-957F-4619-AE39-9B640A2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534-2EF9-486B-8F5D-1106D1F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ADF-B71D-4200-8390-BF4B99C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885-A39B-47DA-A53C-BF4856C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266-C3B5-4018-987B-E6E79B5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F04-E51E-4057-874C-6DABDA4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3A2-5616-44E1-9749-511A318A6F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09B-44AB-482B-9AAF-7A3DBE682E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Родительское собрание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Как помочь ребенку при подготовке к ВПР»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Если ребёнку удается добиться успеха в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школе, у него есть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все шансы на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успех в жизни.» 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У. Глассер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s://avatars.mds.yandex.net/get-zen_doc/3752452/pub_601c0697d496d2671315f2be_601c5a826695f61b58d1d334/scale_1200"/>
          <p:cNvPicPr/>
          <p:nvPr/>
        </p:nvPicPr>
        <p:blipFill>
          <a:blip r:embed="rId1"/>
          <a:stretch/>
        </p:blipFill>
        <p:spPr>
          <a:xfrm>
            <a:off x="5364000" y="2997360"/>
            <a:ext cx="280836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в семье благоприятный климат, эмоционально ровный настрой родителей, наличие поддержки детя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вать самостоятельность в процессе жизненного самоопределе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правильной организации режима дня ребён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записями домашних заданий в дневнике, контролировать их выполнени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учать детей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списание ВПР в 201</a:t>
            </a: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7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201</a:t>
            </a: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8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г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- русский 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 – 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 – окружающий м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ь литературное чт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ПР будет проходить по следующим правилам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ждый предмет будет отведен свой ден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написание ответов на каждый предмет отведено 45 мину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ещается пользоваться любыми учебниками во время выполнения зада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журнале будет выставлен бал за ВПР, как при контрольной рабо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работка привычки к неукоснительному выполнению домашних заданий: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бы погода ни б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ни шли телепередач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чей бы день рождения ни отме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,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68360" y="5057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рганизация рабочего мест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ажным является и место выполнения  работы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о должно быть постоя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кто не должен мешать уче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чень важно заниматься собран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рошем темпе,  не отвлекаясь на           посторонние дел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чень важен темп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ботают хорошо те, кто работают быс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seminar3"/>
          <p:cNvPicPr/>
          <p:nvPr/>
        </p:nvPicPr>
        <p:blipFill>
          <a:blip r:embed="rId1"/>
          <a:stretch/>
        </p:blipFill>
        <p:spPr>
          <a:xfrm>
            <a:off x="0" y="3048120"/>
            <a:ext cx="1857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называйте ребенка бестолковым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валите ребенка за любой успех, пусть даже самый незначительны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о просматривайте без нареканий тетради, дневник, спокойно попросите объяснения по тому или иному факту, а затем спросите, чем вы можете помоч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бите своего ребенка и вселяйте ежедневно в него увер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ругайте, а учит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6857640"/>
            <a:ext cx="4105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971640" y="620640"/>
            <a:ext cx="7466040" cy="540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йтесь тому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у вас есть такое счастье -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ем-то делать уроки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у-то помогать взрослеть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ШЕНИЕ СОБРА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ть полученную информацию в своей работе с ребе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различную популярную развивающую литературу для организации занятий с детьми (для развития памяти, мышления, внимания, наблюдательности, воображения и т. 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195640" y="177336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285840" y="-46800"/>
            <a:ext cx="835812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чему-то учится. Общий итог будет состоять из нескольких частных результатов. Назовем четыр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очевидный - это знание, которое он получит, или умение, которое он осв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менее очевидный - это тренировка общей способности учиться, то есть учить самог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эмоциональный след от занятия: удовлетворение или разочарование, уверенность или неуверенность в своих си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след ваших взаимоотношений с ним, если вы пр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участие в занятиях. Здесь итог может быть либо положительным (остались довольны друг другом), либо отрицательным (пополнилась копилка взаимных недоволь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у ребенка желание учиться, стремление к знаниям, необходимо научить его хорошо уч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значение в этом случае приобретает сотрудничество родителей и учителей, согласование их действий. Усилия семьи и школы в решении этой проблемы – еди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быть эффективной, грамотной и должна идти в трех направлениях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59148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домашних зада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ение детей к самостоятельности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"/>
          <p:cNvPicPr/>
          <p:nvPr/>
        </p:nvPicPr>
        <p:blipFill>
          <a:blip r:embed="rId1"/>
          <a:stretch/>
        </p:blipFill>
        <p:spPr>
          <a:xfrm>
            <a:off x="6215040" y="2492280"/>
            <a:ext cx="271476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рганизация режима дн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 позволяет ребен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справиться с учебной нагруз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ет нервную систему от переутомления, т.е. укрепляет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% школьников плохое здоровье - причина неуспеваемости. 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Точный распорядок занятий - это основа любого труда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чтение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я досу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ованный с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мощи — контроль за выполнением домашних заданий.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олжен быть систематическим, а не от случая к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оказываться свое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больше требовательности к детям и как можно больше уважения, контроль должен быть ненавязчивым и так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контролировать не конечный продукт их труда, а сам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чить их размышлять самостоятельно, анализировать, до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Для подготовки школьника к ВПР родителям необходимо соблюдать следующие правила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680" y="9997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создать ситуацию эмоционального комфорта для ребенка на этапе подготов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нагнетать обстановку, напоминая о серьезности предстоящей работы и значимости её результатов. Чрезмерное повышение тревоги приведет к дезорганизации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ть для ребёнка ситуацию успеха, поощрения, поддер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еспечить детям ощущение эмоциональной поддержки во время проведения В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Админ</cp:lastModifiedBy>
  <dcterms:modified xsi:type="dcterms:W3CDTF">2021-04-07T12:18:29Z</dcterms:modified>
  <cp:revision>31</cp:revision>
  <dc:subject/>
  <dc:title>Родительское собрание «Нравственные законы семьи - законы жизни»</dc:title>
</cp:coreProperties>
</file>