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336-F04F-4536-9BA3-61DC95F2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4EC-0FEC-4D45-AAD0-013E738D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DEE-73B0-49C4-930B-C80ADFCC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EF8-8E22-4CE5-901D-DCE765C4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F88-3B7E-4D8F-94D2-C6F6A6A3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32A-F1C4-4F3C-B68F-81FB8A0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499-3553-4108-BBDD-D602B3A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4C6-05F8-479D-AD8A-3706622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8AE-F30B-4A21-BDF1-C4AF0C6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CBF-6747-4EF1-9F58-6A8E6A6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09E-1D92-4652-B6C8-B385ADE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F21-8455-4EA4-A7C9-D08308F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7EF-5DB7-474D-9A96-AD4D38388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1.pichost.me/i/22/1447074.jpg" TargetMode="External"/><Relationship Id="rId2" Type="http://schemas.openxmlformats.org/officeDocument/2006/relationships/hyperlink" Target="https://yandex.ru/images/search?img_url=http%3A%2F%2Fwww.chessgu.ru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6640" y="348840"/>
            <a:ext cx="72057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69840" y="438120"/>
            <a:ext cx="7204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2387520" y="1219320"/>
            <a:ext cx="43610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ахматная 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адья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34160" y="635004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295600" y="236520"/>
            <a:ext cx="3592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 1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1"/>
          <p:cNvSpPr/>
          <p:nvPr/>
        </p:nvSpPr>
        <p:spPr>
          <a:xfrm>
            <a:off x="2701800" y="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ладья может ру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Конь" descr=""/>
          <p:cNvPicPr/>
          <p:nvPr/>
        </p:nvPicPr>
        <p:blipFill>
          <a:blip r:embed="rId3"/>
          <a:stretch/>
        </p:blipFill>
        <p:spPr>
          <a:xfrm>
            <a:off x="6284880" y="18954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Пешка" descr=""/>
          <p:cNvPicPr/>
          <p:nvPr/>
        </p:nvPicPr>
        <p:blipFill>
          <a:blip r:embed="rId4"/>
          <a:stretch/>
        </p:blipFill>
        <p:spPr>
          <a:xfrm>
            <a:off x="6356520" y="48974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6" name="Пешка" descr=""/>
          <p:cNvPicPr/>
          <p:nvPr/>
        </p:nvPicPr>
        <p:blipFill>
          <a:blip r:embed="rId5"/>
          <a:stretch/>
        </p:blipFill>
        <p:spPr>
          <a:xfrm>
            <a:off x="7664400" y="3157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7620120" y="19987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8" name="Ладья" descr=""/>
          <p:cNvPicPr/>
          <p:nvPr/>
        </p:nvPicPr>
        <p:blipFill>
          <a:blip r:embed="rId7"/>
          <a:stretch/>
        </p:blipFill>
        <p:spPr>
          <a:xfrm>
            <a:off x="6324480" y="3157560"/>
            <a:ext cx="698760" cy="698400"/>
          </a:xfrm>
          <a:prstGeom prst="rect">
            <a:avLst/>
          </a:prstGeom>
          <a:ln w="0">
            <a:noFill/>
          </a:ln>
        </p:spPr>
      </p:pic>
      <p:sp>
        <p:nvSpPr>
          <p:cNvPr id="139" name="Овал 1"/>
          <p:cNvSpPr/>
          <p:nvPr/>
        </p:nvSpPr>
        <p:spPr>
          <a:xfrm>
            <a:off x="6254640" y="1895400"/>
            <a:ext cx="838440" cy="83016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9"/>
          <p:cNvSpPr/>
          <p:nvPr/>
        </p:nvSpPr>
        <p:spPr>
          <a:xfrm>
            <a:off x="4368960" y="3027240"/>
            <a:ext cx="839520" cy="83052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7550280" y="3092400"/>
            <a:ext cx="838080" cy="82872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31"/>
          <p:cNvCxnSpPr/>
          <p:nvPr/>
        </p:nvCxnSpPr>
        <p:spPr>
          <a:xfrm>
            <a:off x="6846840" y="3526920"/>
            <a:ext cx="1122840" cy="27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 flipV="1">
            <a:off x="5038200" y="3506040"/>
            <a:ext cx="1635840" cy="19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4" name="Прямая со стрелкой 33"/>
          <p:cNvCxnSpPr/>
          <p:nvPr/>
        </p:nvCxnSpPr>
        <p:spPr>
          <a:xfrm flipV="1">
            <a:off x="6673320" y="2347200"/>
            <a:ext cx="32760" cy="881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45" name="Picture 4" descr=""/>
          <p:cNvPicPr/>
          <p:nvPr/>
        </p:nvPicPr>
        <p:blipFill>
          <a:blip r:embed="rId8"/>
          <a:stretch/>
        </p:blipFill>
        <p:spPr>
          <a:xfrm>
            <a:off x="6213600" y="4410000"/>
            <a:ext cx="879480" cy="66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9"/>
          <a:stretch/>
        </p:blipFill>
        <p:spPr>
          <a:xfrm>
            <a:off x="4410000" y="3157560"/>
            <a:ext cx="85104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Конь" descr=""/>
          <p:cNvPicPr/>
          <p:nvPr/>
        </p:nvPicPr>
        <p:blipFill>
          <a:blip r:embed="rId3"/>
          <a:stretch/>
        </p:blipFill>
        <p:spPr>
          <a:xfrm>
            <a:off x="5005440" y="31114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0" name="Пешка" descr=""/>
          <p:cNvPicPr/>
          <p:nvPr/>
        </p:nvPicPr>
        <p:blipFill>
          <a:blip r:embed="rId4"/>
          <a:stretch/>
        </p:blipFill>
        <p:spPr>
          <a:xfrm>
            <a:off x="4486320" y="25304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1" name="Конь" descr=""/>
          <p:cNvPicPr/>
          <p:nvPr/>
        </p:nvPicPr>
        <p:blipFill>
          <a:blip r:embed="rId5"/>
          <a:stretch/>
        </p:blipFill>
        <p:spPr>
          <a:xfrm>
            <a:off x="6324480" y="189540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52" name="Пешка" descr=""/>
          <p:cNvPicPr/>
          <p:nvPr/>
        </p:nvPicPr>
        <p:blipFill>
          <a:blip r:embed="rId6"/>
          <a:stretch/>
        </p:blipFill>
        <p:spPr>
          <a:xfrm>
            <a:off x="7664400" y="3157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7"/>
          <a:stretch/>
        </p:blipFill>
        <p:spPr>
          <a:xfrm>
            <a:off x="7581960" y="19256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4" name="Пешка" descr=""/>
          <p:cNvPicPr/>
          <p:nvPr/>
        </p:nvPicPr>
        <p:blipFill>
          <a:blip r:embed="rId8"/>
          <a:stretch/>
        </p:blipFill>
        <p:spPr>
          <a:xfrm>
            <a:off x="6324480" y="488160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55" name="Ладья" descr=""/>
          <p:cNvPicPr/>
          <p:nvPr/>
        </p:nvPicPr>
        <p:blipFill>
          <a:blip r:embed="rId9"/>
          <a:stretch/>
        </p:blipFill>
        <p:spPr>
          <a:xfrm>
            <a:off x="6324480" y="3157560"/>
            <a:ext cx="698760" cy="698400"/>
          </a:xfrm>
          <a:prstGeom prst="rect">
            <a:avLst/>
          </a:prstGeom>
          <a:ln w="0">
            <a:noFill/>
          </a:ln>
        </p:spPr>
      </p:pic>
      <p:cxnSp>
        <p:nvCxnSpPr>
          <p:cNvPr id="156" name="Прямая со стрелкой 21"/>
          <p:cNvCxnSpPr/>
          <p:nvPr/>
        </p:nvCxnSpPr>
        <p:spPr>
          <a:xfrm>
            <a:off x="6694560" y="3762000"/>
            <a:ext cx="23040" cy="1323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pic>
        <p:nvPicPr>
          <p:cNvPr id="157" name="Пешка" descr=""/>
          <p:cNvPicPr/>
          <p:nvPr/>
        </p:nvPicPr>
        <p:blipFill>
          <a:blip r:embed="rId10"/>
          <a:stretch/>
        </p:blipFill>
        <p:spPr>
          <a:xfrm>
            <a:off x="1812960" y="52308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11"/>
          <a:stretch/>
        </p:blipFill>
        <p:spPr>
          <a:xfrm>
            <a:off x="7664400" y="332280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12"/>
          <a:stretch/>
        </p:blipFill>
        <p:spPr>
          <a:xfrm>
            <a:off x="5094360" y="3292560"/>
            <a:ext cx="615960" cy="439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30"/>
          <p:cNvSpPr/>
          <p:nvPr/>
        </p:nvSpPr>
        <p:spPr>
          <a:xfrm>
            <a:off x="112680" y="2274840"/>
            <a:ext cx="2571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ь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5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ходится под защитой пешки на  с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шк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ходится под защитой ладь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ь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ходится также под защитой ладьи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3"/>
          <a:stretch/>
        </p:blipFill>
        <p:spPr>
          <a:xfrm>
            <a:off x="6324480" y="2155680"/>
            <a:ext cx="615960" cy="43992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2701800" y="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лад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ит без по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7064E-006 L 0.00226 0.25151 E">
                                      <p:cBhvr>
                                        <p:cTn id="268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0" y="1895400"/>
            <a:ext cx="2701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ая ладья должна попасть на другой конец длинной диагонали, но ей мешают часовые — чёрные ладьи. И пешки тоже, как назло, стоят на пути: им не давали приказа двигаться. Какие ходы нужно сделать белой ладье, чтобы добраться до це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лько надо сделать ходо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https://openclipart.org/image/2400px/svg_to_png/87697/pion.png"/>
          <p:cNvPicPr/>
          <p:nvPr/>
        </p:nvPicPr>
        <p:blipFill>
          <a:blip r:embed="rId3"/>
          <a:stretch/>
        </p:blipFill>
        <p:spPr>
          <a:xfrm>
            <a:off x="7139160" y="3214800"/>
            <a:ext cx="371160" cy="490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https://openclipart.org/image/2400px/svg_to_png/87697/pion.png"/>
          <p:cNvPicPr/>
          <p:nvPr/>
        </p:nvPicPr>
        <p:blipFill>
          <a:blip r:embed="rId4"/>
          <a:stretch/>
        </p:blipFill>
        <p:spPr>
          <a:xfrm>
            <a:off x="7763040" y="4390920"/>
            <a:ext cx="369720" cy="490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https://openclipart.org/image/2400px/svg_to_png/87697/pion.png"/>
          <p:cNvPicPr/>
          <p:nvPr/>
        </p:nvPicPr>
        <p:blipFill>
          <a:blip r:embed="rId5"/>
          <a:stretch/>
        </p:blipFill>
        <p:spPr>
          <a:xfrm>
            <a:off x="3333600" y="3214800"/>
            <a:ext cx="370080" cy="490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https://openclipart.org/image/2400px/svg_to_png/87697/pion.png"/>
          <p:cNvPicPr/>
          <p:nvPr/>
        </p:nvPicPr>
        <p:blipFill>
          <a:blip r:embed="rId6"/>
          <a:stretch/>
        </p:blipFill>
        <p:spPr>
          <a:xfrm>
            <a:off x="6470640" y="3844800"/>
            <a:ext cx="371520" cy="49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https://openclipart.org/image/2400px/svg_to_png/87697/pion.png"/>
          <p:cNvPicPr/>
          <p:nvPr/>
        </p:nvPicPr>
        <p:blipFill>
          <a:blip r:embed="rId7"/>
          <a:stretch/>
        </p:blipFill>
        <p:spPr>
          <a:xfrm>
            <a:off x="5850000" y="3313080"/>
            <a:ext cx="369720" cy="490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https://openclipart.org/image/2400px/svg_to_png/87697/pion.png"/>
          <p:cNvPicPr/>
          <p:nvPr/>
        </p:nvPicPr>
        <p:blipFill>
          <a:blip r:embed="rId8"/>
          <a:stretch/>
        </p:blipFill>
        <p:spPr>
          <a:xfrm>
            <a:off x="5210280" y="3807000"/>
            <a:ext cx="369720" cy="4903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3"/>
          <p:cNvSpPr/>
          <p:nvPr/>
        </p:nvSpPr>
        <p:spPr>
          <a:xfrm>
            <a:off x="7632720" y="1442880"/>
            <a:ext cx="63036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Ладья" descr=""/>
          <p:cNvPicPr/>
          <p:nvPr/>
        </p:nvPicPr>
        <p:blipFill>
          <a:blip r:embed="rId9"/>
          <a:stretch/>
        </p:blipFill>
        <p:spPr>
          <a:xfrm>
            <a:off x="3168720" y="544356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3"/>
          <p:cNvCxnSpPr/>
          <p:nvPr/>
        </p:nvCxnSpPr>
        <p:spPr>
          <a:xfrm flipV="1">
            <a:off x="4136760" y="1762200"/>
            <a:ext cx="1080" cy="2875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5" name="Прямая со стрелкой 35"/>
          <p:cNvCxnSpPr/>
          <p:nvPr/>
        </p:nvCxnSpPr>
        <p:spPr>
          <a:xfrm>
            <a:off x="4136760" y="4684680"/>
            <a:ext cx="1080" cy="110880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6" name="Прямая со стрелкой 36"/>
          <p:cNvCxnSpPr/>
          <p:nvPr/>
        </p:nvCxnSpPr>
        <p:spPr>
          <a:xfrm flipV="1">
            <a:off x="4137120" y="4683960"/>
            <a:ext cx="318816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7" name="Прямая со стрелкой 37"/>
          <p:cNvCxnSpPr/>
          <p:nvPr/>
        </p:nvCxnSpPr>
        <p:spPr>
          <a:xfrm flipH="1" flipV="1">
            <a:off x="3480840" y="4683960"/>
            <a:ext cx="626040" cy="118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8" name="Прямая со стрелкой 41"/>
          <p:cNvCxnSpPr/>
          <p:nvPr/>
        </p:nvCxnSpPr>
        <p:spPr>
          <a:xfrm flipV="1">
            <a:off x="4835160" y="5238000"/>
            <a:ext cx="318852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9" name="Прямая со стрелкой 43"/>
          <p:cNvCxnSpPr/>
          <p:nvPr/>
        </p:nvCxnSpPr>
        <p:spPr>
          <a:xfrm flipV="1">
            <a:off x="4803480" y="1761840"/>
            <a:ext cx="1080" cy="338040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80" name="Прямая со стрелкой 44"/>
          <p:cNvCxnSpPr/>
          <p:nvPr/>
        </p:nvCxnSpPr>
        <p:spPr>
          <a:xfrm>
            <a:off x="4803480" y="5238360"/>
            <a:ext cx="1080" cy="5547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81" name="Прямая со стрелкой 46"/>
          <p:cNvCxnSpPr/>
          <p:nvPr/>
        </p:nvCxnSpPr>
        <p:spPr>
          <a:xfrm flipH="1">
            <a:off x="3517200" y="5249520"/>
            <a:ext cx="120420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82" name="Picture 2" descr=""/>
          <p:cNvPicPr/>
          <p:nvPr/>
        </p:nvPicPr>
        <p:blipFill>
          <a:blip r:embed="rId10"/>
          <a:stretch/>
        </p:blipFill>
        <p:spPr>
          <a:xfrm>
            <a:off x="4486320" y="48816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11"/>
          <a:stretch/>
        </p:blipFill>
        <p:spPr>
          <a:xfrm>
            <a:off x="3794040" y="4335480"/>
            <a:ext cx="698760" cy="6984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6"/>
          <p:cNvSpPr/>
          <p:nvPr/>
        </p:nvSpPr>
        <p:spPr>
          <a:xfrm>
            <a:off x="355680" y="5316480"/>
            <a:ext cx="199080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я с син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ел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ран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и проти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Прямая со стрелкой 52"/>
          <p:cNvCxnSpPr/>
          <p:nvPr/>
        </p:nvCxnSpPr>
        <p:spPr>
          <a:xfrm flipV="1">
            <a:off x="3703680" y="5853960"/>
            <a:ext cx="362160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6" name="Прямая со стрелкой 55"/>
          <p:cNvCxnSpPr/>
          <p:nvPr/>
        </p:nvCxnSpPr>
        <p:spPr>
          <a:xfrm flipV="1">
            <a:off x="7324200" y="4090320"/>
            <a:ext cx="1080" cy="1764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7" name="Прямая со стрелкой 57"/>
          <p:cNvCxnSpPr/>
          <p:nvPr/>
        </p:nvCxnSpPr>
        <p:spPr>
          <a:xfrm>
            <a:off x="7346520" y="4075200"/>
            <a:ext cx="600840" cy="16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8" name="Прямая со стрелкой 59"/>
          <p:cNvCxnSpPr>
            <a:endCxn id="172" idx="2"/>
          </p:cNvCxnSpPr>
          <p:nvPr/>
        </p:nvCxnSpPr>
        <p:spPr>
          <a:xfrm flipV="1">
            <a:off x="7946640" y="2080440"/>
            <a:ext cx="1080" cy="19645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9" name="Заголовок 1"/>
          <p:cNvSpPr/>
          <p:nvPr/>
        </p:nvSpPr>
        <p:spPr>
          <a:xfrm>
            <a:off x="2359080" y="33336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http://liubavyshka.ru/_ph/4/2/819173629.gif?1455821261"/>
          <p:cNvPicPr/>
          <p:nvPr/>
        </p:nvPicPr>
        <p:blipFill>
          <a:blip r:embed="rId12"/>
          <a:stretch/>
        </p:blipFill>
        <p:spPr>
          <a:xfrm>
            <a:off x="5270400" y="1685880"/>
            <a:ext cx="138600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Классно! смайлик"/>
          <p:cNvPicPr/>
          <p:nvPr/>
        </p:nvPicPr>
        <p:blipFill>
          <a:blip r:embed="rId13"/>
          <a:stretch/>
        </p:blipFill>
        <p:spPr>
          <a:xfrm>
            <a:off x="5398920" y="1946160"/>
            <a:ext cx="127188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205E-006 L 0.41667 -4.39205E-006 E">
                                      <p:cBhvr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667 -3.84651E-006 L 0.41667 -0.24988 E">
                                      <p:cBhvr>
                                        <p:cTn id="31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667 -0.24988 L 0.48629 -0.24711 E">
                                      <p:cBhvr>
                                        <p:cTn id="32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629 -0.24711 L 0.48629 -0.59385 E">
                                      <p:cBhvr>
                                        <p:cTn id="32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301680" y="3722760"/>
            <a:ext cx="85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зи свое настроение смай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554040" y="968400"/>
            <a:ext cx="8310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вариант соответствующий твоим ощущениям после сегодняшнего занятия. </a:t>
            </a:r>
            <a:br>
              <a:rPr sz="16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 Я все знаю, понял и могу объяснить другим!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Я все знаю, понял, но не уверен, что смогу объяснить другим!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. У меня остались некоторые вопросы.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2265480" y="219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смайлл"/>
          <p:cNvPicPr/>
          <p:nvPr/>
        </p:nvPicPr>
        <p:blipFill>
          <a:blip r:embed="rId1"/>
          <a:srcRect l="0" t="0" r="0" b="3128"/>
          <a:stretch/>
        </p:blipFill>
        <p:spPr>
          <a:xfrm>
            <a:off x="1208160" y="4237200"/>
            <a:ext cx="6748560" cy="1379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114480" y="2293920"/>
            <a:ext cx="1285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7"/>
          <p:cNvSpPr/>
          <p:nvPr/>
        </p:nvSpPr>
        <p:spPr>
          <a:xfrm>
            <a:off x="0" y="1282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И.Г. Сухин  Шахматы, первый год, или Там клетки черно-белые чудес и тайн полны. Учебник для начальной   школы,  первый год обучения. В 2-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частях. 2012г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2265480" y="219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-65160" y="2482920"/>
            <a:ext cx="87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Картинки и векторы фигур интернет ресурс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p1.pichost.me/i/22/144707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://yandex.ru/images/search?img_url=http%3A%2F%2Fwww.chessgu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9828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3" descr="http://img12.nnm.ru/e/2/9/4/9/034fb9d76d2e7ef4f29b26f37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4"/>
          <p:cNvSpPr txBox="1"/>
          <p:nvPr/>
        </p:nvSpPr>
        <p:spPr>
          <a:xfrm>
            <a:off x="947880" y="816120"/>
            <a:ext cx="31114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753480" cy="6472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42920" y="6467400"/>
            <a:ext cx="58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шахматная дорожка тянется слева направо? Справа на лево(Горизонталь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42920" y="64674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ая шахматная дорожка тянется сверху вниз. Сверху вниз (вертикал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42920" y="6467400"/>
            <a:ext cx="57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следует за белым полем на шахматной доске, за черным полем (черное поле, белое пол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142920" y="6443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колько белых полей в каждой горизонтали? вертикали? (По 4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42920" y="6443640"/>
            <a:ext cx="26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шахматных фигур всего?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64960" y="6418440"/>
            <a:ext cx="277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леток на шахматной доске?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4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1"/>
          <p:cNvSpPr/>
          <p:nvPr/>
        </p:nvSpPr>
        <p:spPr>
          <a:xfrm>
            <a:off x="3110040" y="677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2800440" y="2036880"/>
            <a:ext cx="123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5"/>
          <p:cNvSpPr/>
          <p:nvPr/>
        </p:nvSpPr>
        <p:spPr>
          <a:xfrm>
            <a:off x="7970760" y="5428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2997360" y="446256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3110040" y="339876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5"/>
          <p:cNvSpPr/>
          <p:nvPr/>
        </p:nvSpPr>
        <p:spPr>
          <a:xfrm>
            <a:off x="7578720" y="2036880"/>
            <a:ext cx="123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8"/>
          <p:cNvSpPr/>
          <p:nvPr/>
        </p:nvSpPr>
        <p:spPr>
          <a:xfrm>
            <a:off x="8194680" y="3206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0"/>
          <p:cNvSpPr/>
          <p:nvPr/>
        </p:nvSpPr>
        <p:spPr>
          <a:xfrm>
            <a:off x="7840800" y="4413240"/>
            <a:ext cx="105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7050240" y="5773680"/>
            <a:ext cx="105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55440" y="-236520"/>
            <a:ext cx="9199440" cy="745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0" y="3699000"/>
          <a:ext cx="914400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99000"/>
                    <a:ext cx="914400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Прямоугольник 2"/>
          <p:cNvSpPr/>
          <p:nvPr/>
        </p:nvSpPr>
        <p:spPr>
          <a:xfrm>
            <a:off x="379440" y="4341960"/>
            <a:ext cx="585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равнительной силе ладья ценится  – 5 пе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носится к классу тяжелых фиг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следующие обозначе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13120" y="3533760"/>
            <a:ext cx="57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значение 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graycell.ru/picture/big/lady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745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А ну, не тронь - Татьяна Петровна Писаревская"/>
          <p:cNvPicPr/>
          <p:nvPr/>
        </p:nvPicPr>
        <p:blipFill>
          <a:blip r:embed="rId4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1800" y="104292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1920960" y="2232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положение ладьи в начальном по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11"/>
          <p:cNvCxnSpPr/>
          <p:nvPr/>
        </p:nvCxnSpPr>
        <p:spPr>
          <a:xfrm flipH="1">
            <a:off x="3483720" y="2025720"/>
            <a:ext cx="43560" cy="352800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73" name="Прямая со стрелкой 12"/>
          <p:cNvCxnSpPr/>
          <p:nvPr/>
        </p:nvCxnSpPr>
        <p:spPr>
          <a:xfrm flipH="1">
            <a:off x="3801600" y="5854320"/>
            <a:ext cx="378216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4" name="Прямая со стрелкой 13"/>
          <p:cNvCxnSpPr/>
          <p:nvPr/>
        </p:nvCxnSpPr>
        <p:spPr>
          <a:xfrm flipV="1">
            <a:off x="3914640" y="1761480"/>
            <a:ext cx="3849120" cy="27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75" name="Прямая со стрелкой 14"/>
          <p:cNvCxnSpPr/>
          <p:nvPr/>
        </p:nvCxnSpPr>
        <p:spPr>
          <a:xfrm flipV="1">
            <a:off x="7935480" y="1990440"/>
            <a:ext cx="18360" cy="3435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6" name="Прямоугольник 1"/>
          <p:cNvSpPr/>
          <p:nvPr/>
        </p:nvSpPr>
        <p:spPr>
          <a:xfrm>
            <a:off x="243000" y="3065400"/>
            <a:ext cx="228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и очень храбрые, но не слишком хитрые. Они ходят только по линиям горизонтали и вертикали, на любое количество п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3240000" y="1498680"/>
            <a:ext cx="63504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3240000" y="14050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9"/>
          <p:cNvSpPr/>
          <p:nvPr/>
        </p:nvSpPr>
        <p:spPr>
          <a:xfrm>
            <a:off x="7623000" y="1463760"/>
            <a:ext cx="63360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/>
          <p:cNvSpPr/>
          <p:nvPr/>
        </p:nvSpPr>
        <p:spPr>
          <a:xfrm>
            <a:off x="7623000" y="5553000"/>
            <a:ext cx="63360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1"/>
          <p:cNvSpPr/>
          <p:nvPr/>
        </p:nvSpPr>
        <p:spPr>
          <a:xfrm>
            <a:off x="3166920" y="5548320"/>
            <a:ext cx="63504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Ладья" descr=""/>
          <p:cNvPicPr/>
          <p:nvPr/>
        </p:nvPicPr>
        <p:blipFill>
          <a:blip r:embed="rId4"/>
          <a:stretch/>
        </p:blipFill>
        <p:spPr>
          <a:xfrm>
            <a:off x="7581960" y="54673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83" name="Ладья" descr=""/>
          <p:cNvPicPr/>
          <p:nvPr/>
        </p:nvPicPr>
        <p:blipFill>
          <a:blip r:embed="rId5"/>
          <a:stretch/>
        </p:blipFill>
        <p:spPr>
          <a:xfrm>
            <a:off x="3178080" y="542592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7632720" y="13701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92160" y="496872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од ладьи из начального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954600" y="3605040"/>
            <a:ext cx="353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положение лад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54600" y="3605040"/>
            <a:ext cx="353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92160" y="199224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ые ладьи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и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ные ладьи   а8   и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885960" y="525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5032440" y="31575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2773440" y="66816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1"/>
          <p:cNvCxnSpPr/>
          <p:nvPr/>
        </p:nvCxnSpPr>
        <p:spPr>
          <a:xfrm>
            <a:off x="5382720" y="3849840"/>
            <a:ext cx="1080" cy="19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5" name="Прямая со стрелкой 12"/>
          <p:cNvCxnSpPr/>
          <p:nvPr/>
        </p:nvCxnSpPr>
        <p:spPr>
          <a:xfrm flipH="1">
            <a:off x="3342960" y="3533400"/>
            <a:ext cx="170568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5703480" y="3492000"/>
            <a:ext cx="215172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Прямая со стрелкой 14"/>
          <p:cNvCxnSpPr>
            <a:stCxn id="92" idx="0"/>
          </p:cNvCxnSpPr>
          <p:nvPr/>
        </p:nvCxnSpPr>
        <p:spPr>
          <a:xfrm flipV="1">
            <a:off x="5389560" y="1626480"/>
            <a:ext cx="8640" cy="153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8" name="Прямоугольник 2"/>
          <p:cNvSpPr/>
          <p:nvPr/>
        </p:nvSpPr>
        <p:spPr>
          <a:xfrm>
            <a:off x="0" y="1801800"/>
            <a:ext cx="270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вот, где бы ни стояла ладья, она может перейти на любую клетку своей ли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62440" y="4197240"/>
            <a:ext cx="3535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дья ходит по горизонтали или по вертикали на любое число полей, если на её пути не стоят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0" y="3157560"/>
            <a:ext cx="27018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имо, ладья упряма, если ходит только прямо,  не петляет – прыг да скок, не шагнёт наиско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 от края и до края может двигаться она. Это башня боевая неуклюжа, но си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аг тяжёлый у ладьи, в бой её скорей вед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885960" y="525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3"/>
          <a:stretch/>
        </p:blipFill>
        <p:spPr>
          <a:xfrm>
            <a:off x="5048280" y="1382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4"/>
          <a:stretch/>
        </p:blipFill>
        <p:spPr>
          <a:xfrm>
            <a:off x="3781440" y="3143160"/>
            <a:ext cx="698400" cy="6987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368440" y="628560"/>
            <a:ext cx="67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(по Гор. Верт.)  Как руб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(также как и ход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0" y="2249640"/>
            <a:ext cx="270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 если ладья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ижении упрётся в кра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ки или другую фигу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его цвета, ей придё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тановиться, а если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гуру противника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ет ее руб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65160" y="463068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я берёт любую фигуру противника, стоящую на одной с не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2058840" y="16066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tretch/>
        </p:blipFill>
        <p:spPr>
          <a:xfrm>
            <a:off x="7677000" y="31575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7"/>
          <a:stretch/>
        </p:blipFill>
        <p:spPr>
          <a:xfrm>
            <a:off x="5032440" y="31575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9.57004E-007 L -0.0019 -0.17637 E">
                                      <p:cBhvr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4.07407E-006 L -4.44444E-006 0.3375 E">
                                      <p:cBhvr>
                                        <p:cTn id="16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-9.57004E-007 L -0.06753 0.00277 E">
                                      <p:cBhvr>
                                        <p:cTn id="16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0.28437 0.00093 E">
                                      <p:cBhvr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684520" y="104760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4"/>
          <p:cNvSpPr/>
          <p:nvPr/>
        </p:nvSpPr>
        <p:spPr>
          <a:xfrm>
            <a:off x="112680" y="2281320"/>
            <a:ext cx="25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за 3 хода занять по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1038240" y="20484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056200" y="1962000"/>
            <a:ext cx="63036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"/>
          <p:cNvPicPr/>
          <p:nvPr/>
        </p:nvPicPr>
        <p:blipFill>
          <a:blip r:embed="rId3"/>
          <a:stretch/>
        </p:blipFill>
        <p:spPr>
          <a:xfrm>
            <a:off x="7589880" y="5504040"/>
            <a:ext cx="676080" cy="677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112680" y="301788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лько существует возможностей попасть с трех ходов белой ладьей с пол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 поле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2338560" y="3755880"/>
            <a:ext cx="6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24988 L -0.27343 -0.24711 E">
                                      <p:cBhvr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343 -0.24711 L -0.27326 -0.51872 E">
                                      <p:cBhvr>
                                        <p:cTn id="19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684520" y="104760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112680" y="228132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я рубит также как и ходит по горизонтали и вертик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1038240" y="20484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убит лад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4059360" y="3527280"/>
            <a:ext cx="3535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дья рубит также, как и ходит  по горизонтали или по вертик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3"/>
          <a:stretch/>
        </p:blipFill>
        <p:spPr>
          <a:xfrm>
            <a:off x="7540560" y="257004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26" name="Слон" descr=""/>
          <p:cNvPicPr/>
          <p:nvPr/>
        </p:nvPicPr>
        <p:blipFill>
          <a:blip r:embed="rId4"/>
          <a:stretch/>
        </p:blipFill>
        <p:spPr>
          <a:xfrm>
            <a:off x="5686560" y="255888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5"/>
          <a:stretch/>
        </p:blipFill>
        <p:spPr>
          <a:xfrm>
            <a:off x="1986120" y="46990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28" name="Ладья счет 1" descr=""/>
          <p:cNvPicPr/>
          <p:nvPr/>
        </p:nvPicPr>
        <p:blipFill>
          <a:blip r:embed="rId6"/>
          <a:stretch/>
        </p:blipFill>
        <p:spPr>
          <a:xfrm>
            <a:off x="3801960" y="54421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29" name="Конь" descr=""/>
          <p:cNvPicPr/>
          <p:nvPr/>
        </p:nvPicPr>
        <p:blipFill>
          <a:blip r:embed="rId7"/>
          <a:stretch/>
        </p:blipFill>
        <p:spPr>
          <a:xfrm>
            <a:off x="3710160" y="37702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8"/>
          <a:stretch/>
        </p:blipFill>
        <p:spPr>
          <a:xfrm>
            <a:off x="1986120" y="5460840"/>
            <a:ext cx="698400" cy="6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2219E-006 L -0.19601 0.00463 E">
                                      <p:cBhvr>
                                        <p:cTn id="21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135E-006 L -4.44444E-006 -0.25636 E">
                                      <p:cBhvr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6-03-09T07:29:10Z</dcterms:modified>
  <cp:revision>1390</cp:revision>
  <dc:subject/>
  <dc:title>Слайд 1</dc:title>
</cp:coreProperties>
</file>