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3E7-1AA1-4446-AB45-630ACD78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160-DCEA-4148-A014-E161359C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B6B-9E58-4527-9739-F11B3557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793-CB79-4B1A-B264-7E491F6A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09B-A6BA-4172-AF91-5F312655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E1D-2916-4371-B76A-E5DE4A19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C14-BD2F-42E7-B29E-E1CAFB42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26A-8F19-4A08-98B9-EAAF51F6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FA3-413B-4645-8327-C638AB31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D87-CFA4-4ED0-B9BF-4D1BB145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72B-78FF-4E67-9F09-06794E89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181-A3DF-4DD7-93B2-7C082E88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CEFF-0B2D-4620-99FA-439CAD0D4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3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7.gif"/><Relationship Id="rId13" Type="http://schemas.openxmlformats.org/officeDocument/2006/relationships/image" Target="../media/image18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1.pichost.me/i/22/1447074.jpg" TargetMode="External"/><Relationship Id="rId2" Type="http://schemas.openxmlformats.org/officeDocument/2006/relationships/hyperlink" Target="https://yandex.ru/images/search?img_url=http%3A%2F%2Fwww.chessgu.ru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6640" y="348840"/>
            <a:ext cx="72057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969840" y="438120"/>
            <a:ext cx="72043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2"/>
          <p:cNvSpPr txBox="1"/>
          <p:nvPr/>
        </p:nvSpPr>
        <p:spPr>
          <a:xfrm>
            <a:off x="2387520" y="1219320"/>
            <a:ext cx="436104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Шахматная 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адья.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834160" y="6350040"/>
            <a:ext cx="30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Погорель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5295600" y="236520"/>
            <a:ext cx="3592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 1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701800" y="1047600"/>
            <a:ext cx="6004080" cy="5604120"/>
          </a:xfrm>
          <a:prstGeom prst="rect">
            <a:avLst/>
          </a:prstGeom>
          <a:ln w="0">
            <a:noFill/>
          </a:ln>
        </p:spPr>
      </p:pic>
      <p:sp>
        <p:nvSpPr>
          <p:cNvPr id="132" name="Заголовок 1"/>
          <p:cNvSpPr/>
          <p:nvPr/>
        </p:nvSpPr>
        <p:spPr>
          <a:xfrm>
            <a:off x="2701800" y="0"/>
            <a:ext cx="644220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гуру ладья может руб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Конь" descr=""/>
          <p:cNvPicPr/>
          <p:nvPr/>
        </p:nvPicPr>
        <p:blipFill>
          <a:blip r:embed="rId3"/>
          <a:stretch/>
        </p:blipFill>
        <p:spPr>
          <a:xfrm>
            <a:off x="6284880" y="18954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35" name="Пешка" descr=""/>
          <p:cNvPicPr/>
          <p:nvPr/>
        </p:nvPicPr>
        <p:blipFill>
          <a:blip r:embed="rId4"/>
          <a:stretch/>
        </p:blipFill>
        <p:spPr>
          <a:xfrm>
            <a:off x="6356520" y="489744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36" name="Пешка" descr=""/>
          <p:cNvPicPr/>
          <p:nvPr/>
        </p:nvPicPr>
        <p:blipFill>
          <a:blip r:embed="rId5"/>
          <a:stretch/>
        </p:blipFill>
        <p:spPr>
          <a:xfrm>
            <a:off x="7664400" y="31575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6"/>
          <a:stretch/>
        </p:blipFill>
        <p:spPr>
          <a:xfrm>
            <a:off x="7620120" y="199872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38" name="Ладья" descr=""/>
          <p:cNvPicPr/>
          <p:nvPr/>
        </p:nvPicPr>
        <p:blipFill>
          <a:blip r:embed="rId7"/>
          <a:stretch/>
        </p:blipFill>
        <p:spPr>
          <a:xfrm>
            <a:off x="6324480" y="3157560"/>
            <a:ext cx="698760" cy="698400"/>
          </a:xfrm>
          <a:prstGeom prst="rect">
            <a:avLst/>
          </a:prstGeom>
          <a:ln w="0">
            <a:noFill/>
          </a:ln>
        </p:spPr>
      </p:pic>
      <p:sp>
        <p:nvSpPr>
          <p:cNvPr id="139" name="Овал 1"/>
          <p:cNvSpPr/>
          <p:nvPr/>
        </p:nvSpPr>
        <p:spPr>
          <a:xfrm>
            <a:off x="6254640" y="1895400"/>
            <a:ext cx="838440" cy="83016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9"/>
          <p:cNvSpPr/>
          <p:nvPr/>
        </p:nvSpPr>
        <p:spPr>
          <a:xfrm>
            <a:off x="4368960" y="3027240"/>
            <a:ext cx="839520" cy="83052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7"/>
          <p:cNvSpPr/>
          <p:nvPr/>
        </p:nvSpPr>
        <p:spPr>
          <a:xfrm>
            <a:off x="7550280" y="3092400"/>
            <a:ext cx="838080" cy="828720"/>
          </a:xfrm>
          <a:prstGeom prst="ellipse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 стрелкой 31"/>
          <p:cNvCxnSpPr/>
          <p:nvPr/>
        </p:nvCxnSpPr>
        <p:spPr>
          <a:xfrm>
            <a:off x="6846840" y="3526920"/>
            <a:ext cx="1122840" cy="277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/>
          <p:nvPr/>
        </p:nvCxnSpPr>
        <p:spPr>
          <a:xfrm flipH="1" flipV="1">
            <a:off x="5038200" y="3506040"/>
            <a:ext cx="1635840" cy="19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4" name="Прямая со стрелкой 33"/>
          <p:cNvCxnSpPr/>
          <p:nvPr/>
        </p:nvCxnSpPr>
        <p:spPr>
          <a:xfrm flipV="1">
            <a:off x="6673320" y="2347200"/>
            <a:ext cx="32760" cy="8816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145" name="Picture 4" descr=""/>
          <p:cNvPicPr/>
          <p:nvPr/>
        </p:nvPicPr>
        <p:blipFill>
          <a:blip r:embed="rId8"/>
          <a:stretch/>
        </p:blipFill>
        <p:spPr>
          <a:xfrm>
            <a:off x="6213600" y="4410000"/>
            <a:ext cx="879480" cy="666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9"/>
          <a:stretch/>
        </p:blipFill>
        <p:spPr>
          <a:xfrm>
            <a:off x="4410000" y="3157560"/>
            <a:ext cx="85104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701800" y="1047600"/>
            <a:ext cx="6004080" cy="5604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Конь" descr=""/>
          <p:cNvPicPr/>
          <p:nvPr/>
        </p:nvPicPr>
        <p:blipFill>
          <a:blip r:embed="rId3"/>
          <a:stretch/>
        </p:blipFill>
        <p:spPr>
          <a:xfrm>
            <a:off x="5005440" y="311148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50" name="Пешка" descr=""/>
          <p:cNvPicPr/>
          <p:nvPr/>
        </p:nvPicPr>
        <p:blipFill>
          <a:blip r:embed="rId4"/>
          <a:stretch/>
        </p:blipFill>
        <p:spPr>
          <a:xfrm>
            <a:off x="4486320" y="253044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51" name="Конь" descr=""/>
          <p:cNvPicPr/>
          <p:nvPr/>
        </p:nvPicPr>
        <p:blipFill>
          <a:blip r:embed="rId5"/>
          <a:stretch/>
        </p:blipFill>
        <p:spPr>
          <a:xfrm>
            <a:off x="6324480" y="189540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52" name="Пешка" descr=""/>
          <p:cNvPicPr/>
          <p:nvPr/>
        </p:nvPicPr>
        <p:blipFill>
          <a:blip r:embed="rId6"/>
          <a:stretch/>
        </p:blipFill>
        <p:spPr>
          <a:xfrm>
            <a:off x="7664400" y="31575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7"/>
          <a:stretch/>
        </p:blipFill>
        <p:spPr>
          <a:xfrm>
            <a:off x="7581960" y="192564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54" name="Пешка" descr=""/>
          <p:cNvPicPr/>
          <p:nvPr/>
        </p:nvPicPr>
        <p:blipFill>
          <a:blip r:embed="rId8"/>
          <a:stretch/>
        </p:blipFill>
        <p:spPr>
          <a:xfrm>
            <a:off x="6324480" y="488160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55" name="Ладья" descr=""/>
          <p:cNvPicPr/>
          <p:nvPr/>
        </p:nvPicPr>
        <p:blipFill>
          <a:blip r:embed="rId9"/>
          <a:stretch/>
        </p:blipFill>
        <p:spPr>
          <a:xfrm>
            <a:off x="6324480" y="3157560"/>
            <a:ext cx="698760" cy="698400"/>
          </a:xfrm>
          <a:prstGeom prst="rect">
            <a:avLst/>
          </a:prstGeom>
          <a:ln w="0">
            <a:noFill/>
          </a:ln>
        </p:spPr>
      </p:pic>
      <p:cxnSp>
        <p:nvCxnSpPr>
          <p:cNvPr id="156" name="Прямая со стрелкой 21"/>
          <p:cNvCxnSpPr/>
          <p:nvPr/>
        </p:nvCxnSpPr>
        <p:spPr>
          <a:xfrm>
            <a:off x="6694560" y="3762000"/>
            <a:ext cx="23040" cy="13230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pic>
        <p:nvPicPr>
          <p:cNvPr id="157" name="Пешка" descr=""/>
          <p:cNvPicPr/>
          <p:nvPr/>
        </p:nvPicPr>
        <p:blipFill>
          <a:blip r:embed="rId10"/>
          <a:stretch/>
        </p:blipFill>
        <p:spPr>
          <a:xfrm>
            <a:off x="1812960" y="52308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11"/>
          <a:stretch/>
        </p:blipFill>
        <p:spPr>
          <a:xfrm>
            <a:off x="7664400" y="3322800"/>
            <a:ext cx="615960" cy="43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12"/>
          <a:stretch/>
        </p:blipFill>
        <p:spPr>
          <a:xfrm>
            <a:off x="5094360" y="3292560"/>
            <a:ext cx="615960" cy="4395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30"/>
          <p:cNvSpPr/>
          <p:nvPr/>
        </p:nvSpPr>
        <p:spPr>
          <a:xfrm>
            <a:off x="112680" y="2274840"/>
            <a:ext cx="2571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ь 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5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ходится под защитой пешки на  с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шк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ходится под защитой ладь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ь 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ходится также под защитой ладьи н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3"/>
          <a:stretch/>
        </p:blipFill>
        <p:spPr>
          <a:xfrm>
            <a:off x="6324480" y="2155680"/>
            <a:ext cx="615960" cy="439920"/>
          </a:xfrm>
          <a:prstGeom prst="rect">
            <a:avLst/>
          </a:prstGeom>
          <a:ln w="0">
            <a:noFill/>
          </a:ln>
        </p:spPr>
      </p:pic>
      <p:sp>
        <p:nvSpPr>
          <p:cNvPr id="162" name="Заголовок 1"/>
          <p:cNvSpPr/>
          <p:nvPr/>
        </p:nvSpPr>
        <p:spPr>
          <a:xfrm>
            <a:off x="2701800" y="0"/>
            <a:ext cx="644220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гуру лад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ит без пот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7064E-006 L 0.00226 0.25151 E">
                                      <p:cBhvr>
                                        <p:cTn id="268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701800" y="1047600"/>
            <a:ext cx="6004080" cy="56041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"/>
          <p:cNvSpPr/>
          <p:nvPr/>
        </p:nvSpPr>
        <p:spPr>
          <a:xfrm>
            <a:off x="0" y="1895400"/>
            <a:ext cx="2701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лая ладья должна попасть на другой конец длинной диагонали, но ей мешают часовые — чёрные ладьи. И пешки тоже, как назло, стоят на пути: им не давали приказа двигаться. Какие ходы нужно сделать белой ладье, чтобы добраться до цел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лько надо сделать ходов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https://openclipart.org/image/2400px/svg_to_png/87697/pion.png"/>
          <p:cNvPicPr/>
          <p:nvPr/>
        </p:nvPicPr>
        <p:blipFill>
          <a:blip r:embed="rId3"/>
          <a:stretch/>
        </p:blipFill>
        <p:spPr>
          <a:xfrm>
            <a:off x="7139160" y="3214800"/>
            <a:ext cx="371160" cy="490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https://openclipart.org/image/2400px/svg_to_png/87697/pion.png"/>
          <p:cNvPicPr/>
          <p:nvPr/>
        </p:nvPicPr>
        <p:blipFill>
          <a:blip r:embed="rId4"/>
          <a:stretch/>
        </p:blipFill>
        <p:spPr>
          <a:xfrm>
            <a:off x="7763040" y="4390920"/>
            <a:ext cx="369720" cy="490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https://openclipart.org/image/2400px/svg_to_png/87697/pion.png"/>
          <p:cNvPicPr/>
          <p:nvPr/>
        </p:nvPicPr>
        <p:blipFill>
          <a:blip r:embed="rId5"/>
          <a:stretch/>
        </p:blipFill>
        <p:spPr>
          <a:xfrm>
            <a:off x="3333600" y="3214800"/>
            <a:ext cx="370080" cy="490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https://openclipart.org/image/2400px/svg_to_png/87697/pion.png"/>
          <p:cNvPicPr/>
          <p:nvPr/>
        </p:nvPicPr>
        <p:blipFill>
          <a:blip r:embed="rId6"/>
          <a:stretch/>
        </p:blipFill>
        <p:spPr>
          <a:xfrm>
            <a:off x="6470640" y="3844800"/>
            <a:ext cx="371520" cy="49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https://openclipart.org/image/2400px/svg_to_png/87697/pion.png"/>
          <p:cNvPicPr/>
          <p:nvPr/>
        </p:nvPicPr>
        <p:blipFill>
          <a:blip r:embed="rId7"/>
          <a:stretch/>
        </p:blipFill>
        <p:spPr>
          <a:xfrm>
            <a:off x="5850000" y="3313080"/>
            <a:ext cx="369720" cy="490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https://openclipart.org/image/2400px/svg_to_png/87697/pion.png"/>
          <p:cNvPicPr/>
          <p:nvPr/>
        </p:nvPicPr>
        <p:blipFill>
          <a:blip r:embed="rId8"/>
          <a:stretch/>
        </p:blipFill>
        <p:spPr>
          <a:xfrm>
            <a:off x="5210280" y="3807000"/>
            <a:ext cx="369720" cy="4903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33"/>
          <p:cNvSpPr/>
          <p:nvPr/>
        </p:nvSpPr>
        <p:spPr>
          <a:xfrm>
            <a:off x="7632720" y="1442880"/>
            <a:ext cx="630360" cy="63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Ладья" descr=""/>
          <p:cNvPicPr/>
          <p:nvPr/>
        </p:nvPicPr>
        <p:blipFill>
          <a:blip r:embed="rId9"/>
          <a:stretch/>
        </p:blipFill>
        <p:spPr>
          <a:xfrm>
            <a:off x="3168720" y="5443560"/>
            <a:ext cx="698400" cy="698400"/>
          </a:xfrm>
          <a:prstGeom prst="rect">
            <a:avLst/>
          </a:prstGeom>
          <a:ln w="0">
            <a:noFill/>
          </a:ln>
        </p:spPr>
      </p:pic>
      <p:cxnSp>
        <p:nvCxnSpPr>
          <p:cNvPr id="174" name="Прямая со стрелкой 3"/>
          <p:cNvCxnSpPr/>
          <p:nvPr/>
        </p:nvCxnSpPr>
        <p:spPr>
          <a:xfrm flipV="1">
            <a:off x="4136760" y="1762200"/>
            <a:ext cx="1080" cy="287532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75" name="Прямая со стрелкой 35"/>
          <p:cNvCxnSpPr/>
          <p:nvPr/>
        </p:nvCxnSpPr>
        <p:spPr>
          <a:xfrm>
            <a:off x="4136760" y="4684680"/>
            <a:ext cx="1080" cy="110880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76" name="Прямая со стрелкой 36"/>
          <p:cNvCxnSpPr/>
          <p:nvPr/>
        </p:nvCxnSpPr>
        <p:spPr>
          <a:xfrm flipV="1">
            <a:off x="4137120" y="4683960"/>
            <a:ext cx="3188160" cy="10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77" name="Прямая со стрелкой 37"/>
          <p:cNvCxnSpPr/>
          <p:nvPr/>
        </p:nvCxnSpPr>
        <p:spPr>
          <a:xfrm flipH="1" flipV="1">
            <a:off x="3480840" y="4683960"/>
            <a:ext cx="626040" cy="118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78" name="Прямая со стрелкой 41"/>
          <p:cNvCxnSpPr/>
          <p:nvPr/>
        </p:nvCxnSpPr>
        <p:spPr>
          <a:xfrm flipV="1">
            <a:off x="4835160" y="5238000"/>
            <a:ext cx="3188520" cy="10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79" name="Прямая со стрелкой 43"/>
          <p:cNvCxnSpPr/>
          <p:nvPr/>
        </p:nvCxnSpPr>
        <p:spPr>
          <a:xfrm flipV="1">
            <a:off x="4803480" y="1761840"/>
            <a:ext cx="1080" cy="338040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80" name="Прямая со стрелкой 44"/>
          <p:cNvCxnSpPr/>
          <p:nvPr/>
        </p:nvCxnSpPr>
        <p:spPr>
          <a:xfrm>
            <a:off x="4803480" y="5238360"/>
            <a:ext cx="1080" cy="55476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81" name="Прямая со стрелкой 46"/>
          <p:cNvCxnSpPr/>
          <p:nvPr/>
        </p:nvCxnSpPr>
        <p:spPr>
          <a:xfrm flipH="1">
            <a:off x="3517200" y="5249520"/>
            <a:ext cx="1204200" cy="10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182" name="Picture 2" descr=""/>
          <p:cNvPicPr/>
          <p:nvPr/>
        </p:nvPicPr>
        <p:blipFill>
          <a:blip r:embed="rId10"/>
          <a:stretch/>
        </p:blipFill>
        <p:spPr>
          <a:xfrm>
            <a:off x="4486320" y="48816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11"/>
          <a:stretch/>
        </p:blipFill>
        <p:spPr>
          <a:xfrm>
            <a:off x="3794040" y="4335480"/>
            <a:ext cx="698760" cy="6984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6"/>
          <p:cNvSpPr/>
          <p:nvPr/>
        </p:nvSpPr>
        <p:spPr>
          <a:xfrm>
            <a:off x="355680" y="5316480"/>
            <a:ext cx="1990800" cy="106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я с син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ел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раня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адьи против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Прямая со стрелкой 52"/>
          <p:cNvCxnSpPr/>
          <p:nvPr/>
        </p:nvCxnSpPr>
        <p:spPr>
          <a:xfrm flipV="1">
            <a:off x="3703680" y="5853960"/>
            <a:ext cx="362160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86" name="Прямая со стрелкой 55"/>
          <p:cNvCxnSpPr/>
          <p:nvPr/>
        </p:nvCxnSpPr>
        <p:spPr>
          <a:xfrm flipV="1">
            <a:off x="7324200" y="4090320"/>
            <a:ext cx="1080" cy="17643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87" name="Прямая со стрелкой 57"/>
          <p:cNvCxnSpPr/>
          <p:nvPr/>
        </p:nvCxnSpPr>
        <p:spPr>
          <a:xfrm>
            <a:off x="7346520" y="4075200"/>
            <a:ext cx="600840" cy="165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88" name="Прямая со стрелкой 59"/>
          <p:cNvCxnSpPr>
            <a:endCxn id="172" idx="2"/>
          </p:cNvCxnSpPr>
          <p:nvPr/>
        </p:nvCxnSpPr>
        <p:spPr>
          <a:xfrm flipV="1">
            <a:off x="7946640" y="2080440"/>
            <a:ext cx="1080" cy="19645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89" name="Заголовок 1"/>
          <p:cNvSpPr/>
          <p:nvPr/>
        </p:nvSpPr>
        <p:spPr>
          <a:xfrm>
            <a:off x="2359080" y="333360"/>
            <a:ext cx="644220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ная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5" descr="http://liubavyshka.ru/_ph/4/2/819173629.gif?1455821261"/>
          <p:cNvPicPr/>
          <p:nvPr/>
        </p:nvPicPr>
        <p:blipFill>
          <a:blip r:embed="rId12"/>
          <a:stretch/>
        </p:blipFill>
        <p:spPr>
          <a:xfrm>
            <a:off x="5270400" y="1685880"/>
            <a:ext cx="1386000" cy="1495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Классно! смайлик"/>
          <p:cNvPicPr/>
          <p:nvPr/>
        </p:nvPicPr>
        <p:blipFill>
          <a:blip r:embed="rId13"/>
          <a:stretch/>
        </p:blipFill>
        <p:spPr>
          <a:xfrm>
            <a:off x="5398920" y="1946160"/>
            <a:ext cx="127188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39205E-006 L 0.41667 -4.39205E-006 E">
                                      <p:cBhvr>
                                        <p:cTn id="30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667 -3.84651E-006 L 0.41667 -0.24988 E">
                                      <p:cBhvr>
                                        <p:cTn id="31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667 -0.24988 L 0.48629 -0.24711 E">
                                      <p:cBhvr>
                                        <p:cTn id="32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629 -0.24711 L 0.48629 -0.59385 E">
                                      <p:cBhvr>
                                        <p:cTn id="326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301680" y="3722760"/>
            <a:ext cx="85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зи свое настроение смайли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554040" y="968400"/>
            <a:ext cx="83106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вариант соответствующий твоим ощущениям после сегодняшнего занятия. </a:t>
            </a:r>
            <a:br>
              <a:rPr sz="1600"/>
            </a:b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. Я все знаю, понял и могу объяснить другим!</a:t>
            </a:r>
            <a:br>
              <a:rPr sz="2800"/>
            </a:b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. Я все знаю, понял, но не уверен, что смогу объяснить другим!</a:t>
            </a:r>
            <a:br>
              <a:rPr sz="2800"/>
            </a:b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3. У меня остались некоторые вопросы.</a:t>
            </a:r>
            <a:br>
              <a:rPr sz="2800"/>
            </a:br>
            <a:r>
              <a:rPr b="0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8"/>
          <p:cNvSpPr/>
          <p:nvPr/>
        </p:nvSpPr>
        <p:spPr>
          <a:xfrm>
            <a:off x="2265480" y="219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смайлл"/>
          <p:cNvPicPr/>
          <p:nvPr/>
        </p:nvPicPr>
        <p:blipFill>
          <a:blip r:embed="rId1"/>
          <a:srcRect l="0" t="0" r="0" b="3128"/>
          <a:stretch/>
        </p:blipFill>
        <p:spPr>
          <a:xfrm>
            <a:off x="1208160" y="4237200"/>
            <a:ext cx="6748560" cy="13795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114480" y="2293920"/>
            <a:ext cx="12855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7"/>
          <p:cNvSpPr/>
          <p:nvPr/>
        </p:nvSpPr>
        <p:spPr>
          <a:xfrm>
            <a:off x="0" y="1282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И.Г. Сухин  Шахматы, первый год, или Там клетки черно-белые чудес и тайн полны. Учебник для начальной   школы,  первый год обучения. В 2-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частях. 2012г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8"/>
          <p:cNvSpPr/>
          <p:nvPr/>
        </p:nvSpPr>
        <p:spPr>
          <a:xfrm>
            <a:off x="2265480" y="219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-65160" y="2482920"/>
            <a:ext cx="873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. Картинки и векторы фигур интернет ресурс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p1.pichost.me/i/22/1447074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s://yandex.ru/images/search?img_url=http%3A%2F%2Fwww.chessgu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9828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3" descr="http://img12.nnm.ru/e/2/9/4/9/034fb9d76d2e7ef4f29b26f374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202" name="WordArt 4"/>
          <p:cNvSpPr txBox="1"/>
          <p:nvPr/>
        </p:nvSpPr>
        <p:spPr>
          <a:xfrm>
            <a:off x="947880" y="816120"/>
            <a:ext cx="31114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2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2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УСПЕХОВ!</a:t>
            </a:r>
            <a:endParaRPr b="0" lang="en-US" sz="2800" spc="1" strike="noStrike">
              <a:ln w="92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-38160"/>
            <a:ext cx="9753480" cy="64724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142920" y="6467400"/>
            <a:ext cx="58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ая шахматная дорожка тянется слева направо? Справа на лево(Горизонталь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142920" y="64674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ая шахматная дорожка тянется сверху вниз. Сверху вниз (вертикаль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42920" y="6467400"/>
            <a:ext cx="578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следует за белым полем на шахматной доске, за черным полем (черное поле, белое пол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142920" y="64436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колько белых полей в каждой горизонтали? вертикали? (По 4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142920" y="6443640"/>
            <a:ext cx="26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шахматных фигур всего?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2)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64960" y="6418440"/>
            <a:ext cx="277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леток на шахматной доске?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4)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1"/>
          <p:cNvSpPr/>
          <p:nvPr/>
        </p:nvSpPr>
        <p:spPr>
          <a:xfrm>
            <a:off x="3110040" y="6778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2800440" y="2036880"/>
            <a:ext cx="123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5"/>
          <p:cNvSpPr/>
          <p:nvPr/>
        </p:nvSpPr>
        <p:spPr>
          <a:xfrm>
            <a:off x="7970760" y="54288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2997360" y="446256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3110040" y="339876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5"/>
          <p:cNvSpPr/>
          <p:nvPr/>
        </p:nvSpPr>
        <p:spPr>
          <a:xfrm>
            <a:off x="7578720" y="2036880"/>
            <a:ext cx="123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8"/>
          <p:cNvSpPr/>
          <p:nvPr/>
        </p:nvSpPr>
        <p:spPr>
          <a:xfrm>
            <a:off x="8194680" y="32068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0"/>
          <p:cNvSpPr/>
          <p:nvPr/>
        </p:nvSpPr>
        <p:spPr>
          <a:xfrm>
            <a:off x="7840800" y="4413240"/>
            <a:ext cx="105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7050240" y="5773680"/>
            <a:ext cx="105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55440" y="-236520"/>
            <a:ext cx="9199440" cy="745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0" y="3699000"/>
          <a:ext cx="9144000" cy="31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99000"/>
                    <a:ext cx="914400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Прямоугольник 2"/>
          <p:cNvSpPr/>
          <p:nvPr/>
        </p:nvSpPr>
        <p:spPr>
          <a:xfrm>
            <a:off x="379440" y="4341960"/>
            <a:ext cx="585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равнительной силе ладья ценится  – 5 пе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носится к классу тяжелых фиг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меет следующие обозначени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13120" y="3533760"/>
            <a:ext cx="57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означение Лад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www.graycell.ru/picture/big/ladya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3745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А ну, не тронь - Татьяна Петровна Писаревская"/>
          <p:cNvPicPr/>
          <p:nvPr/>
        </p:nvPicPr>
        <p:blipFill>
          <a:blip r:embed="rId4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1800" y="1042920"/>
            <a:ext cx="6004080" cy="560412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1920960" y="2232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положение ладьи в начальном поло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cxnSp>
        <p:nvCxnSpPr>
          <p:cNvPr id="72" name="Прямая со стрелкой 11"/>
          <p:cNvCxnSpPr/>
          <p:nvPr/>
        </p:nvCxnSpPr>
        <p:spPr>
          <a:xfrm flipH="1">
            <a:off x="3483720" y="2025720"/>
            <a:ext cx="43560" cy="352800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73" name="Прямая со стрелкой 12"/>
          <p:cNvCxnSpPr/>
          <p:nvPr/>
        </p:nvCxnSpPr>
        <p:spPr>
          <a:xfrm flipH="1">
            <a:off x="3801600" y="5854320"/>
            <a:ext cx="378216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4" name="Прямая со стрелкой 13"/>
          <p:cNvCxnSpPr/>
          <p:nvPr/>
        </p:nvCxnSpPr>
        <p:spPr>
          <a:xfrm flipV="1">
            <a:off x="3914640" y="1761480"/>
            <a:ext cx="3849120" cy="27720"/>
          </a:xfrm>
          <a:prstGeom prst="straightConnector1">
            <a:avLst/>
          </a:prstGeom>
          <a:ln w="57240">
            <a:solidFill>
              <a:srgbClr val="cc0000"/>
            </a:solidFill>
            <a:miter/>
            <a:tailEnd len="med" type="arrow" w="med"/>
          </a:ln>
        </p:spPr>
      </p:cxnSp>
      <p:cxnSp>
        <p:nvCxnSpPr>
          <p:cNvPr id="75" name="Прямая со стрелкой 14"/>
          <p:cNvCxnSpPr/>
          <p:nvPr/>
        </p:nvCxnSpPr>
        <p:spPr>
          <a:xfrm flipV="1">
            <a:off x="7935480" y="1990440"/>
            <a:ext cx="18360" cy="34358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76" name="Прямоугольник 1"/>
          <p:cNvSpPr/>
          <p:nvPr/>
        </p:nvSpPr>
        <p:spPr>
          <a:xfrm>
            <a:off x="243000" y="3065400"/>
            <a:ext cx="228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адьи очень храбрые, но не слишком хитрые. Они ходят только по линиям горизонтали и вертикали, на любое количество по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3240000" y="1498680"/>
            <a:ext cx="635040" cy="527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3240000" y="140508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9"/>
          <p:cNvSpPr/>
          <p:nvPr/>
        </p:nvSpPr>
        <p:spPr>
          <a:xfrm>
            <a:off x="7623000" y="1463760"/>
            <a:ext cx="633600" cy="527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0"/>
          <p:cNvSpPr/>
          <p:nvPr/>
        </p:nvSpPr>
        <p:spPr>
          <a:xfrm>
            <a:off x="7623000" y="5553000"/>
            <a:ext cx="633600" cy="527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1"/>
          <p:cNvSpPr/>
          <p:nvPr/>
        </p:nvSpPr>
        <p:spPr>
          <a:xfrm>
            <a:off x="3166920" y="5548320"/>
            <a:ext cx="635040" cy="527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Ладья" descr=""/>
          <p:cNvPicPr/>
          <p:nvPr/>
        </p:nvPicPr>
        <p:blipFill>
          <a:blip r:embed="rId4"/>
          <a:stretch/>
        </p:blipFill>
        <p:spPr>
          <a:xfrm>
            <a:off x="7581960" y="546732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83" name="Ладья" descr=""/>
          <p:cNvPicPr/>
          <p:nvPr/>
        </p:nvPicPr>
        <p:blipFill>
          <a:blip r:embed="rId5"/>
          <a:stretch/>
        </p:blipFill>
        <p:spPr>
          <a:xfrm>
            <a:off x="3178080" y="5425920"/>
            <a:ext cx="698760" cy="698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6"/>
          <a:stretch/>
        </p:blipFill>
        <p:spPr>
          <a:xfrm>
            <a:off x="7632720" y="13701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92160" y="4968720"/>
            <a:ext cx="27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од ладьи из начального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954600" y="3605040"/>
            <a:ext cx="3535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положение лад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954600" y="3605040"/>
            <a:ext cx="3535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ходит лад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92160" y="1992240"/>
            <a:ext cx="27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лые ладьи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и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ные ладьи   а8   и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701800" y="1047600"/>
            <a:ext cx="6004080" cy="560412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885960" y="5256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Лад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5032440" y="315756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2773440" y="668160"/>
            <a:ext cx="35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ходит ладь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11"/>
          <p:cNvCxnSpPr/>
          <p:nvPr/>
        </p:nvCxnSpPr>
        <p:spPr>
          <a:xfrm>
            <a:off x="5382720" y="3849840"/>
            <a:ext cx="1080" cy="1900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5" name="Прямая со стрелкой 12"/>
          <p:cNvCxnSpPr/>
          <p:nvPr/>
        </p:nvCxnSpPr>
        <p:spPr>
          <a:xfrm flipH="1">
            <a:off x="3342960" y="3533400"/>
            <a:ext cx="170568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5703480" y="3492000"/>
            <a:ext cx="215172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7" name="Прямая со стрелкой 14"/>
          <p:cNvCxnSpPr>
            <a:stCxn id="92" idx="0"/>
          </p:cNvCxnSpPr>
          <p:nvPr/>
        </p:nvCxnSpPr>
        <p:spPr>
          <a:xfrm flipV="1">
            <a:off x="5389560" y="1626480"/>
            <a:ext cx="8640" cy="1531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98" name="Прямоугольник 2"/>
          <p:cNvSpPr/>
          <p:nvPr/>
        </p:nvSpPr>
        <p:spPr>
          <a:xfrm>
            <a:off x="0" y="1801800"/>
            <a:ext cx="270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к вот, где бы ни стояла ладья, она может перейти на любую клетку своей ли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862440" y="4197240"/>
            <a:ext cx="3535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дья ходит по горизонтали или по вертикали на любое число полей, если на её пути не стоят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0" y="3157560"/>
            <a:ext cx="270180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имо, ладья упряма, если ходит только прямо,  не петляет – прыг да скок, не шагнёт наискос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 от края и до края может двигаться она. Это башня боевая неуклюжа, но си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аг тяжёлый у ладьи, в бой её скорей вед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701800" y="1047600"/>
            <a:ext cx="6004080" cy="560412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885960" y="5256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Лад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"/>
          <p:cNvPicPr/>
          <p:nvPr/>
        </p:nvPicPr>
        <p:blipFill>
          <a:blip r:embed="rId3"/>
          <a:stretch/>
        </p:blipFill>
        <p:spPr>
          <a:xfrm>
            <a:off x="5048280" y="13827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4"/>
          <a:stretch/>
        </p:blipFill>
        <p:spPr>
          <a:xfrm>
            <a:off x="3781440" y="3143160"/>
            <a:ext cx="698400" cy="6987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2368440" y="628560"/>
            <a:ext cx="67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ходит ладь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(по Гор. Верт.)  Как рубит ладь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(также как и ходи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0" y="2249640"/>
            <a:ext cx="2701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 если ладья п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вижении упрётся в кра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ски или другую фигу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оего цвета, ей придё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тановиться, а если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гуру противника т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жет ее руб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65160" y="463068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адья берёт любую фигуру противника, стоящую на одной с не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5"/>
          <a:stretch/>
        </p:blipFill>
        <p:spPr>
          <a:xfrm>
            <a:off x="2058840" y="16066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6"/>
          <a:stretch/>
        </p:blipFill>
        <p:spPr>
          <a:xfrm>
            <a:off x="7677000" y="31575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7"/>
          <a:stretch/>
        </p:blipFill>
        <p:spPr>
          <a:xfrm>
            <a:off x="5032440" y="315756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9.57004E-007 L -0.0019 -0.17637 E">
                                      <p:cBhvr>
                                        <p:cTn id="15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-4.07407E-006 L -4.44444E-006 0.3375 E">
                                      <p:cBhvr>
                                        <p:cTn id="16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-9.57004E-007 L -0.06753 0.00277 E">
                                      <p:cBhvr>
                                        <p:cTn id="16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9259E-006 L 0.28437 0.00093 E">
                                      <p:cBhvr>
                                        <p:cTn id="17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684520" y="1047600"/>
            <a:ext cx="6003720" cy="56041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4"/>
          <p:cNvSpPr/>
          <p:nvPr/>
        </p:nvSpPr>
        <p:spPr>
          <a:xfrm>
            <a:off x="112680" y="2281320"/>
            <a:ext cx="257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ча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за 3 хода занять пол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1038240" y="20484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Лад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5056200" y="1962000"/>
            <a:ext cx="630360" cy="63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"/>
          <p:cNvPicPr/>
          <p:nvPr/>
        </p:nvPicPr>
        <p:blipFill>
          <a:blip r:embed="rId3"/>
          <a:stretch/>
        </p:blipFill>
        <p:spPr>
          <a:xfrm>
            <a:off x="7589880" y="5504040"/>
            <a:ext cx="676080" cy="6775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112680" y="301788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лько существует возможностей попасть с трех ходов белой ладьей с пол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1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на поле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2338560" y="3755880"/>
            <a:ext cx="6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18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24988 L -0.27343 -0.24711 E">
                                      <p:cBhvr>
                                        <p:cTn id="18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343 -0.24711 L -0.27326 -0.51872 E">
                                      <p:cBhvr>
                                        <p:cTn id="19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684520" y="1047600"/>
            <a:ext cx="6003720" cy="56041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112680" y="228132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адья рубит также как и ходит по горизонтали и вертик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1038240" y="20484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убит лад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А ну, не тронь - Татьяна Петровна Писаревская"/>
          <p:cNvPicPr/>
          <p:nvPr/>
        </p:nvPicPr>
        <p:blipFill>
          <a:blip r:embed="rId2"/>
          <a:stretch/>
        </p:blipFill>
        <p:spPr>
          <a:xfrm>
            <a:off x="243000" y="3333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4059360" y="3527280"/>
            <a:ext cx="3535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дья рубит также, как и ходит  по горизонтали или по вертик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"/>
          <p:cNvPicPr/>
          <p:nvPr/>
        </p:nvPicPr>
        <p:blipFill>
          <a:blip r:embed="rId3"/>
          <a:stretch/>
        </p:blipFill>
        <p:spPr>
          <a:xfrm>
            <a:off x="7540560" y="257004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126" name="Слон" descr=""/>
          <p:cNvPicPr/>
          <p:nvPr/>
        </p:nvPicPr>
        <p:blipFill>
          <a:blip r:embed="rId4"/>
          <a:stretch/>
        </p:blipFill>
        <p:spPr>
          <a:xfrm>
            <a:off x="5686560" y="255888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5"/>
          <a:stretch/>
        </p:blipFill>
        <p:spPr>
          <a:xfrm>
            <a:off x="1986120" y="469908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28" name="Ладья счет 1" descr=""/>
          <p:cNvPicPr/>
          <p:nvPr/>
        </p:nvPicPr>
        <p:blipFill>
          <a:blip r:embed="rId6"/>
          <a:stretch/>
        </p:blipFill>
        <p:spPr>
          <a:xfrm>
            <a:off x="3801960" y="544212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29" name="Конь" descr=""/>
          <p:cNvPicPr/>
          <p:nvPr/>
        </p:nvPicPr>
        <p:blipFill>
          <a:blip r:embed="rId7"/>
          <a:stretch/>
        </p:blipFill>
        <p:spPr>
          <a:xfrm>
            <a:off x="3710160" y="377028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8"/>
          <a:stretch/>
        </p:blipFill>
        <p:spPr>
          <a:xfrm>
            <a:off x="1986120" y="5460840"/>
            <a:ext cx="698400" cy="6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2219E-006 L -0.19601 0.00463 E">
                                      <p:cBhvr>
                                        <p:cTn id="21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6135E-006 L -4.44444E-006 -0.25636 E">
                                      <p:cBhvr>
                                        <p:cTn id="22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1</cp:lastModifiedBy>
  <dcterms:modified xsi:type="dcterms:W3CDTF">2016-03-09T07:29:10Z</dcterms:modified>
  <cp:revision>1390</cp:revision>
  <dc:subject/>
  <dc:title>Слайд 1</dc:title>
</cp:coreProperties>
</file>