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2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C43-600E-474E-8F4B-B0242B35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D23-9406-45B7-B311-96AD8DD5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0A6C-A7BD-45C4-9ECA-4F302AD2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756-7CB5-4F87-B89B-C10014C3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38A2-9661-46CD-9E31-37D56AE4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8E23-9B94-4379-B370-4C4DA762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3B97-2A77-4F8F-9201-13001333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3AFF-6D95-47DE-933B-028F49A1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FE55-80A8-4734-9F8F-5900CFF7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ED0D-4A43-44BD-9A21-966A81BD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E242-44F1-4C18-BC50-0166A66B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E41-9620-41E6-9E0F-3D0CCFE5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2DE1-275B-407F-AA76-A5346E8D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0EC3-2E8F-47E9-9E1E-2E82AC54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4CA6-2838-4F98-A39A-BE7E2198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C08F-AF1B-4426-A47D-72A9D9D7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EFC5-8148-4CA4-982F-FD650C90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CB39-6528-4C2A-8DC1-904E85A4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FEF-0031-46CC-A17C-1D21059C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1EC-EDCA-4B2F-A843-E33CCA25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4A63-D761-4D34-8887-4F5409D2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933-DA3B-4080-A7AF-D078BE38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45AE-C707-40B4-BA66-508FE47C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3AE-8DA3-4396-B16E-24209826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82A2-7D2C-4685-9BD7-9B0264F1E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A69E-A240-416F-B908-AC0AD0AF9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IMG20008"/>
          <p:cNvPicPr/>
          <p:nvPr/>
        </p:nvPicPr>
        <p:blipFill>
          <a:blip r:embed="rId1"/>
          <a:srcRect l="4532" t="6943" r="4550" b="6943"/>
          <a:stretch/>
        </p:blipFill>
        <p:spPr>
          <a:xfrm>
            <a:off x="1204920" y="2106720"/>
            <a:ext cx="7335720" cy="4329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7"/>
          <p:cNvSpPr/>
          <p:nvPr/>
        </p:nvSpPr>
        <p:spPr>
          <a:xfrm>
            <a:off x="1625760" y="2467080"/>
            <a:ext cx="612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Святочные потешк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1144440" y="200160"/>
            <a:ext cx="7639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0404"/>
                </a:solidFill>
                <a:latin typeface="Calibri"/>
                <a:ea typeface="Times New Roman"/>
              </a:rPr>
              <a:t>Муниципальное казенное 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0404"/>
                </a:solidFill>
                <a:latin typeface="Calibri"/>
                <a:ea typeface="Times New Roman"/>
              </a:rPr>
              <a:t>дополнительного образования де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e0404"/>
                </a:solidFill>
                <a:uFillTx/>
                <a:latin typeface="Calibri"/>
                <a:ea typeface="Times New Roman"/>
              </a:rPr>
              <a:t>Районный Дом детского творчества г. Пудожа Республики Карел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0404"/>
                </a:solidFill>
                <a:latin typeface="Calibri"/>
                <a:ea typeface="Times New Roman"/>
              </a:rPr>
              <a:t>186150 г. Пудож ул. Карла Маркса 69 т. 5-1</a:t>
            </a:r>
            <a:r>
              <a:rPr b="0" lang="en-US" sz="2000" spc="-1" strike="noStrike">
                <a:solidFill>
                  <a:srgbClr val="9e0404"/>
                </a:solidFill>
                <a:latin typeface="Calibri"/>
                <a:ea typeface="Times New Roman"/>
              </a:rPr>
              <a:t>5-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06600" y="3247920"/>
            <a:ext cx="499104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144440" y="3129120"/>
            <a:ext cx="4246560" cy="318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rcRect l="0" t="0" r="14977" b="0"/>
          <a:stretch/>
        </p:blipFill>
        <p:spPr>
          <a:xfrm>
            <a:off x="5300640" y="3129120"/>
            <a:ext cx="3540240" cy="31222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2287440" y="663480"/>
            <a:ext cx="450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e0404"/>
                </a:solidFill>
                <a:latin typeface="Times New Roman"/>
              </a:rPr>
              <a:t>Загадай желание…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89"/>
          <p:cNvPicPr/>
          <p:nvPr/>
        </p:nvPicPr>
        <p:blipFill>
          <a:blip r:embed="rId3"/>
          <a:stretch/>
        </p:blipFill>
        <p:spPr>
          <a:xfrm>
            <a:off x="7397640" y="542880"/>
            <a:ext cx="1443240" cy="1503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172"/>
          <p:cNvPicPr/>
          <p:nvPr/>
        </p:nvPicPr>
        <p:blipFill>
          <a:blip r:embed="rId4"/>
          <a:stretch/>
        </p:blipFill>
        <p:spPr>
          <a:xfrm>
            <a:off x="1144440" y="603360"/>
            <a:ext cx="1863720" cy="1306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104"/>
          <p:cNvPicPr/>
          <p:nvPr/>
        </p:nvPicPr>
        <p:blipFill>
          <a:blip r:embed="rId5"/>
          <a:stretch/>
        </p:blipFill>
        <p:spPr>
          <a:xfrm>
            <a:off x="1144440" y="1865160"/>
            <a:ext cx="1863720" cy="1252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G:\Работа в Музее Б.П. Фофанова 16 марта\6 день\SAM_5472.JPG"/>
          <p:cNvPicPr/>
          <p:nvPr/>
        </p:nvPicPr>
        <p:blipFill>
          <a:blip r:embed="rId6"/>
          <a:srcRect l="0" t="0" r="0" b="6766"/>
          <a:stretch/>
        </p:blipFill>
        <p:spPr>
          <a:xfrm>
            <a:off x="7397640" y="1925640"/>
            <a:ext cx="144324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1444680" y="1625760"/>
            <a:ext cx="6854760" cy="33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e0404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агодарю за внимание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9e0404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87"/>
          <p:cNvPicPr/>
          <p:nvPr/>
        </p:nvPicPr>
        <p:blipFill>
          <a:blip r:embed="rId1"/>
          <a:stretch/>
        </p:blipFill>
        <p:spPr>
          <a:xfrm>
            <a:off x="1386000" y="482760"/>
            <a:ext cx="7229520" cy="5771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504800" y="542880"/>
            <a:ext cx="2826000" cy="3768840"/>
          </a:xfrm>
          <a:prstGeom prst="rect">
            <a:avLst/>
          </a:prstGeom>
          <a:ln w="0">
            <a:noFill/>
          </a:ln>
        </p:spPr>
      </p:pic>
      <p:grpSp>
        <p:nvGrpSpPr>
          <p:cNvPr id="96" name="TextBox 12"/>
          <p:cNvGrpSpPr/>
          <p:nvPr/>
        </p:nvGrpSpPr>
        <p:grpSpPr>
          <a:xfrm>
            <a:off x="2292480" y="4456080"/>
            <a:ext cx="5224320" cy="1798560"/>
            <a:chOff x="2292480" y="4456080"/>
            <a:chExt cx="5224320" cy="1798560"/>
          </a:xfrm>
        </p:grpSpPr>
        <p:pic>
          <p:nvPicPr>
            <p:cNvPr id="97" name="TextBox 12" descr=""/>
            <p:cNvPicPr/>
            <p:nvPr/>
          </p:nvPicPr>
          <p:blipFill>
            <a:blip r:embed="rId3"/>
            <a:stretch/>
          </p:blipFill>
          <p:spPr>
            <a:xfrm>
              <a:off x="2292480" y="4456080"/>
              <a:ext cx="52243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406600" y="4572000"/>
              <a:ext cx="4994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9e0404"/>
                  </a:solidFill>
                  <a:latin typeface="Times New Roman"/>
                </a:rPr>
                <a:t>Солоха встречает гостей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Picture 3" descr=""/>
          <p:cNvPicPr/>
          <p:nvPr/>
        </p:nvPicPr>
        <p:blipFill>
          <a:blip r:embed="rId4"/>
          <a:stretch/>
        </p:blipFill>
        <p:spPr>
          <a:xfrm>
            <a:off x="4451400" y="603360"/>
            <a:ext cx="40291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2106720" y="1986120"/>
            <a:ext cx="5051160" cy="42559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905040" y="422280"/>
            <a:ext cx="589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0404"/>
                </a:solidFill>
                <a:latin typeface="Times New Roman"/>
              </a:rPr>
              <a:t>Театральная  груп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0404"/>
                </a:solidFill>
                <a:latin typeface="Times New Roman"/>
              </a:rPr>
              <a:t>«Веселый балаганчик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2287440" y="2346480"/>
            <a:ext cx="5689800" cy="4000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98"/>
          <p:cNvPicPr/>
          <p:nvPr/>
        </p:nvPicPr>
        <p:blipFill>
          <a:blip r:embed="rId2"/>
          <a:srcRect l="17774" t="0" r="11149" b="16675"/>
          <a:stretch/>
        </p:blipFill>
        <p:spPr>
          <a:xfrm>
            <a:off x="7639200" y="422280"/>
            <a:ext cx="1191960" cy="1806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98"/>
          <p:cNvPicPr/>
          <p:nvPr/>
        </p:nvPicPr>
        <p:blipFill>
          <a:blip r:embed="rId3"/>
          <a:srcRect l="24560" t="0" r="12332" b="21048"/>
          <a:stretch/>
        </p:blipFill>
        <p:spPr>
          <a:xfrm>
            <a:off x="1084320" y="422280"/>
            <a:ext cx="1082520" cy="18032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2728800" y="482760"/>
            <a:ext cx="458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0404"/>
                </a:solidFill>
                <a:latin typeface="Times New Roman"/>
              </a:rPr>
              <a:t>Какой праздник бе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040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e0404"/>
                </a:solidFill>
                <a:latin typeface="Times New Roman"/>
              </a:rPr>
              <a:t>Бабы яги  и ее свиты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2647800" y="1504800"/>
            <a:ext cx="6018480" cy="47199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2382480" y="663480"/>
            <a:ext cx="56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0404"/>
                </a:solidFill>
                <a:latin typeface="Times New Roman"/>
              </a:rPr>
              <a:t>Мети метла, да не меня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G:\Работа в Музее Б.П. Фофанова 16 марта\5 день\SAM_5135.JPG"/>
          <p:cNvPicPr/>
          <p:nvPr/>
        </p:nvPicPr>
        <p:blipFill>
          <a:blip r:embed="rId2"/>
          <a:stretch/>
        </p:blipFill>
        <p:spPr>
          <a:xfrm>
            <a:off x="1084320" y="1384200"/>
            <a:ext cx="1563480" cy="1322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108"/>
          <p:cNvPicPr/>
          <p:nvPr/>
        </p:nvPicPr>
        <p:blipFill>
          <a:blip r:embed="rId3"/>
          <a:stretch/>
        </p:blipFill>
        <p:spPr>
          <a:xfrm>
            <a:off x="1084320" y="2706840"/>
            <a:ext cx="1563480" cy="1503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90"/>
          <p:cNvPicPr/>
          <p:nvPr/>
        </p:nvPicPr>
        <p:blipFill>
          <a:blip r:embed="rId4"/>
          <a:stretch/>
        </p:blipFill>
        <p:spPr>
          <a:xfrm>
            <a:off x="1084320" y="4210200"/>
            <a:ext cx="15634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625760" y="1865160"/>
            <a:ext cx="6673680" cy="4267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2046240" y="72396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04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e0404"/>
                </a:solidFill>
                <a:latin typeface="Times New Roman"/>
              </a:rPr>
              <a:t>«Пошла коза по лесу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1940040" y="843120"/>
            <a:ext cx="41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0404"/>
                </a:solidFill>
                <a:latin typeface="Times New Roman"/>
              </a:rPr>
              <a:t>Веселится народ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386000" y="1565280"/>
            <a:ext cx="5689440" cy="4267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7037280" y="1204920"/>
            <a:ext cx="1758960" cy="234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3"/>
          <a:stretch/>
        </p:blipFill>
        <p:spPr>
          <a:xfrm>
            <a:off x="7097760" y="3549600"/>
            <a:ext cx="171288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1084320" y="2948040"/>
            <a:ext cx="4809960" cy="3608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5654520" y="663480"/>
            <a:ext cx="3195720" cy="2644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3"/>
          <a:stretch/>
        </p:blipFill>
        <p:spPr>
          <a:xfrm>
            <a:off x="5651640" y="3308400"/>
            <a:ext cx="3189240" cy="3213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1866960" y="361800"/>
            <a:ext cx="2886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0404"/>
                </a:solidFill>
                <a:latin typeface="Times New Roman"/>
              </a:rPr>
              <a:t>Игры Солохи</a:t>
            </a:r>
            <a:r>
              <a:rPr b="1" lang="en-US" sz="4000" spc="-1" strike="noStrike">
                <a:solidFill>
                  <a:srgbClr val="9e040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9e0404"/>
                </a:solidFill>
                <a:latin typeface="Times New Roman"/>
              </a:rPr>
              <a:t>и Бабы Яг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325520" y="1587600"/>
            <a:ext cx="3606840" cy="4809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4451400" y="3187800"/>
            <a:ext cx="4389480" cy="3184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4932360" y="482760"/>
            <a:ext cx="3908520" cy="27511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1461960" y="42228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0404"/>
                </a:solidFill>
                <a:latin typeface="Times New Roman"/>
              </a:rPr>
              <a:t>Гадание 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04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e0404"/>
                </a:solidFill>
                <a:latin typeface="Times New Roman"/>
              </a:rPr>
              <a:t>горшочка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9:45:34Z</dcterms:created>
  <dc:creator>Школа №1</dc:creator>
  <dc:description/>
  <dc:language>en-US</dc:language>
  <cp:lastModifiedBy>Admin</cp:lastModifiedBy>
  <dcterms:modified xsi:type="dcterms:W3CDTF">2014-04-02T12:28:35Z</dcterms:modified>
  <cp:revision>70</cp:revision>
  <dc:subject/>
  <dc:title>Презентация PowerPoint</dc:title>
</cp:coreProperties>
</file>