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1CE-DC77-4849-85AC-7C59DEED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C40-E003-4B03-B741-6C0F1E2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639-933F-45BD-ABA1-FCDB931E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A06-7CB6-4DB3-8CA6-60F81018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015F-4B72-4A45-B47F-BB7502F5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09A-A416-49B4-B0CC-E52EAA90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8065-5B6E-4A2C-AB74-04A21F2D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290C-77E7-451D-9757-E39DE703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0E79-EE73-4CA2-834F-FE3A26F8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8E96-32CD-4B5C-B86E-AFCE82A1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B3F4-00B9-428D-888B-D9A51F92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5C5-5182-41E5-86EB-5EFCEDD3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B684-5F25-439D-9E30-FF2941B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F808-DDED-4E57-B758-ACE371C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B0AC-A670-4423-A25D-783A31A8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9232-A059-48D3-9968-BFC1D89F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EA71-FC18-4380-AC15-3F606B53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012-870B-4E63-8173-56A2F45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B35-C1FE-4533-8CDA-C74C89A2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AC4-FDA7-4C16-863F-8F089629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774-D8ED-4453-80AC-EF91960F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12E-E762-4D1C-9748-2DF19008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B60-E176-4E0F-B4DD-FCF084D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84F-AD36-4CB1-B366-59B0F47A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7F63-6E09-4E2D-BE7A-834B3B0E4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EEE9-73B9-46DB-9615-0DB8C82A9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IMG20008"/>
          <p:cNvPicPr/>
          <p:nvPr/>
        </p:nvPicPr>
        <p:blipFill>
          <a:blip r:embed="rId1"/>
          <a:srcRect l="4532" t="6943" r="4550" b="6943"/>
          <a:stretch/>
        </p:blipFill>
        <p:spPr>
          <a:xfrm>
            <a:off x="1204920" y="2106720"/>
            <a:ext cx="7335720" cy="4329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7"/>
          <p:cNvSpPr/>
          <p:nvPr/>
        </p:nvSpPr>
        <p:spPr>
          <a:xfrm>
            <a:off x="1625760" y="2467080"/>
            <a:ext cx="61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вяточные потеш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144440" y="200160"/>
            <a:ext cx="7639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Муниципальное казенное 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дополнительного образования де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e0404"/>
                </a:solidFill>
                <a:uFillTx/>
                <a:latin typeface="Calibri"/>
                <a:ea typeface="Times New Roman"/>
              </a:rPr>
              <a:t>Районный Дом детского творчества г. Пудожа Республики Каре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186150 г. Пудож ул. Карла Маркса 69 т. 5-1</a:t>
            </a:r>
            <a:r>
              <a:rPr b="0" lang="en-US" sz="2000" spc="-1" strike="noStrike">
                <a:solidFill>
                  <a:srgbClr val="9e0404"/>
                </a:solidFill>
                <a:latin typeface="Calibri"/>
                <a:ea typeface="Times New Roman"/>
              </a:rPr>
              <a:t>5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06600" y="3247920"/>
            <a:ext cx="499104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144440" y="3129120"/>
            <a:ext cx="4246560" cy="318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rcRect l="0" t="0" r="14977" b="0"/>
          <a:stretch/>
        </p:blipFill>
        <p:spPr>
          <a:xfrm>
            <a:off x="5300640" y="3129120"/>
            <a:ext cx="3540240" cy="31222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287440" y="663480"/>
            <a:ext cx="450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e0404"/>
                </a:solidFill>
                <a:latin typeface="Times New Roman"/>
              </a:rPr>
              <a:t>Загадай желание…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89"/>
          <p:cNvPicPr/>
          <p:nvPr/>
        </p:nvPicPr>
        <p:blipFill>
          <a:blip r:embed="rId3"/>
          <a:stretch/>
        </p:blipFill>
        <p:spPr>
          <a:xfrm>
            <a:off x="7397640" y="542880"/>
            <a:ext cx="1443240" cy="150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172"/>
          <p:cNvPicPr/>
          <p:nvPr/>
        </p:nvPicPr>
        <p:blipFill>
          <a:blip r:embed="rId4"/>
          <a:stretch/>
        </p:blipFill>
        <p:spPr>
          <a:xfrm>
            <a:off x="1144440" y="603360"/>
            <a:ext cx="1863720" cy="130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104"/>
          <p:cNvPicPr/>
          <p:nvPr/>
        </p:nvPicPr>
        <p:blipFill>
          <a:blip r:embed="rId5"/>
          <a:stretch/>
        </p:blipFill>
        <p:spPr>
          <a:xfrm>
            <a:off x="1144440" y="1865160"/>
            <a:ext cx="1863720" cy="1252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G:\Работа в Музее Б.П. Фофанова 16 марта\6 день\SAM_5472.JPG"/>
          <p:cNvPicPr/>
          <p:nvPr/>
        </p:nvPicPr>
        <p:blipFill>
          <a:blip r:embed="rId6"/>
          <a:srcRect l="0" t="0" r="0" b="6766"/>
          <a:stretch/>
        </p:blipFill>
        <p:spPr>
          <a:xfrm>
            <a:off x="7397640" y="1925640"/>
            <a:ext cx="144324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444680" y="1625760"/>
            <a:ext cx="6854760" cy="33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e0404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лагодарю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e0404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87"/>
          <p:cNvPicPr/>
          <p:nvPr/>
        </p:nvPicPr>
        <p:blipFill>
          <a:blip r:embed="rId1"/>
          <a:stretch/>
        </p:blipFill>
        <p:spPr>
          <a:xfrm>
            <a:off x="1386000" y="482760"/>
            <a:ext cx="7229520" cy="577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504800" y="542880"/>
            <a:ext cx="2826000" cy="3768840"/>
          </a:xfrm>
          <a:prstGeom prst="rect">
            <a:avLst/>
          </a:prstGeom>
          <a:ln w="0">
            <a:noFill/>
          </a:ln>
        </p:spPr>
      </p:pic>
      <p:grpSp>
        <p:nvGrpSpPr>
          <p:cNvPr id="96" name="TextBox 12"/>
          <p:cNvGrpSpPr/>
          <p:nvPr/>
        </p:nvGrpSpPr>
        <p:grpSpPr>
          <a:xfrm>
            <a:off x="2292480" y="4456080"/>
            <a:ext cx="5224320" cy="1798560"/>
            <a:chOff x="2292480" y="4456080"/>
            <a:chExt cx="5224320" cy="1798560"/>
          </a:xfrm>
        </p:grpSpPr>
        <p:pic>
          <p:nvPicPr>
            <p:cNvPr id="97" name="TextBox 12" descr=""/>
            <p:cNvPicPr/>
            <p:nvPr/>
          </p:nvPicPr>
          <p:blipFill>
            <a:blip r:embed="rId3"/>
            <a:stretch/>
          </p:blipFill>
          <p:spPr>
            <a:xfrm>
              <a:off x="2292480" y="4456080"/>
              <a:ext cx="5224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406600" y="4572000"/>
              <a:ext cx="4994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9e0404"/>
                  </a:solidFill>
                  <a:latin typeface="Times New Roman"/>
                </a:rPr>
                <a:t>Солоха встречает госте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4451400" y="603360"/>
            <a:ext cx="40291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2106720" y="1986120"/>
            <a:ext cx="5051160" cy="42559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905040" y="422280"/>
            <a:ext cx="58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Театральная  групп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«Веселый балаганчик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287440" y="2346480"/>
            <a:ext cx="5689800" cy="4000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8"/>
          <p:cNvPicPr/>
          <p:nvPr/>
        </p:nvPicPr>
        <p:blipFill>
          <a:blip r:embed="rId2"/>
          <a:srcRect l="17774" t="0" r="11149" b="16675"/>
          <a:stretch/>
        </p:blipFill>
        <p:spPr>
          <a:xfrm>
            <a:off x="7639200" y="422280"/>
            <a:ext cx="1191960" cy="180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98"/>
          <p:cNvPicPr/>
          <p:nvPr/>
        </p:nvPicPr>
        <p:blipFill>
          <a:blip r:embed="rId3"/>
          <a:srcRect l="24560" t="0" r="12332" b="21048"/>
          <a:stretch/>
        </p:blipFill>
        <p:spPr>
          <a:xfrm>
            <a:off x="1084320" y="422280"/>
            <a:ext cx="1082520" cy="1803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2728800" y="482760"/>
            <a:ext cx="45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Какой праздник бе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0404"/>
                </a:solidFill>
                <a:latin typeface="Times New Roman"/>
              </a:rPr>
              <a:t>Бабы яги  и ее свит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2647800" y="1504800"/>
            <a:ext cx="6018480" cy="47199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382480" y="663480"/>
            <a:ext cx="56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Мети метла, да не меня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G:\Работа в Музее Б.П. Фофанова 16 марта\5 день\SAM_5135.JPG"/>
          <p:cNvPicPr/>
          <p:nvPr/>
        </p:nvPicPr>
        <p:blipFill>
          <a:blip r:embed="rId2"/>
          <a:stretch/>
        </p:blipFill>
        <p:spPr>
          <a:xfrm>
            <a:off x="1084320" y="1384200"/>
            <a:ext cx="1563480" cy="13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108"/>
          <p:cNvPicPr/>
          <p:nvPr/>
        </p:nvPicPr>
        <p:blipFill>
          <a:blip r:embed="rId3"/>
          <a:stretch/>
        </p:blipFill>
        <p:spPr>
          <a:xfrm>
            <a:off x="1084320" y="2706840"/>
            <a:ext cx="1563480" cy="150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0"/>
          <p:cNvPicPr/>
          <p:nvPr/>
        </p:nvPicPr>
        <p:blipFill>
          <a:blip r:embed="rId4"/>
          <a:stretch/>
        </p:blipFill>
        <p:spPr>
          <a:xfrm>
            <a:off x="1084320" y="4210200"/>
            <a:ext cx="15634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25760" y="1865160"/>
            <a:ext cx="6673680" cy="4267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046240" y="7239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«Пошла коза по лесу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1940040" y="843120"/>
            <a:ext cx="41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Веселится народ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86000" y="1565280"/>
            <a:ext cx="5689440" cy="426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7037280" y="1204920"/>
            <a:ext cx="1758960" cy="234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7097760" y="3549600"/>
            <a:ext cx="17128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084320" y="2948040"/>
            <a:ext cx="4809960" cy="3608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5654520" y="663480"/>
            <a:ext cx="3195720" cy="264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5651640" y="3308400"/>
            <a:ext cx="3189240" cy="3213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866960" y="361800"/>
            <a:ext cx="288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0404"/>
                </a:solidFill>
                <a:latin typeface="Times New Roman"/>
              </a:rPr>
              <a:t>Игры Солохи</a:t>
            </a:r>
            <a:r>
              <a:rPr b="1" lang="en-US" sz="40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9e0404"/>
                </a:solidFill>
                <a:latin typeface="Times New Roman"/>
              </a:rPr>
              <a:t>и Бабы Яг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325520" y="1587600"/>
            <a:ext cx="3606840" cy="4809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451400" y="3187800"/>
            <a:ext cx="4389480" cy="318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4932360" y="482760"/>
            <a:ext cx="3908520" cy="27511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1461960" y="42228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Гадание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e0404"/>
                </a:solidFill>
                <a:latin typeface="Times New Roman"/>
              </a:rPr>
              <a:t>горшочк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9:45:34Z</dcterms:created>
  <dc:creator>Школа №1</dc:creator>
  <dc:description/>
  <dc:language>en-US</dc:language>
  <cp:lastModifiedBy>Admin</cp:lastModifiedBy>
  <dcterms:modified xsi:type="dcterms:W3CDTF">2014-04-02T12:28:35Z</dcterms:modified>
  <cp:revision>70</cp:revision>
  <dc:subject/>
  <dc:title>Презентация PowerPoint</dc:title>
</cp:coreProperties>
</file>