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FBA-131F-422A-B28F-FB290F8DB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B9C5-8582-4071-8814-1CEB470AF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260-6CDF-46E6-B938-BF71B1CE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C6F-387C-461D-81DF-C6AC604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5CC-A85B-4273-8FED-6BB01603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564-6BF7-4D3E-9712-F3B44458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138-5EA2-4047-8BD1-6F03190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293-2C6A-47EE-918B-0796CA0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41D-FEF4-432E-AA21-A5EAA45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2F1-62D0-4CF6-B6EA-E599871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62C-92D5-4D24-93A2-89127A0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0C1-9272-4950-8314-101C300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118-3683-4B6C-8D75-2429AE5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37C-629E-4576-BECA-6D13172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39C0-787E-4312-981B-B195292E4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304920" y="304920"/>
            <a:ext cx="4949640" cy="99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руглый ст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838080" y="1295280"/>
            <a:ext cx="7925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Impact"/>
              </a:rPr>
              <a:t>"Жизнь или смерть?"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1139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 - человек ущербный. Основное время он проводит в постоянном страхе ожидания предстоящей ломки. И в постоянном поиске новой дозы, которая все время увеличивается. И только мгновения - в кайфе. Наркоману рядом с собой надо иметь таких же ущербных, как он сам. Брат, сестра, жена, друг… ему все равно, кого присадить на иглу и лишить нормальной человеческой жизн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00720" y="4005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команы – «призрачное счаст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4495680"/>
            <a:ext cx="9144000" cy="1191240"/>
          </a:xfrm>
          <a:prstGeom prst="rect">
            <a:avLst/>
          </a:prstGeom>
          <a:gradFill rotWithShape="0">
            <a:gsLst>
              <a:gs pos="0">
                <a:srgbClr val="c1e3e5"/>
              </a:gs>
              <a:gs pos="50000">
                <a:srgbClr val="bbe0e3"/>
              </a:gs>
              <a:gs pos="100000">
                <a:srgbClr val="c1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Посмотрите на фотографии этих людей в начале употребления наркот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какими они стали через какое-то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acesofmeth012_220x176"/>
          <p:cNvPicPr/>
          <p:nvPr/>
        </p:nvPicPr>
        <p:blipFill>
          <a:blip r:embed="rId2"/>
          <a:srcRect l="0" t="1288" r="0" b="7516"/>
          <a:stretch/>
        </p:blipFill>
        <p:spPr>
          <a:xfrm>
            <a:off x="838080" y="328680"/>
            <a:ext cx="7315200" cy="5335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3880" y="5791320"/>
            <a:ext cx="634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3 года 5 меся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28640" y="-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14468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фициальной статистике, 80% наркоман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щих на учете, начинали именно с марихуа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вязано это с тем, что хотя конопля и не вызывает физического привыкания, после ее длительного употребления ощущения притупляются, и человек начинает психологически нуждаться в сильных стимуляторах. Кроме того, происходит перестройка организма, и у человека со временем наступает тотальная депрес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29"/>
          <p:cNvPicPr/>
          <p:nvPr/>
        </p:nvPicPr>
        <p:blipFill>
          <a:blip r:embed="rId2"/>
          <a:stretch/>
        </p:blipFill>
        <p:spPr>
          <a:xfrm>
            <a:off x="685800" y="4114800"/>
            <a:ext cx="4572000" cy="24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18s04kokainkille"/>
          <p:cNvPicPr/>
          <p:nvPr/>
        </p:nvPicPr>
        <p:blipFill>
          <a:blip r:embed="rId3"/>
          <a:stretch/>
        </p:blipFill>
        <p:spPr>
          <a:xfrm>
            <a:off x="586728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566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йсы - это любая трава, пропитанная химическим раствором, это реагент, созданный в Китае, как синтетический канабиойд (мариху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380880" y="1600200"/>
            <a:ext cx="838224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a4c4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09480" y="1981080"/>
            <a:ext cx="79250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арень есть, очень мне нравится, но он мне др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руг, и никогда не перейдет в разряд люб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у меня 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так что колоться или спать со мной опасно в том пла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про что-то за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78240" y="380880"/>
            <a:ext cx="758268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- ЭТО ВОЗМОЖНОСТЬ, ВОСПОЛЬЗУЙСЯ 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КРАСОТА, ВОСХИТИТЕСЬ 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БЛАЖЕНСТВО, ВКУС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-МЕЧТА, ОСУЩЕСТВИ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ЭТО ТАЙНА, ПОЗНАЙ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ЭТО БОРЬБА, СТАНЬ БОР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ТАК ПРЕКРАСНА. НЕ ЗАГУБИ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04920" y="4267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ЖИЗНЬ – ТВОЯ ЖИЗНЬ. БОРИСЬ ЗА НЕЁ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 Николаевна</cp:lastModifiedBy>
  <dcterms:modified xsi:type="dcterms:W3CDTF">2021-04-07T14:04:2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