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9924-36D5-48B1-92F1-3B758AC5F7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0FE1-A506-4CAA-AE53-2815F9D8A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A7C-4377-4464-9B38-2278BF7E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404-E56F-46E1-9D7D-3743DBAC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8A1-D7EA-443A-997E-A872F3E1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CF8-CB8F-40FA-99FD-C0288421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92C-0ECF-4373-8B63-B0DFAF18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C87-A39B-4B60-ACD3-ABE27496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E25-E59B-496C-8DAF-D307C271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EF9-AB25-4E4C-9945-7DE411F7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001-E3B2-47CF-9EEC-696A6897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81B-46E1-46A8-BF6F-6E36B45D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46B-F90B-41B5-8D3D-3567B675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7CC-F951-4A9F-A9D9-0E7D623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7725-62C7-427E-B6B0-AEF328803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304920" y="304920"/>
            <a:ext cx="4949640" cy="99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руглый сто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838080" y="1295280"/>
            <a:ext cx="79250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Impact"/>
              </a:rPr>
              <a:t>"Жизнь или смерть?"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11394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коман - человек ущербный. Основное время он проводит в постоянном страхе ожидания предстоящей ломки. И в постоянном поиске новой дозы, которая все время увеличивается. И только мгновения - в кайфе. Наркоману рядом с собой надо иметь таких же ущербных, как он сам. Брат, сестра, жена, друг… ему все равно, кого присадить на иглу и лишить нормальной человеческой жизн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00720" y="4005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bbe0e3"/>
              </a:gs>
              <a:gs pos="100000">
                <a:srgbClr val="66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аркоманы – «призрачное счастье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4495680"/>
            <a:ext cx="9144000" cy="1191240"/>
          </a:xfrm>
          <a:prstGeom prst="rect">
            <a:avLst/>
          </a:prstGeom>
          <a:gradFill rotWithShape="0">
            <a:gsLst>
              <a:gs pos="0">
                <a:srgbClr val="c1e3e5"/>
              </a:gs>
              <a:gs pos="50000">
                <a:srgbClr val="bbe0e3"/>
              </a:gs>
              <a:gs pos="100000">
                <a:srgbClr val="c1e3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</a:rPr>
              <a:t>Посмотрите на фотографии этих людей в начале употребления наркотиков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 Black"/>
              </a:rPr>
              <a:t>какими они стали через какое-то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WB02218_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facesofmeth012_220x176"/>
          <p:cNvPicPr/>
          <p:nvPr/>
        </p:nvPicPr>
        <p:blipFill>
          <a:blip r:embed="rId2"/>
          <a:srcRect l="0" t="1288" r="0" b="7516"/>
          <a:stretch/>
        </p:blipFill>
        <p:spPr>
          <a:xfrm>
            <a:off x="838080" y="328680"/>
            <a:ext cx="7315200" cy="5335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3880" y="5791320"/>
            <a:ext cx="634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3 года 5 меся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28640" y="-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14468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фициальной статистике, 80% наркоман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стоящих на учете, начинали именно с марихуан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вязано это с тем, что хотя конопля и не вызывает физического привыкания, после ее длительного употребления ощущения притупляются, и человек начинает психологически нуждаться в сильных стимуляторах. Кроме того, происходит перестройка организма, и у человека со временем наступает тотальная депресс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29"/>
          <p:cNvPicPr/>
          <p:nvPr/>
        </p:nvPicPr>
        <p:blipFill>
          <a:blip r:embed="rId2"/>
          <a:stretch/>
        </p:blipFill>
        <p:spPr>
          <a:xfrm>
            <a:off x="685800" y="4114800"/>
            <a:ext cx="4572000" cy="247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18s04kokainkille"/>
          <p:cNvPicPr/>
          <p:nvPr/>
        </p:nvPicPr>
        <p:blipFill>
          <a:blip r:embed="rId3"/>
          <a:stretch/>
        </p:blipFill>
        <p:spPr>
          <a:xfrm>
            <a:off x="586728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566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йсы - это любая трава, пропитанная химическим раствором, это реагент, созданный в Китае, как синтетический канабиойд (марихуа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380880" y="1600200"/>
            <a:ext cx="8382240" cy="426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a4c4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09480" y="1981080"/>
            <a:ext cx="79250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арень есть, очень мне нравится, но он мне др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Друг, и никогда не перейдет в разряд люб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у меня 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так что колоться или спать со мной опасно в том пла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про что-то за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78240" y="380880"/>
            <a:ext cx="758268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- ЭТО ВОЗМОЖНОСТЬ, ВОСПОЛЬЗУЙСЯ 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КРАСОТА, ВОСХИТИТЕСЬ 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БЛАЖЕНСТВО, ВКУСИ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-МЕЧТА, ОСУЩЕСТВИ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ЭТО ТАЙНА, ПОЗНАЙ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– ЭТО БОРЬБА, СТАНЬ БОРЦ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Lucida Sans Unicode"/>
              </a:rPr>
              <a:t>ЖИЗНЬ ТАК ПРЕКРАСНА. НЕ ЗАГУБИ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04920" y="4267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ЖИЗНЬ – ТВОЯ ЖИЗНЬ. БОРИСЬ ЗА НЕЁ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иктория Николаевна</cp:lastModifiedBy>
  <dcterms:modified xsi:type="dcterms:W3CDTF">2021-04-07T14:04:2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