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667-BB52-4E7D-89EB-B04E131E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545-531D-4524-BE5C-FC43D10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E8D-523A-435C-86C2-0442EF2B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FA3-5F08-4B87-BD40-65C19D5E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297-7540-48BD-8D6D-5846F79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760-B953-4226-B1FA-5136C13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2E8-0738-4D0E-975C-3DB6CEA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376-F398-4138-AFAF-9FAF0AC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D62-F9B9-4C70-B2AF-50A6656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E9C-CD33-485B-A089-7663B00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90D-9380-4E99-9BC0-30DF83B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08E-503D-48FA-B014-405E245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DF51-5E3D-4E09-9051-601A573D5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igabaza.ru/doc/42561.html" TargetMode="External"/><Relationship Id="rId2" Type="http://schemas.openxmlformats.org/officeDocument/2006/relationships/hyperlink" Target="http://numeralonline.ru/" TargetMode="External"/><Relationship Id="rId3" Type="http://schemas.openxmlformats.org/officeDocument/2006/relationships/hyperlink" Target="http://www.yaklass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5723"/>
            </a:gs>
            <a:gs pos="100000">
              <a:srgbClr val="c5e0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7080" y="21258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385723"/>
                </a:solidFill>
                <a:latin typeface="Calibri Light"/>
              </a:rPr>
              <a:t>Правописание числительных</a:t>
            </a:r>
            <a:endParaRPr b="0" lang="en-US" sz="1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46240" y="53416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</a:rPr>
              <a:t>Учитель русского языка и литературы МКОУ Семилукской сельской СОШ Никонова Елен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50 – 80, 500 – 900, 200, 300 и 40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0280" y="1978200"/>
            <a:ext cx="9055080" cy="14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числительных от пятидесяти до восьмидесяти, от пятисот до девятисот, двести, триста, четыреста склоняются обе част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0640" y="3390840"/>
          <a:ext cx="9055080" cy="2800440"/>
        </p:xfrm>
        <a:graphic>
          <a:graphicData uri="http://schemas.openxmlformats.org/drawingml/2006/table">
            <a:tbl>
              <a:tblPr/>
              <a:tblGrid>
                <a:gridCol w="3213000"/>
                <a:gridCol w="2006640"/>
                <a:gridCol w="1968480"/>
                <a:gridCol w="1866960"/>
              </a:tblGrid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-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х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ь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я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ю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вухс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ятис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Количествен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32320" y="1812600"/>
            <a:ext cx="737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ставных количественных числительных склоняется по падежам каждое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мер: 2 5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.п. две тысячи пятьсот тридцать 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.п. двух тысяч пятисот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.п. двум тысячам пятистам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.п. две тысячи пятьсот тридцать 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.п. двумя тысячами пятьюстами тридцатью сем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.п. о двух тысячах пятистах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Помощь"/>
          <p:cNvPicPr/>
          <p:nvPr/>
        </p:nvPicPr>
        <p:blipFill>
          <a:blip r:embed="rId1"/>
          <a:stretch/>
        </p:blipFill>
        <p:spPr>
          <a:xfrm>
            <a:off x="343080" y="1422360"/>
            <a:ext cx="420336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орядковые числительны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3080" y="1546200"/>
            <a:ext cx="29080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ядковые числительные изменяются по числам и родам. Это следует учитывать при их склонении по падеж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ставных порядковых числительных склоняется только последне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нчание формируется по тому же принципу, что у относительных прилагатель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65640" y="1546200"/>
          <a:ext cx="8610480" cy="4981680"/>
        </p:xfrm>
        <a:graphic>
          <a:graphicData uri="http://schemas.openxmlformats.org/drawingml/2006/table">
            <a:tbl>
              <a:tblPr/>
              <a:tblGrid>
                <a:gridCol w="660240"/>
                <a:gridCol w="912960"/>
                <a:gridCol w="674640"/>
                <a:gridCol w="896760"/>
                <a:gridCol w="639720"/>
                <a:gridCol w="933480"/>
                <a:gridCol w="489240"/>
                <a:gridCol w="355320"/>
                <a:gridCol w="1079640"/>
                <a:gridCol w="1071360"/>
                <a:gridCol w="897120"/>
              </a:tblGrid>
              <a:tr h="357120">
                <a:tc rowSpan="2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gridSpan="6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gridSpan="3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38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rowSpan="6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44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0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44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38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88740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Собиратель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7720" y="1825200"/>
            <a:ext cx="523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ирательные числительные склоняются по тому же принципу, что прилагательные множественного чис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.п. четверо, 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.п. четверыми, сколь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.п. о четверых, о сколь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235560" y="1825560"/>
            <a:ext cx="546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ирательные числитель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оба» и «обе» склоняются ина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477120" y="2849400"/>
          <a:ext cx="4876560" cy="286236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644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ской и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, 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, 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4"/>
          <p:cNvSpPr/>
          <p:nvPr/>
        </p:nvSpPr>
        <p:spPr>
          <a:xfrm>
            <a:off x="6843600" y="2248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Дроб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7720" y="1825200"/>
            <a:ext cx="730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яются по падежам обе части в соответствии со склонением количественных и порядковых числитель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часть склоняется как порядковое числительное во множественном числе: к трем пятым (д.п.), с двумя пятыми (тв.п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бозначении количества существительное при дробном числительном употребляется в родительном падеже: от одной седьмой участка, к двум седьмым площади прямоуголь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Изучение английского онлайн для начинающих. Что такое дробные числительные?"/>
          <p:cNvPicPr/>
          <p:nvPr/>
        </p:nvPicPr>
        <p:blipFill>
          <a:blip r:embed="rId1"/>
          <a:stretch/>
        </p:blipFill>
        <p:spPr>
          <a:xfrm>
            <a:off x="8285040" y="2840040"/>
            <a:ext cx="37782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Числительное «ПОЛТОРА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7720" y="2091960"/>
            <a:ext cx="590580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помнить, что числительное полтора склоняется по особому прави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3809880"/>
          <a:ext cx="6273720" cy="1108080"/>
        </p:xfrm>
        <a:graphic>
          <a:graphicData uri="http://schemas.openxmlformats.org/drawingml/2006/table">
            <a:tbl>
              <a:tblPr/>
              <a:tblGrid>
                <a:gridCol w="2090520"/>
                <a:gridCol w="2092320"/>
                <a:gridCol w="2090880"/>
              </a:tblGrid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,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,Д.,Т.,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5" descr="Бизнес внимание восклицательный знак - Стоковое векторное изображение redrockerz99 #9737522"/>
          <p:cNvPicPr/>
          <p:nvPr/>
        </p:nvPicPr>
        <p:blipFill>
          <a:blip r:embed="rId1"/>
          <a:stretch/>
        </p:blipFill>
        <p:spPr>
          <a:xfrm>
            <a:off x="7810560" y="1566720"/>
            <a:ext cx="4025880" cy="505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Задание №1. Раскрой скобки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06400" y="1926720"/>
            <a:ext cx="7442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л)дюжины, (пол)Франции, (пол)арбуза, (пол)яблока, (пол)ложки, (пол)метра, (пол)час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риеду в (пол)двенадцатог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деть (в)(пол)оборо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МЛМ-ПРОРЫВ!: . ВОПРОС-ОТВЕТ"/>
          <p:cNvPicPr/>
          <p:nvPr/>
        </p:nvPicPr>
        <p:blipFill>
          <a:blip r:embed="rId1"/>
          <a:stretch/>
        </p:blipFill>
        <p:spPr>
          <a:xfrm>
            <a:off x="322200" y="1690560"/>
            <a:ext cx="4673520" cy="467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320" y="365040"/>
            <a:ext cx="11505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Задание №2. Оформите числительное в составе слова буквенным способом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12520" y="2307960"/>
            <a:ext cx="581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-этажный, 1,5-литровый, 40-летни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2-километровый, 35-летие, 100-летний, 300-летие, 1000-голосый, 2500-летие, 377-литров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Почему я проигнорировал ваше сообщение?"/>
          <p:cNvPicPr/>
          <p:nvPr/>
        </p:nvPicPr>
        <p:blipFill>
          <a:blip r:embed="rId1"/>
          <a:stretch/>
        </p:blipFill>
        <p:spPr>
          <a:xfrm>
            <a:off x="6629400" y="1104840"/>
            <a:ext cx="416556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160" y="339840"/>
            <a:ext cx="11773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Calibri Light"/>
              </a:rPr>
              <a:t>Задание №3. Дополни, где нужно, предложения и запиши их. Числа пиши словами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88840" y="2180880"/>
            <a:ext cx="6718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 15 отнять 4 – получится 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 17 вычесть 9 - ….. 12 плюс 3 равно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 30 прибавить 5 - 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7 увеличить в три раза - 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5 разделить 5 -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6 умножить на 3 -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Диплом (выпускная квалификационная работа) - страница 5"/>
          <p:cNvPicPr/>
          <p:nvPr/>
        </p:nvPicPr>
        <p:blipFill>
          <a:blip r:embed="rId1"/>
          <a:stretch/>
        </p:blipFill>
        <p:spPr>
          <a:xfrm>
            <a:off x="6615000" y="1665360"/>
            <a:ext cx="5158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365040"/>
            <a:ext cx="11976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Calibri Light"/>
              </a:rPr>
              <a:t>Задание №4. Запиши текст, числа пиши словами. Во втором абзаце все предложения разобрать по членам предложения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5120" y="2219040"/>
            <a:ext cx="7480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ставленный на одном Квадратном метре поля к…л…сок пшеницы – это потеря 15- 16 килограммов з..рна на гектар, к…л…сок ячменя – 11-12 килограм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сли при перевозке з…рна на один метр д…роги упадёт 10 зёрен, потери на пятидесяти километрах д…роги составят 16 килограм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Вопрос-ответ Советская Чувашия"/>
          <p:cNvPicPr/>
          <p:nvPr/>
        </p:nvPicPr>
        <p:blipFill>
          <a:blip r:embed="rId1"/>
          <a:stretch/>
        </p:blipFill>
        <p:spPr>
          <a:xfrm>
            <a:off x="7218360" y="1027080"/>
            <a:ext cx="57531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 1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слитно или раздельно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8680" y="1955520"/>
            <a:ext cx="38610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ные и дробные числительные пишутся раздельно (сорок пять, три седьмы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Изучение английского онлайн для начинающих. Что такое дробные числительные?"/>
          <p:cNvPicPr/>
          <p:nvPr/>
        </p:nvPicPr>
        <p:blipFill>
          <a:blip r:embed="rId1"/>
          <a:stretch/>
        </p:blipFill>
        <p:spPr>
          <a:xfrm>
            <a:off x="500040" y="4017960"/>
            <a:ext cx="3340080" cy="2054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280040" y="1955880"/>
            <a:ext cx="330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ые числительные пишутся слитно (тридца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616280" y="4014720"/>
            <a:ext cx="3029040" cy="2057400"/>
          </a:xfrm>
          <a:prstGeom prst="rect">
            <a:avLst/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30, 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924680" y="2141640"/>
            <a:ext cx="383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ядковые числительные, которые оканчиваются на -тысячный, -миллионный, - миллиардный пишется слитно (тридцатитысячны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Ресурс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gigabaza.ru/doc/4256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numeralonline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yaklass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2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Куда поставить </a:t>
            </a:r>
            <a:r>
              <a:rPr b="1" lang="ru-RU" sz="7200" spc="-1" strike="noStrike">
                <a:solidFill>
                  <a:srgbClr val="385723"/>
                </a:solidFill>
                <a:latin typeface="Calibri Light"/>
              </a:rPr>
              <a:t>Ь</a:t>
            </a: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605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лительные 5 - 19 и 20, 30 пишутся с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конце, а числительные 50 - 80, 500 — 900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шется в середине слова между двумя осно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Фотозагадки Санкт-Петербурга: Просто вопрос - Citywalls.RU"/>
          <p:cNvPicPr/>
          <p:nvPr/>
        </p:nvPicPr>
        <p:blipFill>
          <a:blip r:embed="rId1"/>
          <a:stretch/>
        </p:blipFill>
        <p:spPr>
          <a:xfrm>
            <a:off x="7248600" y="1825560"/>
            <a:ext cx="469260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4200" y="390600"/>
            <a:ext cx="7746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3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НОЛЬ или НУЛЬ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1720" y="2448000"/>
            <a:ext cx="613404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две формы: НОЛЬ и НУ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«НУЛЬ» используется в терминологическом значении в косвенных падеж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тойчивых выражениях встречаются обе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Математика в жизни человека"/>
          <p:cNvPicPr/>
          <p:nvPr/>
        </p:nvPicPr>
        <p:blipFill>
          <a:blip r:embed="rId1"/>
          <a:srcRect l="0" t="7323" r="0" b="0"/>
          <a:stretch/>
        </p:blipFill>
        <p:spPr>
          <a:xfrm>
            <a:off x="776160" y="390600"/>
            <a:ext cx="4006800" cy="618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4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ое «ПОЛ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5240" y="1825200"/>
            <a:ext cx="6300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дефис, если вторая часть слова начинается с гласной буквы или с Л (пол-литра, пол-арбуза), или если она является именем собственным (пол-Росс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тно, если вторая часть сложного слова начинается с согласной буквы (кроме л): полкилограм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ьно, если оно имеет самостоятельное значение и оторвано от существительного определением: пол чайной ло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чание: числительное полу- в составе сложных слов всегда пишется слитно: полукровка, полураздет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Картинки, детки, школьники, маленькие ученики"/>
          <p:cNvPicPr/>
          <p:nvPr/>
        </p:nvPicPr>
        <p:blipFill>
          <a:blip r:embed="rId1"/>
          <a:stretch/>
        </p:blipFill>
        <p:spPr>
          <a:xfrm>
            <a:off x="9263160" y="2433600"/>
            <a:ext cx="197172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" descr=""/>
          <p:cNvPicPr/>
          <p:nvPr/>
        </p:nvPicPr>
        <p:blipFill>
          <a:blip r:embed="rId2"/>
          <a:stretch/>
        </p:blipFill>
        <p:spPr>
          <a:xfrm>
            <a:off x="6022800" y="3676680"/>
            <a:ext cx="254160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3"/>
          <a:stretch/>
        </p:blipFill>
        <p:spPr>
          <a:xfrm>
            <a:off x="7954920" y="2505240"/>
            <a:ext cx="1822320" cy="349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88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Правописание окончаний числительных</a:t>
            </a:r>
            <a:br>
              <a:rPr sz="4800"/>
            </a:b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Числительное «ОДИН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1825200"/>
            <a:ext cx="6451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ительное один склоняется так же, как прилагательное в единственном чис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3322800"/>
          <a:ext cx="5549760" cy="2377800"/>
        </p:xfrm>
        <a:graphic>
          <a:graphicData uri="http://schemas.openxmlformats.org/drawingml/2006/table">
            <a:tbl>
              <a:tblPr/>
              <a:tblGrid>
                <a:gridCol w="2755800"/>
                <a:gridCol w="2793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ин или од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б од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28" descr="цифра 1 kelmesine uyğun şekilleri pulsuz yükle bedava indir"/>
          <p:cNvPicPr/>
          <p:nvPr/>
        </p:nvPicPr>
        <p:blipFill>
          <a:blip r:embed="rId1"/>
          <a:stretch/>
        </p:blipFill>
        <p:spPr>
          <a:xfrm>
            <a:off x="7515360" y="1690560"/>
            <a:ext cx="3990960" cy="478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8360" y="237600"/>
            <a:ext cx="11099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«два», «три», «четыре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431720"/>
            <a:ext cx="736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числительных два, три, четыре - особые падежные оконч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35360" y="2382840"/>
          <a:ext cx="7162920" cy="4206960"/>
        </p:xfrm>
        <a:graphic>
          <a:graphicData uri="http://schemas.openxmlformats.org/drawingml/2006/table">
            <a:tbl>
              <a:tblPr/>
              <a:tblGrid>
                <a:gridCol w="1833840"/>
                <a:gridCol w="1776240"/>
                <a:gridCol w="1776600"/>
                <a:gridCol w="1776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 или 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или 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 или четы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ь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четыре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46" descr="Кому задать вопрос - Ветеринар-стоматолог"/>
          <p:cNvPicPr/>
          <p:nvPr/>
        </p:nvPicPr>
        <p:blipFill>
          <a:blip r:embed="rId1"/>
          <a:stretch/>
        </p:blipFill>
        <p:spPr>
          <a:xfrm>
            <a:off x="254160" y="1432080"/>
            <a:ext cx="4033800" cy="537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1891800"/>
            <a:ext cx="8013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ительные пять, шесть, семь, восемь, девять, десять и числительные на -дцать и -двеят склоняются так же, как существительные третьего склон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23960" y="3594240"/>
          <a:ext cx="7277040" cy="2682720"/>
        </p:xfrm>
        <a:graphic>
          <a:graphicData uri="http://schemas.openxmlformats.org/drawingml/2006/table">
            <a:tbl>
              <a:tblPr/>
              <a:tblGrid>
                <a:gridCol w="2533680"/>
                <a:gridCol w="2533680"/>
                <a:gridCol w="22096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ше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5 - 20 и 3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35" descr="Скачать Awesome SS - Question images Вопросы бесплатно"/>
          <p:cNvPicPr/>
          <p:nvPr/>
        </p:nvPicPr>
        <p:blipFill>
          <a:blip r:embed="rId1"/>
          <a:stretch/>
        </p:blipFill>
        <p:spPr>
          <a:xfrm>
            <a:off x="7866000" y="1690560"/>
            <a:ext cx="4173480" cy="521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ислительные 40, 90, 10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09800" y="1825560"/>
            <a:ext cx="71118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помнить, что количественные числительные сорок, девяносто, сто, полтораста имеют только две фор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22600" y="3421080"/>
          <a:ext cx="7299360" cy="1749240"/>
        </p:xfrm>
        <a:graphic>
          <a:graphicData uri="http://schemas.openxmlformats.org/drawingml/2006/table">
            <a:tbl>
              <a:tblPr/>
              <a:tblGrid>
                <a:gridCol w="1460520"/>
                <a:gridCol w="1459080"/>
                <a:gridCol w="1460520"/>
                <a:gridCol w="1052640"/>
                <a:gridCol w="1866600"/>
              </a:tblGrid>
              <a:tr h="461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  <a:tr h="461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, 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яно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  <a:tr h="826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, Д., Т.,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рок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яно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21" descr="Сток фото Pixmac"/>
          <p:cNvPicPr/>
          <p:nvPr/>
        </p:nvPicPr>
        <p:blipFill>
          <a:blip r:embed="rId1"/>
          <a:stretch/>
        </p:blipFill>
        <p:spPr>
          <a:xfrm>
            <a:off x="190440" y="1521000"/>
            <a:ext cx="4265640" cy="427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2:27:15Z</dcterms:created>
  <dc:creator>Никифорова Валентина Николаевна</dc:creator>
  <dc:description/>
  <dc:language>en-US</dc:language>
  <cp:lastModifiedBy>Asus</cp:lastModifiedBy>
  <dcterms:modified xsi:type="dcterms:W3CDTF">2020-06-01T16:19:34Z</dcterms:modified>
  <cp:revision>20</cp:revision>
  <dc:subject/>
  <dc:title>Презентация PowerPoint</dc:title>
</cp:coreProperties>
</file>