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1.png" ContentType="image/png"/>
  <Override PartName="/ppt/media/image20.gif" ContentType="image/gif"/>
  <Override PartName="/ppt/media/image3.gif" ContentType="image/gif"/>
  <Override PartName="/ppt/media/image19.gif" ContentType="image/gif"/>
  <Override PartName="/ppt/media/image10.png" ContentType="image/png"/>
  <Override PartName="/ppt/media/image17.png" ContentType="image/png"/>
  <Override PartName="/ppt/media/image1.jpeg" ContentType="image/jpeg"/>
  <Override PartName="/ppt/media/image4.gif" ContentType="image/gif"/>
  <Override PartName="/ppt/media/chimes.wav" ContentType="audio/x-wav"/>
  <Override PartName="/ppt/media/image16.png" ContentType="image/png"/>
  <Override PartName="/ppt/media/image15.gif" ContentType="image/gif"/>
  <Override PartName="/ppt/media/image2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691-3EC1-41B0-8093-66B1993E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E14-0EF5-4058-A28E-C9337391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A75-E2BD-4E29-84D0-A5A17F71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7F7-FB0D-4A95-A5D4-432F8D1B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0FD-92D5-426C-A9F0-7E4CBCD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EAD-F94D-4AA2-A371-8CFE870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585-C4DE-4B6A-820D-CC039E04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E65-F41D-4C6D-A94A-C489031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52F-63DA-4190-BD65-464DBBE1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994-1B6F-4F84-A9E1-2614C58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AE2-93DA-4D61-BD2C-AB52FC4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F4E-E9B5-4E4E-93A2-A827FDD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B1FB-8EB1-4885-BF38-5C46EC577A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mg-fotki.yandex.ru/get/3416/n-carasyova.c/0_2fc0b_619d6a8a_XL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yay-1255245"/>
          <p:cNvPicPr/>
          <p:nvPr/>
        </p:nvPicPr>
        <p:blipFill>
          <a:blip r:embed="rId1"/>
          <a:srcRect l="8071" t="9383" r="5801" b="6166"/>
          <a:stretch/>
        </p:blipFill>
        <p:spPr>
          <a:xfrm>
            <a:off x="5148360" y="4076640"/>
            <a:ext cx="3744720" cy="2592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66261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ишите в тетради, с какими существительным вы употребите числительное ОБЕ, а с какими – ОБ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3538440" cy="1468440"/>
          </a:xfrm>
          <a:prstGeom prst="rect">
            <a:avLst/>
          </a:prstGeom>
          <a:solidFill>
            <a:srgbClr val="ffe38b"/>
          </a:solidFill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Calibri"/>
              </a:rPr>
              <a:t>О З Е  Р О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826920" y="3933720"/>
            <a:ext cx="3529080" cy="1922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   О  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211640" y="1989000"/>
            <a:ext cx="4681440" cy="119124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Arial"/>
              </a:rPr>
              <a:t>К У К  Л  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4"/>
          <p:cNvSpPr/>
          <p:nvPr/>
        </p:nvSpPr>
        <p:spPr>
          <a:xfrm>
            <a:off x="539640" y="2205000"/>
            <a:ext cx="3311640" cy="2664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о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Р.д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Д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В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о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Т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П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(об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х 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468360" y="4869000"/>
            <a:ext cx="3311640" cy="9871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о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их игрок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6"/>
          <p:cNvSpPr/>
          <p:nvPr/>
        </p:nvSpPr>
        <p:spPr>
          <a:xfrm>
            <a:off x="4643280" y="2133720"/>
            <a:ext cx="3313440" cy="28080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.д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об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х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7"/>
          <p:cNvSpPr/>
          <p:nvPr/>
        </p:nvSpPr>
        <p:spPr>
          <a:xfrm>
            <a:off x="4859280" y="4941720"/>
            <a:ext cx="3143160" cy="9144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м командам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8"/>
          <p:cNvSpPr/>
          <p:nvPr/>
        </p:nvSpPr>
        <p:spPr>
          <a:xfrm>
            <a:off x="755640" y="134136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Муж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средний 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9"/>
          <p:cNvSpPr/>
          <p:nvPr/>
        </p:nvSpPr>
        <p:spPr>
          <a:xfrm>
            <a:off x="4932360" y="126828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Женский 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owl13"/>
          <p:cNvPicPr/>
          <p:nvPr/>
        </p:nvPicPr>
        <p:blipFill>
          <a:blip r:embed="rId1"/>
          <a:stretch/>
        </p:blipFill>
        <p:spPr>
          <a:xfrm>
            <a:off x="7072200" y="21420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Скругленная прямоугольная выноска 2"/>
          <p:cNvSpPr/>
          <p:nvPr/>
        </p:nvSpPr>
        <p:spPr>
          <a:xfrm>
            <a:off x="395280" y="260280"/>
            <a:ext cx="5857920" cy="928800"/>
          </a:xfrm>
          <a:prstGeom prst="wedgeRoundRectCallout">
            <a:avLst>
              <a:gd name="adj1" fmla="val 75662"/>
              <a:gd name="adj2" fmla="val 24018"/>
              <a:gd name="adj3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ба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бе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клоняются по-раз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ая прямоугольная выноска 10"/>
          <p:cNvSpPr/>
          <p:nvPr/>
        </p:nvSpPr>
        <p:spPr>
          <a:xfrm>
            <a:off x="1979640" y="333360"/>
            <a:ext cx="3643200" cy="969840"/>
          </a:xfrm>
          <a:prstGeom prst="wedgeRoundRectCallout">
            <a:avLst>
              <a:gd name="adj1" fmla="val 102333"/>
              <a:gd name="adj2" fmla="val 12518"/>
              <a:gd name="adj3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 чем разн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кругленный прямоугольник 1" descr=""/>
          <p:cNvPicPr/>
          <p:nvPr/>
        </p:nvPicPr>
        <p:blipFill>
          <a:blip r:embed="rId2"/>
          <a:stretch/>
        </p:blipFill>
        <p:spPr>
          <a:xfrm>
            <a:off x="401760" y="5840280"/>
            <a:ext cx="7980120" cy="1163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-1440" y="595008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ик стр. 1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кругленный прямоугольник 1" descr=""/>
          <p:cNvPicPr/>
          <p:nvPr/>
        </p:nvPicPr>
        <p:blipFill>
          <a:blip r:embed="rId1"/>
          <a:stretch/>
        </p:blipFill>
        <p:spPr>
          <a:xfrm>
            <a:off x="615960" y="55440"/>
            <a:ext cx="772956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48656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ПОЕЗЖАЙ в гор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подарить МАМ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ЛУЧШЕ других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ДВА козля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  ОБА подру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4240" y="29286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6786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27240" y="1724040"/>
            <a:ext cx="674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раграф 74, Упр № 4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5-6 предложений на тему «Дружба», используя собирательные числ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rebenok"/>
          <p:cNvPicPr/>
          <p:nvPr/>
        </p:nvPicPr>
        <p:blipFill>
          <a:blip r:embed="rId1"/>
          <a:stretch/>
        </p:blipFill>
        <p:spPr>
          <a:xfrm>
            <a:off x="179280" y="4010040"/>
            <a:ext cx="33116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4247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Работали отличн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3499920"/>
            <a:ext cx="8013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 это от ме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4427640" y="3213000"/>
            <a:ext cx="3384360" cy="331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AG00319_"/>
          <p:cNvPicPr/>
          <p:nvPr/>
        </p:nvPicPr>
        <p:blipFill>
          <a:blip r:embed="rId2"/>
          <a:stretch/>
        </p:blipFill>
        <p:spPr>
          <a:xfrm>
            <a:off x="468360" y="836640"/>
            <a:ext cx="223200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Рисунок8"/>
          <p:cNvPicPr/>
          <p:nvPr/>
        </p:nvPicPr>
        <p:blipFill>
          <a:blip r:embed="rId3"/>
          <a:stretch/>
        </p:blipFill>
        <p:spPr>
          <a:xfrm>
            <a:off x="7095960" y="6480"/>
            <a:ext cx="179244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yay-1255245"/>
          <p:cNvPicPr/>
          <p:nvPr/>
        </p:nvPicPr>
        <p:blipFill>
          <a:blip r:embed="rId1"/>
          <a:srcRect l="8071" t="9383" r="5801" b="6166"/>
          <a:stretch/>
        </p:blipFill>
        <p:spPr>
          <a:xfrm>
            <a:off x="6086520" y="2455920"/>
            <a:ext cx="2600280" cy="1800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1116000" y="1341360"/>
            <a:ext cx="6624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 занял второе место на соревн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cc"/>
                </a:solidFill>
                <a:latin typeface="Arial"/>
              </a:rPr>
              <a:t>Один в поле не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етя выучил пятнадцать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Arial"/>
              </a:rPr>
              <a:t>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95080" y="315720"/>
            <a:ext cx="8118720" cy="102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Распредели данные числительные по групп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180036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828360" y="2708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м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6880" y="4005360"/>
            <a:ext cx="26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ри п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349440" y="198900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ест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419640" y="2997360"/>
            <a:ext cx="13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494520" y="4005360"/>
            <a:ext cx="17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ят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5582880" y="1989000"/>
            <a:ext cx="33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ве седь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653440" y="299736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о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653800" y="3716280"/>
            <a:ext cx="275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осемьс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69160" y="1885680"/>
            <a:ext cx="3458520" cy="2078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семь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се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4859280" y="1916280"/>
            <a:ext cx="3683160" cy="230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ри п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ве седь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2771640" y="4365720"/>
            <a:ext cx="3683160" cy="230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м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Шест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ят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0" y="1773360"/>
            <a:ext cx="91440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ирательные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ите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3"/>
          <p:cNvSpPr txBox="1"/>
          <p:nvPr/>
        </p:nvSpPr>
        <p:spPr>
          <a:xfrm>
            <a:off x="762120" y="380880"/>
            <a:ext cx="7191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24" descr="BD13738_"/>
          <p:cNvPicPr/>
          <p:nvPr/>
        </p:nvPicPr>
        <p:blipFill>
          <a:blip r:embed="rId1"/>
          <a:stretch/>
        </p:blipFill>
        <p:spPr>
          <a:xfrm>
            <a:off x="5651640" y="3284640"/>
            <a:ext cx="2490480" cy="2152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5"/>
          <p:cNvSpPr/>
          <p:nvPr/>
        </p:nvSpPr>
        <p:spPr>
          <a:xfrm>
            <a:off x="5970600" y="515772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пят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67800" y="25909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дв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1"/>
          <p:cNvGrpSpPr/>
          <p:nvPr/>
        </p:nvGrpSpPr>
        <p:grpSpPr>
          <a:xfrm>
            <a:off x="0" y="1371600"/>
            <a:ext cx="2087280" cy="1709640"/>
            <a:chOff x="0" y="1371600"/>
            <a:chExt cx="2087280" cy="1709640"/>
          </a:xfrm>
        </p:grpSpPr>
        <p:pic>
          <p:nvPicPr>
            <p:cNvPr id="68" name="Picture 32" descr="ALIEN03"/>
            <p:cNvPicPr/>
            <p:nvPr/>
          </p:nvPicPr>
          <p:blipFill>
            <a:blip r:embed="rId2"/>
            <a:stretch/>
          </p:blipFill>
          <p:spPr>
            <a:xfrm>
              <a:off x="672840" y="1371600"/>
              <a:ext cx="90180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33"/>
            <p:cNvSpPr/>
            <p:nvPr/>
          </p:nvSpPr>
          <p:spPr>
            <a:xfrm>
              <a:off x="0" y="2379600"/>
              <a:ext cx="2087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4"/>
          <p:cNvGrpSpPr/>
          <p:nvPr/>
        </p:nvGrpSpPr>
        <p:grpSpPr>
          <a:xfrm>
            <a:off x="533520" y="1523880"/>
            <a:ext cx="2016000" cy="1577880"/>
            <a:chOff x="533520" y="1523880"/>
            <a:chExt cx="2016000" cy="1577880"/>
          </a:xfrm>
        </p:grpSpPr>
        <p:pic>
          <p:nvPicPr>
            <p:cNvPr id="71" name="Picture 35" descr="ALIEN69"/>
            <p:cNvPicPr/>
            <p:nvPr/>
          </p:nvPicPr>
          <p:blipFill>
            <a:blip r:embed="rId3"/>
            <a:stretch/>
          </p:blipFill>
          <p:spPr>
            <a:xfrm>
              <a:off x="1433520" y="1523880"/>
              <a:ext cx="701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36"/>
            <p:cNvSpPr/>
            <p:nvPr/>
          </p:nvSpPr>
          <p:spPr>
            <a:xfrm>
              <a:off x="533520" y="2460600"/>
              <a:ext cx="2016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37"/>
          <p:cNvSpPr/>
          <p:nvPr/>
        </p:nvSpPr>
        <p:spPr>
          <a:xfrm>
            <a:off x="3766320" y="24321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тр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jouster_standing_proud_sc.gif"/>
          <p:cNvPicPr/>
          <p:nvPr/>
        </p:nvPicPr>
        <p:blipFill>
          <a:blip r:embed="rId4"/>
          <a:stretch/>
        </p:blipFill>
        <p:spPr>
          <a:xfrm>
            <a:off x="0" y="4114800"/>
            <a:ext cx="1197000" cy="1522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jouster_standing_proud_sc.gif"/>
          <p:cNvPicPr/>
          <p:nvPr/>
        </p:nvPicPr>
        <p:blipFill>
          <a:blip r:embed="rId5"/>
          <a:stretch/>
        </p:blipFill>
        <p:spPr>
          <a:xfrm>
            <a:off x="685800" y="4114800"/>
            <a:ext cx="1197000" cy="1522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jouster_standing_proud_sc.gif"/>
          <p:cNvPicPr/>
          <p:nvPr/>
        </p:nvPicPr>
        <p:blipFill>
          <a:blip r:embed="rId6"/>
          <a:stretch/>
        </p:blipFill>
        <p:spPr>
          <a:xfrm>
            <a:off x="1371600" y="4114800"/>
            <a:ext cx="1163520" cy="14810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jouster_standing_proud_sc.gif"/>
          <p:cNvPicPr/>
          <p:nvPr/>
        </p:nvPicPr>
        <p:blipFill>
          <a:blip r:embed="rId7"/>
          <a:stretch/>
        </p:blipFill>
        <p:spPr>
          <a:xfrm>
            <a:off x="2057400" y="4114800"/>
            <a:ext cx="1163520" cy="1481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jouster_standing_proud_sc.gif"/>
          <p:cNvPicPr/>
          <p:nvPr/>
        </p:nvPicPr>
        <p:blipFill>
          <a:blip r:embed="rId8"/>
          <a:stretch/>
        </p:blipFill>
        <p:spPr>
          <a:xfrm>
            <a:off x="3429000" y="4114800"/>
            <a:ext cx="1165320" cy="1481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jouster_standing_proud_sc.gif"/>
          <p:cNvPicPr/>
          <p:nvPr/>
        </p:nvPicPr>
        <p:blipFill>
          <a:blip r:embed="rId9"/>
          <a:stretch/>
        </p:blipFill>
        <p:spPr>
          <a:xfrm>
            <a:off x="2743200" y="4114800"/>
            <a:ext cx="1197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jouster_standing_proud_sc.gif"/>
          <p:cNvPicPr/>
          <p:nvPr/>
        </p:nvPicPr>
        <p:blipFill>
          <a:blip r:embed="rId10"/>
          <a:stretch/>
        </p:blipFill>
        <p:spPr>
          <a:xfrm>
            <a:off x="4114800" y="4114800"/>
            <a:ext cx="1197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5"/>
          <p:cNvSpPr/>
          <p:nvPr/>
        </p:nvSpPr>
        <p:spPr>
          <a:xfrm>
            <a:off x="1792440" y="54864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сем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глаза бегают"/>
          <p:cNvPicPr/>
          <p:nvPr/>
        </p:nvPicPr>
        <p:blipFill>
          <a:blip r:embed="rId11"/>
          <a:stretch/>
        </p:blipFill>
        <p:spPr>
          <a:xfrm>
            <a:off x="6095880" y="1143000"/>
            <a:ext cx="1716120" cy="167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Рисунок10"/>
          <p:cNvPicPr/>
          <p:nvPr/>
        </p:nvPicPr>
        <p:blipFill>
          <a:blip r:embed="rId12"/>
          <a:stretch/>
        </p:blipFill>
        <p:spPr>
          <a:xfrm>
            <a:off x="7391520" y="1600200"/>
            <a:ext cx="1350720" cy="120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8"/>
          <p:cNvSpPr/>
          <p:nvPr/>
        </p:nvSpPr>
        <p:spPr>
          <a:xfrm>
            <a:off x="6647400" y="2637000"/>
            <a:ext cx="10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9" descr="AG00211_"/>
          <p:cNvPicPr/>
          <p:nvPr/>
        </p:nvPicPr>
        <p:blipFill>
          <a:blip r:embed="rId13"/>
          <a:stretch/>
        </p:blipFill>
        <p:spPr>
          <a:xfrm>
            <a:off x="4419720" y="152388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AG00211_"/>
          <p:cNvPicPr/>
          <p:nvPr/>
        </p:nvPicPr>
        <p:blipFill>
          <a:blip r:embed="rId14"/>
          <a:stretch/>
        </p:blipFill>
        <p:spPr>
          <a:xfrm>
            <a:off x="3276720" y="16002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AG00211_"/>
          <p:cNvPicPr/>
          <p:nvPr/>
        </p:nvPicPr>
        <p:blipFill>
          <a:blip r:embed="rId15"/>
          <a:stretch/>
        </p:blipFill>
        <p:spPr>
          <a:xfrm>
            <a:off x="3657600" y="1066680"/>
            <a:ext cx="1104840" cy="971640"/>
          </a:xfrm>
          <a:prstGeom prst="rect">
            <a:avLst/>
          </a:prstGeom>
          <a:ln w="0">
            <a:noFill/>
          </a:ln>
        </p:spPr>
      </p:pic>
      <p:sp>
        <p:nvSpPr>
          <p:cNvPr id="88" name="Скругленный прямоугольник 2"/>
          <p:cNvSpPr/>
          <p:nvPr/>
        </p:nvSpPr>
        <p:spPr>
          <a:xfrm>
            <a:off x="395280" y="333360"/>
            <a:ext cx="8748720" cy="54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969480" y="333360"/>
            <a:ext cx="65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бирательные числ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927720" y="6041880"/>
            <a:ext cx="68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Несколько предметов как одно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98984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ря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1.Один в поле не воин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2.Горе на двоих - полгоря, радость на двоих - две радост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3.Один раз солгал - навек лгуном ста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2 ря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1.Чтобы научиться трудолюбию, нужно три года, чтобы научиться лени - только три дн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2.Одна мудрая голова ста голов стои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3.Двое пашут, а семеро руками машу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3ря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1.Ему семерых посади – всех до смерти завр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2.Семь раз отмерь, а один - отреж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3.Не имей сто рублей, а имей сто друзе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кругленный прямоугольник 1" descr=""/>
          <p:cNvPicPr/>
          <p:nvPr/>
        </p:nvPicPr>
        <p:blipFill>
          <a:blip r:embed="rId1"/>
          <a:stretch/>
        </p:blipFill>
        <p:spPr>
          <a:xfrm>
            <a:off x="633240" y="23760"/>
            <a:ext cx="772956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2556000" y="134136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правило на стр. 5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2484360" y="1773360"/>
            <a:ext cx="55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йдите ответ на проблемный вопрос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с какими существительными сочетаются собирательные числи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УПРАЖНЕНИЕ №42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img-fotki.yandex.ru/get/3416/n-carasyova.c/0_2fc0b_619d6a8a_X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3851280"/>
            <a:ext cx="4643640" cy="3159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4"/>
          <p:cNvSpPr/>
          <p:nvPr/>
        </p:nvSpPr>
        <p:spPr>
          <a:xfrm>
            <a:off x="299160" y="134136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Работаем в па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67284108_png"/>
          <p:cNvPicPr/>
          <p:nvPr/>
        </p:nvPicPr>
        <p:blipFill>
          <a:blip r:embed="rId4"/>
          <a:stretch/>
        </p:blipFill>
        <p:spPr>
          <a:xfrm>
            <a:off x="179280" y="1916280"/>
            <a:ext cx="2016360" cy="18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143_-___-___-___-_-.mp3" descr=""/>
          <p:cNvPicPr/>
          <p:nvPr/>
        </p:nvPicPr>
        <p:blipFill>
          <a:blip r:embed="rId1"/>
          <a:stretch/>
        </p:blipFill>
        <p:spPr>
          <a:xfrm>
            <a:off x="7451640" y="5229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/>
          <a:stretch/>
        </p:blipFill>
        <p:spPr>
          <a:xfrm>
            <a:off x="1077840" y="1052640"/>
            <a:ext cx="667872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4:08:03Z</dcterms:created>
  <dc:creator>Ахметшина</dc:creator>
  <dc:description/>
  <dc:language>en-US</dc:language>
  <cp:lastModifiedBy>Admin</cp:lastModifiedBy>
  <dcterms:modified xsi:type="dcterms:W3CDTF">2021-04-08T09:49:27Z</dcterms:modified>
  <cp:revision>173</cp:revision>
  <dc:subject/>
  <dc:title>Имя числительное как часть речи</dc:title>
</cp:coreProperties>
</file>