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CB4-55E0-4756-8E40-930935DD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8AA-86B2-4CA6-9041-2CFF174D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A14-D737-4174-B6DE-0D9860E1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477-A6BC-4D2E-AE94-5BF2DBB2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7757-1EC0-4742-BE14-0EECCFC5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BB58-59A7-4C95-9549-1856C35F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24CA-D88C-4114-A3C4-490909B4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28F6-4122-41F9-A16E-B75FD93B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45F2-8254-463A-8236-DF312377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C5A4-5D50-4435-8F3A-AB318951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7927-217F-4610-A772-63A78C23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721-E026-4712-9C74-229F0FC0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8974-7C5F-4771-9787-DF5E124D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6E55-CA5F-48DB-AC8D-02BCE74A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A5A9-E384-4F1D-B323-77D01411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848D-53B8-48AB-B9FA-EBFD6145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CF0B-5FE7-4376-BD9C-8C051065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DC6B-9FBC-42EA-8099-26268C2F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5339-0203-4A7F-99B3-B22EF0AF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C590-F585-4BC8-830A-0DBC901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D6EFA-556F-4348-8CA4-2107FD53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7B6C-0464-4312-A23F-625BA2E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CDD-E2D4-4383-BB73-36BB5B22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006A-F3CD-414E-BB1A-7CF4318F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0D12-1B53-40B3-A601-A6126A4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C25F-D4D7-43BE-B8B8-69FEFB8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C451-57AE-4BE8-B3B5-181DBB9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F6A3-F146-4AD2-835C-F3246E01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8C5E-9E18-4D09-8FCF-7CD542AC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08E3-24C8-487C-BE0A-CFD0BD38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6AFB5-D92F-4D89-87A3-2C0F80ED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0081F-ADA6-4AAD-B67F-5A91175B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4EAC-1442-4CA7-BF88-8B751EA6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FC0-0DED-4DDB-877D-6BA9A4B6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D9B5-162D-4469-AB2F-76E969F4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F4969-E5AE-4929-AAE7-B08F0E5A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0604-26E5-4BED-8B0A-FEBE35B1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F4EA-0344-42D4-9FC0-DB0CA749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172A-9F19-4A0A-8DD0-3ACCE25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ECCC-6EF8-430B-A2D9-C9944EBC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055D-31AD-4BA3-876E-8114EB75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90D2-F660-4C2F-B4C4-A48425EC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13A3-F02F-43A8-9388-C589DCCD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4549E-E32A-4C6E-AAA5-B12AAA6B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2F9-C11C-4674-AE17-561FF09C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98866-5CC4-404D-A3E2-BDA22C23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5BAE-56E8-40E3-BCC1-16D989E1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8826A-9F93-4662-B374-6791848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4D7A0-51CB-4999-A85F-508E9C68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A09F5-555A-4B68-B34E-AFBA8760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E6AAD-B762-4483-A7DE-11B6BB79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A2B22-2011-4C85-8F82-3616777E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5D889-C22C-4AF0-89CF-F0DF0AF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EF37D-7964-4587-A4CF-ECD6C147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87322-F437-4A1C-BE5B-8EE9BBD6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E3E-EECC-433C-AAD3-A3B4B83C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7315A-DD0B-4EAE-8174-12225765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8AE0-6434-44AA-B39B-1B6AA593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898D9-CDBE-4A9E-89FD-F2AE74BB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841DE-502C-4EF0-B468-1DCC6DB4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89702-7B22-457E-8AEF-7583B2E4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B163B-3394-483A-BF7D-13286E65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9ED90-7DC7-4B29-915C-9840D4D5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52D93-9DA8-4659-9389-6791C8C7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630E-9272-43BA-970A-CFF637EA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03488-3569-4FDD-82B8-90CC3E0A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A60-D6E7-4C80-97C8-F299F44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FB441-02C7-4F19-9570-9B33BBFC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E71C-0AF7-43D8-9DB2-C7E4706B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DFBCE-E1FF-46B6-B39B-5F0F827A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F8B37-64BD-48F7-BBE7-A685132A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6AAB4-3B45-4013-8BE7-BB6203D1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6C394-306F-46D5-B674-4F634C14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C5738-8396-464C-B384-CBA1CD94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C57C-F2C8-4386-AA71-C96F13ED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B1EF-BBDE-40ED-B957-5CBC19CE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867A-2618-4F56-B8C6-740A2D1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36C-D269-4BA7-8603-75DF60B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4B802-D412-4919-8E29-D79A47A3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17962-88D7-433B-BBA0-A6529EB9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D6FF8-108B-4365-BF62-B284C9C0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50E8B-7505-49DE-BEF2-D6DFA449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D2B66-DB7C-4EF1-97AF-46EA3831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4496D-1599-4A7D-A07A-1016DD22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B41E8-CE1F-4956-94BC-D75CE8D2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8675C-D047-426C-9AD0-A9A54263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39B70-A1FC-4922-A7E1-C73F71B0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8A540-7645-446C-AF0D-AF6A476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688-D3AC-438F-9259-A924CF8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0004-350B-4D1E-86B4-816CC405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75EE3-DB28-4444-8981-1D5FB58E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60B8-FDDE-43BA-A0C5-CAD38CC6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05D77-5224-4BA1-A226-DD8D76A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2A195-EB44-45D8-800A-C3AD8159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5EAEB-15A9-4076-A046-ADB4A187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E7C48-A9B7-4EBA-AAA3-F400179E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B145-1AEA-4D95-B1DD-9AC54A929ED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6B17-CF17-486C-914C-7583A22F549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963F-C21A-42C9-B29D-025AC41E5E4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A747-B837-4CAB-B575-662BC467559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7DD4-3939-400A-8AD9-67EE0E10EA3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F934-93C2-4642-9525-A197EBB3C57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6FFE-99FE-4764-ABDB-C43034A262C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CC0A-9DED-43DC-926D-D2C3622FF5A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3"/>
          <p:cNvSpPr/>
          <p:nvPr/>
        </p:nvSpPr>
        <p:spPr>
          <a:xfrm>
            <a:off x="971640" y="62064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Мысль семейная»в романе Л.Н.Толстого «Война и ми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a1ea64c92228aa5ca97df22377533e49fb0a7a9dvimr_ok"/>
          <p:cNvPicPr/>
          <p:nvPr/>
        </p:nvPicPr>
        <p:blipFill>
          <a:blip r:embed="rId2"/>
          <a:stretch/>
        </p:blipFill>
        <p:spPr>
          <a:xfrm>
            <a:off x="5148360" y="2637000"/>
            <a:ext cx="2935080" cy="3931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160-5-1"/>
          <p:cNvPicPr/>
          <p:nvPr/>
        </p:nvPicPr>
        <p:blipFill>
          <a:blip r:embed="rId3"/>
          <a:stretch/>
        </p:blipFill>
        <p:spPr>
          <a:xfrm>
            <a:off x="1042920" y="2276640"/>
            <a:ext cx="288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Курагиных не существует семейных отношений,  для каждого члена семьи важна только выгода. Холодный расчет, умение подстраиваться под любую ситуацию - вот отличительные черты данной семь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357120" y="285840"/>
            <a:ext cx="464364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Василий Курагин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цемерный человек. В начале романа князь обращается с Пьером Безуховым, как с никчемным человеком. Но стоило Пьеру получить наследство, и князь относится к Безухову, как к родному сын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Васильевна Курагина (Элен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счетливая женщина. Она прекрасна, все восхищаются ей, но никто не замечает истинную сущность Элен. Пьер Безухов  узнает «настоящую»  Элен только после свадьбы.  Ее постоянно нет дома, их отношения с Пьером сложно назвать семейными. Она высмеивает желание Пьера иметь детей. В конце романа Толстой как бы наказывает Элен за ее беспорядочную жизнь, она умирает от неизвестной болез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Васильевич Курагин (Анатоль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н так же красив, как и его сестра. Для Анатоля на первом месте наслаждение. Он привык получать все, что пожелает. Во время Бородинского сражения был ране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4" descr="250cf8b51c773f3f8dc8b4be867a9a02_big.jpg"/>
          <p:cNvPicPr/>
          <p:nvPr/>
        </p:nvPicPr>
        <p:blipFill>
          <a:blip r:embed="rId2"/>
          <a:stretch/>
        </p:blipFill>
        <p:spPr>
          <a:xfrm>
            <a:off x="6143760" y="4143240"/>
            <a:ext cx="2762280" cy="212724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6" descr="albumpic.jpg"/>
          <p:cNvPicPr/>
          <p:nvPr/>
        </p:nvPicPr>
        <p:blipFill>
          <a:blip r:embed="rId3"/>
          <a:stretch/>
        </p:blipFill>
        <p:spPr>
          <a:xfrm>
            <a:off x="5000760" y="135720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«мысль семейная» является главной в романе «Война и мир». Семья у Толстого подвергается исследованию в переломные моменты истории. И в итоге получается ,что будущее за семьями, где ударение в воспитании падает не на выгоду и умение подстраиваться под любую ситуацию, а на воспитание в себе искренности чувств и высокую духовность. Настоящая семья должна формировать в человеке только добрые чувства. Тогда и будущее будет светлым и ясным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«Война и мир» - одно из величайших произв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ед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ний мировой классики. Л.Н.Толстой описал события 1805г.— 1807г. и 1812 годов. В центре романа три семьи: Курагины, Ростовы, Болконски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3-2"/>
          <p:cNvPicPr/>
          <p:nvPr/>
        </p:nvPicPr>
        <p:blipFill>
          <a:blip r:embed="rId2"/>
          <a:stretch/>
        </p:blipFill>
        <p:spPr>
          <a:xfrm>
            <a:off x="324000" y="2852640"/>
            <a:ext cx="3240000" cy="2332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18_01_00"/>
          <p:cNvPicPr/>
          <p:nvPr/>
        </p:nvPicPr>
        <p:blipFill>
          <a:blip r:embed="rId3"/>
          <a:stretch/>
        </p:blipFill>
        <p:spPr>
          <a:xfrm>
            <a:off x="5292720" y="2781360"/>
            <a:ext cx="3384720" cy="2225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223"/>
          <p:cNvPicPr/>
          <p:nvPr/>
        </p:nvPicPr>
        <p:blipFill>
          <a:blip r:embed="rId4"/>
          <a:stretch/>
        </p:blipFill>
        <p:spPr>
          <a:xfrm>
            <a:off x="2987640" y="4292640"/>
            <a:ext cx="32036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Семья Ростовых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615960" y="271296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3" descr="2.jpg"/>
          <p:cNvPicPr/>
          <p:nvPr/>
        </p:nvPicPr>
        <p:blipFill>
          <a:blip r:embed="rId2"/>
          <a:stretch/>
        </p:blipFill>
        <p:spPr>
          <a:xfrm>
            <a:off x="3286080" y="2214720"/>
            <a:ext cx="2963880" cy="41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читаем ,что в семье Ростовых  царит атмосфера любви, радушия и откровенности. В этой семье в воспитании ударение ставится на любовь и уважение, простоту, дух равенства и искренность чувств. Мы думаем, что Толстой описал семью своей мечты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-360" y="0"/>
            <a:ext cx="93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/>
          <p:cNvSpPr/>
          <p:nvPr/>
        </p:nvSpPr>
        <p:spPr>
          <a:xfrm>
            <a:off x="357120" y="142920"/>
            <a:ext cx="4857840" cy="68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 Илья Андреевич Ростов и Графиня Наталья Ростова (урожд. Шиншина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простые, искренне любящие друг друга  люди.  Они всегда готовы выслушать  детей и помочь и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Ростов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арший сын. Он всем сердцем любит своих родителей и сестер.  Смелый  и бескорыстный человек. Толстой считает, что у Николая простая, честная и порядочная душ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Ростов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аршая дочь. Она отличатся от всех детей в семье Ростовых. Вера была первым ребенком, и графиня воспитывала ее, как требовал того свет. Злая, эгоистичная, замкнутая – так можно сказать про Веру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ша Ростов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илая, очаровательная девушка. Такая же бескорыстная, как и ее брат Николай. Она готова помогать всем нуждающимся. Это доказывает эпизод, когда Наташа помогает выехать раненым из Москвы, отдавая им подво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Росто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младший сын.  Добрый, честный и наивный челове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8" descr="vimshm1.jpg"/>
          <p:cNvPicPr/>
          <p:nvPr/>
        </p:nvPicPr>
        <p:blipFill>
          <a:blip r:embed="rId2"/>
          <a:stretch/>
        </p:blipFill>
        <p:spPr>
          <a:xfrm>
            <a:off x="5286240" y="857160"/>
            <a:ext cx="3714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omic Sans MS"/>
              </a:rPr>
              <a:t>Семья Болконских</a:t>
            </a: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ss4.jpg"/>
          <p:cNvPicPr/>
          <p:nvPr/>
        </p:nvPicPr>
        <p:blipFill>
          <a:blip r:embed="rId2"/>
          <a:stretch/>
        </p:blipFill>
        <p:spPr>
          <a:xfrm>
            <a:off x="4572000" y="2349360"/>
            <a:ext cx="346068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емье на первом месте разум, а о чувствах никто не вспоминает. Наиболее важным в воспитании этой семьи является уважение, сдержанность и образовани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-36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                 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3"/>
          <p:cNvSpPr/>
          <p:nvPr/>
        </p:nvSpPr>
        <p:spPr>
          <a:xfrm>
            <a:off x="357120" y="395280"/>
            <a:ext cx="400068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й Андреевич Болконск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лава семьи. Он никогда не сидит на месте. Его жизнь расписана по минутам, и никто не способен нарушить привычный уклад жизни. Николай Андреевич считает главными ценностями честь и дол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Николаевич Болконск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еловек, который желает помочь людям.  Именно это заставляет Андрея проводить преобразования в деревне. От отца ему достались многие черты характера, в том числе и патриотиз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я Николаевна Болконская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радает от холодного отношении отца. Но, несмотря на все, она продолжает любить отца. Она не понимает,  как можно не любить человека, который ее воспитывал.  Она приучена жертвовать всем ради други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4" descr="ktorov_35.jpg"/>
          <p:cNvPicPr/>
          <p:nvPr/>
        </p:nvPicPr>
        <p:blipFill>
          <a:blip r:embed="rId2"/>
          <a:stretch/>
        </p:blipFill>
        <p:spPr>
          <a:xfrm>
            <a:off x="4143240" y="4481640"/>
            <a:ext cx="2928960" cy="21301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5" descr="88164.jpg"/>
          <p:cNvPicPr/>
          <p:nvPr/>
        </p:nvPicPr>
        <p:blipFill>
          <a:blip r:embed="rId3"/>
          <a:stretch/>
        </p:blipFill>
        <p:spPr>
          <a:xfrm>
            <a:off x="6286680" y="2214720"/>
            <a:ext cx="2444400" cy="214308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6" descr="92.jpg"/>
          <p:cNvPicPr/>
          <p:nvPr/>
        </p:nvPicPr>
        <p:blipFill>
          <a:blip r:embed="rId4"/>
          <a:stretch/>
        </p:blipFill>
        <p:spPr>
          <a:xfrm>
            <a:off x="5000760" y="285840"/>
            <a:ext cx="32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Семья Курагиных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3" descr="P1000595.JPG"/>
          <p:cNvPicPr/>
          <p:nvPr/>
        </p:nvPicPr>
        <p:blipFill>
          <a:blip r:embed="rId2"/>
          <a:stretch/>
        </p:blipFill>
        <p:spPr>
          <a:xfrm>
            <a:off x="1976400" y="2571840"/>
            <a:ext cx="50958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41:07Z</dcterms:created>
  <dc:creator>XP GAME 2007</dc:creator>
  <dc:description/>
  <dc:language>en-US</dc:language>
  <cp:lastModifiedBy>Asus</cp:lastModifiedBy>
  <dcterms:modified xsi:type="dcterms:W3CDTF">2021-04-07T16:50:03Z</dcterms:modified>
  <cp:revision>42</cp:revision>
  <dc:subject/>
  <dc:title>Мысль семейная в романе Л.Н.Толстого «Война и мир»</dc:title>
</cp:coreProperties>
</file>