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D0CD-CB9E-4E50-9E1A-512FCBAE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DF12-11CC-4ACA-A953-41E5ADEE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E79E-873D-4392-A381-73BB4F92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B2F-271A-4063-AB2A-8676F2C3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8250-C9AB-44FB-8605-B0DCF5F8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1401-7AB9-452D-90CE-BA5881B3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45C4-3469-4A8E-AD9D-4C6DF76C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F488-5479-4E05-BF57-094F574E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A759-BC31-4AD8-8D94-5E31B0D0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1D46-F702-4BB4-90E7-5F824BDE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D452-6E1D-4823-AFCA-D3794B18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AA3B-CECF-4C94-BD12-E101BFD6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7416-B170-491F-8E08-1C888264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7747-77EF-4A02-A3C2-DC391B4F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F275-FD9A-473C-94D6-76856ADC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9B7F-C7DD-4966-B42A-F3D8706C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9ABD-9BE5-4F90-B7C0-208D2033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73B59-E506-440D-9419-F8B4EDDD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397D0-B500-4945-816C-BF89FA5B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417D1-A813-431A-89E1-F46A2B83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65466-BD3B-4FFB-B87F-ABD6B18A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153E3-DA2D-4959-B41D-9552AF8D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58A-F07D-4DF0-83F8-B1E3EB27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1137D-0FD9-48F9-9F2D-2E796004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96FD6-9A36-469B-8232-68FE2320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AB451-6DAB-489B-9894-4292A68A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74078-0B34-4F0B-B0D2-F0BBB79F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57523-7100-4D88-9D6A-BD637A49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D37C3-28FA-4031-B999-3BCF01EB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CC8A5-52FD-457B-9FCA-BF22B199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EC59E-5B34-437B-BC75-4F9C4459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4039E-D105-4859-A3E9-E5473192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14F2C-8F0E-49EB-8F10-A2CDF9B7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8C68-32D3-4E57-BE9C-5444DF42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F947F-1108-4A02-B760-F2C9A163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2AFEA-F0A7-4AE5-8897-EF474D47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4D3DF-5B64-4A89-89D5-BD1C7A31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99A1E-BCEF-43CB-869D-94FD01A1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8C3EB-5633-4B2E-95D7-606B177E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7EB60-93CA-4441-B5BD-84007C71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0667D-65B0-4ABB-9042-54F62E4F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B893F-70C0-4FEE-92C7-E059A198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AF4F3-7AD7-4330-B157-9D887E51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5AE8E-2973-4EDD-A07F-3CB8A4B5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DC6-0A68-4AB2-A028-2C4E8F71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EFC52-453F-485C-AE68-B50FD792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A6285-21FC-464E-B866-B9E0EBDB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C0F1A-E627-43D4-9F8D-A9CD84FC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C9653-97F8-4522-B192-DADE0454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7CD6B-2EB1-4F0F-85F8-958EEB9D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268FA-AB30-4043-B143-5C2C1E9C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926B0-6FF1-4281-820C-C76BECE0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F9794-4748-4280-9543-B3C7EF1E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77355-E1B2-467C-899F-4C1062A4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6101C-AB1A-478D-B997-99F01649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143-65B9-414C-8ACE-87E85152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6C2B3-13BC-44D7-AF0F-597AEABF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146F4-9B77-497C-928B-21E6F2A6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65E1B-3E23-4D1B-ADA5-F000214F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CD2BE-3873-4AC0-8763-8E756CA9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5FFB6-34DE-4BDD-91A8-9CB40CA5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972FE-5FA1-4A36-BE76-C5D0E368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AE027-43B6-4C6C-9A88-ADB7A67A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E97AA-EE55-47CC-99F1-01BA974D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16563-13F1-4ED3-A3F6-869128F8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FEBB6-1B51-45FB-9C6F-A202F00B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2F4-CEF2-4859-BF9B-BFEF3F2C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07321-A444-4D8B-A889-D8EE3F90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667E7-2C05-43F1-8D20-8254E4B7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9B121-890A-4C11-96F2-A216ADF9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C2470-16D8-4DB8-8704-457F05F9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BDB11-68C5-4EC6-8310-FF27B747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6A467-B4E1-43DD-963C-2C700C0F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724CB-B5CA-4503-BC09-FB07AD32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C9ADA-F763-4BBB-B90E-4F9277F1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E4AC8-2CDA-4223-ABC8-C051C761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95F5D-5B3E-48B7-9DF5-9F6A4E45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B64-4ABB-428A-8F69-411F4C6B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D8B84-B615-4E2A-A893-F30C64D2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FDEB4-FBB7-4000-A4B7-AEE422BA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E990A-0FF7-4111-8CB5-B7BC7815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8D122-D7E5-4344-9DAF-50E9A2A2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B4963-68FE-4CD7-80BB-C078655D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68490-21BB-46C9-968B-55C3F60E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ECD33-E37E-4126-8DDC-B334241C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F1BF2-5AD0-464E-A086-13450FA9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0A0A6-5976-436C-8474-F1944F84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F4776-5165-493E-95E6-227D854A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13AE-82DF-4AF7-8699-968DCDC8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63DC7-960D-40B0-A594-FD51CBEC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974C7-537E-4671-A54A-50EE286C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0D5D3-3EF7-4274-AC28-811E5DAA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C0C8F-8578-478A-984D-53B35786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03B03-A350-4399-9212-D81E4B1D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F8805-0AA9-46A1-A4C8-57593C63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6EB7C-750D-47A0-9217-44055CB1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D8F6-7B6B-4E13-9D7A-0DA4022C81D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1D97-6CCF-46E5-A791-72118073872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8896-2713-4E98-99F2-336835A88A2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E1E3-16A7-44D4-A182-17C005C3123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0855-F039-488D-9999-4126C09872F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E47F-9459-440A-94FA-D6518C92EF0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E5C3-612D-4AF1-B6D0-91CDA017877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1ED9-2AEB-4B98-A2E0-AB113912F81F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2" name="TextBox 3"/>
          <p:cNvSpPr/>
          <p:nvPr/>
        </p:nvSpPr>
        <p:spPr>
          <a:xfrm>
            <a:off x="971640" y="620640"/>
            <a:ext cx="735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«Мысль семейная»в романе Л.Н.Толстого «Война и ми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6" descr="a1ea64c92228aa5ca97df22377533e49fb0a7a9dvimr_ok"/>
          <p:cNvPicPr/>
          <p:nvPr/>
        </p:nvPicPr>
        <p:blipFill>
          <a:blip r:embed="rId2"/>
          <a:stretch/>
        </p:blipFill>
        <p:spPr>
          <a:xfrm>
            <a:off x="5148360" y="2637000"/>
            <a:ext cx="2935080" cy="3931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160-5-1"/>
          <p:cNvPicPr/>
          <p:nvPr/>
        </p:nvPicPr>
        <p:blipFill>
          <a:blip r:embed="rId3"/>
          <a:stretch/>
        </p:blipFill>
        <p:spPr>
          <a:xfrm>
            <a:off x="1042920" y="2276640"/>
            <a:ext cx="28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е Курагиных не существует семейных отношений,  для каждого члена семьи важна только выгода. Холодный расчет, умение подстраиваться под любую ситуацию - вот отличительные черты данной семь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7" name="TextBox 3"/>
          <p:cNvSpPr/>
          <p:nvPr/>
        </p:nvSpPr>
        <p:spPr>
          <a:xfrm>
            <a:off x="357120" y="285840"/>
            <a:ext cx="464364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ь Василий Курагин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ицемерный человек. В начале романа князь обращается с Пьером Безуховым, как с никчемным человеком. Но стоило Пьеру получить наследство, и князь относится к Безухову, как к родному сыну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на Васильевна Курагина (Элен)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счетливая женщина. Она прекрасна, все восхищаются ей, но никто не замечает истинную сущность Элен. Пьер Безухов  узнает «настоящую»  Элен только после свадьбы.  Ее постоянно нет дома, их отношения с Пьером сложно назвать семейными. Она высмеивает желание Пьера иметь детей. В конце романа Толстой как бы наказывает Элен за ее беспорядочную жизнь, она умирает от неизвестной болезн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лий Васильевич Курагин (Анатоль)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н так же красив, как и его сестра. Для Анатоля на первом месте наслаждение. Он привык получать все, что пожелает. Во время Бородинского сражения был ранен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Рисунок 4" descr="250cf8b51c773f3f8dc8b4be867a9a02_big.jpg"/>
          <p:cNvPicPr/>
          <p:nvPr/>
        </p:nvPicPr>
        <p:blipFill>
          <a:blip r:embed="rId2"/>
          <a:stretch/>
        </p:blipFill>
        <p:spPr>
          <a:xfrm>
            <a:off x="6143760" y="4143240"/>
            <a:ext cx="2762280" cy="212724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6" descr="albumpic.jpg"/>
          <p:cNvPicPr/>
          <p:nvPr/>
        </p:nvPicPr>
        <p:blipFill>
          <a:blip r:embed="rId3"/>
          <a:stretch/>
        </p:blipFill>
        <p:spPr>
          <a:xfrm>
            <a:off x="5000760" y="1357200"/>
            <a:ext cx="27622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«мысль семейная» является главной в романе «Война и мир». Семья у Толстого подвергается исследованию в переломные моменты истории. И в итоге получается ,что будущее за семьями, где ударение в воспитании падает не на выгоду и умение подстраиваться под любую ситуацию, а на воспитание в себе искренности чувств и высокую духовность. Настоящая семья должна формировать в человеке только добрые чувства. Тогда и будущее будет светлым и ясным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«Война и мир» - одно из величайших произв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ед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ений мировой классики. Л.Н.Толстой описал события 1805г.— 1807г. и 1812 годов. В центре романа три семьи: Курагины, Ростовы, Болконские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3-2"/>
          <p:cNvPicPr/>
          <p:nvPr/>
        </p:nvPicPr>
        <p:blipFill>
          <a:blip r:embed="rId2"/>
          <a:stretch/>
        </p:blipFill>
        <p:spPr>
          <a:xfrm>
            <a:off x="324000" y="2852640"/>
            <a:ext cx="3240000" cy="2332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18_01_00"/>
          <p:cNvPicPr/>
          <p:nvPr/>
        </p:nvPicPr>
        <p:blipFill>
          <a:blip r:embed="rId3"/>
          <a:stretch/>
        </p:blipFill>
        <p:spPr>
          <a:xfrm>
            <a:off x="5292720" y="2781360"/>
            <a:ext cx="3384720" cy="22255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223"/>
          <p:cNvPicPr/>
          <p:nvPr/>
        </p:nvPicPr>
        <p:blipFill>
          <a:blip r:embed="rId4"/>
          <a:stretch/>
        </p:blipFill>
        <p:spPr>
          <a:xfrm>
            <a:off x="2987640" y="4292640"/>
            <a:ext cx="320364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Семья Ростовых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615960" y="271296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3" descr="2.jpg"/>
          <p:cNvPicPr/>
          <p:nvPr/>
        </p:nvPicPr>
        <p:blipFill>
          <a:blip r:embed="rId2"/>
          <a:stretch/>
        </p:blipFill>
        <p:spPr>
          <a:xfrm>
            <a:off x="3286080" y="2214720"/>
            <a:ext cx="2963880" cy="41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читаем ,что в семье Ростовых  царит атмосфера любви, радушия и откровенности. В этой семье в воспитании ударение ставится на любовь и уважение, простоту, дух равенства и искренность чувств. Мы думаем, что Толстой описал семью своей мечты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-360" y="0"/>
            <a:ext cx="9358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7" name="TextBox 4"/>
          <p:cNvSpPr/>
          <p:nvPr/>
        </p:nvSpPr>
        <p:spPr>
          <a:xfrm>
            <a:off x="357120" y="142920"/>
            <a:ext cx="4857840" cy="68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 Илья Андреевич Ростов и Графиня Наталья Ростова (урожд. Шиншина)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простые, искренне любящие друг друга  люди.  Они всегда готовы выслушать  детей и помочь им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й Ростов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тарший сын. Он всем сердцем любит своих родителей и сестер.  Смелый  и бескорыстный человек. Толстой считает, что у Николая простая, честная и порядочная душ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а Ростова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таршая дочь. Она отличатся от всех детей в семье Ростовых. Вера была первым ребенком, и графиня воспитывала ее, как требовал того свет. Злая, эгоистичная, замкнутая – так можно сказать про Веру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аша Ростова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илая, очаровательная девушка. Такая же бескорыстная, как и ее брат Николай. Она готова помогать всем нуждающимся. Это доказывает эпизод, когда Наташа помогает выехать раненым из Москвы, отдавая им подвод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 Ростов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 младший сын.  Добрый, честный и наивный человек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8" descr="vimshm1.jpg"/>
          <p:cNvPicPr/>
          <p:nvPr/>
        </p:nvPicPr>
        <p:blipFill>
          <a:blip r:embed="rId2"/>
          <a:stretch/>
        </p:blipFill>
        <p:spPr>
          <a:xfrm>
            <a:off x="5286240" y="857160"/>
            <a:ext cx="3714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omic Sans MS"/>
              </a:rPr>
              <a:t>Семья Болконских</a:t>
            </a:r>
            <a:endParaRPr b="0" lang="en-US" sz="4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5" descr="ss4.jpg"/>
          <p:cNvPicPr/>
          <p:nvPr/>
        </p:nvPicPr>
        <p:blipFill>
          <a:blip r:embed="rId2"/>
          <a:stretch/>
        </p:blipFill>
        <p:spPr>
          <a:xfrm>
            <a:off x="4572000" y="2349360"/>
            <a:ext cx="34606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семье на первом месте разум, а о чувствах никто не вспоминает. Наиболее важным в воспитании этой семьи является уважение, сдержанность и образовани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0" y="-360"/>
            <a:ext cx="8501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6" name="TextBox 3"/>
          <p:cNvSpPr/>
          <p:nvPr/>
        </p:nvSpPr>
        <p:spPr>
          <a:xfrm>
            <a:off x="357120" y="395280"/>
            <a:ext cx="400068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й Андреевич Болконский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лава семьи. Он никогда не сидит на месте. Его жизнь расписана по минутам, и никто не способен нарушить привычный уклад жизни. Николай Андреевич считает главными ценностями честь и дол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й Николаевич Болконский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еловек, который желает помочь людям.  Именно это заставляет Андрея проводить преобразования в деревне. От отца ему достались многие черты характера, в том числе и патриотизм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я Николаевна Болконская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традает от холодного отношении отца. Но, несмотря на все, она продолжает любить отца. Она не понимает,  как можно не любить человека, который ее воспитывал.  Она приучена жертвовать всем ради други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Рисунок 4" descr="ktorov_35.jpg"/>
          <p:cNvPicPr/>
          <p:nvPr/>
        </p:nvPicPr>
        <p:blipFill>
          <a:blip r:embed="rId2"/>
          <a:stretch/>
        </p:blipFill>
        <p:spPr>
          <a:xfrm>
            <a:off x="4143240" y="4481640"/>
            <a:ext cx="2928960" cy="213012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5" descr="88164.jpg"/>
          <p:cNvPicPr/>
          <p:nvPr/>
        </p:nvPicPr>
        <p:blipFill>
          <a:blip r:embed="rId3"/>
          <a:stretch/>
        </p:blipFill>
        <p:spPr>
          <a:xfrm>
            <a:off x="6286680" y="2214720"/>
            <a:ext cx="2444400" cy="214308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6" descr="92.jpg"/>
          <p:cNvPicPr/>
          <p:nvPr/>
        </p:nvPicPr>
        <p:blipFill>
          <a:blip r:embed="rId4"/>
          <a:stretch/>
        </p:blipFill>
        <p:spPr>
          <a:xfrm>
            <a:off x="5000760" y="285840"/>
            <a:ext cx="3232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Семья Курагиных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3" descr="P1000595.JPG"/>
          <p:cNvPicPr/>
          <p:nvPr/>
        </p:nvPicPr>
        <p:blipFill>
          <a:blip r:embed="rId2"/>
          <a:stretch/>
        </p:blipFill>
        <p:spPr>
          <a:xfrm>
            <a:off x="1976400" y="2571840"/>
            <a:ext cx="509580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0:41:07Z</dcterms:created>
  <dc:creator>XP GAME 2007</dc:creator>
  <dc:description/>
  <dc:language>en-US</dc:language>
  <cp:lastModifiedBy>Asus</cp:lastModifiedBy>
  <dcterms:modified xsi:type="dcterms:W3CDTF">2021-04-07T16:50:03Z</dcterms:modified>
  <cp:revision>42</cp:revision>
  <dc:subject/>
  <dc:title>Мысль семейная в романе Л.Н.Толстого «Война и мир»</dc:title>
</cp:coreProperties>
</file>