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png" ContentType="image/png"/>
  <Override PartName="/ppt/media/image34.jpeg" ContentType="image/jpeg"/>
  <Override PartName="/ppt/media/image37.png" ContentType="image/png"/>
  <Override PartName="/ppt/media/image36.png" ContentType="image/png"/>
  <Override PartName="/ppt/media/image39.png" ContentType="image/png"/>
  <Override PartName="/ppt/media/image11.jpeg" ContentType="image/jpeg"/>
  <Override PartName="/ppt/media/image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3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A343D-1409-4A24-A45A-87B4EEFB36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FBFCB-E671-433C-BA46-731B48B65C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C23D0-9A67-4072-A581-57C3E630B4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8B7B0-6F8A-4077-8B2E-5908390205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2E234-35DA-473D-A88A-053BA50CE4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E5A96-B96F-408F-B964-9229E5E295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CC4F6-E913-43C7-A41E-BF84ABC79F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038D0-78F6-48A8-A090-9E39EAA6CC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9447C-7D24-4A43-A149-CE0CAFC73B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586E4-1D13-459C-9663-4C36479A60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A955F-0E9A-41ED-9CA9-0878EF330C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5EB0C-1624-4FD5-A757-6A0B33FDAA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EF4E1-7F87-4629-BBF4-B86A6D06B8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F4414-1E23-493F-8315-8EC2222F76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72470-127B-4845-B259-6AEBEAA2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CE600-12C3-4250-A6F3-8474E29E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70607-F109-4243-BDA6-7A9C58875B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4ECCD-29DA-4ABB-978D-E0E2F239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3157D-C5D1-4DB4-B79A-7B9FC6B4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6EE8A-0AF2-4888-92AD-C9727DBD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B65B-263B-4618-BE89-7DBB94CD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B71FE-3B4E-4877-9FF1-317996B4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3EFF1-4F9F-4F4F-8064-32B0D670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DDF5E-A554-441D-B7FB-81BBD7D0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10CD1-6E38-44CB-AF23-F97979C3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26.11.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0FBA31A-D9F0-4FCE-938F-DC6675C49927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26.11.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entury Schoolbook"/>
              </a:rPr>
              <a:t>Тема урока:</a:t>
            </a:r>
            <a:br>
              <a:rPr sz="4400"/>
            </a:br>
            <a:r>
              <a:rPr b="1" lang="ru-RU" sz="4900" spc="-1" strike="noStrike">
                <a:solidFill>
                  <a:srgbClr val="10243e"/>
                </a:solidFill>
                <a:latin typeface="Monotype Corsiva"/>
              </a:rPr>
              <a:t>«Формы размножения организмов»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1640" y="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Гермафродит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0" y="93672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 особь производит и женские, и мужские гам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31920" y="1535040"/>
            <a:ext cx="3051000" cy="206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287280" y="3672000"/>
            <a:ext cx="3880080" cy="259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3672000" y="1728720"/>
            <a:ext cx="2697120" cy="2741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4"/>
          <a:stretch/>
        </p:blipFill>
        <p:spPr>
          <a:xfrm>
            <a:off x="6264360" y="1368360"/>
            <a:ext cx="2663640" cy="3672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4392720" y="5106960"/>
            <a:ext cx="453528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rmAutofit fontScale="97000"/>
          </a:bodyPr>
          <a:p>
            <a:pPr algn="ctr"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ские черви, кольчатые черви, моллюски, некоторые ракообразные, большинство цветковых раст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артеногенез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457200" y="1193760"/>
            <a:ext cx="822960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организма происходит из неоплодотворенной яйцекле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428760" y="2160720"/>
            <a:ext cx="2955960" cy="2016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144360" y="4319640"/>
            <a:ext cx="3533760" cy="2311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3"/>
          <a:stretch/>
        </p:blipFill>
        <p:spPr>
          <a:xfrm>
            <a:off x="3332160" y="3527280"/>
            <a:ext cx="2571840" cy="3229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4"/>
          <a:stretch/>
        </p:blipFill>
        <p:spPr>
          <a:xfrm>
            <a:off x="5967360" y="1871640"/>
            <a:ext cx="2889360" cy="2465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6119640" y="4819680"/>
            <a:ext cx="302436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rmAutofit fontScale="98000"/>
          </a:bodyPr>
          <a:p>
            <a:pPr algn="ctr"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енные насекомые, некоторые ящерицы и земноводные, некоторые породы инде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 Antiqua"/>
              </a:rPr>
              <a:t>Сравнение полового 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ook Antiqua"/>
              </a:rPr>
              <a:t>бесполого размно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00040" y="2000160"/>
          <a:ext cx="8288280" cy="3979800"/>
        </p:xfrm>
        <a:graphic>
          <a:graphicData uri="http://schemas.openxmlformats.org/drawingml/2006/table">
            <a:tbl>
              <a:tblPr/>
              <a:tblGrid>
                <a:gridCol w="2762280"/>
                <a:gridCol w="2763720"/>
                <a:gridCol w="2762280"/>
              </a:tblGrid>
              <a:tr h="3733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 срав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вое размн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сполое размн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874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колько особей участвует в размножени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874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бразуются ли гаметы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874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ходен ли дочерний организм с материнским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874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Биологический смысл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Бинарное дел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60360" y="1079640"/>
            <a:ext cx="87152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о родительской клетки делится на 2 части, каждая из которых дает начало новому организ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76280" y="2163600"/>
            <a:ext cx="1611360" cy="2444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882800" y="2222640"/>
            <a:ext cx="3157560" cy="210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5327640" y="2303640"/>
            <a:ext cx="3240000" cy="2087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4"/>
          <a:stretch/>
        </p:blipFill>
        <p:spPr>
          <a:xfrm>
            <a:off x="3763800" y="4813200"/>
            <a:ext cx="2571840" cy="1666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1271520" y="4894200"/>
            <a:ext cx="1825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тейш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6670800" y="4896000"/>
            <a:ext cx="1825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к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Множественное деление = шизогония</a:t>
            </a:r>
            <a:r>
              <a:rPr b="0" lang="ru-RU" sz="4400" spc="-1" strike="noStrike">
                <a:solidFill>
                  <a:srgbClr val="c00000"/>
                </a:solidFill>
                <a:latin typeface="Monotype Corsiv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20720" y="1152360"/>
            <a:ext cx="74325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нская клетка распадается на большое количество дочерних кле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779400" y="2370240"/>
            <a:ext cx="3684600" cy="2093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5040360" y="2808360"/>
            <a:ext cx="3887640" cy="27352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816360" y="6191280"/>
            <a:ext cx="540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простейшие (споровик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360360" y="4680000"/>
            <a:ext cx="4103640" cy="1511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Спорообраз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90600" y="1357200"/>
            <a:ext cx="8291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ножение посредством специализированных клеток - сп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360360" y="2087640"/>
            <a:ext cx="2592360" cy="1592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904000" y="2160720"/>
            <a:ext cx="3095640" cy="2114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3024360" y="2016000"/>
            <a:ext cx="2734920" cy="1933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4"/>
          <a:stretch/>
        </p:blipFill>
        <p:spPr>
          <a:xfrm>
            <a:off x="3281400" y="4103640"/>
            <a:ext cx="2549520" cy="2519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5"/>
          <a:stretch/>
        </p:blipFill>
        <p:spPr>
          <a:xfrm>
            <a:off x="182520" y="3749760"/>
            <a:ext cx="2768760" cy="2874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6408720" y="5432400"/>
            <a:ext cx="23036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rmAutofit fontScale="97000"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ибы, папоротники, мхи, плау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очков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93680" y="1193760"/>
            <a:ext cx="89283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материнской особи происходит образование выроста — поч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которой формируется новая особ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41400" y="2003400"/>
            <a:ext cx="2838240" cy="3324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5654520" y="2160720"/>
            <a:ext cx="3057840" cy="2444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2879640" y="4392720"/>
            <a:ext cx="2952720" cy="2376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5975280" y="5745240"/>
            <a:ext cx="30243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rmAutofit fontScale="96000"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ишечнополостные, дрож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Фрагментац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669960" y="1352520"/>
            <a:ext cx="78753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деление особи на несколько частей, каждая из котор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ется в новую особ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500040" y="2357280"/>
            <a:ext cx="3171960" cy="181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4835520" y="2203560"/>
            <a:ext cx="3805200" cy="2836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627120" y="4392720"/>
            <a:ext cx="3044880" cy="223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887640" y="5832360"/>
            <a:ext cx="49672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rmAutofit fontScale="96000"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ские черви, кольчатые черви, иглокожие, водоросль спирог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Вегетативное размножение</a:t>
            </a:r>
            <a:r>
              <a:rPr b="0" lang="ru-RU" sz="4400" spc="-1" strike="noStrike">
                <a:solidFill>
                  <a:srgbClr val="c00000"/>
                </a:solidFill>
                <a:latin typeface="Monotype Corsiv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431640" y="1046160"/>
            <a:ext cx="83520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6000"/>
          </a:bodyPr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ая особь развивается либо из части материнской, либо из особых структур, специально предназначенных для вегетативного размножения (луковица, клубень, корневые отпрыски, отводки и тд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16000" y="2808360"/>
            <a:ext cx="3887640" cy="143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65040" y="4508640"/>
            <a:ext cx="2813040" cy="2116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2311560" y="4508640"/>
            <a:ext cx="3663720" cy="2170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7067520" y="5919840"/>
            <a:ext cx="1716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rmAutofit fontScale="95000"/>
          </a:bodyPr>
          <a:p>
            <a:pPr algn="ctr"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т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4"/>
          <a:stretch/>
        </p:blipFill>
        <p:spPr>
          <a:xfrm>
            <a:off x="4319640" y="2598840"/>
            <a:ext cx="2303280" cy="1793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5"/>
          <a:stretch/>
        </p:blipFill>
        <p:spPr>
          <a:xfrm>
            <a:off x="6335640" y="3475080"/>
            <a:ext cx="2735280" cy="19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олиэмбрио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28760" y="1120680"/>
            <a:ext cx="82296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более одного зародыша из одной зиготы у животных или образование нескольких зародышей в одном семени у раст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3252960" y="2376360"/>
            <a:ext cx="207468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6767640" y="2232000"/>
            <a:ext cx="2158920" cy="1511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96840" y="2300400"/>
            <a:ext cx="2927520" cy="1874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4"/>
          <a:stretch/>
        </p:blipFill>
        <p:spPr>
          <a:xfrm>
            <a:off x="144360" y="4392720"/>
            <a:ext cx="2735280" cy="1800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3527280" y="6008760"/>
            <a:ext cx="561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rmAutofit fontScale="96000"/>
          </a:bodyPr>
          <a:p>
            <a:pPr algn="ctr"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роненосцы,мшанки, некоторые насекомые и раст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5"/>
          <a:stretch/>
        </p:blipFill>
        <p:spPr>
          <a:xfrm>
            <a:off x="5040360" y="4032360"/>
            <a:ext cx="2519280" cy="1655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Раздельнополое размножение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41120" y="1262160"/>
            <a:ext cx="878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изуется слиянием гаплоидных гамет 2х организ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576360" y="2066760"/>
            <a:ext cx="2879640" cy="2108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287280" y="4464000"/>
            <a:ext cx="3095640" cy="201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3"/>
          <a:stretch/>
        </p:blipFill>
        <p:spPr>
          <a:xfrm>
            <a:off x="5111640" y="2003400"/>
            <a:ext cx="3168720" cy="3540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680000" y="6119640"/>
            <a:ext cx="410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rmAutofit fontScale="96000"/>
          </a:bodyPr>
          <a:p>
            <a:pPr algn="ctr"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инство животных и некоторые раст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ussike</dc:creator>
  <dc:description/>
  <dc:language>en-US</dc:language>
  <cp:lastModifiedBy>Анна Шкляева</cp:lastModifiedBy>
  <dcterms:modified xsi:type="dcterms:W3CDTF">2021-04-08T20:40:12Z</dcterms:modified>
  <cp:revision>2</cp:revision>
  <dc:subject/>
  <dc:title>Презентация PowerPoint</dc:title>
</cp:coreProperties>
</file>