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png" ContentType="image/png"/>
  <Override PartName="/ppt/media/image34.jpeg" ContentType="image/jpeg"/>
  <Override PartName="/ppt/media/image37.png" ContentType="image/png"/>
  <Override PartName="/ppt/media/image36.png" ContentType="image/png"/>
  <Override PartName="/ppt/media/image39.png" ContentType="image/png"/>
  <Override PartName="/ppt/media/image11.jpeg" ContentType="image/jpeg"/>
  <Override PartName="/ppt/media/image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3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9D030-2009-4421-B91E-714AA07C5C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A44C9-BB46-45FB-AE04-21A3AC6A52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6AA05-D9CD-4534-B0B2-5DFC054A6C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867E4-6CF0-4960-83F1-A92926F826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FAD5D-1B21-4CF5-A218-DEC62E8348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2F2E2-951B-461B-B310-EB16E3D6E1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C25E9-689D-4101-89DA-24ECA5D756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BD3E1-00ED-4BFC-A640-E9ADBC1796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AAEAA-D035-41A1-8A21-D1E5FC8807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42E50-CAF8-47D5-9ED8-F2B19EA5C1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A24C5-050E-4FA2-A091-13B6DEEB65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797AF-9570-41C1-B486-92BCF4DC95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691DB-BBEB-4B8D-815A-BA75A82773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962A-3865-4389-A92E-C928185A1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2A58-8465-41C3-AF04-7A2CE445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337A-1D69-4DF2-9C05-3F3B88F0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3519-487B-4B1A-AC0B-3BDFC44E97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ABA2-04BC-4BF0-976B-8E443772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7479-35A9-4CC9-911F-AD4EC250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3759-F796-4F13-931C-D5334F61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347B9-6AEB-4596-83E8-98FB026E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3C26-FEEA-44F9-A572-47C68C2E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793D-74F6-4AD8-9304-A2703373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21F2-051F-475B-81A0-053B3FE0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6983-BB24-49FF-A91A-366D4CE9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6.11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FF9026-DA66-4ED0-B816-F549CB571E77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6.11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entury Schoolbook"/>
              </a:rPr>
              <a:t>Тема урока:</a:t>
            </a:r>
            <a:br>
              <a:rPr sz="4400"/>
            </a:br>
            <a:r>
              <a:rPr b="1" lang="ru-RU" sz="4900" spc="-1" strike="noStrike">
                <a:solidFill>
                  <a:srgbClr val="10243e"/>
                </a:solidFill>
                <a:latin typeface="Monotype Corsiva"/>
              </a:rPr>
              <a:t>«Формы размножения организмов»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1640" y="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Гермафродит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0" y="9367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 особь производит и женские, и мужские гам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31920" y="1535040"/>
            <a:ext cx="3051000" cy="206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287280" y="3672000"/>
            <a:ext cx="3880080" cy="259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3672000" y="1728720"/>
            <a:ext cx="2697120" cy="2741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4"/>
          <a:stretch/>
        </p:blipFill>
        <p:spPr>
          <a:xfrm>
            <a:off x="6264360" y="1368360"/>
            <a:ext cx="2663640" cy="3672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4392720" y="5106960"/>
            <a:ext cx="45352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rmAutofit fontScale="97000"/>
          </a:bodyPr>
          <a:p>
            <a:pPr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ие черви, кольчатые черви, моллюски, некоторые ракообразные, большинство цветковых раст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артеногенез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57200" y="1193760"/>
            <a:ext cx="82296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организма происходит из неоплодотворенной яйцекле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428760" y="2160720"/>
            <a:ext cx="2955960" cy="201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144360" y="4319640"/>
            <a:ext cx="3533760" cy="2311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3"/>
          <a:stretch/>
        </p:blipFill>
        <p:spPr>
          <a:xfrm>
            <a:off x="3332160" y="3527280"/>
            <a:ext cx="2571840" cy="3229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4"/>
          <a:stretch/>
        </p:blipFill>
        <p:spPr>
          <a:xfrm>
            <a:off x="5967360" y="1871640"/>
            <a:ext cx="2889360" cy="2465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6119640" y="4819680"/>
            <a:ext cx="302436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rmAutofit fontScale="98000"/>
          </a:bodyPr>
          <a:p>
            <a:pPr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е насекомые, некоторые ящерицы и земноводные, некоторые породы инде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Сравнение полового 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бесполого размн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00040" y="2000160"/>
          <a:ext cx="8288280" cy="3979800"/>
        </p:xfrm>
        <a:graphic>
          <a:graphicData uri="http://schemas.openxmlformats.org/drawingml/2006/table">
            <a:tbl>
              <a:tblPr/>
              <a:tblGrid>
                <a:gridCol w="2762280"/>
                <a:gridCol w="2763720"/>
                <a:gridCol w="2762280"/>
              </a:tblGrid>
              <a:tr h="3733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полое размн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874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колько особей участвует в размножени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874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бразуются ли гаметы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874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ходен ли дочерний организм с материнским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874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Биологический смыс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Бинарное дел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60360" y="1079640"/>
            <a:ext cx="87152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о родительской клетки делится на 2 части, каждая из которых дает начало новому организ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76280" y="2163600"/>
            <a:ext cx="1611360" cy="244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882800" y="2222640"/>
            <a:ext cx="3157560" cy="210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5327640" y="2303640"/>
            <a:ext cx="3240000" cy="208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3763800" y="4813200"/>
            <a:ext cx="2571840" cy="1666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1271520" y="4894200"/>
            <a:ext cx="1825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ейш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670800" y="4896000"/>
            <a:ext cx="1825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Множественное деление = шизогония</a:t>
            </a: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0720" y="1152360"/>
            <a:ext cx="74325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нская клетка распадается на большое количество дочерних кле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779400" y="2370240"/>
            <a:ext cx="3684600" cy="20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5040360" y="2808360"/>
            <a:ext cx="3887640" cy="2735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816360" y="6191280"/>
            <a:ext cx="540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простейшие (спорови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360360" y="4680000"/>
            <a:ext cx="4103640" cy="1511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порообраз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0600" y="1357200"/>
            <a:ext cx="8291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ножение посредством специализированных клеток - сп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60360" y="2087640"/>
            <a:ext cx="2592360" cy="1592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904000" y="2160720"/>
            <a:ext cx="3095640" cy="211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3024360" y="2016000"/>
            <a:ext cx="2734920" cy="1933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3281400" y="4103640"/>
            <a:ext cx="2549520" cy="251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182520" y="3749760"/>
            <a:ext cx="2768760" cy="2874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6408720" y="5432400"/>
            <a:ext cx="2303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 fontScale="97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ибы, папоротники, мхи, плау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чков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3680" y="1193760"/>
            <a:ext cx="8928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материнской особи происходит образование выроста — поч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которой формируется новая особ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41400" y="2003400"/>
            <a:ext cx="2838240" cy="332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5654520" y="2160720"/>
            <a:ext cx="3057840" cy="2444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2879640" y="4392720"/>
            <a:ext cx="2952720" cy="2376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5975280" y="5745240"/>
            <a:ext cx="3024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 fontScale="96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шечнополостные, дрож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Фрагмента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669960" y="1352520"/>
            <a:ext cx="7875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ение особи на несколько частей, каждая из котор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ется в новую особ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00040" y="2357280"/>
            <a:ext cx="3171960" cy="181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4835520" y="2203560"/>
            <a:ext cx="3805200" cy="2836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627120" y="4392720"/>
            <a:ext cx="304488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887640" y="5832360"/>
            <a:ext cx="4967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 fontScale="96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ие черви, кольчатые черви, иглокожие, водоросль спирог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егетативное размножение</a:t>
            </a: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31640" y="1046160"/>
            <a:ext cx="83520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6000"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ая особь развивается либо из части материнской, либо из особых структур, специально предназначенных для вегетативного размножения (луковица, клубень, корневые отпрыски, отводки и тд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16000" y="2808360"/>
            <a:ext cx="388764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65040" y="4508640"/>
            <a:ext cx="2813040" cy="2116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2311560" y="4508640"/>
            <a:ext cx="3663720" cy="2170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7067520" y="5919840"/>
            <a:ext cx="1716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rmAutofit fontScale="95000"/>
          </a:bodyPr>
          <a:p>
            <a:pPr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4319640" y="2598840"/>
            <a:ext cx="2303280" cy="179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5"/>
          <a:stretch/>
        </p:blipFill>
        <p:spPr>
          <a:xfrm>
            <a:off x="6335640" y="3475080"/>
            <a:ext cx="273528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лиэмбрио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28760" y="1120680"/>
            <a:ext cx="82296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более одного зародыша из одной зиготы у животных или образование нескольких зародышей в одном семени у раст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252960" y="2376360"/>
            <a:ext cx="207468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6767640" y="223200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96840" y="2300400"/>
            <a:ext cx="2927520" cy="1874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tretch/>
        </p:blipFill>
        <p:spPr>
          <a:xfrm>
            <a:off x="144360" y="4392720"/>
            <a:ext cx="2735280" cy="180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3527280" y="6008760"/>
            <a:ext cx="561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rmAutofit fontScale="96000"/>
          </a:bodyPr>
          <a:p>
            <a:pPr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оненосцы,мшанки, некоторые насекомые и раст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5"/>
          <a:stretch/>
        </p:blipFill>
        <p:spPr>
          <a:xfrm>
            <a:off x="5040360" y="4032360"/>
            <a:ext cx="2519280" cy="1655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аздельнополое размножение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41120" y="1262160"/>
            <a:ext cx="878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изуется слиянием гаплоидных гамет 2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576360" y="2066760"/>
            <a:ext cx="2879640" cy="2108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287280" y="4464000"/>
            <a:ext cx="3095640" cy="201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5111640" y="2003400"/>
            <a:ext cx="3168720" cy="3540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680000" y="6119640"/>
            <a:ext cx="410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rmAutofit fontScale="96000"/>
          </a:bodyPr>
          <a:p>
            <a:pPr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инство животных и некоторые раст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ssike</dc:creator>
  <dc:description/>
  <dc:language>en-US</dc:language>
  <cp:lastModifiedBy>Анна Шкляева</cp:lastModifiedBy>
  <dcterms:modified xsi:type="dcterms:W3CDTF">2021-04-08T20:40:12Z</dcterms:modified>
  <cp:revision>2</cp:revision>
  <dc:subject/>
  <dc:title>Презентация PowerPoint</dc:title>
</cp:coreProperties>
</file>