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8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7" descr="nb v rufghjf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D5B3C70D-A434-446A-B3AA-EBDE53A61F19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3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2" descr="bvcb dfbvcdf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324000" y="333360"/>
            <a:ext cx="61196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23cb1"/>
                </a:solidFill>
                <a:latin typeface="Verdana"/>
              </a:rPr>
              <a:t>Найди свой внутренний резер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50920" y="560412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Если ты движешься в правильном направлении, то ты почувствуешь это сердцем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539640" y="260280"/>
            <a:ext cx="848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праж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Рассказ по фотограф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79280" y="1733760"/>
            <a:ext cx="590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Было ли что-то в этой работе для вас удивительно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рудно или легко приходили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Были ли инсай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На какие размышления наводит вас данное упражн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F:\фото сентябрь 2016\il79.png"/>
          <p:cNvPicPr/>
          <p:nvPr/>
        </p:nvPicPr>
        <p:blipFill>
          <a:blip r:embed="rId1"/>
          <a:stretch/>
        </p:blipFill>
        <p:spPr>
          <a:xfrm>
            <a:off x="5076720" y="1571760"/>
            <a:ext cx="44244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3"/>
          <p:cNvSpPr/>
          <p:nvPr/>
        </p:nvSpPr>
        <p:spPr>
          <a:xfrm>
            <a:off x="324000" y="18900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пражн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Мудрое посл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C:\Users\Samsung\Desktop\елена 2016\апрель 2016\фото БПИ\touch-of-love-cool-fascinating-lovely-nice-warm-600x960.jpg"/>
          <p:cNvPicPr/>
          <p:nvPr/>
        </p:nvPicPr>
        <p:blipFill>
          <a:blip r:embed="rId1"/>
          <a:stretch/>
        </p:blipFill>
        <p:spPr>
          <a:xfrm>
            <a:off x="4370400" y="1895400"/>
            <a:ext cx="4535640" cy="32004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250920" y="2027520"/>
            <a:ext cx="417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Оправдались ли ваши ожид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Что вы сейчас чувству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395280" y="33336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пражн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А напоследок я скажу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324000" y="162864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Что бы я хотел(а) унести с собой  в жизнь с этого мастер-клас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акие ресурсы стали актуальными для в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акие креативные идеи родились во время работы с фотографи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С какими чувствами вы завершаете рабо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3143160" y="36432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следний кад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Admin\Desktop\для  сочи 2016\e8e8794a9e01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324000" y="1628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476280" y="1781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2786040" y="981000"/>
            <a:ext cx="40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Verdana"/>
              </a:rPr>
              <a:t>Последний ка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1500120" y="765000"/>
            <a:ext cx="6500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23cb1"/>
                </a:solidFill>
                <a:latin typeface="Verdana"/>
              </a:rPr>
              <a:t>Оправдались ли ваши ожидания от мастер-клас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23cb1"/>
                </a:solidFill>
                <a:latin typeface="Verdana"/>
              </a:rPr>
              <a:t>Что будете использовать в своей практи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23cb1"/>
                </a:solidFill>
                <a:latin typeface="Verdana"/>
              </a:rPr>
              <a:t>Оцените: на сколько был полезен для вас мастер класс (по 10 бальной системе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23cb1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23cb1"/>
                </a:solidFill>
                <a:latin typeface="Verdana"/>
              </a:rPr>
              <a:t>Ваши пожелания и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95280" y="18900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пражн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Давайте, познакомимс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F:\фото сентябрь 2016\SEO-professionals.jpg"/>
          <p:cNvPicPr/>
          <p:nvPr/>
        </p:nvPicPr>
        <p:blipFill>
          <a:blip r:embed="rId1"/>
          <a:stretch/>
        </p:blipFill>
        <p:spPr>
          <a:xfrm>
            <a:off x="2143080" y="1643040"/>
            <a:ext cx="528660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395280" y="18900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пражн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Каф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071800" y="4930200"/>
            <a:ext cx="689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акими чувствами отозвалось у вас это упражн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Было ли что-то важ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F:\фото сентябрь 2016\кафе фото\17318-13896.jpg"/>
          <p:cNvPicPr/>
          <p:nvPr/>
        </p:nvPicPr>
        <p:blipFill>
          <a:blip r:embed="rId1"/>
          <a:stretch/>
        </p:blipFill>
        <p:spPr>
          <a:xfrm>
            <a:off x="1571760" y="1214280"/>
            <a:ext cx="580536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39640" y="260280"/>
            <a:ext cx="848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праж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Найди свой внутренний резер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F:\фото сентябрь 2016\8129221_orig_81_1297407879HYASDSHids.jpg"/>
          <p:cNvPicPr/>
          <p:nvPr/>
        </p:nvPicPr>
        <p:blipFill>
          <a:blip r:embed="rId1"/>
          <a:stretch/>
        </p:blipFill>
        <p:spPr>
          <a:xfrm>
            <a:off x="2771640" y="1844640"/>
            <a:ext cx="45720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Ресурсы ли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Ресурсы – вспомогательные средства, ценности, возможности, запа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Резерв – запас чего-либо на случай надобности, источник, откуда черпаются новые средства, си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268360" y="1052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324000" y="1052640"/>
            <a:ext cx="597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Социальная поддер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Материальные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Безопасность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Оптимальные условия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Стабильность оплаты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Условия для проживания и отды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1042920" y="33336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нешние ресурсы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C:\Users\Samsung\Desktop\фото к семинару ддт\039.jpeg"/>
          <p:cNvPicPr/>
          <p:nvPr/>
        </p:nvPicPr>
        <p:blipFill>
          <a:blip r:embed="rId1"/>
          <a:stretch/>
        </p:blipFill>
        <p:spPr>
          <a:xfrm>
            <a:off x="5796000" y="1197000"/>
            <a:ext cx="3097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1187280" y="476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нутренние ресурсы</a:t>
            </a: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611280" y="1413000"/>
            <a:ext cx="79930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Личнос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Поведен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Физ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Стиль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C:\Users\Samsung\Desktop\psy.jpg"/>
          <p:cNvPicPr/>
          <p:nvPr/>
        </p:nvPicPr>
        <p:blipFill>
          <a:blip r:embed="rId1"/>
          <a:stretch/>
        </p:blipFill>
        <p:spPr>
          <a:xfrm>
            <a:off x="4788000" y="1413000"/>
            <a:ext cx="347976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539640" y="260280"/>
            <a:ext cx="848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праж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Найди свой внутренний резер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582560" y="389700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На какие  мысли навело вас это упражн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акие ресурсы вы могли бы мобилизовать? Что вам в этом помож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F:\фото сентябрь 2016\534959_414526715240412_1270693545_n.jpg"/>
          <p:cNvPicPr/>
          <p:nvPr/>
        </p:nvPicPr>
        <p:blipFill>
          <a:blip r:embed="rId1"/>
          <a:stretch/>
        </p:blipFill>
        <p:spPr>
          <a:xfrm>
            <a:off x="2195640" y="1484280"/>
            <a:ext cx="523404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539640" y="260280"/>
            <a:ext cx="848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праж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Мос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716360" y="1575720"/>
            <a:ext cx="442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могло ли вам это упражнение увидеть свои ресурс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Было ли что-то полезного для вас в этом упражнении? Если, да, то ч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Что вы сейчас чувству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:\фото БПИ\3632480.jpg"/>
          <p:cNvPicPr/>
          <p:nvPr/>
        </p:nvPicPr>
        <p:blipFill>
          <a:blip r:embed="rId1"/>
          <a:stretch/>
        </p:blipFill>
        <p:spPr>
          <a:xfrm>
            <a:off x="324000" y="1628640"/>
            <a:ext cx="42764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</dc:description>
  <dc:language>en-US</dc:language>
  <cp:lastModifiedBy>Admin</cp:lastModifiedBy>
  <dcterms:modified xsi:type="dcterms:W3CDTF">2016-10-02T08:25:44Z</dcterms:modified>
  <cp:revision>120</cp:revision>
  <dc:subject/>
  <dc:title>Hand Carrying Earth</dc:title>
</cp:coreProperties>
</file>