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99A3A8C0-1A21-4789-8609-6F86A5BDE2FF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3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2" descr="bvcb dfbvcd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324000" y="333360"/>
            <a:ext cx="6119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23cb1"/>
                </a:solidFill>
                <a:latin typeface="Verdana"/>
              </a:rPr>
              <a:t>Найди свой внутренний резер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50920" y="56041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Если ты движешься в правильном направлении, то ты почувствуешь это сердцем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539640" y="260280"/>
            <a:ext cx="848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ж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Рассказ по фотограф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79280" y="1733760"/>
            <a:ext cx="590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ыло ли что-то в этой работе для вас удивительн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рудно или легко приходили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ыли ли инсай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На какие размышления наводит вас данное упражн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F:\фото сентябрь 2016\il79.png"/>
          <p:cNvPicPr/>
          <p:nvPr/>
        </p:nvPicPr>
        <p:blipFill>
          <a:blip r:embed="rId1"/>
          <a:stretch/>
        </p:blipFill>
        <p:spPr>
          <a:xfrm>
            <a:off x="5076720" y="1571760"/>
            <a:ext cx="44244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324000" y="1890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ж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Мудрое посл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:\Users\Samsung\Desktop\елена 2016\апрель 2016\фото БПИ\touch-of-love-cool-fascinating-lovely-nice-warm-600x960.jpg"/>
          <p:cNvPicPr/>
          <p:nvPr/>
        </p:nvPicPr>
        <p:blipFill>
          <a:blip r:embed="rId1"/>
          <a:stretch/>
        </p:blipFill>
        <p:spPr>
          <a:xfrm>
            <a:off x="4370400" y="1895400"/>
            <a:ext cx="4535640" cy="32004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250920" y="2027520"/>
            <a:ext cx="41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правдались ли ваши ожид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Что вы сейчас чувству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395280" y="333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ж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А напоследок я скажу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24000" y="162864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Что бы я хотел(а) унести с собой  в жизнь с этого мастер-клас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ие ресурсы стали актуальными для в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ие креативные идеи родились во время работы с фотографи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 какими чувствами вы завершаете рабо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143160" y="36432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следний кад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Admin\Desktop\для  сочи 2016\e8e8794a9e01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324000" y="1628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476280" y="1781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786040" y="981000"/>
            <a:ext cx="40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Verdana"/>
              </a:rPr>
              <a:t>Последний ка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1500120" y="765000"/>
            <a:ext cx="6500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3cb1"/>
                </a:solidFill>
                <a:latin typeface="Verdana"/>
              </a:rPr>
              <a:t>Оправдались ли ваши ожидания от мастер-клас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3cb1"/>
                </a:solidFill>
                <a:latin typeface="Verdana"/>
              </a:rPr>
              <a:t>Что будете использовать в своей практ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3cb1"/>
                </a:solidFill>
                <a:latin typeface="Verdana"/>
              </a:rPr>
              <a:t>Оцените: на сколько был полезен для вас мастер класс (по 10 бальной системе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23cb1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23cb1"/>
                </a:solidFill>
                <a:latin typeface="Verdana"/>
              </a:rPr>
              <a:t>Ваши пожелания 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95280" y="189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ж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Давайте, познакомимс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F:\фото сентябрь 2016\SEO-professionals.jpg"/>
          <p:cNvPicPr/>
          <p:nvPr/>
        </p:nvPicPr>
        <p:blipFill>
          <a:blip r:embed="rId1"/>
          <a:stretch/>
        </p:blipFill>
        <p:spPr>
          <a:xfrm>
            <a:off x="2143080" y="1643040"/>
            <a:ext cx="528660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95280" y="189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ж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Каф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071800" y="4930200"/>
            <a:ext cx="689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ими чувствами отозвалось у вас это упражн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ыло ли что-то важ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F:\фото сентябрь 2016\кафе фото\17318-13896.jpg"/>
          <p:cNvPicPr/>
          <p:nvPr/>
        </p:nvPicPr>
        <p:blipFill>
          <a:blip r:embed="rId1"/>
          <a:stretch/>
        </p:blipFill>
        <p:spPr>
          <a:xfrm>
            <a:off x="1571760" y="1214280"/>
            <a:ext cx="580536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39640" y="260280"/>
            <a:ext cx="848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ж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Найди свой внутренний резер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:\фото сентябрь 2016\8129221_orig_81_1297407879HYASDSHids.jpg"/>
          <p:cNvPicPr/>
          <p:nvPr/>
        </p:nvPicPr>
        <p:blipFill>
          <a:blip r:embed="rId1"/>
          <a:stretch/>
        </p:blipFill>
        <p:spPr>
          <a:xfrm>
            <a:off x="2771640" y="1844640"/>
            <a:ext cx="45720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Ресурсы л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есурсы – вспомогательные средства, ценности, возможности, запа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езерв – запас чего-либо на случай надобности, источник, откуда черпаются новые средства,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268360" y="105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24000" y="1052640"/>
            <a:ext cx="59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оциальная поддер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Материаль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Безопасность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Оптимальные условия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табильность оплаты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Условия для проживания и отды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1042920" y="33336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нешние ресурсы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Users\Samsung\Desktop\фото к семинару ддт\039.jpeg"/>
          <p:cNvPicPr/>
          <p:nvPr/>
        </p:nvPicPr>
        <p:blipFill>
          <a:blip r:embed="rId1"/>
          <a:stretch/>
        </p:blipFill>
        <p:spPr>
          <a:xfrm>
            <a:off x="5796000" y="1197000"/>
            <a:ext cx="3097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1187280" y="476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нутренние ресурсы</a:t>
            </a: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611280" y="1413000"/>
            <a:ext cx="79930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Лично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Поведен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Физ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Стиль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C:\Users\Samsung\Desktop\psy.jpg"/>
          <p:cNvPicPr/>
          <p:nvPr/>
        </p:nvPicPr>
        <p:blipFill>
          <a:blip r:embed="rId1"/>
          <a:stretch/>
        </p:blipFill>
        <p:spPr>
          <a:xfrm>
            <a:off x="4788000" y="1413000"/>
            <a:ext cx="34797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539640" y="260280"/>
            <a:ext cx="848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ж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Найди свой внутренний резер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582560" y="389700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На какие  мысли навело вас это упражн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акие ресурсы вы могли бы мобилизовать? Что вам в этом помож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F:\фото сентябрь 2016\534959_414526715240412_1270693545_n.jpg"/>
          <p:cNvPicPr/>
          <p:nvPr/>
        </p:nvPicPr>
        <p:blipFill>
          <a:blip r:embed="rId1"/>
          <a:stretch/>
        </p:blipFill>
        <p:spPr>
          <a:xfrm>
            <a:off x="2195640" y="1484280"/>
            <a:ext cx="523404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539640" y="260280"/>
            <a:ext cx="848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праж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Мос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716360" y="1575720"/>
            <a:ext cx="442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могло ли вам это упражнение увидеть свои ресурс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ыло ли что-то полезного для вас в этом упражнении? Если, да, то 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Что вы сейчас чувству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:\фото БПИ\3632480.jpg"/>
          <p:cNvPicPr/>
          <p:nvPr/>
        </p:nvPicPr>
        <p:blipFill>
          <a:blip r:embed="rId1"/>
          <a:stretch/>
        </p:blipFill>
        <p:spPr>
          <a:xfrm>
            <a:off x="324000" y="1628640"/>
            <a:ext cx="42764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</dc:description>
  <dc:language>en-US</dc:language>
  <cp:lastModifiedBy>Admin</cp:lastModifiedBy>
  <dcterms:modified xsi:type="dcterms:W3CDTF">2016-10-02T08:25:44Z</dcterms:modified>
  <cp:revision>120</cp:revision>
  <dc:subject/>
  <dc:title>Hand Carrying Earth</dc:title>
</cp:coreProperties>
</file>