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E249-1865-4E3C-9BC3-26AC220B1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813E-65CA-4538-88D1-EF211F4C1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8687-1AFB-4134-BA67-85FAD741F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12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668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63D4-4869-4E65-8C53-9FE6F030F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F381-D018-4C58-871F-539C5850B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225A-CE55-4449-909D-5C6E62063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AE6E-068B-4CF5-8526-D4D1160F5C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50B8-D89F-4297-9A23-008D1146A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7CE4-0184-4F4D-83C2-4A00EC41B0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92480"/>
            <a:ext cx="823608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FC3A-B547-4BC7-BE84-611820BC98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9297-C488-4012-BE4A-20DB9832A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F728-C6B8-4DF5-BB30-49E552A6C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8AA0-DE8B-4A74-BA73-135A82683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A75B-C03D-4DBB-8F9E-4290CF8AB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57FC-5CBC-476A-91FF-B0D4EAF63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A451-A316-4DB4-8E12-91FFED636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12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668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33CC-04FF-43F7-A270-ACC3072EB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F46D-ED5A-4F3E-8081-002713078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5BE0-2C80-409E-BB58-EE7D4023B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7A9B-EFAA-4F82-8008-28F836D88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92480"/>
            <a:ext cx="823608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09AF-12F2-4E63-937C-524F9F9A0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189B-EEF4-4276-B0B2-3BB2C9DA2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B2A7-C3F3-45EB-BDD0-31AFEAC8A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CB74-565E-499F-87C8-3703152C4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79680" y="-568800"/>
            <a:ext cx="3758760" cy="7495920"/>
            <a:chOff x="-679680" y="-568800"/>
            <a:chExt cx="3758760" cy="7495920"/>
          </a:xfrm>
        </p:grpSpPr>
        <p:sp>
          <p:nvSpPr>
            <p:cNvPr id="1" name=""/>
            <p:cNvSpPr/>
            <p:nvPr/>
          </p:nvSpPr>
          <p:spPr>
            <a:xfrm>
              <a:off x="-87480" y="5059800"/>
              <a:ext cx="763920" cy="13521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231120" y="3417120"/>
              <a:ext cx="1614960" cy="1254240"/>
              <a:chOff x="-231120" y="3417120"/>
              <a:chExt cx="1614960" cy="125424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136440" y="3447720"/>
                <a:ext cx="390240" cy="471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156600" y="4088160"/>
                <a:ext cx="676800" cy="393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811800" y="3821040"/>
                <a:ext cx="708840" cy="1936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400" y="2470680"/>
              <a:ext cx="1152360" cy="12960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679680" y="1625760"/>
              <a:ext cx="3758760" cy="4013280"/>
              <a:chOff x="-679680" y="1625760"/>
              <a:chExt cx="3758760" cy="40132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-199440" y="1848600"/>
                <a:ext cx="1199520" cy="124920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549000" y="2028960"/>
                <a:ext cx="1001880" cy="1274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-233640" y="2291400"/>
                <a:ext cx="346680" cy="6386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419400" y="3220560"/>
                <a:ext cx="318960" cy="3783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0760" y="3293640"/>
                <a:ext cx="73800" cy="21924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-196200" y="1625760"/>
                <a:ext cx="3275280" cy="4013280"/>
                <a:chOff x="-196200" y="1625760"/>
                <a:chExt cx="3275280" cy="401328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397800" y="1622520"/>
                  <a:ext cx="1216080" cy="2075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89320" y="3972240"/>
                  <a:ext cx="266760" cy="8463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652840" y="5322960"/>
                  <a:ext cx="494640" cy="133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129240" y="5941080"/>
              <a:ext cx="1206360" cy="986040"/>
              <a:chOff x="129240" y="5941080"/>
              <a:chExt cx="1206360" cy="98604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5160" y="5944320"/>
                <a:ext cx="301680" cy="377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569880" y="6477840"/>
                <a:ext cx="524160" cy="313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-2520" y="6311520"/>
                <a:ext cx="548640" cy="156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16280" y="1319040"/>
              <a:ext cx="996480" cy="915840"/>
              <a:chOff x="116280" y="1319040"/>
              <a:chExt cx="996480" cy="9158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0120" y="1289880"/>
                <a:ext cx="267120" cy="368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582480" y="1831680"/>
                <a:ext cx="466920" cy="3049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24120" y="1895400"/>
                <a:ext cx="491040" cy="150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477720"/>
              <a:ext cx="554040" cy="612000"/>
              <a:chOff x="1252440" y="-477720"/>
              <a:chExt cx="554040" cy="6120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477720"/>
                <a:ext cx="169920" cy="226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840" y="-366840"/>
                <a:ext cx="296640" cy="183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42840"/>
                <a:ext cx="309600" cy="9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1920" y="-320040"/>
              <a:ext cx="1133640" cy="127332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8600" y="5297400"/>
              <a:ext cx="208080" cy="2728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61440" y="5617440"/>
              <a:ext cx="100080" cy="62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480" y="6498720"/>
              <a:ext cx="184320" cy="3470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57520"/>
              <a:ext cx="204480" cy="21060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26920"/>
              <a:ext cx="6804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017680"/>
              <a:ext cx="803160" cy="124596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39600" y="212040"/>
              <a:ext cx="554040" cy="4050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20400" y="798840"/>
              <a:ext cx="264960" cy="1846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63280" y="2520"/>
              <a:ext cx="231840" cy="2620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440" y="742680"/>
              <a:ext cx="939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83800" y="306720"/>
              <a:ext cx="109440" cy="594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027080"/>
              <a:ext cx="579240" cy="1094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5480" y="-340560"/>
              <a:ext cx="1306440" cy="115416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B5766-BB6F-4712-9871-7ECBE793B2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423720" y="-3134520"/>
            <a:ext cx="11287440" cy="9986040"/>
            <a:chOff x="-423720" y="-3134520"/>
            <a:chExt cx="11287440" cy="9986040"/>
          </a:xfrm>
        </p:grpSpPr>
        <p:grpSp>
          <p:nvGrpSpPr>
            <p:cNvPr id="85" name=""/>
            <p:cNvGrpSpPr/>
            <p:nvPr/>
          </p:nvGrpSpPr>
          <p:grpSpPr>
            <a:xfrm>
              <a:off x="2082960" y="-3134520"/>
              <a:ext cx="8780760" cy="9606600"/>
              <a:chOff x="2082960" y="-3134520"/>
              <a:chExt cx="8780760" cy="960660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4630680" y="-2244240"/>
                <a:ext cx="5815800" cy="3465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6948000" y="136800"/>
                <a:ext cx="2478600" cy="1230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5314320" y="1063440"/>
                <a:ext cx="1195560" cy="5709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6488280" y="-1760400"/>
                <a:ext cx="1055160" cy="8013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6217920" y="1145160"/>
                <a:ext cx="433800" cy="4762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6169680" y="-920520"/>
                <a:ext cx="509760" cy="19800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862000" y="1563480"/>
                <a:ext cx="1429200" cy="48085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-34920" y="3114360"/>
              <a:ext cx="506520" cy="1022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2000160"/>
              <a:ext cx="2001960" cy="242424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61920" y="4145040"/>
              <a:ext cx="1271520" cy="7207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369800" y="4540320"/>
              <a:ext cx="558360" cy="72864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02760" y="4731840"/>
              <a:ext cx="129960" cy="4273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8160" y="5197320"/>
              <a:ext cx="1760760" cy="165420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251520" y="80280"/>
              <a:ext cx="2540880" cy="2350080"/>
              <a:chOff x="3251520" y="80280"/>
              <a:chExt cx="2540880" cy="23500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421880" y="56880"/>
                <a:ext cx="487080" cy="1067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771440" y="1019160"/>
                <a:ext cx="837360" cy="88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3249720" y="1725120"/>
                <a:ext cx="875880" cy="441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492880" y="193320"/>
              <a:ext cx="1382400" cy="1320120"/>
              <a:chOff x="5492880" y="193320"/>
              <a:chExt cx="1382400" cy="132012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660640" y="1007280"/>
                <a:ext cx="277200" cy="54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586480" y="490320"/>
                <a:ext cx="483120" cy="4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423840" y="356040"/>
                <a:ext cx="504000" cy="226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805680" y="4469760"/>
              <a:ext cx="1995840" cy="2201760"/>
              <a:chOff x="805680" y="4469760"/>
              <a:chExt cx="1995840" cy="220176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2140560" y="5109120"/>
                <a:ext cx="420840" cy="924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242000" y="5762880"/>
                <a:ext cx="730080" cy="76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840600" y="4665240"/>
                <a:ext cx="765000" cy="377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423720" y="60480"/>
              <a:ext cx="2747520" cy="1917000"/>
              <a:chOff x="-423720" y="60480"/>
              <a:chExt cx="2747520" cy="1917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21000" y="1118520"/>
                <a:ext cx="592200" cy="857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609840" y="309960"/>
                <a:ext cx="1021680" cy="709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600120" y="1171440"/>
                <a:ext cx="1066680" cy="355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6480" y="3266640"/>
              <a:ext cx="1738440" cy="2259720"/>
              <a:chOff x="7026480" y="3266640"/>
              <a:chExt cx="1738440" cy="225972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101720" y="4741920"/>
                <a:ext cx="528840" cy="73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793280" y="4317120"/>
                <a:ext cx="914040" cy="60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322400" y="3370320"/>
                <a:ext cx="958680" cy="304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1360" y="3240"/>
              <a:ext cx="1369800" cy="13986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395160" y="167400"/>
              <a:ext cx="1078200" cy="9334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34880" y="1366920"/>
              <a:ext cx="519120" cy="4338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498480" y="1290240"/>
              <a:ext cx="187200" cy="3621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98760" y="0"/>
              <a:ext cx="189000" cy="18432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17840" y="1971000"/>
              <a:ext cx="620640" cy="364320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61920" y="2933640"/>
              <a:ext cx="49320" cy="20160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85C3A3-2249-4543-A258-A68DFDE3FC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596880"/>
            <a:ext cx="76770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МБДОУ центр развития ребёнка детский сад  № 17 «Журавушка»</a:t>
            </a:r>
            <a:br>
              <a:rPr sz="2200"/>
            </a:br>
            <a:br>
              <a:rPr sz="2200"/>
            </a:br>
            <a:br>
              <a:rPr sz="15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«Алгоритм работы педагога-психолога в период адаптации детей к ДОУ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5157720"/>
            <a:ext cx="8240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Педагог-психолог Бурханова Елена Федо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18520" y="4795920"/>
            <a:ext cx="584280" cy="662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8360" y="6094440"/>
            <a:ext cx="503280" cy="519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4726080"/>
            <a:ext cx="582480" cy="660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341440" y="4940280"/>
            <a:ext cx="44604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2360" y="5948280"/>
            <a:ext cx="444600" cy="55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065480" y="6093000"/>
            <a:ext cx="453960" cy="48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42080" y="5038560"/>
            <a:ext cx="362160" cy="33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499080" y="6148440"/>
            <a:ext cx="393840" cy="482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1835280" y="6165720"/>
            <a:ext cx="355320" cy="41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924440" y="5018040"/>
            <a:ext cx="4302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42920" y="260280"/>
            <a:ext cx="7643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Рекомендации по проведению заня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268280"/>
            <a:ext cx="698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сихолог – непосредственный участник зан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 настаивать на активном участии всех детей в занят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 следует добиваться точного действия или отве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процессе практической работы педагог сам сокращает количество игр и вносит изменения в ход занятия, в соответствии с возрастом, состоянием, потребностями и индивидуальным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ями детей.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260280"/>
            <a:ext cx="7643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Медико-педагогическом совещ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1268280"/>
            <a:ext cx="698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нализ степени адапт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обсуждение результатов проделанной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 анализ итог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 коррекция планов организации адапт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планирование дальнейшей рабо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42800" y="333360"/>
            <a:ext cx="82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Сопровождение адаптационного процесс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205000"/>
            <a:ext cx="735480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бсуждение вопроса адаптации с администрацией ДО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воспитателями адаптационных групп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родителями в период адаптации детей к детскому сад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детьми в период адаптации к ДО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Работа  с администрацией ДО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600200"/>
            <a:ext cx="86407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бсудить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)Какое количество новых детей будет приходить в групп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)В какие дни недели будет осуществляться приём в детский сад? (лучше всего это делать со вторника по четве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одготовить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огласие на психологическое сопровождение и проведение психологической диагност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нкеты (Родительская анкета, анкета "Готов ли Ваш ребенок к поступлению в дошкольное образовательное учреждение"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3049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66ff"/>
                </a:solidFill>
                <a:latin typeface="Times New Roman"/>
                <a:ea typeface="SimSun"/>
              </a:rPr>
              <a:t>Работа с воспитателями адаптационных групп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600200"/>
            <a:ext cx="764388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помочь педагогам перестроиться на работу по адаптации  детей раннего возраста к дошкольному учрежден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дать общие рекомендации по ведению докумен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организовать психологическую поддержку в период адап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подготовить картотеку рекомендуемых игр с детьми в адаптационный перио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оказывать помощь педагогам в режимных момен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42800" y="450720"/>
            <a:ext cx="82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Работа с родителями .Формы рабо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00120" y="1079640"/>
            <a:ext cx="78595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 стендовая  информация, памятки, информационные листовки, папка-передвижка «Готовим малыша в детский сад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 информационные листы-памят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психологические вст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выступления на родительских собран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анке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85920" y="35712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Психологические встреч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000240"/>
            <a:ext cx="735804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48200" indent="6945120" algn="ctr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Первичная диагност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buClr>
                <a:srgbClr val="0000ff"/>
              </a:buClr>
              <a:buFont typeface="Verdana"/>
              <a:buChar char="-"/>
              <a:tabLst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характеристика родителями состояния своих детей в семь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оценка воспитателями состояния детей в период адаптации к условиям детского сад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buClr>
                <a:srgbClr val="0000ff"/>
              </a:buClr>
              <a:buFont typeface="Verdana"/>
              <a:buChar char="-"/>
              <a:tabLst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оценка психологом психоэмоционального состояния детей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 algn="ctr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Контрольная диагностика</a:t>
            </a: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по окончании периода адаптации определяется уровень адаптированности детей к условиям детского сада 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анкетирование родителей по окончании адаптационного  перио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000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720720" y="1800360"/>
            <a:ext cx="82152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отреагировать актуальные эмоции, чув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снять напряж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поделиться своим опытом (если такой был с первым ребёнком) и узнать об опыты других родителей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189000"/>
            <a:ext cx="8280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Работа с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SimSun"/>
              </a:rPr>
              <a:t> детьми в период адаптации к ДО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наблюдение за адаптационным процесс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организация игровых ситуаций в течение недел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индивидуальная работа с детьм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контроль за НПР , заполнение карт нервно-психического разви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фронтальные занятия с деть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440" y="-490680"/>
            <a:ext cx="823932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Методы контроля за НП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Метод опроса матери (при приеме ребенка в детское учреждение и в дальнейшем по ходу его развит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Метод наблюдения в группе за поведением детей (основной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Метод диагностики психического развития ребен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0000" y="23760"/>
            <a:ext cx="78375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сновные группы развития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720720"/>
            <a:ext cx="882036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 уровню развития дети распределены на три основные 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(четвертая и пятая  группа встречаются редко и составляют примерно 1,25 % детей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 е р в о 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рупп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ислятся дети с нормальным развитием, т.е. когда все показатели соответствуют календарному возрасту, а также с опережением в развит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т о р у ю групп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ходят дети с первоначальной задержкой в развитии на один эпикризный ср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ретью групп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составляют дети с более глубокой задержкой — на два эпикризных сро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 ч е т в е р т у 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—  дети с задержкой на три эпикризных сро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ят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ставание в развитии на 4 и более эпикризных сро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ой группе опере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один эпикризисный срок — это ускоренное развитие; на два эпикризисных срока — это высокое развит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торой, третьей и четвертой группах выявлены три степени задержки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 несформированных навыков — линий задерж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 I степень — 1—2, II — 3—4, III— 5—7 ли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9:01:02Z</dcterms:created>
  <dc:creator>S</dc:creator>
  <dc:description/>
  <dc:language>en-US</dc:language>
  <cp:lastModifiedBy>1</cp:lastModifiedBy>
  <dcterms:modified xsi:type="dcterms:W3CDTF">2018-02-25T18:36:01Z</dcterms:modified>
  <cp:revision>43</cp:revision>
  <dc:subject/>
  <dc:title>Муниципальное дошкольное образовательное учреждение детский сад общеразвивающего вида с приоритетным осуществлением деятельности по направлению познавательно-речевого развития детей № 323 «Сказка» «Работа педагога-психолога по адаптации детей раннего возраста в условиях дошкольного учреждения»</dc:title>
</cp:coreProperties>
</file>