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24BC3-BBD9-462A-8BB9-6CD6D5D55E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-492480"/>
            <a:ext cx="82360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3640"/>
            <a:ext cx="822168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4D1E6-A0FF-4731-81C2-4F7FBE307E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-492480"/>
            <a:ext cx="82360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401184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9920" y="3923640"/>
            <a:ext cx="401184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A119A-77F1-47D6-9F16-DBB7F03132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-492480"/>
            <a:ext cx="82360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3640"/>
            <a:ext cx="264708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7120" y="3923640"/>
            <a:ext cx="264708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16680" y="3923640"/>
            <a:ext cx="264708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1FE5F-2E85-48F6-A0C3-AB6469EBDF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21FA4-B17F-4648-A0CA-F9F77842056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-492480"/>
            <a:ext cx="82360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93B38-6693-4E52-8007-9B25224A664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-492480"/>
            <a:ext cx="82360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BB32C-FA02-45C6-BBD5-3014812CAA4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-492480"/>
            <a:ext cx="82360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86441-0FC7-4685-BB64-8E8BF70DC94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-492480"/>
            <a:ext cx="82360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CB053-993B-45D7-AC2E-A2FF6A6A6A4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-492480"/>
            <a:ext cx="8236080" cy="88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68655-FDFC-4FC8-B290-DF3F042486F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-492480"/>
            <a:ext cx="82360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401184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6D460-5931-4F21-8B9F-7AB8C5A899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-492480"/>
            <a:ext cx="82360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900F7-7F3A-4841-BA72-6C1DAB82FE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-492480"/>
            <a:ext cx="82360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69920" y="3923640"/>
            <a:ext cx="401184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8FCEB-3594-4E91-AE90-2D72977F30A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-492480"/>
            <a:ext cx="82360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822168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C41CE-9D45-443B-956E-0AF1DE52488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-492480"/>
            <a:ext cx="82360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3640"/>
            <a:ext cx="822168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4CFAB-AE30-4BCB-AE3B-999B8DF70FA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-492480"/>
            <a:ext cx="82360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401184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69920" y="3923640"/>
            <a:ext cx="401184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AF7FF-1810-4839-9BAD-BE69AFA742D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-492480"/>
            <a:ext cx="82360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3640"/>
            <a:ext cx="264708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7120" y="3923640"/>
            <a:ext cx="264708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16680" y="3923640"/>
            <a:ext cx="264708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83B41-83F1-4CE0-8D1C-33647E3183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-492480"/>
            <a:ext cx="82360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9C4AD-2A9D-4050-A089-963A44D1B5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-492480"/>
            <a:ext cx="82360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E3BB5-5FC4-4C60-A2AF-07921BCE43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-492480"/>
            <a:ext cx="82360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00CD6-4BF1-4B0D-9280-5129AC82E3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-492480"/>
            <a:ext cx="8236080" cy="88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3BC9D-E27B-45D6-936A-BA7E0FEA5A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-492480"/>
            <a:ext cx="82360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401184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5DA4E-25A9-4590-9373-C570FDBD84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-492480"/>
            <a:ext cx="82360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9920" y="3923640"/>
            <a:ext cx="401184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DF8E0-A3FD-465E-8D8C-8A102F2981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-492480"/>
            <a:ext cx="82360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8221680" cy="21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5F9C4-DB1E-44EB-ABB7-8381403C82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679680" y="-568800"/>
            <a:ext cx="3758760" cy="7495920"/>
            <a:chOff x="-679680" y="-568800"/>
            <a:chExt cx="3758760" cy="7495920"/>
          </a:xfrm>
        </p:grpSpPr>
        <p:sp>
          <p:nvSpPr>
            <p:cNvPr id="1" name=""/>
            <p:cNvSpPr/>
            <p:nvPr/>
          </p:nvSpPr>
          <p:spPr>
            <a:xfrm>
              <a:off x="-87480" y="5059800"/>
              <a:ext cx="763920" cy="13521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-231120" y="3417120"/>
              <a:ext cx="1614960" cy="1254240"/>
              <a:chOff x="-231120" y="3417120"/>
              <a:chExt cx="1614960" cy="1254240"/>
            </a:xfrm>
          </p:grpSpPr>
          <p:sp>
            <p:nvSpPr>
              <p:cNvPr id="3" name=""/>
              <p:cNvSpPr/>
              <p:nvPr/>
            </p:nvSpPr>
            <p:spPr>
              <a:xfrm flipH="1" rot="14940000">
                <a:off x="-136440" y="3447720"/>
                <a:ext cx="390240" cy="4716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40000">
                <a:off x="156600" y="4088160"/>
                <a:ext cx="676800" cy="3934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40000">
                <a:off x="811800" y="3821040"/>
                <a:ext cx="708840" cy="1936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68400" y="2470680"/>
              <a:ext cx="1152360" cy="129600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679680" y="1625760"/>
              <a:ext cx="3758760" cy="4013280"/>
              <a:chOff x="-679680" y="1625760"/>
              <a:chExt cx="3758760" cy="4013280"/>
            </a:xfrm>
          </p:grpSpPr>
          <p:sp>
            <p:nvSpPr>
              <p:cNvPr id="8" name=""/>
              <p:cNvSpPr/>
              <p:nvPr/>
            </p:nvSpPr>
            <p:spPr>
              <a:xfrm flipH="1" rot="780000">
                <a:off x="-199440" y="1848600"/>
                <a:ext cx="1199520" cy="124920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0000">
                <a:off x="-549000" y="2028960"/>
                <a:ext cx="1001880" cy="127440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0000">
                <a:off x="-233640" y="2291400"/>
                <a:ext cx="346680" cy="63864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0000">
                <a:off x="419400" y="3220560"/>
                <a:ext cx="318960" cy="3783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0000">
                <a:off x="320760" y="3293640"/>
                <a:ext cx="73800" cy="21924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-196200" y="1625760"/>
                <a:ext cx="3275280" cy="4013280"/>
                <a:chOff x="-196200" y="1625760"/>
                <a:chExt cx="3275280" cy="401328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40000">
                  <a:off x="397800" y="1622520"/>
                  <a:ext cx="1216080" cy="207576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40000">
                  <a:off x="2389320" y="3972240"/>
                  <a:ext cx="266760" cy="8463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40000">
                  <a:off x="2652840" y="5322960"/>
                  <a:ext cx="494640" cy="1339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129240" y="5941080"/>
              <a:ext cx="1206360" cy="986040"/>
              <a:chOff x="129240" y="5941080"/>
              <a:chExt cx="1206360" cy="986040"/>
            </a:xfrm>
          </p:grpSpPr>
          <p:sp>
            <p:nvSpPr>
              <p:cNvPr id="18" name=""/>
              <p:cNvSpPr/>
              <p:nvPr/>
            </p:nvSpPr>
            <p:spPr>
              <a:xfrm rot="6240000">
                <a:off x="965160" y="5944320"/>
                <a:ext cx="301680" cy="3772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0000">
                <a:off x="569880" y="6477840"/>
                <a:ext cx="524160" cy="3135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0000">
                <a:off x="-2520" y="6311520"/>
                <a:ext cx="548640" cy="156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116280" y="1319040"/>
              <a:ext cx="996480" cy="915840"/>
              <a:chOff x="116280" y="1319040"/>
              <a:chExt cx="996480" cy="915840"/>
            </a:xfrm>
          </p:grpSpPr>
          <p:sp>
            <p:nvSpPr>
              <p:cNvPr id="22" name=""/>
              <p:cNvSpPr/>
              <p:nvPr/>
            </p:nvSpPr>
            <p:spPr>
              <a:xfrm rot="4980000">
                <a:off x="780120" y="1289880"/>
                <a:ext cx="267120" cy="3682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4980000">
                <a:off x="582480" y="1831680"/>
                <a:ext cx="466920" cy="3049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4980000">
                <a:off x="-24120" y="1895400"/>
                <a:ext cx="491040" cy="1508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52440" y="-477720"/>
              <a:ext cx="554040" cy="612000"/>
              <a:chOff x="1252440" y="-477720"/>
              <a:chExt cx="554040" cy="612000"/>
            </a:xfrm>
          </p:grpSpPr>
          <p:sp>
            <p:nvSpPr>
              <p:cNvPr id="26" name=""/>
              <p:cNvSpPr/>
              <p:nvPr/>
            </p:nvSpPr>
            <p:spPr>
              <a:xfrm>
                <a:off x="1252440" y="-477720"/>
                <a:ext cx="169920" cy="226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09840" y="-366840"/>
                <a:ext cx="296640" cy="183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47920" y="42840"/>
                <a:ext cx="309600" cy="914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61920" y="-320040"/>
              <a:ext cx="1133640" cy="127332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40000">
              <a:off x="318600" y="5297400"/>
              <a:ext cx="208080" cy="27288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40000">
              <a:off x="361440" y="5617440"/>
              <a:ext cx="100080" cy="626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-60480" y="6498720"/>
              <a:ext cx="184320" cy="34704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-79200" y="6257520"/>
              <a:ext cx="204480" cy="21060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-79200" y="6226920"/>
              <a:ext cx="6804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-79200" y="5017680"/>
              <a:ext cx="803160" cy="124596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60000">
              <a:off x="-39600" y="212040"/>
              <a:ext cx="554040" cy="4050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60000">
              <a:off x="320400" y="798840"/>
              <a:ext cx="264960" cy="18468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60000">
              <a:off x="863280" y="2520"/>
              <a:ext cx="231840" cy="26208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60000">
              <a:off x="307440" y="742680"/>
              <a:ext cx="9396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60000">
              <a:off x="883800" y="306720"/>
              <a:ext cx="109440" cy="5940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-79200" y="1027080"/>
              <a:ext cx="579240" cy="1094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60000">
              <a:off x="15480" y="-340560"/>
              <a:ext cx="1306440" cy="115416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-492480"/>
            <a:ext cx="82360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168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25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5C8987-3815-431E-855A-803E12625301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423720" y="-3134520"/>
            <a:ext cx="11287440" cy="9986040"/>
            <a:chOff x="-423720" y="-3134520"/>
            <a:chExt cx="11287440" cy="9986040"/>
          </a:xfrm>
        </p:grpSpPr>
        <p:grpSp>
          <p:nvGrpSpPr>
            <p:cNvPr id="85" name=""/>
            <p:cNvGrpSpPr/>
            <p:nvPr/>
          </p:nvGrpSpPr>
          <p:grpSpPr>
            <a:xfrm>
              <a:off x="2082960" y="-3134520"/>
              <a:ext cx="8780760" cy="9606600"/>
              <a:chOff x="2082960" y="-3134520"/>
              <a:chExt cx="8780760" cy="9606600"/>
            </a:xfrm>
          </p:grpSpPr>
          <p:sp>
            <p:nvSpPr>
              <p:cNvPr id="86" name=""/>
              <p:cNvSpPr/>
              <p:nvPr/>
            </p:nvSpPr>
            <p:spPr>
              <a:xfrm flipV="1" rot="12000000">
                <a:off x="4630680" y="-2244240"/>
                <a:ext cx="5815800" cy="346500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2000000">
                <a:off x="6948000" y="136800"/>
                <a:ext cx="2478600" cy="1230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2000000">
                <a:off x="5314320" y="1063440"/>
                <a:ext cx="1195560" cy="57096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2000000">
                <a:off x="6488280" y="-1760400"/>
                <a:ext cx="1055160" cy="80136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2000000">
                <a:off x="6217920" y="1145160"/>
                <a:ext cx="433800" cy="47628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2000000">
                <a:off x="6169680" y="-920520"/>
                <a:ext cx="509760" cy="19800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2000000">
                <a:off x="2862000" y="1563480"/>
                <a:ext cx="1429200" cy="48085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60000">
              <a:off x="-34920" y="3114360"/>
              <a:ext cx="506520" cy="102240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4840" y="2000160"/>
              <a:ext cx="2001960" cy="242424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-61920" y="4145040"/>
              <a:ext cx="1271520" cy="72072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60000">
              <a:off x="1369800" y="4540320"/>
              <a:ext cx="558360" cy="72864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60000">
              <a:off x="1202760" y="4731840"/>
              <a:ext cx="129960" cy="42732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38160" y="5197320"/>
              <a:ext cx="1760760" cy="165420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3251520" y="80280"/>
              <a:ext cx="2540880" cy="2350080"/>
              <a:chOff x="3251520" y="80280"/>
              <a:chExt cx="2540880" cy="2350080"/>
            </a:xfrm>
          </p:grpSpPr>
          <p:sp>
            <p:nvSpPr>
              <p:cNvPr id="100" name=""/>
              <p:cNvSpPr/>
              <p:nvPr/>
            </p:nvSpPr>
            <p:spPr>
              <a:xfrm rot="3240000">
                <a:off x="4421880" y="56880"/>
                <a:ext cx="487080" cy="10677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40000">
                <a:off x="4771440" y="1019160"/>
                <a:ext cx="837360" cy="8805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40000">
                <a:off x="3249720" y="1725120"/>
                <a:ext cx="875880" cy="4417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492880" y="193320"/>
              <a:ext cx="1382400" cy="1320120"/>
              <a:chOff x="5492880" y="193320"/>
              <a:chExt cx="1382400" cy="1320120"/>
            </a:xfrm>
          </p:grpSpPr>
          <p:sp>
            <p:nvSpPr>
              <p:cNvPr id="104" name=""/>
              <p:cNvSpPr/>
              <p:nvPr/>
            </p:nvSpPr>
            <p:spPr>
              <a:xfrm rot="14880000">
                <a:off x="5660640" y="1007280"/>
                <a:ext cx="277200" cy="549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880000">
                <a:off x="5586480" y="490320"/>
                <a:ext cx="483120" cy="4557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880000">
                <a:off x="6423840" y="356040"/>
                <a:ext cx="504000" cy="2264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805680" y="4469760"/>
              <a:ext cx="1995840" cy="2201760"/>
              <a:chOff x="805680" y="4469760"/>
              <a:chExt cx="1995840" cy="2201760"/>
            </a:xfrm>
          </p:grpSpPr>
          <p:sp>
            <p:nvSpPr>
              <p:cNvPr id="108" name=""/>
              <p:cNvSpPr/>
              <p:nvPr/>
            </p:nvSpPr>
            <p:spPr>
              <a:xfrm rot="8520000">
                <a:off x="2140560" y="5109120"/>
                <a:ext cx="420840" cy="9248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0000">
                <a:off x="1242000" y="5762880"/>
                <a:ext cx="730080" cy="764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0000">
                <a:off x="840600" y="4665240"/>
                <a:ext cx="765000" cy="377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-423720" y="60480"/>
              <a:ext cx="2747520" cy="1917000"/>
              <a:chOff x="-423720" y="60480"/>
              <a:chExt cx="2747520" cy="1917000"/>
            </a:xfrm>
          </p:grpSpPr>
          <p:sp>
            <p:nvSpPr>
              <p:cNvPr id="112" name=""/>
              <p:cNvSpPr/>
              <p:nvPr/>
            </p:nvSpPr>
            <p:spPr>
              <a:xfrm flipH="1" rot="4140000">
                <a:off x="1521000" y="1118520"/>
                <a:ext cx="592200" cy="857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40000">
                <a:off x="609840" y="309960"/>
                <a:ext cx="1021680" cy="7092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40000">
                <a:off x="-600120" y="1171440"/>
                <a:ext cx="1066680" cy="3553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026480" y="3266640"/>
              <a:ext cx="1738440" cy="2259720"/>
              <a:chOff x="7026480" y="3266640"/>
              <a:chExt cx="1738440" cy="2259720"/>
            </a:xfrm>
          </p:grpSpPr>
          <p:sp>
            <p:nvSpPr>
              <p:cNvPr id="116" name=""/>
              <p:cNvSpPr/>
              <p:nvPr/>
            </p:nvSpPr>
            <p:spPr>
              <a:xfrm flipH="1" rot="10020000">
                <a:off x="7101720" y="4741920"/>
                <a:ext cx="528840" cy="7340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20000">
                <a:off x="7793280" y="4317120"/>
                <a:ext cx="914040" cy="6091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20000">
                <a:off x="7322400" y="3370320"/>
                <a:ext cx="958680" cy="304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881360" y="3240"/>
              <a:ext cx="1369800" cy="139860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40000">
              <a:off x="3395160" y="167400"/>
              <a:ext cx="1078200" cy="93348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40000">
              <a:off x="3134880" y="1366920"/>
              <a:ext cx="519120" cy="4338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40000">
              <a:off x="3498480" y="1290240"/>
              <a:ext cx="187200" cy="36216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498760" y="0"/>
              <a:ext cx="189000" cy="18432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40000">
              <a:off x="3417840" y="1971000"/>
              <a:ext cx="620640" cy="364320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-61920" y="2933640"/>
              <a:ext cx="49320" cy="20160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-492480"/>
            <a:ext cx="823608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168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25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74171CA-B2F6-4E19-8EC7-DDA1C741C81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971640" y="596880"/>
            <a:ext cx="7677000" cy="49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990099"/>
                </a:solidFill>
                <a:latin typeface="Times New Roman"/>
              </a:rPr>
              <a:t>МБДОУ центр развития ребёнка детский сад  № 17 «Журавушка»</a:t>
            </a:r>
            <a:br>
              <a:rPr sz="2200"/>
            </a:br>
            <a:br>
              <a:rPr sz="2200"/>
            </a:br>
            <a:br>
              <a:rPr sz="1500"/>
            </a:b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«Алгоритм работы педагога-психолога в период адаптации детей к ДОУ»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395280" y="5157720"/>
            <a:ext cx="82407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9900cc"/>
                </a:solidFill>
                <a:latin typeface="Times New Roman"/>
              </a:rPr>
              <a:t>Педагог-психолог Бурханова Елена Федоров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8318520" y="4795920"/>
            <a:ext cx="584280" cy="6620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8388360" y="6094440"/>
            <a:ext cx="503280" cy="5191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84360" y="4726080"/>
            <a:ext cx="582480" cy="6602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2341440" y="4940280"/>
            <a:ext cx="446040" cy="5047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252360" y="5948280"/>
            <a:ext cx="444600" cy="5587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6"/>
          <a:stretch/>
        </p:blipFill>
        <p:spPr>
          <a:xfrm>
            <a:off x="4065480" y="6093000"/>
            <a:ext cx="453960" cy="4824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7"/>
          <a:stretch/>
        </p:blipFill>
        <p:spPr>
          <a:xfrm>
            <a:off x="6742080" y="5038560"/>
            <a:ext cx="362160" cy="3304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8"/>
          <a:stretch/>
        </p:blipFill>
        <p:spPr>
          <a:xfrm>
            <a:off x="6499080" y="6148440"/>
            <a:ext cx="393840" cy="4824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9"/>
          <a:stretch/>
        </p:blipFill>
        <p:spPr>
          <a:xfrm>
            <a:off x="1835280" y="6165720"/>
            <a:ext cx="355320" cy="4194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10"/>
          <a:stretch/>
        </p:blipFill>
        <p:spPr>
          <a:xfrm>
            <a:off x="4924440" y="5018040"/>
            <a:ext cx="430200" cy="5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042920" y="260280"/>
            <a:ext cx="7643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Times New Roman"/>
              </a:rPr>
              <a:t>Рекомендации по проведению занят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755640" y="1268280"/>
            <a:ext cx="6985080" cy="46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Психолог – непосредственный участник занят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4800" indent="-3348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Не настаивать на активном участии всех детей в заняти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4800" indent="-3348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Не следует добиваться точного действия или ответ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4800" indent="-3348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 процессе практической работы педагог сам сокращает количество игр и вносит изменения в ход занятия, в соответствии с возрастом, состоянием, потребностями и индивидуальными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особенностями детей.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4800" indent="-334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4800" indent="-334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042920" y="260280"/>
            <a:ext cx="7643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Times New Roman"/>
              </a:rPr>
              <a:t>Медико-педагогическом совещание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755640" y="1268280"/>
            <a:ext cx="6985080" cy="46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516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-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анализ степени адаптаци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3516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- обсуждение результатов проделанной работы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3516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-  анализ итогов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3516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-  коррекция планов организации адаптаци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3516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- планирование дальнейшей работ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351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351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42800" y="333360"/>
            <a:ext cx="8244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Times New Roman"/>
              </a:rPr>
              <a:t>Сопровождение адаптационного процесс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"/>
          <p:cNvSpPr/>
          <p:nvPr/>
        </p:nvSpPr>
        <p:spPr>
          <a:xfrm>
            <a:off x="1332000" y="2205000"/>
            <a:ext cx="7354800" cy="38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- Обсуждение вопроса адаптации с администрацией ДОУ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SimSun"/>
              </a:rPr>
              <a:t>Работа с воспитателями адаптационных групп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SimSun"/>
              </a:rPr>
              <a:t>Работа с родителями в период адаптации детей к детскому саду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SimSun"/>
              </a:rPr>
              <a:t>Работа с детьми в период адаптации к ДО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42800" y="404640"/>
            <a:ext cx="824400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9900"/>
                </a:solidFill>
                <a:latin typeface="Times New Roman"/>
              </a:rPr>
              <a:t>Работа  с администрацией ДОУ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179280" y="1600200"/>
            <a:ext cx="864072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Обсудить вопрос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1)Какое количество новых детей будет приходить в группу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2)В какие дни недели будет осуществляться приём в детский сад? (лучше всего это делать со вторника по четверг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Подготовить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Согласие на психологическое сопровождение и проведение психологической диагностик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Анкеты (Родительская анкета, анкета "Готов ли Ваш ребенок к поступлению в дошкольное образовательное учреждение"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539640" y="304920"/>
            <a:ext cx="82440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6666ff"/>
                </a:solidFill>
                <a:latin typeface="Times New Roman"/>
                <a:ea typeface="SimSun"/>
              </a:rPr>
              <a:t>Работа с воспитателями адаптационных групп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1042920" y="1600200"/>
            <a:ext cx="7643880" cy="51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- помочь педагогам перестроиться на работу по адаптации  детей раннего возраста к дошкольному учреждению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- дать общие рекомендации по ведению документаци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-организовать психологическую поддержку в период адаптаци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- 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подготовить картотеку рекомендуемых игр с детьми в адаптационный период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- оказывать помощь педагогам в режимных момента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42800" y="450720"/>
            <a:ext cx="82440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666ff"/>
                </a:solidFill>
                <a:latin typeface="Times New Roman"/>
                <a:ea typeface="SimSun"/>
              </a:rPr>
              <a:t>Работа с родителями .Формы работы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600120" y="1079640"/>
            <a:ext cx="785952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51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351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- стендовая  информация, памятки, информационные листовки, папка-передвижка «Готовим малыша в детский сад»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35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- информационные листы-памятк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35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-психологические встреч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35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-выступления на родительских собраниях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35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-анкетировани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285920" y="357120"/>
            <a:ext cx="764388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Times New Roman"/>
              </a:rPr>
              <a:t>Психологические встречи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1143000" y="3000240"/>
            <a:ext cx="7358040" cy="360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48200" indent="6945120" algn="ctr">
              <a:tabLst>
                <a:tab algn="l" pos="0"/>
                <a:tab algn="l" pos="16648200"/>
                <a:tab algn="l" pos="17095680"/>
                <a:tab algn="l" pos="17544960"/>
                <a:tab algn="l" pos="17994240"/>
                <a:tab algn="l" pos="18443520"/>
                <a:tab algn="l" pos="18892800"/>
                <a:tab algn="l" pos="19342080"/>
                <a:tab algn="l" pos="19791360"/>
                <a:tab algn="l" pos="20240640"/>
                <a:tab algn="l" pos="20689920"/>
                <a:tab algn="l" pos="21139200"/>
                <a:tab algn="l" pos="21588480"/>
                <a:tab algn="l" pos="22037760"/>
                <a:tab algn="l" pos="22487040"/>
                <a:tab algn="l" pos="22936320"/>
                <a:tab algn="l" pos="23385600"/>
                <a:tab algn="l" pos="23834880"/>
                <a:tab algn="l" pos="24284160"/>
                <a:tab algn="l" pos="24733080"/>
                <a:tab algn="l" pos="25182360"/>
                <a:tab algn="l" pos="2563164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Verdana"/>
              </a:rPr>
              <a:t> </a:t>
            </a:r>
            <a:r>
              <a:rPr b="1" i="1" lang="ru-RU" sz="2400" spc="-1" strike="noStrike">
                <a:solidFill>
                  <a:srgbClr val="00b050"/>
                </a:solidFill>
                <a:latin typeface="Verdana"/>
              </a:rPr>
              <a:t>Первичная диагностик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6648200" indent="6945120">
              <a:buClr>
                <a:srgbClr val="0000ff"/>
              </a:buClr>
              <a:buFont typeface="Verdana"/>
              <a:buChar char="-"/>
              <a:tabLst>
                <a:tab algn="l" pos="16648200"/>
                <a:tab algn="l" pos="17095680"/>
                <a:tab algn="l" pos="17544960"/>
                <a:tab algn="l" pos="17994240"/>
                <a:tab algn="l" pos="18443520"/>
                <a:tab algn="l" pos="18892800"/>
                <a:tab algn="l" pos="19342080"/>
                <a:tab algn="l" pos="19791360"/>
                <a:tab algn="l" pos="20240640"/>
                <a:tab algn="l" pos="20689920"/>
                <a:tab algn="l" pos="21139200"/>
                <a:tab algn="l" pos="21588480"/>
                <a:tab algn="l" pos="22037760"/>
                <a:tab algn="l" pos="22487040"/>
                <a:tab algn="l" pos="22936320"/>
                <a:tab algn="l" pos="23385600"/>
                <a:tab algn="l" pos="23834880"/>
                <a:tab algn="l" pos="24284160"/>
                <a:tab algn="l" pos="24733080"/>
                <a:tab algn="l" pos="25182360"/>
                <a:tab algn="l" pos="2563164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Verdana"/>
              </a:rPr>
              <a:t>характеристика родителями состояния своих детей в семье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6648200" indent="6945120">
              <a:tabLst>
                <a:tab algn="l" pos="0"/>
                <a:tab algn="l" pos="16648200"/>
                <a:tab algn="l" pos="17095680"/>
                <a:tab algn="l" pos="17544960"/>
                <a:tab algn="l" pos="17994240"/>
                <a:tab algn="l" pos="18443520"/>
                <a:tab algn="l" pos="18892800"/>
                <a:tab algn="l" pos="19342080"/>
                <a:tab algn="l" pos="19791360"/>
                <a:tab algn="l" pos="20240640"/>
                <a:tab algn="l" pos="20689920"/>
                <a:tab algn="l" pos="21139200"/>
                <a:tab algn="l" pos="21588480"/>
                <a:tab algn="l" pos="22037760"/>
                <a:tab algn="l" pos="22487040"/>
                <a:tab algn="l" pos="22936320"/>
                <a:tab algn="l" pos="23385600"/>
                <a:tab algn="l" pos="23834880"/>
                <a:tab algn="l" pos="24284160"/>
                <a:tab algn="l" pos="24733080"/>
                <a:tab algn="l" pos="25182360"/>
                <a:tab algn="l" pos="2563164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Verdana"/>
              </a:rPr>
              <a:t>- оценка воспитателями состояния детей в период адаптации к условиям детского сад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6648200" indent="6945120">
              <a:buClr>
                <a:srgbClr val="0000ff"/>
              </a:buClr>
              <a:buFont typeface="Verdana"/>
              <a:buChar char="-"/>
              <a:tabLst>
                <a:tab algn="l" pos="16648200"/>
                <a:tab algn="l" pos="17095680"/>
                <a:tab algn="l" pos="17544960"/>
                <a:tab algn="l" pos="17994240"/>
                <a:tab algn="l" pos="18443520"/>
                <a:tab algn="l" pos="18892800"/>
                <a:tab algn="l" pos="19342080"/>
                <a:tab algn="l" pos="19791360"/>
                <a:tab algn="l" pos="20240640"/>
                <a:tab algn="l" pos="20689920"/>
                <a:tab algn="l" pos="21139200"/>
                <a:tab algn="l" pos="21588480"/>
                <a:tab algn="l" pos="22037760"/>
                <a:tab algn="l" pos="22487040"/>
                <a:tab algn="l" pos="22936320"/>
                <a:tab algn="l" pos="23385600"/>
                <a:tab algn="l" pos="23834880"/>
                <a:tab algn="l" pos="24284160"/>
                <a:tab algn="l" pos="24733080"/>
                <a:tab algn="l" pos="25182360"/>
                <a:tab algn="l" pos="2563164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Verdana"/>
              </a:rPr>
              <a:t>оценка психологом психоэмоционального состояния детей</a:t>
            </a:r>
            <a:r>
              <a:rPr b="1" lang="ru-RU" sz="1800" spc="-1" strike="noStrike">
                <a:solidFill>
                  <a:srgbClr val="0000ff"/>
                </a:solidFill>
                <a:latin typeface="Verdana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6648200" indent="6945120" algn="ctr">
              <a:tabLst>
                <a:tab algn="l" pos="0"/>
                <a:tab algn="l" pos="16648200"/>
                <a:tab algn="l" pos="17095680"/>
                <a:tab algn="l" pos="17544960"/>
                <a:tab algn="l" pos="17994240"/>
                <a:tab algn="l" pos="18443520"/>
                <a:tab algn="l" pos="18892800"/>
                <a:tab algn="l" pos="19342080"/>
                <a:tab algn="l" pos="19791360"/>
                <a:tab algn="l" pos="20240640"/>
                <a:tab algn="l" pos="20689920"/>
                <a:tab algn="l" pos="21139200"/>
                <a:tab algn="l" pos="21588480"/>
                <a:tab algn="l" pos="22037760"/>
                <a:tab algn="l" pos="22487040"/>
                <a:tab algn="l" pos="22936320"/>
                <a:tab algn="l" pos="23385600"/>
                <a:tab algn="l" pos="23834880"/>
                <a:tab algn="l" pos="24284160"/>
                <a:tab algn="l" pos="24733080"/>
                <a:tab algn="l" pos="25182360"/>
                <a:tab algn="l" pos="2563164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Verdana"/>
              </a:rPr>
              <a:t>Контрольная диагностика</a:t>
            </a:r>
            <a:r>
              <a:rPr b="1" lang="ru-RU" sz="2400" spc="-1" strike="noStrike">
                <a:solidFill>
                  <a:srgbClr val="00b05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6648200" indent="6945120">
              <a:tabLst>
                <a:tab algn="l" pos="0"/>
                <a:tab algn="l" pos="16648200"/>
                <a:tab algn="l" pos="17095680"/>
                <a:tab algn="l" pos="17544960"/>
                <a:tab algn="l" pos="17994240"/>
                <a:tab algn="l" pos="18443520"/>
                <a:tab algn="l" pos="18892800"/>
                <a:tab algn="l" pos="19342080"/>
                <a:tab algn="l" pos="19791360"/>
                <a:tab algn="l" pos="20240640"/>
                <a:tab algn="l" pos="20689920"/>
                <a:tab algn="l" pos="21139200"/>
                <a:tab algn="l" pos="21588480"/>
                <a:tab algn="l" pos="22037760"/>
                <a:tab algn="l" pos="22487040"/>
                <a:tab algn="l" pos="22936320"/>
                <a:tab algn="l" pos="23385600"/>
                <a:tab algn="l" pos="23834880"/>
                <a:tab algn="l" pos="24284160"/>
                <a:tab algn="l" pos="24733080"/>
                <a:tab algn="l" pos="25182360"/>
                <a:tab algn="l" pos="2563164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Verdana"/>
              </a:rPr>
              <a:t>- по окончании периода адаптации определяется уровень адаптированности детей к условиям детского сада 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6648200" indent="6945120">
              <a:tabLst>
                <a:tab algn="l" pos="0"/>
                <a:tab algn="l" pos="16648200"/>
                <a:tab algn="l" pos="17095680"/>
                <a:tab algn="l" pos="17544960"/>
                <a:tab algn="l" pos="17994240"/>
                <a:tab algn="l" pos="18443520"/>
                <a:tab algn="l" pos="18892800"/>
                <a:tab algn="l" pos="19342080"/>
                <a:tab algn="l" pos="19791360"/>
                <a:tab algn="l" pos="20240640"/>
                <a:tab algn="l" pos="20689920"/>
                <a:tab algn="l" pos="21139200"/>
                <a:tab algn="l" pos="21588480"/>
                <a:tab algn="l" pos="22037760"/>
                <a:tab algn="l" pos="22487040"/>
                <a:tab algn="l" pos="22936320"/>
                <a:tab algn="l" pos="23385600"/>
                <a:tab algn="l" pos="23834880"/>
                <a:tab algn="l" pos="24284160"/>
                <a:tab algn="l" pos="24733080"/>
                <a:tab algn="l" pos="25182360"/>
                <a:tab algn="l" pos="2563164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Verdana"/>
              </a:rPr>
              <a:t>- анкетирование родителей по окончании адаптационного  периода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6648200" indent="6945120">
              <a:tabLst>
                <a:tab algn="l" pos="0"/>
                <a:tab algn="l" pos="16648200"/>
                <a:tab algn="l" pos="17095680"/>
                <a:tab algn="l" pos="17544960"/>
                <a:tab algn="l" pos="17994240"/>
                <a:tab algn="l" pos="18443520"/>
                <a:tab algn="l" pos="18892800"/>
                <a:tab algn="l" pos="19342080"/>
                <a:tab algn="l" pos="19791360"/>
                <a:tab algn="l" pos="20240640"/>
                <a:tab algn="l" pos="20689920"/>
                <a:tab algn="l" pos="21139200"/>
                <a:tab algn="l" pos="21588480"/>
                <a:tab algn="l" pos="22037760"/>
                <a:tab algn="l" pos="22487040"/>
                <a:tab algn="l" pos="22936320"/>
                <a:tab algn="l" pos="23385600"/>
                <a:tab algn="l" pos="23834880"/>
                <a:tab algn="l" pos="24284160"/>
                <a:tab algn="l" pos="24733080"/>
                <a:tab algn="l" pos="25182360"/>
                <a:tab algn="l" pos="2563164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0001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"/>
          <p:cNvSpPr/>
          <p:nvPr/>
        </p:nvSpPr>
        <p:spPr>
          <a:xfrm>
            <a:off x="720720" y="1800360"/>
            <a:ext cx="821520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Arial Unicode MS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Arial Unicode MS"/>
              </a:rPr>
              <a:t>отреагировать актуальные эмоции, чувств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Arial Unicode MS"/>
              </a:rPr>
              <a:t>снять напряжени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Arial Unicode MS"/>
              </a:rPr>
              <a:t>поделиться своим опытом (если такой был с первым ребёнком) и узнать об опыты других родителей.</a:t>
            </a:r>
            <a:br>
              <a:rPr sz="16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539640" y="189000"/>
            <a:ext cx="828036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516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35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9900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009900"/>
                </a:solidFill>
                <a:latin typeface="Times New Roman"/>
              </a:rPr>
              <a:t>Работа с </a:t>
            </a:r>
            <a:r>
              <a:rPr b="1" i="1" lang="ru-RU" sz="3200" spc="-1" strike="noStrike">
                <a:solidFill>
                  <a:srgbClr val="009900"/>
                </a:solidFill>
                <a:latin typeface="Times New Roman"/>
                <a:ea typeface="SimSun"/>
              </a:rPr>
              <a:t> детьми в период адаптации к ДОУ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3516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3516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35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-наблюдение за адаптационным процессом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35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- организация игровых ситуаций в течение недели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35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- индивидуальная работа с детьми;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35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- контроль за НПР , заполнение карт нервно-психического развития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35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-фронтальные занятия с детьм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351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440" y="-490680"/>
            <a:ext cx="8239320" cy="19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imes New Roman"/>
              </a:rPr>
              <a:t>Методы контроля за НПР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. Метод опроса матери (при приеме ребенка в детское учреждение и в дальнейшем по ходу его развития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2. Метод наблюдения в группе за поведением детей (основной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3. Метод диагностики психического развития ребенк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60000" y="23760"/>
            <a:ext cx="783756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8000"/>
                </a:solidFill>
                <a:latin typeface="Times New Roman"/>
              </a:rPr>
              <a:t>Основные группы развития: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"/>
          <p:cNvSpPr/>
          <p:nvPr/>
        </p:nvSpPr>
        <p:spPr>
          <a:xfrm>
            <a:off x="179280" y="720720"/>
            <a:ext cx="8820360" cy="59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о уровню развития дети распределены на три основные групп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(четвертая и пятая  группа встречаются редко и составляют примерно 1,25 % детей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 е р в о 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группе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числятся дети с нормальным развитием, т.е. когда все показатели соответствуют календарному возрасту, а также с опережением в развити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 т о р у ю групп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входят дети с первоначальной задержкой в развитии на один эпикризный срок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Третью групп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составляют дети с более глубокой задержкой — на два эпикризных срока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  ч е т в е р т у ю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—  дети с задержкой на три эпикризных срок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 пятую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тставание в развитии на 4 и более эпикризных срок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первой группе опереже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на один эпикризисный срок — это ускоренное развитие; на два эпикризисных срока — это высокое развити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 второй, третьей и четвертой группах выявлены три степени задержки развити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в зависимости от количества несформированных навыков — линий задержк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: I степень — 1—2, II — 3—4, III— 5—7 лин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09:01:02Z</dcterms:created>
  <dc:creator>S</dc:creator>
  <dc:description/>
  <dc:language>en-US</dc:language>
  <cp:lastModifiedBy>1</cp:lastModifiedBy>
  <dcterms:modified xsi:type="dcterms:W3CDTF">2018-02-25T18:36:01Z</dcterms:modified>
  <cp:revision>43</cp:revision>
  <dc:subject/>
  <dc:title>Муниципальное дошкольное образовательное учреждение детский сад общеразвивающего вида с приоритетным осуществлением деятельности по направлению познавательно-речевого развития детей № 323 «Сказка» «Работа педагога-психолога по адаптации детей раннего возраста в условиях дошкольного учреждения»</dc:title>
</cp:coreProperties>
</file>