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B95-5C4A-4C27-8454-819309F9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82C-C353-4018-9CDD-6D0746C0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BD2-71C8-499D-A22C-7701801D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135-CC07-4696-8051-3EA7F437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617-FB9A-49DB-8F6D-A820DBBC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C88-5A36-4E78-A11D-03AAF32A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436-D077-49FA-BDB9-B9ABB16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570-22F7-48C8-A5EA-0E7568A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610-8947-4E80-A748-FE9A96EC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DAE-186D-4FA5-8FDC-57079A85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839-7FB8-4042-AF85-927BCB8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CC2-DED1-400A-A1AA-CC4C520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20B7-CFC6-4C56-86BA-D85828C733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71320" y="64260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ЗЕН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образовательной деятель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первой младше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КОМСТВО С ОВОЩАМ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технолог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о-исследователь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коммуникатив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составител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цовская К.Н. воспитатель первой катег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ДОУ детский сад №81 Выборгского района г.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 го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 с грядки к нам пришла, Красная, румяная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ее всех из овощей для винегретов и борще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4" descr="Свекла.jpg"/>
          <p:cNvPicPr/>
          <p:nvPr/>
        </p:nvPicPr>
        <p:blipFill>
          <a:blip r:embed="rId1"/>
          <a:stretch/>
        </p:blipFill>
        <p:spPr>
          <a:xfrm>
            <a:off x="642960" y="1214280"/>
            <a:ext cx="807228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– наш овощ очень жгучий, зря его не трогать лучше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если тронешь, ручки надо тщательно помы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lechenie-nasmorka.gif"/>
          <p:cNvPicPr/>
          <p:nvPr/>
        </p:nvPicPr>
        <p:blipFill>
          <a:blip r:embed="rId1"/>
          <a:stretch/>
        </p:blipFill>
        <p:spPr>
          <a:xfrm>
            <a:off x="1428840" y="1214280"/>
            <a:ext cx="6429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42760" y="2854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ж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8" descr="24384368.jpg"/>
          <p:cNvPicPr/>
          <p:nvPr/>
        </p:nvPicPr>
        <p:blipFill>
          <a:blip r:embed="rId1"/>
          <a:stretch/>
        </p:blipFill>
        <p:spPr>
          <a:xfrm>
            <a:off x="1214280" y="1214280"/>
            <a:ext cx="6901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071720" y="928800"/>
            <a:ext cx="72864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е 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редставление об овощах (их названиях, цвете, где расту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словарный запас детей за счет новых слов (названия – огурец, помидор, морковь, свекла, капуста, лук, урожай, огород, суп, салат, борщ, варить; цвет – зеленый, красный, жел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некоторыми способами употребления овощей в пищу (салат, суп, борщ, вари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5" descr="1175.jpg"/>
          <p:cNvPicPr/>
          <p:nvPr/>
        </p:nvPicPr>
        <p:blipFill>
          <a:blip r:embed="rId1"/>
          <a:stretch/>
        </p:blipFill>
        <p:spPr>
          <a:xfrm>
            <a:off x="785880" y="1071720"/>
            <a:ext cx="7572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и хрусткая. Зовут меня капусткою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ая, полезная. Прогоню болезни 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1-prodam-kapustu-i-morkov-optom.jpg"/>
          <p:cNvPicPr/>
          <p:nvPr/>
        </p:nvPicPr>
        <p:blipFill>
          <a:blip r:embed="rId1"/>
          <a:stretch/>
        </p:blipFill>
        <p:spPr>
          <a:xfrm>
            <a:off x="1500120" y="1285920"/>
            <a:ext cx="5929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кусный корешок. Это я - морков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Морковь.JPG"/>
          <p:cNvPicPr/>
          <p:nvPr/>
        </p:nvPicPr>
        <p:blipFill>
          <a:blip r:embed="rId1"/>
          <a:stretch/>
        </p:blipFill>
        <p:spPr>
          <a:xfrm>
            <a:off x="1000080" y="1071720"/>
            <a:ext cx="728676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шка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в супе, и в салате, в пирогах я и в оладьях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ня попробуй, крошка, Я всем нужная картошка!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Картофель.jpg"/>
          <p:cNvPicPr/>
          <p:nvPr/>
        </p:nvPicPr>
        <p:blipFill>
          <a:blip r:embed="rId1"/>
          <a:stretch/>
        </p:blipFill>
        <p:spPr>
          <a:xfrm>
            <a:off x="1143000" y="1214280"/>
            <a:ext cx="70182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яди на огурец, огурец - такой хитрец!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ко одевается, под листьями скрывается .    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7" descr="cf6846fdff8e40066bf797cf60e83d1f.jpg"/>
          <p:cNvPicPr/>
          <p:nvPr/>
        </p:nvPicPr>
        <p:blipFill>
          <a:blip r:embed="rId1"/>
          <a:stretch/>
        </p:blipFill>
        <p:spPr>
          <a:xfrm>
            <a:off x="500040" y="1071720"/>
            <a:ext cx="8286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мидора-толстяка аппетитные бока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шать его, что ли, просто так, без соли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seminte-cultura-tomate-rosii-hibride-hibrizi.jpg"/>
          <p:cNvPicPr/>
          <p:nvPr/>
        </p:nvPicPr>
        <p:blipFill>
          <a:blip r:embed="rId1"/>
          <a:stretch/>
        </p:blipFill>
        <p:spPr>
          <a:xfrm>
            <a:off x="1928880" y="1071720"/>
            <a:ext cx="52862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</a:t>
            </a:r>
            <a:br>
              <a:rPr sz="18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я –перец, но не тот, что язык так сильно жжет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ясистый , витаминный - запаси меня на зи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5" descr="Перец.jpg"/>
          <p:cNvPicPr/>
          <p:nvPr/>
        </p:nvPicPr>
        <p:blipFill>
          <a:blip r:embed="rId1"/>
          <a:stretch/>
        </p:blipFill>
        <p:spPr>
          <a:xfrm>
            <a:off x="428760" y="1214280"/>
            <a:ext cx="80722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41:22Z</dcterms:created>
  <dc:creator>Дом</dc:creator>
  <dc:description/>
  <dc:language>en-US</dc:language>
  <cp:lastModifiedBy>ritmk</cp:lastModifiedBy>
  <dcterms:modified xsi:type="dcterms:W3CDTF">2021-04-08T15:00:09Z</dcterms:modified>
  <cp:revision>42</cp:revision>
  <dc:subject/>
  <dc:title>Слайд 1</dc:title>
</cp:coreProperties>
</file>