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C8DB-7561-4B3B-8A5B-505B317E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A4A-D440-4F90-86C1-7DB14D70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7C9-DDBE-45B0-99B6-E4B91E07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8A8-841B-436C-B8E2-6B7DF570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28D3-760A-40F7-BC70-6BDB3F96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3D9-BAE6-43B7-92D2-9B8ADC44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8ED4-F7CE-452E-833B-B2513CBE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74A-B002-459F-8653-E390CF6B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CF8C-0272-4232-8A07-8BB161DC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1D3-3060-42A4-B288-3D252095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4E8-E12F-46FF-B6B6-C71D16A8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D27E-2D1F-4D8D-B8D0-6794BDA2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50E2-9802-4A20-AE97-5B924B9C21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71320" y="64260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ЗЕНТ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д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 образовательной деятель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тьми первой младшей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НАКОМСТВО С ОВОЩАМ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е технолог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ово-исследовательск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коммуникатив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-составитель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цовская К.Н. воспитатель первой категор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ДОУ детский сад №81 Выборгского района г.Санкт-Петербур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1 го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кла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кла с грядки к нам пришла, Красная, румяная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ее всех из овощей для винегретов и борщей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4" descr="Свекла.jpg"/>
          <p:cNvPicPr/>
          <p:nvPr/>
        </p:nvPicPr>
        <p:blipFill>
          <a:blip r:embed="rId1"/>
          <a:stretch/>
        </p:blipFill>
        <p:spPr>
          <a:xfrm>
            <a:off x="642960" y="1214280"/>
            <a:ext cx="807228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– наш овощ очень жгучий, зря его не трогать лучше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а если тронешь, ручки надо тщательно помы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lechenie-nasmorka.gif"/>
          <p:cNvPicPr/>
          <p:nvPr/>
        </p:nvPicPr>
        <p:blipFill>
          <a:blip r:embed="rId1"/>
          <a:stretch/>
        </p:blipFill>
        <p:spPr>
          <a:xfrm>
            <a:off x="1428840" y="1214280"/>
            <a:ext cx="6429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642760" y="2854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ж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8" descr="24384368.jpg"/>
          <p:cNvPicPr/>
          <p:nvPr/>
        </p:nvPicPr>
        <p:blipFill>
          <a:blip r:embed="rId1"/>
          <a:stretch/>
        </p:blipFill>
        <p:spPr>
          <a:xfrm>
            <a:off x="1214280" y="1214280"/>
            <a:ext cx="69012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071720" y="928800"/>
            <a:ext cx="72864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е содерж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 детей представление об овощах (их названиях, цвете, где расту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ать словарный запас детей за счет новых слов (названия – огурец, помидор, морковь, свекла, капуста, лук, урожай, огород, суп, салат, борщ, варить; цвет – зеленый, красный, желты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некоторыми способами употребления овощей в пищу (салат, суп, борщ, вари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р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5" descr="1175.jpg"/>
          <p:cNvPicPr/>
          <p:nvPr/>
        </p:nvPicPr>
        <p:blipFill>
          <a:blip r:embed="rId1"/>
          <a:stretch/>
        </p:blipFill>
        <p:spPr>
          <a:xfrm>
            <a:off x="785880" y="1071720"/>
            <a:ext cx="757224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ста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и хрусткая. Зовут меня капусткою.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усная, полезная. Прогоню болезни я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4" descr="1-prodam-kapustu-i-morkov-optom.jpg"/>
          <p:cNvPicPr/>
          <p:nvPr/>
        </p:nvPicPr>
        <p:blipFill>
          <a:blip r:embed="rId1"/>
          <a:stretch/>
        </p:blipFill>
        <p:spPr>
          <a:xfrm>
            <a:off x="1500120" y="1285920"/>
            <a:ext cx="59295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ь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кусный корешок. Это я - морковк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5" descr="Морковь.JPG"/>
          <p:cNvPicPr/>
          <p:nvPr/>
        </p:nvPicPr>
        <p:blipFill>
          <a:blip r:embed="rId1"/>
          <a:stretch/>
        </p:blipFill>
        <p:spPr>
          <a:xfrm>
            <a:off x="1000080" y="1071720"/>
            <a:ext cx="728676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шка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и в супе, и в салате, в пирогах я и в оладьях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меня попробуй, крошка, Я всем нужная картошка!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4" descr="Картофель.jpg"/>
          <p:cNvPicPr/>
          <p:nvPr/>
        </p:nvPicPr>
        <p:blipFill>
          <a:blip r:embed="rId1"/>
          <a:stretch/>
        </p:blipFill>
        <p:spPr>
          <a:xfrm>
            <a:off x="1143000" y="1214280"/>
            <a:ext cx="70182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урец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яди на огурец, огурец - такой хитрец!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вко одевается, под листьями скрывается .      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7" descr="cf6846fdff8e40066bf797cf60e83d1f.jpg"/>
          <p:cNvPicPr/>
          <p:nvPr/>
        </p:nvPicPr>
        <p:blipFill>
          <a:blip r:embed="rId1"/>
          <a:stretch/>
        </p:blipFill>
        <p:spPr>
          <a:xfrm>
            <a:off x="500040" y="1071720"/>
            <a:ext cx="82868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дор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мидора-толстяка аппетитные бока.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шать его, что ли, просто так, без соли?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4" descr="seminte-cultura-tomate-rosii-hibride-hibrizi.jpg"/>
          <p:cNvPicPr/>
          <p:nvPr/>
        </p:nvPicPr>
        <p:blipFill>
          <a:blip r:embed="rId1"/>
          <a:stretch/>
        </p:blipFill>
        <p:spPr>
          <a:xfrm>
            <a:off x="1928880" y="1071720"/>
            <a:ext cx="528624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ц</a:t>
            </a:r>
            <a:br>
              <a:rPr sz="18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, я –перец, но не тот, что язык так сильно жжет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ясистый , витаминный - запаси меня на зи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Перец.jpg"/>
          <p:cNvPicPr/>
          <p:nvPr/>
        </p:nvPicPr>
        <p:blipFill>
          <a:blip r:embed="rId1"/>
          <a:stretch/>
        </p:blipFill>
        <p:spPr>
          <a:xfrm>
            <a:off x="428760" y="1214280"/>
            <a:ext cx="80722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1:41:22Z</dcterms:created>
  <dc:creator>Дом</dc:creator>
  <dc:description/>
  <dc:language>en-US</dc:language>
  <cp:lastModifiedBy>ritmk</cp:lastModifiedBy>
  <dcterms:modified xsi:type="dcterms:W3CDTF">2021-04-08T15:00:09Z</dcterms:modified>
  <cp:revision>42</cp:revision>
  <dc:subject/>
  <dc:title>Слайд 1</dc:title>
</cp:coreProperties>
</file>