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8CD4-95C4-4FC6-9930-9DE51633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0C33-8EB3-4704-983D-FB91AA46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A51A-92F3-4F8B-AA74-A42F9921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40DE-FF91-4F21-AC45-B1DC120D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899F-CEFE-428B-ABE9-CD1D1EBD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7D2D-CC3A-435C-9604-BECD96D0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5A81-EEB5-4475-A9B4-70C0168E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C457-5022-4D4F-A4AA-09C1F14D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D259-A4FA-4D0C-B596-570E0A9B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534D-8B68-45BA-8ACA-FD869B0C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FA8D-55E3-44F1-8477-EF59589B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2448-5F69-4BEE-A44F-8F1176AC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7C8F-F27E-4661-B56C-EB05967A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2A67-9F78-4033-B8AF-FE340A5D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EE51-E940-4241-A415-F964E426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E7EE-7C11-422A-B922-B48E5C22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3E16-D3D6-4180-B30A-2D9EBD17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3DE-CD93-4CE8-AB3C-2E99287D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C0D5-7932-46E4-A89A-CBC81FAD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25BF-550A-4F9D-A26A-C4C15E7F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858A-53A8-4EB6-B303-1B5BF0B0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4E23-F4F4-426E-9BCC-65D19FE3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8045-3E82-4E32-8E65-94245C88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7A30-FC07-4F9F-A4BE-0EB953A0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BA4F-7A27-4441-BC5B-2B8AABAC5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4627-5B49-469A-BB9C-B5E6493071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50104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21c88"/>
                </a:solidFill>
                <a:latin typeface="Times New Roman"/>
                <a:ea typeface="Times New Roman"/>
              </a:rPr>
              <a:t>ТОГБОУ «Центр лечебной педагогики и дифференцированного обуче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357800" y="3785760"/>
            <a:ext cx="45720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e3a72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e3a72"/>
                </a:solidFill>
                <a:latin typeface="Times New Roman"/>
                <a:ea typeface="Times New Roman"/>
              </a:rPr>
              <a:t>Социализация детей с ОВЗ в условиях образовательного учреж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tle 1"/>
          <p:cNvSpPr/>
          <p:nvPr/>
        </p:nvSpPr>
        <p:spPr>
          <a:xfrm>
            <a:off x="4071960" y="1714680"/>
            <a:ext cx="507204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21c88"/>
                </a:solidFill>
                <a:latin typeface="Times New Roman"/>
                <a:ea typeface="Times New Roman"/>
              </a:rPr>
              <a:t>Педагогический  проек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21c88"/>
                </a:solidFill>
                <a:latin typeface="Times New Roman"/>
                <a:ea typeface="Times New Roman"/>
              </a:rPr>
              <a:t>«НАМ ЖИТЬ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21c88"/>
                </a:solidFill>
                <a:latin typeface="Times New Roman"/>
                <a:ea typeface="Times New Roman"/>
              </a:rPr>
              <a:t>В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21c88"/>
                </a:solidFill>
                <a:latin typeface="Times New Roman"/>
                <a:ea typeface="Times New Roman"/>
              </a:rPr>
              <a:t>ЭТОМ МИРЕ»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1c88"/>
                </a:solidFill>
                <a:latin typeface="Cambria"/>
              </a:rPr>
              <a:t>Заключительный эта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Схема 5" descr=""/>
          <p:cNvPicPr/>
          <p:nvPr/>
        </p:nvPicPr>
        <p:blipFill>
          <a:blip r:embed="rId1"/>
          <a:stretch/>
        </p:blipFill>
        <p:spPr>
          <a:xfrm>
            <a:off x="768240" y="1779480"/>
            <a:ext cx="80344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1c88"/>
                </a:solidFill>
                <a:latin typeface="Cambria"/>
              </a:rPr>
              <a:t>Трудоустройство выпуск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500200" y="2286000"/>
          <a:ext cx="3714840" cy="3616200"/>
        </p:xfrm>
        <a:graphic>
          <a:graphicData uri="http://schemas.openxmlformats.org/drawingml/2006/table">
            <a:tbl>
              <a:tblPr/>
              <a:tblGrid>
                <a:gridCol w="1606680"/>
                <a:gridCol w="679320"/>
                <a:gridCol w="714600"/>
                <a:gridCol w="714240"/>
              </a:tblGrid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2160" indent="810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 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выпуск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и в П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(72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2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устрое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25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енсии по инвалид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28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    (5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(10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трудоустроены и не уча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1c88"/>
                </a:solidFill>
                <a:latin typeface="Cambria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5" descr=""/>
          <p:cNvPicPr/>
          <p:nvPr/>
        </p:nvPicPr>
        <p:blipFill>
          <a:blip r:embed="rId1"/>
          <a:stretch/>
        </p:blipFill>
        <p:spPr>
          <a:xfrm>
            <a:off x="841320" y="974880"/>
            <a:ext cx="815040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8229600" cy="4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21c88"/>
                </a:solidFill>
                <a:latin typeface="Monotype Corsiva"/>
              </a:rPr>
              <a:t>Актуальность проекта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7120" y="928800"/>
            <a:ext cx="87868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241280" indent="-12412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временном этапе развития общества социализация                       детей с ОВЗ является одним из направлений государственной политики  в области образования и понимается как непрерывный  процесс взаимодействия ребенка с обществом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241280" indent="-124128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мый на протяжении всей жизни, в ходе которой происходит становление личности. Для детей с ОВЗ в силу их психофизических особенностей  характерны снижение познавательного интереса, отсутствие ориентировочно-исследовательской деятельности, несформированность коммуникативной деятельности. Им сложно приспособиться к явлениям окружающей действительности, стать полноправными членами общества. Включение таких детей в социальную жизнь происходит  трудно и болезненно. Необходимо помочь детям данной категории адаптироваться к меняющейся среде, выделить свое «я» среди других людей, объединить  процессы социализации и индивидуального развития, погружая ребенка не только в предметный мир, но и социальное пространство, поставить его в такую ситуацию, когда он получит опыт взаимодействия в этом мире   и сам научится выстраивать отношения с окружающими людь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241280" indent="-12412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ный проект – это модель системы работы, направленной на решение данных актуальных проблем и формирование социализированной личности, способной реализовывать свои потенциальные возможности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241280" indent="-12412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рассчитан на 2 год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241280" indent="-12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21c88"/>
                </a:solidFill>
                <a:latin typeface="Cambria"/>
              </a:rPr>
              <a:t>Задач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1999800"/>
            <a:ext cx="471492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1080" indent="327960">
              <a:lnSpc>
                <a:spcPct val="100000"/>
              </a:lnSpc>
              <a:buClr>
                <a:srgbClr val="4d03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ть уровень социальных компетенций детей с ОВЗ, приобщать к элементарным общественным нормам и правил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91080" indent="327960">
              <a:lnSpc>
                <a:spcPct val="100000"/>
              </a:lnSpc>
              <a:buClr>
                <a:srgbClr val="4d03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ять знания об окружающем мире и обществ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91080" indent="327960">
              <a:lnSpc>
                <a:spcPct val="100000"/>
              </a:lnSpc>
              <a:buClr>
                <a:srgbClr val="4d03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овать развитию   процесса самореализации,    формировать правильную самооценку ребен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91080" indent="327960">
              <a:lnSpc>
                <a:spcPct val="100000"/>
              </a:lnSpc>
              <a:buClr>
                <a:srgbClr val="4d03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толерантное отношение    к окружающим, формировать коммуникативные навы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91080" indent="327960">
              <a:lnSpc>
                <a:spcPct val="100000"/>
              </a:lnSpc>
              <a:buClr>
                <a:srgbClr val="4d03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 духовно-нравственные ценности лич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91080" indent="327960">
              <a:lnSpc>
                <a:spcPct val="100000"/>
              </a:lnSpc>
              <a:buClr>
                <a:srgbClr val="4d03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91080" indent="327960">
              <a:lnSpc>
                <a:spcPct val="100000"/>
              </a:lnSpc>
              <a:spcBef>
                <a:spcPts val="499"/>
              </a:spcBef>
              <a:buClr>
                <a:srgbClr val="4d03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00720" y="2857320"/>
            <a:ext cx="464328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92160">
              <a:lnSpc>
                <a:spcPct val="100000"/>
              </a:lnSpc>
              <a:buClr>
                <a:srgbClr val="4d03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овать развитию активности родителей в решении  проблем социализации детей с ОВ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92160">
              <a:lnSpc>
                <a:spcPct val="100000"/>
              </a:lnSpc>
              <a:spcBef>
                <a:spcPts val="550"/>
              </a:spcBef>
              <a:buClr>
                <a:srgbClr val="4d03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ть взаимодействие всех заинтересованных сторон, привлечение социальных партнер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92160">
              <a:lnSpc>
                <a:spcPct val="100000"/>
              </a:lnSpc>
              <a:spcBef>
                <a:spcPts val="700"/>
              </a:spcBef>
              <a:buClr>
                <a:srgbClr val="4d03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2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2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21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1c88"/>
                </a:solidFill>
                <a:latin typeface="Cambria"/>
              </a:rPr>
              <a:t>Участники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071800"/>
            <a:ext cx="403848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92160">
              <a:lnSpc>
                <a:spcPct val="100000"/>
              </a:lnSpc>
              <a:buClr>
                <a:srgbClr val="3111a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111a7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 воспитанн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921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, специалис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921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921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ы других   организаций, волонте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4" descr="C:\Users\user\AppData\Local\Microsoft\Windows\Temporary Internet Files\Low\Content.IE5\MASC33DC\IMG_3527[1].JPG"/>
          <p:cNvPicPr/>
          <p:nvPr/>
        </p:nvPicPr>
        <p:blipFill>
          <a:blip r:embed="rId1"/>
          <a:stretch/>
        </p:blipFill>
        <p:spPr>
          <a:xfrm>
            <a:off x="4157640" y="3157560"/>
            <a:ext cx="39560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99760" y="-142920"/>
            <a:ext cx="71866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1c88"/>
                </a:solidFill>
                <a:latin typeface="Cambria"/>
              </a:rPr>
              <a:t>Ожидаемые результа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4" descr=""/>
          <p:cNvPicPr/>
          <p:nvPr/>
        </p:nvPicPr>
        <p:blipFill>
          <a:blip r:embed="rId1"/>
          <a:stretch/>
        </p:blipFill>
        <p:spPr>
          <a:xfrm>
            <a:off x="689040" y="281160"/>
            <a:ext cx="8259840" cy="63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71440" y="274680"/>
            <a:ext cx="6615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1c88"/>
                </a:solidFill>
                <a:latin typeface="Cambria"/>
              </a:rPr>
              <a:t>Подготовительный эта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0" y="1928880"/>
            <a:ext cx="4572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4572000" y="57862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Содержимое 5" descr=""/>
          <p:cNvPicPr/>
          <p:nvPr/>
        </p:nvPicPr>
        <p:blipFill>
          <a:blip r:embed="rId1"/>
          <a:stretch/>
        </p:blipFill>
        <p:spPr>
          <a:xfrm>
            <a:off x="1279440" y="1285920"/>
            <a:ext cx="607212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1c88"/>
                </a:solidFill>
                <a:latin typeface="Cambria"/>
              </a:rPr>
              <a:t>Основной эта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Схема 3" descr=""/>
          <p:cNvPicPr/>
          <p:nvPr/>
        </p:nvPicPr>
        <p:blipFill>
          <a:blip r:embed="rId1"/>
          <a:stretch/>
        </p:blipFill>
        <p:spPr>
          <a:xfrm>
            <a:off x="2200320" y="1511280"/>
            <a:ext cx="59007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28760" y="4284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21c88"/>
                </a:solidFill>
                <a:latin typeface="Cambria"/>
                <a:ea typeface="Tahoma"/>
              </a:rPr>
              <a:t>               </a:t>
            </a:r>
            <a:r>
              <a:rPr b="1" lang="ru-RU" sz="4000" spc="-1" strike="noStrike">
                <a:solidFill>
                  <a:srgbClr val="021c88"/>
                </a:solidFill>
                <a:latin typeface="Cambria"/>
                <a:ea typeface="Tahoma"/>
              </a:rPr>
              <a:t>Интеграция детей с ОВЗ в среду сверс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Осуществляется через дополнительное    образование, экспериментальную работу и сотрудничество с учреждениями системы образования и другими социальными институтами региона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2" descr="C:\Documents and Settings\Администратор\Рабочий стол\фото работа\эп 2  фото\IMG_3358.JPG"/>
          <p:cNvPicPr/>
          <p:nvPr/>
        </p:nvPicPr>
        <p:blipFill>
          <a:blip r:embed="rId1"/>
          <a:stretch/>
        </p:blipFill>
        <p:spPr>
          <a:xfrm>
            <a:off x="725400" y="3371760"/>
            <a:ext cx="3419640" cy="24926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9" descr="C:\Users\Нинулька\Desktop\для проекта\IMG_6554.JPG"/>
          <p:cNvPicPr/>
          <p:nvPr/>
        </p:nvPicPr>
        <p:blipFill>
          <a:blip r:embed="rId2"/>
          <a:stretch/>
        </p:blipFill>
        <p:spPr>
          <a:xfrm>
            <a:off x="4657680" y="3297240"/>
            <a:ext cx="4168800" cy="2384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4"/>
          <p:cNvSpPr/>
          <p:nvPr/>
        </p:nvSpPr>
        <p:spPr>
          <a:xfrm>
            <a:off x="2500200" y="214200"/>
            <a:ext cx="3643560" cy="571680"/>
          </a:xfrm>
          <a:prstGeom prst="rect">
            <a:avLst/>
          </a:prstGeom>
          <a:gradFill rotWithShape="0">
            <a:gsLst>
              <a:gs pos="0">
                <a:srgbClr val="c8c1a2"/>
              </a:gs>
              <a:gs pos="100000">
                <a:srgbClr val="edebe3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e0000"/>
                </a:solidFill>
                <a:latin typeface="Arial"/>
                <a:ea typeface="Arial"/>
              </a:rPr>
              <a:t>Профориен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142920" y="1500120"/>
            <a:ext cx="2571840" cy="571680"/>
          </a:xfrm>
          <a:prstGeom prst="rect">
            <a:avLst/>
          </a:prstGeom>
          <a:gradFill rotWithShape="0">
            <a:gsLst>
              <a:gs pos="0">
                <a:srgbClr val="8cadea"/>
              </a:gs>
              <a:gs pos="100000">
                <a:srgbClr val="dee6f7"/>
              </a:gs>
            </a:gsLst>
            <a:lin ang="81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педевтический пери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1 - 4 клас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2857680" y="1285920"/>
            <a:ext cx="2928600" cy="1000080"/>
          </a:xfrm>
          <a:prstGeom prst="rect">
            <a:avLst/>
          </a:prstGeom>
          <a:gradFill rotWithShape="0">
            <a:gsLst>
              <a:gs pos="0">
                <a:srgbClr val="8cadea"/>
              </a:gs>
              <a:gs pos="100000">
                <a:srgbClr val="dee6f7"/>
              </a:gs>
            </a:gsLst>
            <a:lin ang="81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зучение личности учащихся и осуществление коррекционного  воздействия на её развит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7"/>
          <p:cNvSpPr/>
          <p:nvPr/>
        </p:nvSpPr>
        <p:spPr>
          <a:xfrm>
            <a:off x="5929200" y="1500120"/>
            <a:ext cx="2643480" cy="642960"/>
          </a:xfrm>
          <a:prstGeom prst="rect">
            <a:avLst/>
          </a:prstGeom>
          <a:gradFill rotWithShape="0">
            <a:gsLst>
              <a:gs pos="0">
                <a:srgbClr val="8cadea"/>
              </a:gs>
              <a:gs pos="100000">
                <a:srgbClr val="dee6f7"/>
              </a:gs>
            </a:gsLst>
            <a:lin ang="81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онально – трудовое обу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5 - 9 клас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8"/>
          <p:cNvSpPr/>
          <p:nvPr/>
        </p:nvSpPr>
        <p:spPr>
          <a:xfrm>
            <a:off x="71280" y="3643200"/>
            <a:ext cx="2000520" cy="1143000"/>
          </a:xfrm>
          <a:prstGeom prst="rect">
            <a:avLst/>
          </a:prstGeom>
          <a:solidFill>
            <a:srgbClr val="eeece1"/>
          </a:solidFill>
          <a:ln w="9360">
            <a:solidFill>
              <a:srgbClr val="948a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понят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«Профессия», профессиональная 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9"/>
          <p:cNvSpPr/>
          <p:nvPr/>
        </p:nvSpPr>
        <p:spPr>
          <a:xfrm>
            <a:off x="2214720" y="2500200"/>
            <a:ext cx="1714320" cy="785880"/>
          </a:xfrm>
          <a:prstGeom prst="rect">
            <a:avLst/>
          </a:prstGeom>
          <a:solidFill>
            <a:srgbClr val="eeece1"/>
          </a:solidFill>
          <a:ln w="9360">
            <a:solidFill>
              <a:srgbClr val="948a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личностных кач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0"/>
          <p:cNvSpPr/>
          <p:nvPr/>
        </p:nvSpPr>
        <p:spPr>
          <a:xfrm>
            <a:off x="71280" y="2500200"/>
            <a:ext cx="2000520" cy="785880"/>
          </a:xfrm>
          <a:prstGeom prst="rect">
            <a:avLst/>
          </a:prstGeom>
          <a:solidFill>
            <a:srgbClr val="eeece1"/>
          </a:solidFill>
          <a:ln w="9360">
            <a:solidFill>
              <a:srgbClr val="948a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фпросвещ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1"/>
          <p:cNvSpPr/>
          <p:nvPr/>
        </p:nvSpPr>
        <p:spPr>
          <a:xfrm>
            <a:off x="2214720" y="3571920"/>
            <a:ext cx="1785960" cy="2286000"/>
          </a:xfrm>
          <a:prstGeom prst="rect">
            <a:avLst/>
          </a:prstGeom>
          <a:solidFill>
            <a:srgbClr val="eeece1"/>
          </a:solidFill>
          <a:ln w="9360">
            <a:solidFill>
              <a:srgbClr val="948a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Любовь к труду, исполнительность, старательность, умение трудиться в коллективе, выслушивать замечания, хорошо выполнять за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2"/>
          <p:cNvSpPr/>
          <p:nvPr/>
        </p:nvSpPr>
        <p:spPr>
          <a:xfrm>
            <a:off x="71280" y="5214960"/>
            <a:ext cx="2000520" cy="1285920"/>
          </a:xfrm>
          <a:prstGeom prst="rect">
            <a:avLst/>
          </a:prstGeom>
          <a:solidFill>
            <a:srgbClr val="eeece1"/>
          </a:solidFill>
          <a:ln w="9360">
            <a:solidFill>
              <a:srgbClr val="948a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роки ручного труда, хозяйственно-бытовой труд, самообслуживающий тру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4"/>
          <p:cNvSpPr/>
          <p:nvPr/>
        </p:nvSpPr>
        <p:spPr>
          <a:xfrm>
            <a:off x="6143760" y="3429000"/>
            <a:ext cx="1285920" cy="1143000"/>
          </a:xfrm>
          <a:prstGeom prst="rect">
            <a:avLst/>
          </a:prstGeom>
          <a:solidFill>
            <a:srgbClr val="eeece1"/>
          </a:solidFill>
          <a:ln w="9360">
            <a:solidFill>
              <a:srgbClr val="948a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знательное усвоение учебных предм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5"/>
          <p:cNvSpPr/>
          <p:nvPr/>
        </p:nvSpPr>
        <p:spPr>
          <a:xfrm>
            <a:off x="4714920" y="2500200"/>
            <a:ext cx="2000160" cy="642960"/>
          </a:xfrm>
          <a:prstGeom prst="rect">
            <a:avLst/>
          </a:prstGeom>
          <a:solidFill>
            <a:srgbClr val="eeece1"/>
          </a:solidFill>
          <a:ln w="9360">
            <a:solidFill>
              <a:srgbClr val="948a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фпросвещ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6"/>
          <p:cNvSpPr/>
          <p:nvPr/>
        </p:nvSpPr>
        <p:spPr>
          <a:xfrm>
            <a:off x="4357800" y="4786200"/>
            <a:ext cx="3071880" cy="1500480"/>
          </a:xfrm>
          <a:prstGeom prst="rect">
            <a:avLst/>
          </a:prstGeom>
          <a:solidFill>
            <a:srgbClr val="eeece1"/>
          </a:solidFill>
          <a:ln w="9360">
            <a:solidFill>
              <a:srgbClr val="948a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еседы, лекции о профессиях, встречи с выпускниками, экскурсии на производство, общественно-полезный труд, встречи с работниками П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7"/>
          <p:cNvSpPr/>
          <p:nvPr/>
        </p:nvSpPr>
        <p:spPr>
          <a:xfrm>
            <a:off x="4357800" y="3429000"/>
            <a:ext cx="1357200" cy="1143000"/>
          </a:xfrm>
          <a:prstGeom prst="rect">
            <a:avLst/>
          </a:prstGeom>
          <a:solidFill>
            <a:srgbClr val="eeece1"/>
          </a:solidFill>
          <a:ln w="9360">
            <a:solidFill>
              <a:srgbClr val="948a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роки трудового обучения, занятия в ЦРТД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8"/>
          <p:cNvSpPr/>
          <p:nvPr/>
        </p:nvSpPr>
        <p:spPr>
          <a:xfrm>
            <a:off x="6929280" y="2500200"/>
            <a:ext cx="2000520" cy="642960"/>
          </a:xfrm>
          <a:prstGeom prst="rect">
            <a:avLst/>
          </a:prstGeom>
          <a:solidFill>
            <a:srgbClr val="eeece1"/>
          </a:solidFill>
          <a:ln w="9360">
            <a:solidFill>
              <a:srgbClr val="948a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межличностных отнош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9"/>
          <p:cNvSpPr/>
          <p:nvPr/>
        </p:nvSpPr>
        <p:spPr>
          <a:xfrm>
            <a:off x="7572240" y="3429000"/>
            <a:ext cx="1500480" cy="1428840"/>
          </a:xfrm>
          <a:prstGeom prst="rect">
            <a:avLst/>
          </a:prstGeom>
          <a:solidFill>
            <a:srgbClr val="eeece1"/>
          </a:solidFill>
          <a:ln w="9360">
            <a:solidFill>
              <a:srgbClr val="948a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заимопомощь уважение, дружб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товарищ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вниз 20"/>
          <p:cNvSpPr/>
          <p:nvPr/>
        </p:nvSpPr>
        <p:spPr>
          <a:xfrm>
            <a:off x="4214880" y="785880"/>
            <a:ext cx="142920" cy="50004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Группа 32"/>
          <p:cNvGrpSpPr/>
          <p:nvPr/>
        </p:nvGrpSpPr>
        <p:grpSpPr>
          <a:xfrm>
            <a:off x="1714680" y="785880"/>
            <a:ext cx="1214280" cy="714240"/>
            <a:chOff x="1714680" y="785880"/>
            <a:chExt cx="1214280" cy="714240"/>
          </a:xfrm>
        </p:grpSpPr>
        <p:sp>
          <p:nvSpPr>
            <p:cNvPr id="121" name="Стрелка вниз 29"/>
            <p:cNvSpPr/>
            <p:nvPr/>
          </p:nvSpPr>
          <p:spPr>
            <a:xfrm>
              <a:off x="1714680" y="965160"/>
              <a:ext cx="71280" cy="534960"/>
            </a:xfrm>
            <a:prstGeom prst="downArrow">
              <a:avLst>
                <a:gd name="adj1" fmla="val 50000"/>
                <a:gd name="adj2" fmla="val 6264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рямоугольник 30"/>
            <p:cNvSpPr/>
            <p:nvPr/>
          </p:nvSpPr>
          <p:spPr>
            <a:xfrm>
              <a:off x="1785960" y="965160"/>
              <a:ext cx="1143000" cy="554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Прямоугольник 31"/>
            <p:cNvSpPr/>
            <p:nvPr/>
          </p:nvSpPr>
          <p:spPr>
            <a:xfrm>
              <a:off x="2857680" y="785880"/>
              <a:ext cx="71280" cy="179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Группа 33"/>
          <p:cNvGrpSpPr/>
          <p:nvPr/>
        </p:nvGrpSpPr>
        <p:grpSpPr>
          <a:xfrm>
            <a:off x="5714640" y="785880"/>
            <a:ext cx="1214280" cy="714240"/>
            <a:chOff x="5714640" y="785880"/>
            <a:chExt cx="1214280" cy="714240"/>
          </a:xfrm>
        </p:grpSpPr>
        <p:sp>
          <p:nvSpPr>
            <p:cNvPr id="125" name="Стрелка вниз 34"/>
            <p:cNvSpPr/>
            <p:nvPr/>
          </p:nvSpPr>
          <p:spPr>
            <a:xfrm flipH="1">
              <a:off x="6857640" y="965160"/>
              <a:ext cx="71280" cy="534960"/>
            </a:xfrm>
            <a:prstGeom prst="downArrow">
              <a:avLst>
                <a:gd name="adj1" fmla="val 50000"/>
                <a:gd name="adj2" fmla="val 6264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Прямоугольник 35"/>
            <p:cNvSpPr/>
            <p:nvPr/>
          </p:nvSpPr>
          <p:spPr>
            <a:xfrm>
              <a:off x="5715000" y="965160"/>
              <a:ext cx="1143000" cy="554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Прямоугольник 36"/>
            <p:cNvSpPr/>
            <p:nvPr/>
          </p:nvSpPr>
          <p:spPr>
            <a:xfrm flipH="1">
              <a:off x="5714640" y="785880"/>
              <a:ext cx="71280" cy="179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Стрелка вниз 37"/>
          <p:cNvSpPr/>
          <p:nvPr/>
        </p:nvSpPr>
        <p:spPr>
          <a:xfrm>
            <a:off x="954000" y="2071800"/>
            <a:ext cx="46080" cy="428400"/>
          </a:xfrm>
          <a:prstGeom prst="downArrow">
            <a:avLst>
              <a:gd name="adj1" fmla="val 50000"/>
              <a:gd name="adj2" fmla="val 499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трелка вниз 38"/>
          <p:cNvSpPr/>
          <p:nvPr/>
        </p:nvSpPr>
        <p:spPr>
          <a:xfrm>
            <a:off x="2500200" y="2071800"/>
            <a:ext cx="46080" cy="428400"/>
          </a:xfrm>
          <a:prstGeom prst="downArrow">
            <a:avLst>
              <a:gd name="adj1" fmla="val 50000"/>
              <a:gd name="adj2" fmla="val 4992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трелка вниз 39"/>
          <p:cNvSpPr/>
          <p:nvPr/>
        </p:nvSpPr>
        <p:spPr>
          <a:xfrm flipH="1">
            <a:off x="1096920" y="3286080"/>
            <a:ext cx="46080" cy="35712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трелка вниз 40"/>
          <p:cNvSpPr/>
          <p:nvPr/>
        </p:nvSpPr>
        <p:spPr>
          <a:xfrm flipH="1">
            <a:off x="1096920" y="4786200"/>
            <a:ext cx="46080" cy="42876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трелка вниз 42"/>
          <p:cNvSpPr/>
          <p:nvPr/>
        </p:nvSpPr>
        <p:spPr>
          <a:xfrm>
            <a:off x="3046320" y="3286080"/>
            <a:ext cx="46080" cy="28584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трелка вниз 43"/>
          <p:cNvSpPr/>
          <p:nvPr/>
        </p:nvSpPr>
        <p:spPr>
          <a:xfrm>
            <a:off x="6383160" y="2143080"/>
            <a:ext cx="46080" cy="35712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трелка вниз 45"/>
          <p:cNvSpPr/>
          <p:nvPr/>
        </p:nvSpPr>
        <p:spPr>
          <a:xfrm>
            <a:off x="7715160" y="2143080"/>
            <a:ext cx="46080" cy="35712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трелка вниз 46"/>
          <p:cNvSpPr/>
          <p:nvPr/>
        </p:nvSpPr>
        <p:spPr>
          <a:xfrm flipH="1">
            <a:off x="5286240" y="3143160"/>
            <a:ext cx="46080" cy="28584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трелка вниз 47"/>
          <p:cNvSpPr/>
          <p:nvPr/>
        </p:nvSpPr>
        <p:spPr>
          <a:xfrm flipH="1">
            <a:off x="6526080" y="3143160"/>
            <a:ext cx="46080" cy="28584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низ 48"/>
          <p:cNvSpPr/>
          <p:nvPr/>
        </p:nvSpPr>
        <p:spPr>
          <a:xfrm flipH="1">
            <a:off x="5857920" y="3143160"/>
            <a:ext cx="46080" cy="164304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трелка вниз 49"/>
          <p:cNvSpPr/>
          <p:nvPr/>
        </p:nvSpPr>
        <p:spPr>
          <a:xfrm flipH="1">
            <a:off x="7929000" y="3143160"/>
            <a:ext cx="45720" cy="285840"/>
          </a:xfrm>
          <a:prstGeom prst="downArrow">
            <a:avLst>
              <a:gd name="adj1" fmla="val 50000"/>
              <a:gd name="adj2" fmla="val 5036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7Z</dcterms:created>
  <dc:creator>Julian</dc:creator>
  <dc:description/>
  <dc:language>en-US</dc:language>
  <cp:lastModifiedBy>Нинулька</cp:lastModifiedBy>
  <dcterms:modified xsi:type="dcterms:W3CDTF">2021-04-08T18:08:52Z</dcterms:modified>
  <cp:revision>132</cp:revision>
  <dc:subject/>
  <dc:title>PowerPoint Presentation</dc:title>
</cp:coreProperties>
</file>