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136-914F-4F7D-A5DD-34873005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436-D169-43C5-884B-BBB85D3C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C9F-7A78-4CC1-AA28-442B5654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30C-D5AD-4AAF-BF96-4228AA5D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89C-87CE-4CD1-B3A2-51D1051E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C85F-C5D6-4781-9683-EBD3CEDD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071-5449-47BB-BEA3-05C1F73C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D64-BBCC-49F5-AAAE-C4D27602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A0B-8F17-4692-88E9-C1D2195F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8ED-F6E5-4719-BFB3-8AE7BEDD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F6B-3558-45C4-9BD5-527E5D5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8EA-F38E-4722-AF1F-D7FD8A6D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A50-F3A5-4BAD-9609-59BEEF23D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618920"/>
            <a:ext cx="8972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м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ю по тем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кие животные весной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компенсирующей направленности дл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нарушениями речи № 8 «Речецветик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овет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ДОУ д/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072040" y="4565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рева Еле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348000" y="6002640"/>
            <a:ext cx="17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, 2021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0" y="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е звери? Мы пришли в гости к ним, а нас никто не встречает. А, наверное, они решили с нами в прятки поигр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мотрите, кто это за пеньком спрятался? (Заяц). Как вы догадались? (Увидели заячьи ушки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каем на мыш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ик, мы с ребятами хотели у тебя узнать, что изменилось в твоей жизни с приходом вес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0" y="46245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Так я шубку свою поменял. Зимой я был … (белый), а весной стал … (серый). У меня появились малыши, детеныши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Как зовут детенышей зайца (зайча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зайчата почти с первых дней жизни становятся самостоятельными. Сразу после рождения они остаются под кустом одни. Зайчиха покормит их молоком и убежит. Если мимо пробежит чужая зайчиха, она тоже непременно покормит малышей. А очень скоро они сами начнут есть траву и лист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, зайчик, за такой интересный рассказ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s://www.defectologiya.pro/assets/library/556%D0%AF/Page_00006.jpg"/>
          <p:cNvPicPr/>
          <p:nvPr/>
        </p:nvPicPr>
        <p:blipFill>
          <a:blip r:embed="rId1"/>
          <a:stretch/>
        </p:blipFill>
        <p:spPr>
          <a:xfrm>
            <a:off x="-14400" y="1384200"/>
            <a:ext cx="4005360" cy="324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s://i.pinimg.com/originals/e0/26/5f/e0265f53ef67f7157a460f77449c021b.jpg"/>
          <p:cNvPicPr/>
          <p:nvPr/>
        </p:nvPicPr>
        <p:blipFill>
          <a:blip r:embed="rId2"/>
          <a:stretch/>
        </p:blipFill>
        <p:spPr>
          <a:xfrm>
            <a:off x="4959360" y="1125360"/>
            <a:ext cx="3500280" cy="349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2376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н там за кустом еще кто-то прячется. Кто это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а).  А как вы догадались, что это лиса? (Увидели лисиный хвос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108000" y="515772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ичка-сестричка, мы с ребятами хотели узнать, что изменилось в твоей жизни с приходом вес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Весной у меня появились детки. А вы знаете, как зовут моих детенышей?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исята) «Правильно. Я вывожу их в норе. Обычно лисят бывает много, а в этом году у меня появилось целых 10 штук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s://i.etsystatic.com/12382141/r/il/955df4/1032172818/il_1588xN.1032172818_crji.jpg"/>
          <p:cNvPicPr/>
          <p:nvPr/>
        </p:nvPicPr>
        <p:blipFill>
          <a:blip r:embed="rId1"/>
          <a:stretch/>
        </p:blipFill>
        <p:spPr>
          <a:xfrm>
            <a:off x="241200" y="1125360"/>
            <a:ext cx="4070520" cy="3807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s://i.pinimg.com/originals/00/0f/cb/000fcb38de46d2708d315c106ac3be60.jpg"/>
          <p:cNvPicPr/>
          <p:nvPr/>
        </p:nvPicPr>
        <p:blipFill>
          <a:blip r:embed="rId2"/>
          <a:stretch/>
        </p:blipFill>
        <p:spPr>
          <a:xfrm>
            <a:off x="4479840" y="1125360"/>
            <a:ext cx="4508640" cy="380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0" y="64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ята, а кто это прячется вот за тем толстым деревом? (Медведь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ы догадались? (увидели медвежьи лап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дравствуй, медведь. Мы хотим узнать, что изменилось в твоей жизни с приходом весн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Я недавно вылез из берлоги. Пока я еще очень худой и голодный. Всю зиму ничего не ел. „Зимой в берлоге у медведицы родились детки“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ребята знают, как называются твои детеныши. Давайте скажем вместе: (медвежа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медвежата вместе с мамой выходят из берлоги на свет. Мама-медведица учит малышей отыскивать пищу, есть прошлогодние я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s://loverust.ru/wp-content/uploads/2020/03/milota-dnja-ogromnyj-buryj-medved-igraet-v-prjatki-e3de02f.jpg"/>
          <p:cNvPicPr/>
          <p:nvPr/>
        </p:nvPicPr>
        <p:blipFill>
          <a:blip r:embed="rId1"/>
          <a:stretch/>
        </p:blipFill>
        <p:spPr>
          <a:xfrm>
            <a:off x="324000" y="2314440"/>
            <a:ext cx="3135240" cy="454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s://avatars.mds.yandex.net/get-zen_doc/3229639/pub_5ee26501ae8807321d71debd_5ee26523047f235921a91afb/scale_1200"/>
          <p:cNvPicPr/>
          <p:nvPr/>
        </p:nvPicPr>
        <p:blipFill>
          <a:blip r:embed="rId2"/>
          <a:stretch/>
        </p:blipFill>
        <p:spPr>
          <a:xfrm>
            <a:off x="3924360" y="3068640"/>
            <a:ext cx="5040360" cy="3421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1763640" y="5493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Физминут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1413000"/>
            <a:ext cx="842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глянуло в окно, время отдохнуть приш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всем нам дружно вст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попрыгать, побеж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– присесть, достать до пя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лечами покач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, как на зарядк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и красиво встать, руки вытянуть пош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поскак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осок, потом на пят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. минутка, как заряд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0" y="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ти,  когда звери с нами попрощались, они решили оставить нам на память веселую фотографию. Посмотрите, пожалуйста, что на этой фотографии. Какого зверя мы не встречали в волшебном лесу? (Белки), (Рыс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те, чьи уши вы видите? (Разбираем, рассказываем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s://ds05.infourok.ru/uploads/ex/00bb/0000c40a-6d283e4c/img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0" y="30240"/>
            <a:ext cx="90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ныши зверей тоже захотели поиграть с вами. Детенышей, каких зверей вы здесь видите? (Белки, ежа, зайца, медведя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мотрите-ка, ребят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м пришли сюда зверя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скорей запомина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быстро закрыва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не стало, угадай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гра «Кого не стало»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s://ds04.infourok.ru/uploads/ex/0e32/0005da91-c9019848/img4.jpg"/>
          <p:cNvPicPr/>
          <p:nvPr/>
        </p:nvPicPr>
        <p:blipFill>
          <a:blip r:embed="rId1"/>
          <a:stretch/>
        </p:blipFill>
        <p:spPr>
          <a:xfrm>
            <a:off x="250920" y="3860640"/>
            <a:ext cx="1368360" cy="182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s://1.bp.blogspot.com/-0mPdR8r1cVk/X3VowSE3nRI/AAAAAAAAA6E/FKDMHca6cQMiJvspShcmR7enHiC_OShJgCLcBGAsYHQ/s1100/%25D0%25B7%25D0%25B2%25D0%25B5%25D1%2580%25D0%25B8%2B%25D1%2582%25D0%25B5%25D0%25BD%25D1%258C.png"/>
          <p:cNvPicPr/>
          <p:nvPr/>
        </p:nvPicPr>
        <p:blipFill>
          <a:blip r:embed="rId2"/>
          <a:stretch/>
        </p:blipFill>
        <p:spPr>
          <a:xfrm>
            <a:off x="6948360" y="4076640"/>
            <a:ext cx="2195640" cy="16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s://ds04.infourok.ru/uploads/ex/0e32/0005da91-c9019848/img4.jpg"/>
          <p:cNvPicPr/>
          <p:nvPr/>
        </p:nvPicPr>
        <p:blipFill>
          <a:blip r:embed="rId3"/>
          <a:stretch/>
        </p:blipFill>
        <p:spPr>
          <a:xfrm>
            <a:off x="2195640" y="3500280"/>
            <a:ext cx="244764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s://ds04.infourok.ru/uploads/ex/0e32/0005da91-c9019848/img4.jpg"/>
          <p:cNvPicPr/>
          <p:nvPr/>
        </p:nvPicPr>
        <p:blipFill>
          <a:blip r:embed="rId4"/>
          <a:stretch/>
        </p:blipFill>
        <p:spPr>
          <a:xfrm>
            <a:off x="5003640" y="4508640"/>
            <a:ext cx="188136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611280" y="189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цы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https://yt3.ggpht.com/a/AATXAJyv6zhTqWpHwq_X8FGLSr13ypfL6qNOg-4DtUf0=s900-c-k-c0xffffffff-no-rj-mo"/>
          <p:cNvPicPr/>
          <p:nvPr/>
        </p:nvPicPr>
        <p:blipFill>
          <a:blip r:embed="rId1"/>
          <a:stretch/>
        </p:blipFill>
        <p:spPr>
          <a:xfrm>
            <a:off x="1476360" y="1228680"/>
            <a:ext cx="612000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5480" y="264600"/>
            <a:ext cx="90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ческая гимна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показывает пиктограммы (лицо с улыбкой, грустное, зло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эмоцию и показывают 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1916280"/>
            <a:ext cx="4537080" cy="3678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6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859280" y="1628640"/>
            <a:ext cx="4002120" cy="3961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5940360" y="566100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л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http://logomag.ru/files/StoreProdImage/2743.jpg"/>
          <p:cNvPicPr/>
          <p:nvPr/>
        </p:nvPicPr>
        <p:blipFill>
          <a:blip r:embed="rId1"/>
          <a:stretch/>
        </p:blipFill>
        <p:spPr>
          <a:xfrm>
            <a:off x="0" y="549360"/>
            <a:ext cx="4716360" cy="47512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90000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5508720" y="5589720"/>
            <a:ext cx="2087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http://logomag.ru/files/StoreProdImage/2743.jpg"/>
          <p:cNvPicPr/>
          <p:nvPr/>
        </p:nvPicPr>
        <p:blipFill>
          <a:blip r:embed="rId2"/>
          <a:stretch/>
        </p:blipFill>
        <p:spPr>
          <a:xfrm>
            <a:off x="4659480" y="765000"/>
            <a:ext cx="44845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ttps://im0-tub-ru.yandex.net/i?id=36bd59e44d24f8103a1deab71cfa6bb1-l&amp;n=13"/>
          <p:cNvPicPr/>
          <p:nvPr/>
        </p:nvPicPr>
        <p:blipFill>
          <a:blip r:embed="rId1"/>
          <a:stretch/>
        </p:blipFill>
        <p:spPr>
          <a:xfrm>
            <a:off x="2182680" y="398520"/>
            <a:ext cx="6961320" cy="5369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0" y="-33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отгадайте  загадк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крываю поч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еленые листоч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одев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полива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пол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вут меня 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с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3240" y="5934240"/>
            <a:ext cx="91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. А какое время года у нас сейчас? Сегодня я приглашаю вас в путешествие. Мы отправимся с вами в волшебный лес посмотреть и узнать, как изменилась весной жизнь диких живот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-22320" y="0"/>
            <a:ext cx="896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жде, чем идти вперед. Будем мышцы упражнять, Расслаблять и напряг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губ и зубов. Ну, скажите, кто гот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пражнения для губ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немся мы деревья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, лег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лаем им здоровь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сти всем высо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4211640" y="765000"/>
            <a:ext cx="481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Упражнения для зуб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ижние челюсти)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с не разоря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лес все охраня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есем его забор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ками стучим все хор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st4.depositphotos.com/12839612/31477/v/1600/depositphotos_314772922-stock-illustration-red-woman-lips-showing-different.jpg"/>
          <p:cNvPicPr/>
          <p:nvPr/>
        </p:nvPicPr>
        <p:blipFill>
          <a:blip r:embed="rId1"/>
          <a:stretch/>
        </p:blipFill>
        <p:spPr>
          <a:xfrm>
            <a:off x="3240" y="3056040"/>
            <a:ext cx="489744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im0-tub-ru.yandex.net/i?id=02856bf9d68f456b7b30748914063056&amp;ref=rim&amp;n=33&amp;w=267&amp;h=150"/>
          <p:cNvPicPr/>
          <p:nvPr/>
        </p:nvPicPr>
        <p:blipFill>
          <a:blip r:embed="rId2"/>
          <a:stretch/>
        </p:blipFill>
        <p:spPr>
          <a:xfrm>
            <a:off x="4900680" y="3141720"/>
            <a:ext cx="41306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302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Упражнения для язык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чок почистил зу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зал все наши губ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ик языка поднимаетс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ашечка» у нас получа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avatars.mds.yandex.net/get-zen_doc/112297/pub_5b8eeef3419fdb00abba05f1_5b8eef787ea7cd00ab88ec82/scale_1200"/>
          <p:cNvPicPr/>
          <p:nvPr/>
        </p:nvPicPr>
        <p:blipFill>
          <a:blip r:embed="rId1"/>
          <a:stretch/>
        </p:blipFill>
        <p:spPr>
          <a:xfrm>
            <a:off x="0" y="2517840"/>
            <a:ext cx="2776680" cy="311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s://ds05.infourok.ru/uploads/ex/03b2/000003b1-3e9ac03e/hello_html_530de9b9.jpg"/>
          <p:cNvPicPr/>
          <p:nvPr/>
        </p:nvPicPr>
        <p:blipFill>
          <a:blip r:embed="rId2"/>
          <a:stretch/>
        </p:blipFill>
        <p:spPr>
          <a:xfrm>
            <a:off x="3103560" y="2517840"/>
            <a:ext cx="3311640" cy="357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eduportal44.ru/Kostroma_EDU/Kos-Sch-41/zakon/%D0%A8%D0%B0%D0%BB%D0%BC%D0%B0%D0%BD%D0%BE%D0%B2%D0%B0_%D0%90%D0%A1/SiteAssets/SitePages/%D0%90%D1%80%D1%82%D0%B8%D0%BA%D1%83%D0%BB%D1%8F%D1%86%D0%B8%D0%BE%D0%BD%D0%BD%D0%B0%D1%8F%20%D0%B3%D0%B8%D0%BC%D0%BD%D0%B0%D1%81%D1%82%D0%B8%D0%BA%D0%B0/2465240_900.jpg"/>
          <p:cNvPicPr/>
          <p:nvPr/>
        </p:nvPicPr>
        <p:blipFill>
          <a:blip r:embed="rId3"/>
          <a:stretch/>
        </p:blipFill>
        <p:spPr>
          <a:xfrm>
            <a:off x="6084720" y="2554200"/>
            <a:ext cx="2914920" cy="317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08000" y="324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для развития силы вдох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терок всех превраща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ть на тучки разреша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на тучки мы поду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лнышка их дружно сду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cstor.nn2.ru/users/users/foto/369239-2019-10-14-img6.jpg.jpg"/>
          <p:cNvPicPr/>
          <p:nvPr/>
        </p:nvPicPr>
        <p:blipFill>
          <a:blip r:embed="rId1"/>
          <a:stretch/>
        </p:blipFill>
        <p:spPr>
          <a:xfrm rot="20379000">
            <a:off x="4203360" y="-343080"/>
            <a:ext cx="5184720" cy="419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s://yt3.ggpht.com/a/AATXAJw3o3IxExIUaRwgyIe6nLwkaCUbCMi_EO6Fl4U3=s900-c-k-c0xffffffff-no-rj-mo"/>
          <p:cNvPicPr/>
          <p:nvPr/>
        </p:nvPicPr>
        <p:blipFill>
          <a:blip r:embed="rId2"/>
          <a:stretch/>
        </p:blipFill>
        <p:spPr>
          <a:xfrm>
            <a:off x="272880" y="2106720"/>
            <a:ext cx="4370400" cy="440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s://stihi.ru/pics/2020/07/21/811.jpg"/>
          <p:cNvPicPr/>
          <p:nvPr/>
        </p:nvPicPr>
        <p:blipFill>
          <a:blip r:embed="rId3"/>
          <a:stretch/>
        </p:blipFill>
        <p:spPr>
          <a:xfrm>
            <a:off x="-7920" y="1568520"/>
            <a:ext cx="4508640" cy="271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stihi.ru/pics/2020/07/21/811.jpg"/>
          <p:cNvPicPr/>
          <p:nvPr/>
        </p:nvPicPr>
        <p:blipFill>
          <a:blip r:embed="rId4"/>
          <a:stretch/>
        </p:blipFill>
        <p:spPr>
          <a:xfrm>
            <a:off x="-396720" y="4005360"/>
            <a:ext cx="4508280" cy="271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s://stihi.ru/pics/2020/07/21/811.jpg"/>
          <p:cNvPicPr/>
          <p:nvPr/>
        </p:nvPicPr>
        <p:blipFill>
          <a:blip r:embed="rId5"/>
          <a:stretch/>
        </p:blipFill>
        <p:spPr>
          <a:xfrm>
            <a:off x="1857240" y="2674800"/>
            <a:ext cx="4508640" cy="271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98280" y="0"/>
            <a:ext cx="89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ачать  путешествие нам нужно изучить путь, по которому мы пойдем. Перед вами карта, на ней — тропа. Давайте пальчиками потренируемся по ней ходить. Старайтесь «ступать» след в след, чтобы не провалиться, ведь в лесу еще много сне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а теперь — вперед по настоящей тропе (Шагаем «по следам» к игровой зон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s://thumbs.dreamstime.com/z/outdoor-sports-activities-backpacker-icon-hiking-camping-track-map-sport-orienteering-cross-country-nordic-walking-vector-80488207.jpg"/>
          <p:cNvPicPr/>
          <p:nvPr/>
        </p:nvPicPr>
        <p:blipFill>
          <a:blip r:embed="rId1"/>
          <a:stretch/>
        </p:blipFill>
        <p:spPr>
          <a:xfrm>
            <a:off x="314280" y="1190520"/>
            <a:ext cx="8496360" cy="5658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рибыли на лесную опушку. Посмотрите вокруг, какая красота! У вас хорошее настроение? Давайте поиграем в любимую игру зверей волшебного ле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0" y="684360"/>
            <a:ext cx="273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зве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есной опуш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-были звер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енькой избуш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и звери уш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и свои лапоч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жались звер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ли тап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sun9-46.userapi.com/CgNLmq-RMgA8h6QOAU-vnNaFVvOl0MbHurg0CQ/1jI-0AEVXH4.jpg"/>
          <p:cNvPicPr/>
          <p:nvPr/>
        </p:nvPicPr>
        <p:blipFill>
          <a:blip r:embed="rId1"/>
          <a:stretch/>
        </p:blipFill>
        <p:spPr>
          <a:xfrm>
            <a:off x="2189160" y="1197000"/>
            <a:ext cx="6815160" cy="5553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04:40:14Z</dcterms:created>
  <dc:creator>User</dc:creator>
  <dc:description/>
  <dc:language>en-US</dc:language>
  <cp:lastModifiedBy>Админ</cp:lastModifiedBy>
  <dcterms:modified xsi:type="dcterms:W3CDTF">2021-04-09T14:30:16Z</dcterms:modified>
  <cp:revision>194</cp:revision>
  <dc:subject/>
  <dc:title>Слайд 1</dc:title>
</cp:coreProperties>
</file>