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79DB-9E23-49AB-9BD8-8BDFC74CC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28E8-C9DD-4DA9-8660-08D20D82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66CF-5603-47C1-8887-AA573BA3F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2C23-D81B-4C30-90AE-F18F3818E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78F1-E0F3-4216-AA04-8FF095B6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1542-5088-4AC5-B9BE-EE441E4B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1D10-68FF-474F-9A08-D848B416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3706-0E6A-4249-BBC8-0FA6B8AD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9A7B-B819-40B8-9332-B7C3C6FC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829C-B866-4ABE-A246-5E3BF3BE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A92F-22D3-4ECD-882B-9CCC8F94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280A-555F-4297-969C-7C54BBAD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C019-E30C-47DE-8D3D-53ABFADBE8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http://www.lama.kz/pic/space/4444/kosmos-1600x1200.jpg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КОСМО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357120" y="5786280"/>
            <a:ext cx="385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Золотухина Татья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Музыкальный руковод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Детский сад №29 «У Лукоморь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15" descr="http://www.clker.com/cliparts/b/8/5/5/1194989601543022112rocket.svg.hi.png"/>
          <p:cNvPicPr/>
          <p:nvPr/>
        </p:nvPicPr>
        <p:blipFill>
          <a:blip r:embed="rId1"/>
          <a:stretch/>
        </p:blipFill>
        <p:spPr>
          <a:xfrm rot="4447200">
            <a:off x="2558880" y="2643120"/>
            <a:ext cx="655560" cy="6523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7:36:35Z</dcterms:created>
  <dc:creator>Administratore</dc:creator>
  <dc:description/>
  <dc:language>en-US</dc:language>
  <cp:lastModifiedBy>Super</cp:lastModifiedBy>
  <dcterms:modified xsi:type="dcterms:W3CDTF">2021-04-09T14:27:29Z</dcterms:modified>
  <cp:revision>24</cp:revision>
  <dc:subject/>
  <dc:title>Слайд 1</dc:title>
</cp:coreProperties>
</file>