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048-165C-408F-95BC-0D610A91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C02-25FD-4747-955C-C20A59D7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8D9-A5B9-4BBD-AFB8-F3AAAF58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A3C-6E91-4978-A205-C9011AB7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150-AD12-4E94-B5B7-1AD5D1ED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2E0-8F82-4F4E-A46A-19A6FB94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37A-F376-4D5C-ACE8-8B8D779C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158-A03F-4124-90DF-8F6294A0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7C0-DE7C-4349-A302-F8AD9619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E84-4417-42DF-8352-4D35AA0E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020-1FBD-43E7-A1F2-8697585C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F41-7E8B-4451-B498-9A890DD4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4A58-9D66-4B79-87BC-DC436847DA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57120" y="5786280"/>
            <a:ext cx="38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Золотухина Татья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Детский сад №29 «У Лукоморь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5" descr="http://www.clker.com/cliparts/b/8/5/5/1194989601543022112rocket.svg.hi.png"/>
          <p:cNvPicPr/>
          <p:nvPr/>
        </p:nvPicPr>
        <p:blipFill>
          <a:blip r:embed="rId1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Super</cp:lastModifiedBy>
  <dcterms:modified xsi:type="dcterms:W3CDTF">2021-04-09T14:27:29Z</dcterms:modified>
  <cp:revision>24</cp:revision>
  <dc:subject/>
  <dc:title>Слайд 1</dc:title>
</cp:coreProperties>
</file>