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F35-7D5A-4BB5-8221-5D1E9CFC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A5E-C4FF-4F62-8A5F-0F95DA3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ACA-F3F6-4C3A-97F7-333C3647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DEB-64A7-4820-A725-22974F50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3EB9-BE18-4E6F-88A9-D67E49DA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BFA0-BD48-48AB-82FB-88FC839E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FE9-2EA2-4A62-B205-7B84A896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914F-D898-4B4C-8B11-740748FF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A930-8AF7-461F-B34C-292BE573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CDEF-F8AB-47DA-BA36-9A159EDC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811E-60A3-4F54-8ED0-5C8DCF50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D45-AA99-4FB9-8B05-776B89BC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5009-F6B8-4C8A-8623-2B98BA5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7DD-5E54-48D7-934B-156962E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7BC-3203-4445-B6E3-DBBE394C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6EDA-C675-4965-BDD5-D0D1E30B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BF72-406A-4F9C-A08B-71BBCEA3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DF9-440E-42A7-B149-E5A8CC8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D19-877C-4569-8CFB-C1E79EE1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EC6-1133-4E86-A596-75820B34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74F0-138E-4D75-BC6A-62BF6CC4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FD3-E7AB-4379-A9F6-3DE8A389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F2A-1815-469A-B313-9382FA9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F80-A409-4A9B-90B9-800DABF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3A3-AD9B-4805-B228-EA44AED41267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866C-7ADC-4AA4-8732-FD105BEB04CA}" type="slidenum">
              <a:rPr b="0" lang="ru-RU" sz="1200" spc="-1" strike="noStrike">
                <a:solidFill>
                  <a:srgbClr val="898989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2"/>
          <a:stretch/>
        </p:blipFill>
        <p:spPr>
          <a:xfrm>
            <a:off x="682560" y="262080"/>
            <a:ext cx="78519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Чтение с пометками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560" y="126828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сформировать умение читать вдумчиво,   оценивать    информацию,  формулировать мысли автора своими словами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Знакомая информац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Новая информация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Я думал (думала) иначе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Это меня заинтересовало (удивило), хочу       узнать больше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Синквейн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тихотворение, состоящее из пяти строк, написанное по следующим правилам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1 строка- одно существительное, выражающее главную мысль синквейн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2 строка- два прилагательных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3 строка- три глагола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4 строка- фраза, несущая определенный смысл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5 строка- заключение в форме существительног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к слову «судьба»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Судьб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ая, несчастна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лачем, смеёмся, грусти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 вперёд неустанно движемс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изнь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 этап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текстом после чте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.  Концептуальная (смысловая) беседа по тексту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ое обсуждение прочитанного, дискуссия. Соотнесение читательских интерпретаций (истолкований, оценок) произведения с авторской позицией. Выявление и формулирование основной идеи текста или совокупности его главных смыслов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2. Знакомство с писателем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Рассказ о писателе. Беседа о личности писателя. Работа с материалами учебника, дополнительными источникам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3. Работа с заглавием, иллюстрация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. Обсуждение смысла заглавия. Обращение учащихся к готовым иллюстрациям. Соотнесение видения художника с читательским представлением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4. Творческие задания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опирающиеся на какую-либо сферу читательской деятельности учащихся (эмоции, воображение, осмысление содержания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:\_\портрет паустовског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государственный образовательный стандарт начального общего образования // [Электронный ресурс] http://standart edu.ru/catalog.aspx?CatalogId=959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Г. И. Развитие умений смыслового чтения в начальной школе / Г. И. Бондаренко // Начальная школа плюс: до и после // Электронный ресурс www.school 2100.r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лиманова Л. Обучение чтению в начальных классах//Школа 2013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ьвов М.Р., Горецкий В.Г. Сосновская О.В. Методика преподавания русского языка в начальных классах. – М.:201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396720" y="-458640"/>
            <a:ext cx="9540720" cy="731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</p:pic>
      <p:sp>
        <p:nvSpPr>
          <p:cNvPr id="112" name="TextBox 4"/>
          <p:cNvSpPr/>
          <p:nvPr/>
        </p:nvSpPr>
        <p:spPr>
          <a:xfrm>
            <a:off x="-2610720" y="0"/>
            <a:ext cx="969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Боцман Баку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Смысловое чтение-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ид чтения, которое нацелено на понимание читающим смыслового содержания текста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нтиципац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ети читают фамилию автора, заглавие произведения, рассматривают иллюстрацию, которая предшествует тексту, затем высказывают свои предположения о героях, теме, содержани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691920"/>
            <a:ext cx="8074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с удовольствием изготавливают ромашку, на каждом из шести лепестков которой записываются вопросы разных типов. Работа может быть индивидуальной, парной или группово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ель - с помощью 6 вопросов выйти на понимание содержащейся в тексте информации, на осмысление авторской позиции (в художественных и публицистических текстах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89" name="Содержимое 3" descr="img2.jpg"/>
          <p:cNvPicPr/>
          <p:nvPr/>
        </p:nvPicPr>
        <p:blipFill>
          <a:blip r:embed="rId1"/>
          <a:stretch/>
        </p:blipFill>
        <p:spPr>
          <a:xfrm>
            <a:off x="1547640" y="3573360"/>
            <a:ext cx="4104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вопросов Б.Блу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560" y="119700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Проверяют знание текста. Ответом на них должно быть краткое и точное воспроизведение содержащейся в тексте информации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звали главного героя? Куда впадает Волг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очняющ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ыводят на уровень понимания текста. Это провокационные вопросы, требующие ответов "да" - "нет" и проверяющие подлинность текстовой информации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да ли, что... Если я правильно понял, то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ие вопросы вносят ощутимый вклад в формирование навыка ведения дискусс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вопросов Б.Блум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ие вопросы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Подразумевают синтез полученной информации. В них всегда есть частица БЫ или будущее время, а формулировка содержит элемент прогноза, фантазии или предположения. 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Что бы произошло, если... Как, вы думаете, сложилась бы судьба героя, если бы он остался жив?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Оценочные вопросы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 Направлены на выяснение критериев оценки явлений, событий, фактов. </a:t>
            </a:r>
            <a:r>
              <a:rPr b="0" i="1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Как вы относитесь к ... ? Что лучше? Правильно ли поступил ...?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вопросов Б.Блума: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ясняющие (интерпретационные)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Используются для анализа текстовой информации. Начинаются со слова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Почему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правлены на выявление причинно-следственных связей. Важно, чтобы ответа на такой вопрос не содержалось в тексте в готовом виде, иначе он перейдёт в разряд прос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ктичес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целен на применение, на поиск взаимосвязи меду теорией и практ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бы я поступил на месте героя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Чтение в парах- обобщение в парах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формировать умение выделять главное, обобщать прочитанное в виде тезиса, задавать проблемные вопрос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Каждый ученик поочередно выполняет две роли: докладчик- читает и обобщает содержание в виде одного тезиса; респондент –слушает докладчика и задает два вопроса по существу. Далее происходит смена рол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Дневник двойных записей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00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Цель: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сформировать умение задавать вопросы  во   время чтения,       критически оценивать информацию, сопоставлять прочитанное с собственным опытом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1.Учитель дает указание учащимся разделить тетрадь на две части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2. В процессе чтения ученики должны в левой части записать моменты, которые поразили, удивили, напомнили о   каких-то    фактах,    вызвали     какие- либо ассоциации; в правой – написать    лаконичный      комментарий: почему     именно   этот  момент удивил, какие ассоциации вызвал, на какие мысли натолкнул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5T09:49:01Z</dcterms:created>
  <dc:creator>Елена</dc:creator>
  <dc:description/>
  <dc:language>en-US</dc:language>
  <cp:lastModifiedBy>PC</cp:lastModifiedBy>
  <dcterms:modified xsi:type="dcterms:W3CDTF">2017-12-11T22:06:11Z</dcterms:modified>
  <cp:revision>71</cp:revision>
  <dc:subject/>
  <dc:title>Слайд 1</dc:title>
</cp:coreProperties>
</file>