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121-61B7-4BB8-B571-72B7E4CF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55C-DB0B-4A10-B7CB-6FDA090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3F1-0E92-46CE-9BDE-C84AFFA0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174-AC49-406F-B7E7-458662C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C10B-0A3A-4DEC-912A-752DA08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526-E305-48B3-8851-D0804D4E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A73-CED1-428A-B867-A2BC6C0C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76B8-F3A4-4E44-B274-79DA5D04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188-7BD1-4E12-B858-398CF34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D417-9CFE-4712-9BC0-B1B50B9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3F5B-49E3-4890-B686-2E73FAA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643-CE10-417E-B30B-60BCF77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9E4B-1CC5-4D68-8DDA-5CC40C4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4F67-8CE1-49DE-A6DD-61CB4BA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541-A655-4389-AC86-3D3D5B4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5D25-870E-4076-8147-2DE62F1E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1717-A895-4CB6-AB03-DACCFD7F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7F-04D1-4B0D-A966-FB17792A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D76-1F38-44BC-B4F4-9E39EA32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486-C530-4A73-8CFF-682B508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8DA-0F38-4635-97D0-04A9457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E8F-EF0F-49E7-9808-5B4F4D2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521-D09B-4BEE-9DAD-79D7567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E1D-5FF5-43B5-8C65-543CCD1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245-30F2-4059-8E0B-712120FD0D71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3C9-1B22-4A0E-A845-C2957C53C783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262080"/>
            <a:ext cx="78519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ение с пометкам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26828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сформировать умение читать вдумчиво,   оценивать    информацию,  формулировать мысли автора своими слова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Знакомая информац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Новая информац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Я думал (думала) иначе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Это меня заинтересовало (удивило), хочу       узнать больше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Синквейн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тихотворение, состоящее из пяти строк, написанное по следующим правилам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1 строка- одно существительное, выражающее главную мысль синквейн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2 строка- два прилагательных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3 строка- три глагол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4 строка- фраза, несущая определенный смысл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5 строка- заключение в форме существительног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к слову «судьба»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Судьб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ая, несчастн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лачем, смеёмся, грусти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вперёд неустанно движемс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изн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этап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 после чт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 Концептуальная (смысловая) беседа по тексту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е обсуждение прочитанного, дискуссия. Соотнесение читательских интерпретаций (истолкований, оценок) произведения с авторской позицией. Выявление и формулирование основной идеи текста или совокупности его главных смыслов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2. Знакомство с писателем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Рассказ о писателе. Беседа о личности писателя. Работа с материалами учебника, дополнительными источникам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3. Работа с заглавием, иллюстра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Обсуждение смысла заглавия. Обращение учащихся к готовым иллюстрациям. Соотнесение видения художника с читательским представлением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4. Творческие задания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опирающиеся на какую-либо сферу читательской деятельности учащихся (эмоции, воображение, осмысление содержания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:\_\портрет паустовског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 образовательный стандарт начального общего образования // [Электронный ресурс] http://standart edu.ru/catalog.aspx?CatalogId=959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Г. И. Развитие умений смыслового чтения в начальной школе / Г. И. Бондаренко // Начальная школа плюс: до и после // Электронный ресурс www.school 2100.r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иманова Л. Обучение чтению в начальных классах//Школа 201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ьвов М.Р., Горецкий В.Г. Сосновская О.В. Методика преподавания русского языка в начальных классах. – М.:201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3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sp>
        <p:nvSpPr>
          <p:cNvPr id="112" name="TextBox 4"/>
          <p:cNvSpPr/>
          <p:nvPr/>
        </p:nvSpPr>
        <p:spPr>
          <a:xfrm>
            <a:off x="-2610720" y="0"/>
            <a:ext cx="969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Боцман Баку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е чтение-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ид чтения, которое нацелено на понимание читающим смыслового содержания текста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нтиципац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ти читают фамилию автора, заглавие произведения, рассматривают иллюстрацию, которая предшествует тексту, затем высказывают свои предположения о героях, теме, содержани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691920"/>
            <a:ext cx="8074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с удовольствием изготавливают ромашку, на каждом из шести лепестков которой записываются вопросы разных типов. Работа может быть индивидуальной, парной или группово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ль - с помощью 6 вопросов выйти на понимание содержащейся в тексте информации, на осмысление авторской позиции (в художественных и публицистических текстах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9" name="Содержимое 3" descr="img2.jpg"/>
          <p:cNvPicPr/>
          <p:nvPr/>
        </p:nvPicPr>
        <p:blipFill>
          <a:blip r:embed="rId1"/>
          <a:stretch/>
        </p:blipFill>
        <p:spPr>
          <a:xfrm>
            <a:off x="1547640" y="3573360"/>
            <a:ext cx="410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560" y="119700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Проверяют знание текста. Ответом на них должно быть краткое и точное воспроизведение содержащейся в тексте информации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звали главного героя? Куда впадает Волг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очня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ыводят на уровень понимания текста. Это провокационные вопросы, требующие ответов "да" - "нет" и проверяющие подлинность текстовой информации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да ли, что... Если я правильно понял, то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е вопросы вносят ощутимый вклад в формирование навыка ведения дискусс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ие вопросы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Подразумевают синтез полученной информации. В них всегда есть частица БЫ или будущее время, а формулировка содержит элемент прогноза, фантазии или предположения. 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Что бы произошло, если... Как, вы думаете, сложилась бы судьба героя, если бы он остался жив?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Оценочные вопросы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Направлены на выяснение критериев оценки явлений, событий, фактов. 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Как вы относитесь к ... ? Что лучше? Правильно ли поступил ...?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ющие (интерпретационные)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спользуются для анализа текстовой информации. Начинаются со слова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очему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правлены на выявление причинно-следственных связей. Важно, чтобы ответа на такой вопрос не содержалось в тексте в готовом виде, иначе он перейдёт в разряд прос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целен на применение, на поиск взаимосвязи меду теорией и прак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бы я поступил на месте героя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Чтение в парах- обобщение в парах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формировать умение выделять главное, обобщать прочитанное в виде тезиса, задавать проблемные вопрос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ждый ученик поочередно выполняет две роли: докладчик- читает и обобщает содержание в виде одного тезиса; респондент –слушает докладчика и задает два вопроса по существу. Далее происходит смена ро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невник двойных записей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1.Учитель дает указание учащимся разделить тетрадь на две част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2. В процессе чтения ученики должны в левой части записать моменты, которые поразили, удивили, напомнили о   каких-то    фактах,    вызвали     какие- либо ассоциации; в правой – написать    лаконичный      комментарий: почему     именно   этот  момент удивил, какие ассоциации вызвал, на какие мысли натолкнул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9:49:01Z</dcterms:created>
  <dc:creator>Елена</dc:creator>
  <dc:description/>
  <dc:language>en-US</dc:language>
  <cp:lastModifiedBy>PC</cp:lastModifiedBy>
  <dcterms:modified xsi:type="dcterms:W3CDTF">2017-12-11T22:06:11Z</dcterms:modified>
  <cp:revision>71</cp:revision>
  <dc:subject/>
  <dc:title>Слайд 1</dc:title>
</cp:coreProperties>
</file>