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377-EE15-45B9-B053-683B65B9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B52-D597-4FFB-840D-56FEEC77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E13-A339-4184-831D-3358032E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0EC-C54A-4F9A-877C-897C64F4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23F-466F-4541-9B37-F23C4F9C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9A6-19B8-47B3-89EF-D487E26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E12-2B68-4006-9992-347932F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CE67-FBBE-43C8-90F9-ABAC5F79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FFB-9776-4E72-B120-D418AD02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244E-CE43-44BC-A138-20801C3F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2EA-25DF-43F8-BE05-41E4309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80D-E628-49A0-B405-937F7425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7FA-9E36-4BA2-8F48-C7EDFFD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5DFC-9324-4E16-B498-DF2DB0E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901A-748C-4891-BEB2-02BB2BA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82A5-E73C-4AEA-B117-D27A9503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C7BB-15D6-45F1-ACB1-8F5F20F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CBF39-FA47-416E-B563-4F0BCA51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4AD96-5F7A-483B-9BBD-AB5D8FE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F889B-CDC9-4989-A35E-566EF362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52905-3DE8-45C7-A494-243E078A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D3DBB-5D47-4579-9BB0-46706CEF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79C-59B0-48F2-8195-3071290E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2A978-B3CC-49F5-8E67-9808EC8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F34B8-01E2-41AD-A092-F49CE34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6D549-7E65-4D01-B0B3-9F10282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A2043-B98D-4A4B-ACB1-00F62210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BAC89-BE17-454F-913B-88A38D2F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7F6C9-E02D-44EF-9B06-DA29B696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BB92E-8DDE-4A27-8668-A2081AE8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4BBA3-4022-4270-8473-2BEFF1D0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0816-DFCB-4B25-BA9A-02FF109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2B98B-5C96-452A-8FEC-C6871D89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8B6-8179-44A0-ACBA-9FDADB5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84B9-E264-4F5E-AAB1-108B0777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36F4-5D6A-4D21-9326-5F69D8A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0614-6EDD-4F12-9E23-77B8CBA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2CB5A-DE28-4B44-9FFA-91AD72BA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5653-219E-4BCD-BD68-FD21B65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7D32-281F-489A-959A-28F7CF3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4E0A-B6A8-4D6E-B2B6-A1E7A2C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17CE-9755-4A91-AD10-97516A32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F7D6-CAF1-4671-987C-ECD4E1A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4248E-CB94-48D5-99EB-2A377101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5989-D110-4C2A-BA98-B1948A3E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7DAD5-673A-46AB-830F-D21EA03F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86AEA-7253-493E-B793-3E2552B7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CB473-B5B9-485B-8B04-D960C51D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CDC0D-381B-4BEC-80F8-F05E4527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AF0C4-A118-4AE9-9276-A64FC66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D350C-0DA6-42B0-8F28-31661D5C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635C9-9064-4010-B263-95CF33D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91BC6-12BA-4C49-A671-5070BC7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7A365-7B7D-4F57-A378-ABF2927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B42BB-D50A-48B9-9BA0-00D75318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93C-8849-4534-B78E-3BDE9EF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11E1C-BE73-4A4C-BD81-6127B0B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6649E-19DF-42C8-A0C8-BB600CDD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36958-50BE-4182-8994-2AA01C6B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D07AC-71CD-4D8F-B2F9-2FDA24E3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70D3C-BEF0-49C5-88F7-BC0601F2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A5621-6E58-43E2-8F40-22C33A0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722C30-F6A6-4DDF-A48F-E884BA20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6DA80-7774-4459-93F9-1F06F43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D9B9B-0EF2-4ED2-88FA-B7B28A3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9CFF74-D7A0-45E2-AD0D-3EA35DC0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ED5-052D-4CB6-929A-CAB41243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70D9C-BD1B-409B-A599-40B03A29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4E928-F3C4-46C3-BBFA-6A4D2444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BB092-2415-4CA1-9BAD-E277AE18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5C127-013C-498E-851D-90D66D8B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8A5406-BD07-4C45-883C-5441B7D3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49ECA-89F5-43AC-8C96-7318057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17C27-1A2A-4A68-BCA3-BA0EBE5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BBB36-ED72-4785-832A-9C579A8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723339-3E1C-484B-9D9E-703EE6F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F6FCE-0902-48EB-8357-81FAB1A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B24-E067-451B-80A5-17E3590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3E84E-91F6-4579-BCF0-690B2F2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4F2CD-28A0-45AD-8CFB-2DF2D5C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F11D0-19E1-49F5-892F-8893D82A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8817E-DE4E-4FEB-B144-CFE0A328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699DB-A188-46C8-A923-9849B928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095-E67A-4548-B73A-0260FD7A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46D3-1CDA-4B6A-9C47-E6C545AE59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187-3D0F-4226-A2B8-6003239019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54E-8ABC-4869-9ED6-77B9BB60EB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BBB7-E5F9-4668-AE4C-AE9E89A808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EB6-AB88-4FF5-B5E6-0794D576A9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44FB-70A0-4380-A6B5-858D52564D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9155-4237-431E-9861-02F9CA6898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СПБ ГБСУ СО «ДОМ-ИНТЕРНАТ ДЛЯ ДЕТЕЙ С ОТКЛОНЕНИЯМИ В УМСТВЕННОМ РАЗВИТИИ № 4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4840" y="3068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7030a0"/>
                </a:solidFill>
                <a:latin typeface="Century Schoolbook"/>
              </a:rPr>
              <a:t>«Русская матрешка»</a:t>
            </a:r>
            <a:endParaRPr b="0" lang="en-US" sz="4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одзаголовок 2"/>
          <p:cNvSpPr/>
          <p:nvPr/>
        </p:nvSpPr>
        <p:spPr>
          <a:xfrm>
            <a:off x="1403280" y="602136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entury Schoolbook"/>
              </a:rPr>
              <a:t>Воспитатель: Павликова Ирина Ивановн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105228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Цель: </a:t>
            </a: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Знакомство с русской деревянной игрушкой матреш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Учить открывать и закрывать матрешку доступным способ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Развивать мелкую и крупную моторику рук, двигательную активность, тактильные ощущ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Развивать умение детей брать предмет в руки и манипулировать и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6400" indent="-402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оспитывать интерес к взаимодействую со взросл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6707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МАТРЕШКА ЭТО РАЗЪЕМНАЯ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ДЕРЕВЯННАЯ ИГРУШК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3068640"/>
            <a:ext cx="453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Наша русская матреш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Не стареет сотню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 красоте, в таланте русс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entury Schoolbook"/>
              </a:rPr>
              <a:t>Весь находится секр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Объект 8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158436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268000" y="691920"/>
            <a:ext cx="6264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Tahoma"/>
                <a:ea typeface="Tahoma"/>
              </a:rPr>
              <a:t>    </a:t>
            </a:r>
            <a:r>
              <a:rPr b="0" lang="ru-RU" sz="2800" spc="-1" strike="noStrike">
                <a:solidFill>
                  <a:srgbClr val="7030a0"/>
                </a:solidFill>
                <a:latin typeface="Tahoma"/>
                <a:ea typeface="Tahoma"/>
              </a:rPr>
              <a:t>Первые матрешки появились очень давно – это была русская раскладная кукла из дерева, внутри которой находятся куколки меньшего размера. Эту куклу называли матрешка, так как в то время самым распространенным именем было Матрена (уменьшительно - Матреша) и ассоциировалось с матерью многочисленного семейства. В наше время матрешки используют как сувениры или детские развивающие игруш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453708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В МАТРЕШКЕ – МАТРЕШКА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В МАТРЕШКЕ – МАТРЕШКА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А САМАЯ МАЛЕНЬКА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КАК КРОШКА,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ЛЮБЛЮ Я С МАТРЕШКАМИ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ЧАСТО ИГРАТ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ПЕРВА РАЗБИРАТЬ ИХ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ПОТОМ СОБИРАТЬ.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СОБРАТЬ ИХ НЕ ДОЛГО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МИНУТА, ВТОРАЯ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И ВЫРАСТЕТ СРАЗУ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МАТРЕШКА БОЛЬША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Объект 11" descr=""/>
          <p:cNvPicPr/>
          <p:nvPr/>
        </p:nvPicPr>
        <p:blipFill>
          <a:blip r:embed="rId1"/>
          <a:stretch/>
        </p:blipFill>
        <p:spPr>
          <a:xfrm>
            <a:off x="5580000" y="3716280"/>
            <a:ext cx="2685960" cy="1704960"/>
          </a:xfrm>
          <a:prstGeom prst="rect">
            <a:avLst/>
          </a:prstGeom>
          <a:ln w="0">
            <a:noFill/>
          </a:ln>
        </p:spPr>
      </p:pic>
      <p:pic>
        <p:nvPicPr>
          <p:cNvPr id="361" name="Объект 7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4494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Объект 6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2118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ФИЗМИНУТКА «МАТРЕШКА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050560" y="1628640"/>
            <a:ext cx="6697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Хлопают в ладошки, дружные матреш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хлопают в ладоши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На ногах сапож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руки на пояс, по очереди выставляют ноги на пятку вперед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,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Топают матрешки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топают ногами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Влево, вправо наклонились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наклоны тела влево, вправо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Всем знакомым поклонились (</a:t>
            </a:r>
            <a:r>
              <a:rPr b="1" i="1" lang="ru-RU" sz="2600" spc="-1" strike="noStrike">
                <a:solidFill>
                  <a:srgbClr val="7030a0"/>
                </a:solidFill>
                <a:latin typeface="Century Schoolbook"/>
              </a:rPr>
              <a:t>наклоны головой влево, вправо</a:t>
            </a:r>
            <a:r>
              <a:rPr b="1" lang="ru-RU" sz="2600" spc="-1" strike="noStrike">
                <a:solidFill>
                  <a:srgbClr val="7030a0"/>
                </a:solidFill>
                <a:latin typeface="Century Schoolbook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274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entury Schoolbook"/>
              </a:rPr>
              <a:t>УЧИМСЯ ОТКРЫВАТЬ ЗАКРЫВАТЬ МАТРЕШКУ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7" descr="WhatsApp Image 2021-04-09 at 19.10.44.jpeg"/>
          <p:cNvPicPr/>
          <p:nvPr/>
        </p:nvPicPr>
        <p:blipFill>
          <a:blip r:embed="rId1"/>
          <a:stretch/>
        </p:blipFill>
        <p:spPr>
          <a:xfrm>
            <a:off x="971640" y="2133720"/>
            <a:ext cx="7067520" cy="397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5:00:59Z</dcterms:created>
  <dc:creator>Kodoko</dc:creator>
  <dc:description/>
  <dc:language>en-US</dc:language>
  <cp:lastModifiedBy>Мамик</cp:lastModifiedBy>
  <dcterms:modified xsi:type="dcterms:W3CDTF">2021-04-09T16:27:42Z</dcterms:modified>
  <cp:revision>10</cp:revision>
  <dc:subject/>
  <dc:title>СПБ ГБСУ СО «Дом-интернат для детей с отклонениями в умственном развитии № 4»</dc:title>
</cp:coreProperties>
</file>