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3739-A5B1-409B-81AE-F120FE5E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292F-C64E-4E79-9E1F-97535070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F7B-C190-416D-9C98-847A0475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669-0D74-4A18-96CB-A24CA12C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D221-A357-4ED3-A2B6-0A3BBC32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4DB2-5F4F-4539-944E-6D94679B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EEB5-9737-49CC-967D-8C9E9760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4863-5395-4803-A1CD-499226DE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EB20-5325-4CE2-8E37-07A5E4BC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6AC0-8ED4-4FB4-9CAF-819A0575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7BA4-D31B-4FDC-8B3D-AB81CCAA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0BA1-BA71-4E51-89FA-81964EE5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9E25-C262-4F08-8ECB-E4DFB1C7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BEAE-5C3C-43CC-8C50-9F4BBAAC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D426-73DE-4760-97D8-8A50A9C7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82DE-C0F4-4E69-9D50-E4E04C9A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6AF2-1ED5-4CFC-98A2-76725900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A29F9-88D9-4F4B-AC88-BE430319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365D2-75CE-49AB-AA63-968635B0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E98E9-EB74-4F04-B93F-92FAA470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62594-964D-4FCB-99DE-4A342B7D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1F86B-B81E-4A34-B608-16CBAB3D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C3D-CFA8-4CD0-9918-7A79CEE2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2CCBF-C39A-47E4-94DF-5DD7DB36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E7EC6-AC77-4402-BEB0-96192C86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2AB9B-CFB8-4A1B-880E-66BDCD4B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FBBE6-8707-42C2-AB20-F4F5E5C9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45285-6356-4B44-BD88-DC6E77D3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B5E06-C3D5-4121-BF03-2998F01B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6D034-A68E-498E-A48B-923E06CF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A07F3-7CE1-4823-86EA-CF11C9D5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DDE0-43ED-47C8-A747-38F004C9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37854-7829-476A-A31E-0CE5410A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7344-2769-46E3-9BA9-A820C93A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D374A-A50E-4A6E-89FB-6530E58A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09C4E-E2B7-41DE-BD53-274C6072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F17F3-AFE5-4FFA-B665-F31FCEA1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999D3-E682-4EBD-922A-E489F807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BC6A2-334D-416E-94CB-6A1CA508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A8C22-E6E2-4A19-B366-138D9E27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0C716-7FD0-409E-A7CB-10448DCE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5D5FF-05FD-4F4C-A6FC-69494AC9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5E395-6B64-420A-9D03-23EF6838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323C0-833C-4750-B174-0180CF64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58B-F7AB-41B1-991C-675A21A7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A46E84-523B-4199-8C86-937249F6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39F00-2F78-4B00-A2C7-556820CD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950CA0-32C4-4343-9E55-9C241115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711B0D-8304-48D7-9026-5B0352ED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BAD1AA-2D0B-4568-A44F-1D679BB6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76181-A4F5-4DDD-AC4E-44FC0A45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56D62-0D1E-4281-91BA-9C4CEA91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3F378-33F5-4C0B-A703-1D212573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6DA24-518F-4451-B555-10AA7FE9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C8E0D-A646-48F0-AA3C-23166CED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F42-03A6-4C73-8C7B-EA6D33DD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D5BD8A-6120-485B-B809-BF4C21A8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FF08D0-6B2F-4028-B54D-17A44C96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07235A-4ED6-4772-A40B-82BBD27F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6A4793-EFA0-45BC-AC01-3DA87FF1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03B994-E9DC-45A4-8887-2BF794E8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DDE03F-D602-4B5C-B2D8-37BF337F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16878-E89C-413B-89D8-D73BA5F3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9C91F5-7379-405F-A6AF-98703BE5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DDEE80-9F70-4B7A-85FA-8D898E95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04BCA2-9C60-404D-B2E6-6A624BCA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79E-982D-4109-B843-D63A9877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6D6AF-1EAC-4C04-B59A-7390BA53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6F738D-C66C-4177-B45E-BEE90A2F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E7D914-D593-45A4-8B56-70479B77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91B6BB-703A-4BC9-BA25-CB6FBE37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244870-C96A-4022-8D7D-CC164F6E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F6C18B-3679-4C84-B94E-CE44E8F1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45C846-36BC-4A16-981E-CD515C20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AA6FD8-9145-405A-A974-97136AB5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8E7E26-C55D-4D2B-B161-F336DAA8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547A64-DA23-444F-99A8-10A40911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8E2-D6CC-473C-B963-C4C29723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438861-C53B-472D-B0A0-8BED9069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BEE1E5-6835-4F68-ACE4-3C68F5DC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10FDA0-5070-4C48-8983-F0B14317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2C6B73-421E-4908-98B6-021EC08D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FAA67-EE4E-47CB-A0AA-E96F6D10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359-7A20-42C0-B2BA-0FBBD239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76B6-3A09-414B-AC9D-3142C3F0CEF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4278-9BD2-48C5-BF13-63998A79F06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B837-FDD0-4FB3-8692-A8C4A6F2433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B6C3-3418-4F52-ADD9-11B3C004FB1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13B2-36C3-4232-A62F-86FEA197043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3BBF-AF69-4075-8FA1-165A53B0031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751F-E887-4175-8065-2E4FF37C3DD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СПБ ГБСУ СО «ДОМ-ИНТЕРНАТ ДЛЯ ДЕТЕЙ С ОТКЛОНЕНИЯМИ В УМСТВЕННОМ РАЗВИТИИ № 4»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4840" y="3068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7030a0"/>
                </a:solidFill>
                <a:latin typeface="Century Schoolbook"/>
              </a:rPr>
              <a:t>«Русская матрешка»</a:t>
            </a:r>
            <a:endParaRPr b="0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Подзаголовок 2"/>
          <p:cNvSpPr/>
          <p:nvPr/>
        </p:nvSpPr>
        <p:spPr>
          <a:xfrm>
            <a:off x="1403280" y="6021360"/>
            <a:ext cx="640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Воспитатель: Павликова Ирина Ивановна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68360" y="1052280"/>
            <a:ext cx="822960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Цель: </a:t>
            </a: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Знакомство с русской деревянной игрушкой матреш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6400" indent="-40284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6400" indent="-402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Учить открывать и закрывать матрешку доступным способо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6400" indent="-402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Развивать мелкую и крупную моторику рук, двигательную активность, тактильные ощущ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6400" indent="-402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Развивать умение детей брать предмет в руки и манипулировать и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6400" indent="-402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Воспитывать интерес к взаимодействую со взрослы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8560" y="836640"/>
            <a:ext cx="67071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МАТРЕШКА ЭТО РАЗЪЕМНАЯ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ДЕРЕВЯННАЯ ИГРУШК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560" y="3068640"/>
            <a:ext cx="45370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Наша русская матреш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3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Не стареет сотню л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3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В красоте, в таланте русско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3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Весь находится секр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Объект 8" descr=""/>
          <p:cNvPicPr/>
          <p:nvPr/>
        </p:nvPicPr>
        <p:blipFill>
          <a:blip r:embed="rId1"/>
          <a:stretch/>
        </p:blipFill>
        <p:spPr>
          <a:xfrm>
            <a:off x="6156360" y="2637000"/>
            <a:ext cx="158436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2268000" y="691920"/>
            <a:ext cx="62643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Tahoma"/>
                <a:ea typeface="Tahoma"/>
              </a:rPr>
              <a:t>    </a:t>
            </a:r>
            <a:r>
              <a:rPr b="0" lang="ru-RU" sz="2800" spc="-1" strike="noStrike">
                <a:solidFill>
                  <a:srgbClr val="7030a0"/>
                </a:solidFill>
                <a:latin typeface="Tahoma"/>
                <a:ea typeface="Tahoma"/>
              </a:rPr>
              <a:t>Первые матрешки появились очень давно – это была русская раскладная кукла из дерева, внутри которой находятся куколки меньшего размера. Эту куклу называли матрешка, так как в то время самым распространенным именем было Матрена (уменьшительно - Матреша) и ассоциировалось с матерью многочисленного семейства. В наше время матрешки используют как сувениры или детские развивающие игрушк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45370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В МАТРЕШКЕ – МАТРЕШКА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В МАТРЕШКЕ – МАТРЕШКА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А САМАЯ МАЛЕНЬКАЯ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КАК КРОШКА,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ЛЮБЛЮ Я С МАТРЕШКАМИ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ЧАСТО ИГРАТЬ,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СПЕРВА РАЗБИРАТЬ ИХ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ПОТОМ СОБИРАТЬ.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СОБРАТЬ ИХ НЕ ДОЛГО: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МИНУТА, ВТОРАЯ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И ВЫРАСТЕТ СРАЗУ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МАТРЕШКА БОЛЬШАЯ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Объект 11" descr=""/>
          <p:cNvPicPr/>
          <p:nvPr/>
        </p:nvPicPr>
        <p:blipFill>
          <a:blip r:embed="rId1"/>
          <a:stretch/>
        </p:blipFill>
        <p:spPr>
          <a:xfrm>
            <a:off x="5580000" y="3716280"/>
            <a:ext cx="2685960" cy="1704960"/>
          </a:xfrm>
          <a:prstGeom prst="rect">
            <a:avLst/>
          </a:prstGeom>
          <a:ln w="0">
            <a:noFill/>
          </a:ln>
        </p:spPr>
      </p:pic>
      <p:pic>
        <p:nvPicPr>
          <p:cNvPr id="361" name="Объект 7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244944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Объект 6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0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6211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ФИЗМИНУТКА «МАТРЕШКА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2050560" y="1628640"/>
            <a:ext cx="6697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entury Schoolbook"/>
              </a:rPr>
              <a:t>Хлопают в ладошки, дружные матрешки (</a:t>
            </a:r>
            <a:r>
              <a:rPr b="1" i="1" lang="ru-RU" sz="2600" spc="-1" strike="noStrike">
                <a:solidFill>
                  <a:srgbClr val="7030a0"/>
                </a:solidFill>
                <a:latin typeface="Century Schoolbook"/>
              </a:rPr>
              <a:t>хлопают в ладоши</a:t>
            </a:r>
            <a:r>
              <a:rPr b="1" lang="ru-RU" sz="2600" spc="-1" strike="noStrike">
                <a:solidFill>
                  <a:srgbClr val="7030a0"/>
                </a:solidFill>
                <a:latin typeface="Century Schoolbook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entury Schoolbook"/>
              </a:rPr>
              <a:t>На ногах сапожки (</a:t>
            </a:r>
            <a:r>
              <a:rPr b="1" i="1" lang="ru-RU" sz="2600" spc="-1" strike="noStrike">
                <a:solidFill>
                  <a:srgbClr val="7030a0"/>
                </a:solidFill>
                <a:latin typeface="Century Schoolbook"/>
              </a:rPr>
              <a:t>руки на пояс, по очереди выставляют ноги на пятку вперед</a:t>
            </a:r>
            <a:r>
              <a:rPr b="1" lang="ru-RU" sz="2600" spc="-1" strike="noStrike">
                <a:solidFill>
                  <a:srgbClr val="7030a0"/>
                </a:solidFill>
                <a:latin typeface="Century Schoolbook"/>
              </a:rPr>
              <a:t>),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entury Schoolbook"/>
              </a:rPr>
              <a:t>Топают матрешки (</a:t>
            </a:r>
            <a:r>
              <a:rPr b="1" i="1" lang="ru-RU" sz="2600" spc="-1" strike="noStrike">
                <a:solidFill>
                  <a:srgbClr val="7030a0"/>
                </a:solidFill>
                <a:latin typeface="Century Schoolbook"/>
              </a:rPr>
              <a:t>топают ногами</a:t>
            </a:r>
            <a:r>
              <a:rPr b="1" lang="ru-RU" sz="2600" spc="-1" strike="noStrike">
                <a:solidFill>
                  <a:srgbClr val="7030a0"/>
                </a:solidFill>
                <a:latin typeface="Century Schoolbook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entury Schoolbook"/>
              </a:rPr>
              <a:t>Влево, вправо наклонились (</a:t>
            </a:r>
            <a:r>
              <a:rPr b="1" i="1" lang="ru-RU" sz="2600" spc="-1" strike="noStrike">
                <a:solidFill>
                  <a:srgbClr val="7030a0"/>
                </a:solidFill>
                <a:latin typeface="Century Schoolbook"/>
              </a:rPr>
              <a:t>наклоны тела влево, вправо</a:t>
            </a:r>
            <a:r>
              <a:rPr b="1" lang="ru-RU" sz="2600" spc="-1" strike="noStrike">
                <a:solidFill>
                  <a:srgbClr val="7030a0"/>
                </a:solidFill>
                <a:latin typeface="Century Schoolbook"/>
              </a:rPr>
              <a:t>)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entury Schoolbook"/>
              </a:rPr>
              <a:t>Всем знакомым поклонились (</a:t>
            </a:r>
            <a:r>
              <a:rPr b="1" i="1" lang="ru-RU" sz="2600" spc="-1" strike="noStrike">
                <a:solidFill>
                  <a:srgbClr val="7030a0"/>
                </a:solidFill>
                <a:latin typeface="Century Schoolbook"/>
              </a:rPr>
              <a:t>наклоны головой влево, вправо</a:t>
            </a:r>
            <a:r>
              <a:rPr b="1" lang="ru-RU" sz="2600" spc="-1" strike="noStrike">
                <a:solidFill>
                  <a:srgbClr val="7030a0"/>
                </a:solidFill>
                <a:latin typeface="Century Schoolbook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2741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УЧИМСЯ ОТКРЫВАТЬ ЗАКРЫВАТЬ МАТРЕШКУ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Содержимое 7" descr="WhatsApp Image 2021-04-09 at 19.10.44.jpeg"/>
          <p:cNvPicPr/>
          <p:nvPr/>
        </p:nvPicPr>
        <p:blipFill>
          <a:blip r:embed="rId1"/>
          <a:stretch/>
        </p:blipFill>
        <p:spPr>
          <a:xfrm>
            <a:off x="971640" y="2133720"/>
            <a:ext cx="7067520" cy="397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09T15:00:59Z</dcterms:created>
  <dc:creator>Kodoko</dc:creator>
  <dc:description/>
  <dc:language>en-US</dc:language>
  <cp:lastModifiedBy>Мамик</cp:lastModifiedBy>
  <dcterms:modified xsi:type="dcterms:W3CDTF">2021-04-09T16:27:42Z</dcterms:modified>
  <cp:revision>10</cp:revision>
  <dc:subject/>
  <dc:title>СПБ ГБСУ СО «Дом-интернат для детей с отклонениями в умственном развитии № 4»</dc:title>
</cp:coreProperties>
</file>