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23B7-FFAC-42AC-8017-FAE582CC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399-C22B-443A-A3D3-E89CE01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60-7687-4F9F-BAE9-2D046DBE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997-A9C1-4618-B377-E555507A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997-40FB-4761-B802-D612166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5DB-41F1-4345-8495-F00919E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674F-2BBC-4781-9547-C25E2FB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BBC-5AC6-4B17-A95D-FC8EB12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E18-9AC0-483B-B2CA-6554EE22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A0E-0878-4B59-96BD-2F2D70E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80A-AA75-442B-8A3D-8315DADB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B49-F871-4C58-9FFC-81A57F2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6AAA-46E7-4A3D-A7E3-3D44893D6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Monotype Corsiva"/>
              </a:rPr>
              <a:t>«И мальчишки и девчонки, наяву и в добрых снах, Все о космосе мечтают, о далёких небесах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00" y="4562280"/>
            <a:ext cx="732960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Выполнили : воспитатели Галышева Е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Рожненко Н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Воспитанники  средне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Monotype Corsiva"/>
              </a:rPr>
              <a:t>202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66247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4 день –</a:t>
            </a: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заучивание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Monotype Corsiva"/>
              </a:rPr>
              <a:t> </a:t>
            </a: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физмину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220500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Раз-два, стоит ракета.                      (дети поднимают руки ввер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Три-четыре, скоро взлет.                       (разводят руки в стор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Чтобы долететь до солнца                           (круг рук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Космонавтам нужен год.              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(берется руками за щеки, качает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голово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Но дорогой нам не страшно 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(руки в стороны, наклоны  корпус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вправо-</a:t>
            </a:r>
            <a:r>
              <a:rPr b="0" lang="en-US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вле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Каждый ведь из нас атлет                            (сгибают руки в локтя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Пролетая над землею                                   (разводят руки в стор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Ей передадим привет .                                      (поднимают руки вверх и машу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1044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      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5 день: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   Презентация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Monotype Corsiva"/>
              </a:rPr>
              <a:t>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деятельности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      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 детей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        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в художественной гостиной: 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рисование , изготовление макетов и космических кораб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6560" y="1628280"/>
            <a:ext cx="799308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55680" indent="-215568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5616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Monotype Corsiva"/>
              </a:rPr>
              <a:t>Ресурсы 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628280"/>
            <a:ext cx="8785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Интернет - возмож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Детские энциклопедии, посвящённые теме «Космос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Оборудование центра познавательного развития и  «Художественной гостиной»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Конструкторы для изготовления макета космической станции и космических кораблей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699920"/>
            <a:ext cx="64184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Информационная 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рт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2943000"/>
            <a:ext cx="853272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Продолжительность проекта: 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краткосрочный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Тип проекта: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 творческий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70c0"/>
                </a:solidFill>
                <a:latin typeface="Monotype Corsiva"/>
              </a:rPr>
              <a:t>Участники проекта: </a:t>
            </a:r>
            <a:r>
              <a:rPr b="0" lang="ru-RU" sz="3800" spc="-1" strike="noStrike">
                <a:solidFill>
                  <a:srgbClr val="0070c0"/>
                </a:solidFill>
                <a:latin typeface="Monotype Corsiva"/>
              </a:rPr>
              <a:t>дети, родители, воспитатели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75920"/>
            <a:ext cx="62276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Актуальност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Monotype Corsiva"/>
              </a:rPr>
              <a:t>Дети имеют недостаточные знания о космосе и космонавтах, а также ракетах и космических.  В связи с постоянной занятостью родителей, у детей отсутствует   возможность  познавать  много интересного  о первых  покорителях космоса, космонавтах , планетах и спутниках,  а также звёздах и созвезди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Monotype Corsiva"/>
              </a:rPr>
              <a:t>Данный проект направлен на создание условий для формирования у  детей первоначальных представлений о космических объектах, солнечной системе, космонавт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7030a0"/>
                </a:solidFill>
                <a:uFillTx/>
                <a:latin typeface="Monotype Corsiva"/>
              </a:rPr>
              <a:t>Задачи 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280" y="2349000"/>
            <a:ext cx="7715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Активизировать  знания детей о Дне Космонавти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расширять представления детей об объектах  космической вселен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формировать познавательные интерес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Monotype Corsiva"/>
              </a:rPr>
              <a:t>развивать творческую фантазию, воображение у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4535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Взаимодействие</a:t>
            </a:r>
            <a:br>
              <a:rPr sz="4000"/>
            </a:b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 с родителя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6560" y="2420640"/>
            <a:ext cx="831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ознакомить родителей с темой образовательной недели и целью осуществления минипроект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Привлечь родителей к  детско – родительскому сотрудничеству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Организовать помощь родителей детям в создании творческих проек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5400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Предполагаемый 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2320560"/>
            <a:ext cx="8075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Реализация проекта позволит сформировать у детей более точные представления об отечественной  и современной космонавтике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Дети узнают  больше познавательной информации о планетах и звёздах , первопроходцах космоса, и космических   объектах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ru-RU" sz="3100" spc="-1" strike="noStrike">
                <a:solidFill>
                  <a:srgbClr val="0070c0"/>
                </a:solidFill>
                <a:latin typeface="Monotype Corsiva"/>
              </a:rPr>
              <a:t>Данный проект позволит активизировать творческое взаимодействие детей и родителей, воспитать патриотические чувства дошкольников, желание быть смелым, сильным и выносливы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1 д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4000" y="2276280"/>
            <a:ext cx="8280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Знакомство с темой новой образовательной недели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Работа с детьми по «Методу трёх вопросов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( выяснить у детей что они знают о нашей вселенной, что нового хотели бы узнать и с использованием чего мы познать что то новое?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Monotype Corsiva"/>
              </a:rPr>
              <a:t>Распределение среди детей космических объектов для самостоятельного изучения и само презента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-459000"/>
            <a:ext cx="6480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2 день –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     изучение детских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энциклопедий о космосе,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просмотр  мультфильма </a:t>
            </a:r>
            <a:br>
              <a:rPr sz="32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Monotype Corsiva"/>
              </a:rPr>
              <a:t>« Незнайка на луне»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381636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3 день –</a:t>
            </a:r>
            <a:br>
              <a:rPr sz="4400"/>
            </a:br>
            <a:r>
              <a:rPr b="1" lang="ru-RU" sz="4400" spc="-1" strike="noStrike" u="sng">
                <a:solidFill>
                  <a:srgbClr val="7030a0"/>
                </a:solidFill>
                <a:uFillTx/>
                <a:latin typeface="Monotype Corsiva"/>
              </a:rPr>
              <a:t>вечер загад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2" descr=""/>
          <p:cNvPicPr/>
          <p:nvPr/>
        </p:nvPicPr>
        <p:blipFill>
          <a:blip r:embed="rId1"/>
          <a:stretch/>
        </p:blipFill>
        <p:spPr>
          <a:xfrm>
            <a:off x="-6480" y="1695600"/>
            <a:ext cx="918072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9:11:52Z</dcterms:created>
  <dc:creator>Артём Александрович</dc:creator>
  <dc:description/>
  <dc:language>en-US</dc:language>
  <cp:lastModifiedBy>Александр</cp:lastModifiedBy>
  <dcterms:modified xsi:type="dcterms:W3CDTF">2021-04-09T06:25:48Z</dcterms:modified>
  <cp:revision>48</cp:revision>
  <dc:subject/>
  <dc:title>«И мальчишки и девчонки, наяву и в добрых снах, Все о космосе мечтают, о далёких небесах»</dc:title>
</cp:coreProperties>
</file>