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BA5-DA85-43F1-BC6C-1402A68F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79B-EAC9-46FA-907E-6651E05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35D-AFEF-47D0-8D24-11238B5B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936-8ADB-4F19-A3EE-F62D8080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59B-04E3-4C51-A32F-F993751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F8E-E9E3-48E4-BEB1-1B008825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885-4903-4AF1-AAAF-925C9E8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2F4-569B-4B7D-A47D-352928B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D70-2919-4AB7-83E2-6B32E9C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050-F37A-46E3-BF08-C88D7D7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563-3513-4D28-9AA6-9936EA7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2D3-CCF1-4B43-A397-63C80D3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F44-3153-49D2-AE32-3F4B9D71A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Monotype Corsiva"/>
              </a:rPr>
              <a:t>«И мальчишки и девчонки, наяву и в добрых снах, Все о космосе мечтают, о далёких небесах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00" y="4562280"/>
            <a:ext cx="732960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Выполнили : воспитатели Галышева Е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Рожненко Н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Воспитанники  средн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202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6624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4 день –</a:t>
            </a: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заучивание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физмин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220500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Раз-два, стоит ракета.                      (дети поднимают руки ввер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Три-четыре, скоро взлет.                       (разводят руки в стор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Чтобы долететь до солнца                           (круг рук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Космонавтам нужен год.              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(берется руками за щеки, качает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голов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Но дорогой нам не страшно 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(руки в стороны, наклоны  корпус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вправо-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вле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Каждый ведь из нас атлет                            (сгибают руки в локтя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олетая над землею                                   (разводят руки в стор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Ей передадим привет .                                      (поднимают руки вверх и машу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1044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     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5 день: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  Презентаци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     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 детей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в художественной гостиной: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рисование , изготовление макетов и космических кора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628280"/>
            <a:ext cx="79930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616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Monotype Corsiva"/>
              </a:rPr>
              <a:t>Ресурсы 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628280"/>
            <a:ext cx="8785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Интернет - возмож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Детские энциклопедии, посвящённые теме «Космос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Оборудование центра познавательного развития и  «Художественной гостиной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Конструкторы для изготовления макета космической станции и космических корабле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699920"/>
            <a:ext cx="64184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Информационная 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рт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2943000"/>
            <a:ext cx="853272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Продолжительность проекта: 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краткосрочный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Тип проекта: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 творческий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Участники проекта: 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дети, родители, воспитатели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75920"/>
            <a:ext cx="62276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Monotype Corsiva"/>
              </a:rPr>
              <a:t>Дети имеют недостаточные знания о космосе и космонавтах, а также ракетах и космических.  В связи с постоянной занятостью родителей, у детей отсутствует   возможность  познавать  много интересного  о первых  покорителях космоса, космонавтах , планетах и спутниках,  а также звёздах и созвезд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Monotype Corsiva"/>
              </a:rPr>
              <a:t>Данный проект направлен на создание условий для формирования у  детей первоначальных представлений о космических объектах, солнечной системе, космонавт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Monotype Corsiva"/>
              </a:rPr>
              <a:t>Задачи 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280" y="2349000"/>
            <a:ext cx="7715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Активизировать  знания детей о Дне Космонавти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расширять представления детей об объектах  космической вселен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формировать познавательные интерес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развивать творческую фантазию, воображение у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4535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Взаимодействие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560" y="2420640"/>
            <a:ext cx="831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ознакомить родителей с темой образовательной недели и целью осуществления минипроект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ривлечь родителей к  детско – родительскому сотрудничеству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Организовать помощь родителей детям в создании творческих прое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Предполагаемый 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320560"/>
            <a:ext cx="8075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Реализация проекта позволит сформировать у детей более точные представления об отечественной  и современной космонавтике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Дети узнают  больше познавательной информации о планетах и звёздах , первопроходцах космоса, и космических   объектах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Данный проект позволит активизировать творческое взаимодействие детей и родителей, воспитать патриотические чувства дошкольников, желание быть смелым, сильным и выносливы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1 д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000" y="2276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Знакомство с темой новой образовательной недел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Работа с детьми по «Методу трёх вопросов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( выяснить у детей что они знают о нашей вселенной, что нового хотели бы узнать и с использованием чего мы познать что то новое?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Распределение среди детей космических объектов для самостоятельного изучения и само презент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-459000"/>
            <a:ext cx="6480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2 день –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     изучение детских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энциклопедий о космосе,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просмотр  мультфильма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« Незнайка на луне»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38163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3 день –</a:t>
            </a: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вечер загад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2" descr=""/>
          <p:cNvPicPr/>
          <p:nvPr/>
        </p:nvPicPr>
        <p:blipFill>
          <a:blip r:embed="rId1"/>
          <a:stretch/>
        </p:blipFill>
        <p:spPr>
          <a:xfrm>
            <a:off x="-6480" y="1695600"/>
            <a:ext cx="91807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9:11:52Z</dcterms:created>
  <dc:creator>Артём Александрович</dc:creator>
  <dc:description/>
  <dc:language>en-US</dc:language>
  <cp:lastModifiedBy>Александр</cp:lastModifiedBy>
  <dcterms:modified xsi:type="dcterms:W3CDTF">2021-04-09T06:25:48Z</dcterms:modified>
  <cp:revision>48</cp:revision>
  <dc:subject/>
  <dc:title>«И мальчишки и девчонки, наяву и в добрых снах, Все о космосе мечтают, о далёких небесах»</dc:title>
</cp:coreProperties>
</file>