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2792-91B9-4A2B-A873-D185FC22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B90E-C45B-4E90-8006-FD1F4B69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BFC5-F7D7-4FB5-8DE5-535D25CC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3895-95B6-4B81-8DA1-E10346AC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3AA2-9111-4659-BA7B-17A3E81B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E2A1-7D4A-4752-9857-6746AA8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DA09-86AB-4AD9-86A4-2512E642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F617-7054-4CAD-88CC-5656C4B2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62E1-60C3-48FF-B372-50B31A8A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4500-B635-4DD7-A42B-A9EF5933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BF7E-6F76-4FBB-BE36-0AD81C0C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C654-4AAF-4417-A9CD-7B4E2A16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967C-22CA-4E20-BB48-4E5D016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3182-3ED0-459F-BFEC-12FD7B37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EA6F-F3AA-4A87-861E-631E4420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A4F8-33B2-4E77-8D28-99E8EA54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C65D-FD3F-4112-9805-5806244D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5688-0534-451E-8D6B-13B51378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8143-729C-4723-9D91-4F0E2301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8252-ABCA-44BD-B152-804B582F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685E-D5C4-4AAD-9C2E-232AE581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7AC02-BB1D-4B55-8DCE-7622359F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617D-56B3-41CB-A4B2-9DAA06E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B9A9-1D9E-4D97-9DF5-2777541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B753-4CEB-4339-A60C-0C95811BB1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93DE-F89A-4566-9B61-634472D70342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55640" y="5516280"/>
            <a:ext cx="6435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ванов М.В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Санкт-Петербург, ГБОУ Невского района школа интернат № 18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44640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бы грамотнее стать…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Надо книжки почитать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И задачи все решить,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б пятёрку получить!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 звонком звенит звонок,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Точно в срок идёт урок,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Нужно очень много знать,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б полезным в жизни стать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" name="Picture 6" descr="Картинки по запросу уроки  в школе "/>
          <p:cNvPicPr/>
          <p:nvPr/>
        </p:nvPicPr>
        <p:blipFill>
          <a:blip r:embed="rId1"/>
          <a:stretch/>
        </p:blipFill>
        <p:spPr>
          <a:xfrm>
            <a:off x="4716360" y="1197000"/>
            <a:ext cx="44276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5076720" y="2005560"/>
            <a:ext cx="34560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До свиданья, школьный дом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Завтра снова мы придём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2" name="Picture 6" descr="Картинки по запросу дорога домой из школы"/>
          <p:cNvPicPr/>
          <p:nvPr/>
        </p:nvPicPr>
        <p:blipFill>
          <a:blip r:embed="rId1"/>
          <a:stretch/>
        </p:blipFill>
        <p:spPr>
          <a:xfrm>
            <a:off x="611280" y="1700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652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 обед нам дали щи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Чай и запеканку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е люблю супы, борщи!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Я люблю сметанку!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4" name="Picture 5" descr="Картинки по запросу обед школьника"/>
          <p:cNvPicPr/>
          <p:nvPr/>
        </p:nvPicPr>
        <p:blipFill>
          <a:blip r:embed="rId1"/>
          <a:stretch/>
        </p:blipFill>
        <p:spPr>
          <a:xfrm>
            <a:off x="2268360" y="404640"/>
            <a:ext cx="51292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Картинки по запросу дневной сон   школьника"/>
          <p:cNvPicPr/>
          <p:nvPr/>
        </p:nvPicPr>
        <p:blipFill>
          <a:blip r:embed="rId1"/>
          <a:stretch/>
        </p:blipFill>
        <p:spPr>
          <a:xfrm>
            <a:off x="1908000" y="3068640"/>
            <a:ext cx="5329440" cy="3584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1042920" y="70380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Я давно лежу в кроватке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Где-то рядышком мой сон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ожет, сон играет в прятки?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е пойму я: где же он?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692360" y="63864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Я по улице гуляю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вежим воздухом дыш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Что увидел я, что знаю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Хоть сейчас вам расскаж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8" name="Picture 6" descr="Картинки по запросу прогулка    школьника"/>
          <p:cNvPicPr/>
          <p:nvPr/>
        </p:nvPicPr>
        <p:blipFill>
          <a:blip r:embed="rId1"/>
          <a:stretch/>
        </p:blipFill>
        <p:spPr>
          <a:xfrm>
            <a:off x="2340000" y="3068640"/>
            <a:ext cx="50497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439236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лдник съели, погуляли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работали опять: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з портфеля мы достали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вой учебник и тетрадь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0" name="Picture 5" descr="Картинки по запросу уроки  в школе"/>
          <p:cNvPicPr/>
          <p:nvPr/>
        </p:nvPicPr>
        <p:blipFill>
          <a:blip r:embed="rId1"/>
          <a:stretch/>
        </p:blipFill>
        <p:spPr>
          <a:xfrm>
            <a:off x="4788000" y="1341360"/>
            <a:ext cx="4041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31928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магазин мы сходим сами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л в квартире подметём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Чтобы легче было маме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ы поможем ей во всём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2" name="Picture 5" descr="_jpg_5"/>
          <p:cNvPicPr/>
          <p:nvPr/>
        </p:nvPicPr>
        <p:blipFill>
          <a:blip r:embed="rId1"/>
          <a:stretch/>
        </p:blipFill>
        <p:spPr>
          <a:xfrm>
            <a:off x="468360" y="692280"/>
            <a:ext cx="345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691920"/>
            <a:ext cx="6840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Ужин вкусный мы съедим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Телевизор поглядим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ли в игры поиграем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ли книжку почитаем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4" name="Picture 5" descr="37819329-Boys-and-girls-watching-television-on-chairs-Stock-Photo"/>
          <p:cNvPicPr/>
          <p:nvPr/>
        </p:nvPicPr>
        <p:blipFill>
          <a:blip r:embed="rId1"/>
          <a:stretch/>
        </p:blipFill>
        <p:spPr>
          <a:xfrm>
            <a:off x="1476360" y="3068640"/>
            <a:ext cx="62373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338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Ждёт зубной порошок и журчит водица: «Не забудь, мой дружок, перед сном умыться!»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6" name="Picture 5" descr="931667_html_171f0131"/>
          <p:cNvPicPr/>
          <p:nvPr/>
        </p:nvPicPr>
        <p:blipFill>
          <a:blip r:embed="rId1"/>
          <a:stretch/>
        </p:blipFill>
        <p:spPr>
          <a:xfrm>
            <a:off x="3995640" y="907920"/>
            <a:ext cx="4937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d180d0b5d0b1d0b5d0bdd0bed0ba-d181d0bfd0b8d182"/>
          <p:cNvPicPr/>
          <p:nvPr/>
        </p:nvPicPr>
        <p:blipFill>
          <a:blip r:embed="rId1"/>
          <a:stretch/>
        </p:blipFill>
        <p:spPr>
          <a:xfrm>
            <a:off x="1042920" y="2060640"/>
            <a:ext cx="6626160" cy="44146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усть приходит крепкий сон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15832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Цели и задачи: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Сформировать понятие о режиме дня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оказать важность его соблюдения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Дать практические рекомендации по составлению режима дня.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76899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РЕКОМЕНДАЦИ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иучи себя просыпаться и вставать каждый день в одно и то же время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ыполняй каждый день утреннюю зарядку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леди за чистотой тела, волос, ногтей и полостью рта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тарайся есть в одно и то же врем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Картинки по запросу презентация режим дня"/>
          <p:cNvPicPr/>
          <p:nvPr/>
        </p:nvPicPr>
        <p:blipFill>
          <a:blip r:embed="rId1"/>
          <a:stretch/>
        </p:blipFill>
        <p:spPr>
          <a:xfrm>
            <a:off x="468360" y="40464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3240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ежим дн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это четкий распорядок жизни в течение суток, предусматривающий чередование бодрствования и сна, а также рациональную организацию различных видов деятельности.</a:t>
            </a: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56000" y="2708280"/>
            <a:ext cx="36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2" name="Picture 5" descr="0_88741_ea6d4a5f_orig"/>
          <p:cNvPicPr/>
          <p:nvPr/>
        </p:nvPicPr>
        <p:blipFill>
          <a:blip r:embed="rId1"/>
          <a:stretch/>
        </p:blipFill>
        <p:spPr>
          <a:xfrm>
            <a:off x="3564000" y="981000"/>
            <a:ext cx="53658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сновные составляющие режима дня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6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руд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– физиологическая потребность человека, основное условие его существования в социуме, целесообразная, сознательная деятельность индивида, направленная на удовлетворение потребностей его самого и общества;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дых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необходимая составляющая режима дня, способ проведения времени, целью которого является восстановление физических сил и стабилизация психоэмоционального состояния для достижения нормального уровня работоспособности;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иемы пищи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достаточный интервал времени в период трудовой занятости, отдыха для полноценного приема пищи;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ичная гигиена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период времени для проведения процедур для сохранения и укрепления здоровья;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ремя на саморазвитие и совершенствование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период для прочих видов активности (чтение, посещение театра, общение с людьми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Picture 5" descr="7c34d8fb"/>
          <p:cNvPicPr/>
          <p:nvPr/>
        </p:nvPicPr>
        <p:blipFill>
          <a:blip r:embed="rId1"/>
          <a:stretch/>
        </p:blipFill>
        <p:spPr>
          <a:xfrm>
            <a:off x="7164360" y="1268280"/>
            <a:ext cx="1630440" cy="127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700"/>
          <p:cNvPicPr/>
          <p:nvPr/>
        </p:nvPicPr>
        <p:blipFill>
          <a:blip r:embed="rId2"/>
          <a:stretch/>
        </p:blipFill>
        <p:spPr>
          <a:xfrm>
            <a:off x="7164360" y="2781360"/>
            <a:ext cx="1733400" cy="99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m"/>
          <p:cNvPicPr/>
          <p:nvPr/>
        </p:nvPicPr>
        <p:blipFill>
          <a:blip r:embed="rId3"/>
          <a:stretch/>
        </p:blipFill>
        <p:spPr>
          <a:xfrm>
            <a:off x="7524720" y="5229360"/>
            <a:ext cx="117648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i_015"/>
          <p:cNvPicPr/>
          <p:nvPr/>
        </p:nvPicPr>
        <p:blipFill>
          <a:blip r:embed="rId4"/>
          <a:stretch/>
        </p:blipFill>
        <p:spPr>
          <a:xfrm>
            <a:off x="7093080" y="4149720"/>
            <a:ext cx="1871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56000" y="475920"/>
            <a:ext cx="44640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Утром зазвонил будильник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не будильник ни к чему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тому, что без звоночка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стать так рано я могу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Picture 5" descr="Картинки по запросу утренний подъем ребенка"/>
          <p:cNvPicPr/>
          <p:nvPr/>
        </p:nvPicPr>
        <p:blipFill>
          <a:blip r:embed="rId1"/>
          <a:stretch/>
        </p:blipFill>
        <p:spPr>
          <a:xfrm>
            <a:off x="179280" y="1268280"/>
            <a:ext cx="39229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0" y="457200"/>
            <a:ext cx="5194440" cy="599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Занимаюсь я зарядкой, 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 утрам, по вечерам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о здоровьем всё в порядке, 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Что советую я Вам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ожками потопали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Ручками похлопали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от здоровья в чём секрет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сем друзьям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«Физкульт –привет!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5" descr="Картинки по запросу зарядка ребенка"/>
          <p:cNvPicPr/>
          <p:nvPr/>
        </p:nvPicPr>
        <p:blipFill>
          <a:blip r:embed="rId1"/>
          <a:stretch/>
        </p:blipFill>
        <p:spPr>
          <a:xfrm>
            <a:off x="179280" y="1197000"/>
            <a:ext cx="313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95280" y="862560"/>
            <a:ext cx="4824360" cy="50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 шумом струйка водяная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 руках дробится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икогда не забывай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 утрам умыться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Зубная щётка, паста, мыло –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от и всё, чтоб чистым лицо было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Picture 6" descr="Картинки по запросу умывание ребенка"/>
          <p:cNvPicPr/>
          <p:nvPr/>
        </p:nvPicPr>
        <p:blipFill>
          <a:blip r:embed="rId1"/>
          <a:stretch/>
        </p:blipFill>
        <p:spPr>
          <a:xfrm>
            <a:off x="5219640" y="1268280"/>
            <a:ext cx="3757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539640" y="587880"/>
            <a:ext cx="8280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ъели завтрак, попрощались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Быстро в школу мы собрались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Здравствуй школа! Здравствуй класс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Ждёт учительница нас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6" name="Picture 6" descr="Картинки по запросу завтрак  ребенка"/>
          <p:cNvPicPr/>
          <p:nvPr/>
        </p:nvPicPr>
        <p:blipFill>
          <a:blip r:embed="rId1"/>
          <a:stretch/>
        </p:blipFill>
        <p:spPr>
          <a:xfrm>
            <a:off x="1908000" y="285264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95280" y="411480"/>
            <a:ext cx="489744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Утром , по дороге в школу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вежим воздухом дышу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Жду подружку я у дома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месте с ней теперь ид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ы немного поболтаем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смеёмся ведь тогд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м дорога в школу длинной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е наскучит никогда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Picture 6" descr="Картинки по запросу дорога в школу  ребенка"/>
          <p:cNvPicPr/>
          <p:nvPr/>
        </p:nvPicPr>
        <p:blipFill>
          <a:blip r:embed="rId1"/>
          <a:stretch/>
        </p:blipFill>
        <p:spPr>
          <a:xfrm>
            <a:off x="5435640" y="1700280"/>
            <a:ext cx="3708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6T18:25:12Z</dcterms:created>
  <dc:creator>1</dc:creator>
  <dc:description/>
  <dc:language>en-US</dc:language>
  <cp:lastModifiedBy>Пользователь</cp:lastModifiedBy>
  <dcterms:modified xsi:type="dcterms:W3CDTF">2021-04-09T12:54:08Z</dcterms:modified>
  <cp:revision>7</cp:revision>
  <dc:subject/>
  <dc:title>РЕЖИМ ДНЯ</dc:title>
</cp:coreProperties>
</file>