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9C4A-87FC-4A05-8E24-DF66C75C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1721-0418-4E58-9A72-548FFBB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F8AE-B825-4160-9DA4-FF8587BE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1F11-105A-407B-BFC3-18BA889E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94D6-6473-4F7A-A80A-B5BEADE3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1FF-044C-4923-808A-3DC1EA0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3C97-22A8-41AB-9E24-5B57D4E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EE57-89F0-4749-AA7D-D5257B02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548B-6CD4-47C4-A22B-3A48AFA9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0264-FFA3-4705-834A-A7FD9A2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A2CA-61E2-4581-BBF5-F6E71054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F0300-9DC7-49DF-B5BC-BAE723ED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E50-81E5-4A22-AA23-72CF03B9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5FF-7E79-45FD-9094-F20A024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885B-BECD-4352-87DE-B89DB83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3E4C-6D44-44BA-AD0F-41C95360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C638-E4FF-4BE9-8568-8AAD801C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FC63-F850-4D63-9C81-DA1D27D9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2A61-F3D8-4A86-8970-43C7E8D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8C4F-2C85-42F6-B5AF-F8965F4A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BA6F-77B7-4952-AE62-75AA086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6A76-1759-4C61-AAE7-FE2F931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037C-AF47-41C2-ADC1-9C295CD5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B66E-C26C-422F-B7C3-A2D4769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BFCF-F90E-4B6B-9914-44CE538F04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461E-552B-466A-A605-5CF0E440D59E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55640" y="5516280"/>
            <a:ext cx="6435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Иванов М.В.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Санкт-Петербург, ГБОУ Невского района школа интернат № 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446400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ы грамотнее стать…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адо книжки почитать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И задачи все решить, 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 пятёрку получить!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 звонком звенит звонок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Точно в срок идёт урок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Нужно очень много знать,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Чтоб полезным в жизни стать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Picture 6" descr="Картинки по запросу уроки  в школе "/>
          <p:cNvPicPr/>
          <p:nvPr/>
        </p:nvPicPr>
        <p:blipFill>
          <a:blip r:embed="rId1"/>
          <a:stretch/>
        </p:blipFill>
        <p:spPr>
          <a:xfrm>
            <a:off x="4716360" y="1197000"/>
            <a:ext cx="44276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076720" y="2005560"/>
            <a:ext cx="34560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До свиданья, школьный дом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автра снова мы придём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2" name="Picture 6" descr="Картинки по запросу дорога домой из школы"/>
          <p:cNvPicPr/>
          <p:nvPr/>
        </p:nvPicPr>
        <p:blipFill>
          <a:blip r:embed="rId1"/>
          <a:stretch/>
        </p:blipFill>
        <p:spPr>
          <a:xfrm>
            <a:off x="611280" y="170028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652640"/>
            <a:ext cx="8137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 обед нам дали щ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ай и запеканку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люблю супы, борщи!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люблю сметанку!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5" descr="Картинки по запросу обед школьника"/>
          <p:cNvPicPr/>
          <p:nvPr/>
        </p:nvPicPr>
        <p:blipFill>
          <a:blip r:embed="rId1"/>
          <a:stretch/>
        </p:blipFill>
        <p:spPr>
          <a:xfrm>
            <a:off x="2268360" y="404640"/>
            <a:ext cx="51292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Картинки по запросу дневной сон   школьника"/>
          <p:cNvPicPr/>
          <p:nvPr/>
        </p:nvPicPr>
        <p:blipFill>
          <a:blip r:embed="rId1"/>
          <a:stretch/>
        </p:blipFill>
        <p:spPr>
          <a:xfrm>
            <a:off x="1908000" y="3068640"/>
            <a:ext cx="5329440" cy="3584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1042920" y="70380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давно лежу в кроватке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Где-то рядышком мой сон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ожет, сон играет в прятки?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пойму я: где же он?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1692360" y="63864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Я по улице гуляю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ежим воздухом дыш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 увидел я, что знаю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Хоть сейчас вам расскаж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8" name="Picture 6" descr="Картинки по запросу прогулка    школьника"/>
          <p:cNvPicPr/>
          <p:nvPr/>
        </p:nvPicPr>
        <p:blipFill>
          <a:blip r:embed="rId1"/>
          <a:stretch/>
        </p:blipFill>
        <p:spPr>
          <a:xfrm>
            <a:off x="2340000" y="3068640"/>
            <a:ext cx="5049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439236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лдник съели, погулял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работали опять: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з портфеля мы достали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ой учебник и тетрадь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0" name="Picture 5" descr="Картинки по запросу уроки  в школе"/>
          <p:cNvPicPr/>
          <p:nvPr/>
        </p:nvPicPr>
        <p:blipFill>
          <a:blip r:embed="rId1"/>
          <a:stretch/>
        </p:blipFill>
        <p:spPr>
          <a:xfrm>
            <a:off x="4788000" y="1341360"/>
            <a:ext cx="4041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00720" y="404640"/>
            <a:ext cx="431928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магазин мы сходим сами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л в квартире подметё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бы легче было маме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ы поможем ей во всём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Picture 5" descr="_jpg_5"/>
          <p:cNvPicPr/>
          <p:nvPr/>
        </p:nvPicPr>
        <p:blipFill>
          <a:blip r:embed="rId1"/>
          <a:stretch/>
        </p:blipFill>
        <p:spPr>
          <a:xfrm>
            <a:off x="468360" y="692280"/>
            <a:ext cx="345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691920"/>
            <a:ext cx="6840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жин вкусный мы съеди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Телевизор погляди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ли в игры поиграе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ли книжку почитаем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4" name="Picture 5" descr="37819329-Boys-and-girls-watching-television-on-chairs-Stock-Photo"/>
          <p:cNvPicPr/>
          <p:nvPr/>
        </p:nvPicPr>
        <p:blipFill>
          <a:blip r:embed="rId1"/>
          <a:stretch/>
        </p:blipFill>
        <p:spPr>
          <a:xfrm>
            <a:off x="1476360" y="3068640"/>
            <a:ext cx="62373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338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ёт зубной порошок и журчит водица: «Не забудь, мой дружок, перед сном умыться!»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6" name="Picture 5" descr="931667_html_171f0131"/>
          <p:cNvPicPr/>
          <p:nvPr/>
        </p:nvPicPr>
        <p:blipFill>
          <a:blip r:embed="rId1"/>
          <a:stretch/>
        </p:blipFill>
        <p:spPr>
          <a:xfrm>
            <a:off x="3995640" y="907920"/>
            <a:ext cx="4937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d180d0b5d0b1d0b5d0bdd0bed0ba-d181d0bfd0b8d182"/>
          <p:cNvPicPr/>
          <p:nvPr/>
        </p:nvPicPr>
        <p:blipFill>
          <a:blip r:embed="rId1"/>
          <a:stretch/>
        </p:blipFill>
        <p:spPr>
          <a:xfrm>
            <a:off x="1042920" y="2060640"/>
            <a:ext cx="6626160" cy="44146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усть приходит крепкий сон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15832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Цели и задачи: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Сформировать понятие о режиме дня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казать важность его соблюдения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Дать практические рекомендации по составлению режима дня.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7689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РЕКОМЕНДАЦИИ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иучи себя просыпаться и вставать каждый день в одно и то же время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выполняй каждый день утреннюю зарядку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леди за чистотой тела, волос, ногтей и полостью рта;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старайся есть в одно и то же время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Картинки по запросу презентация режим дня"/>
          <p:cNvPicPr/>
          <p:nvPr/>
        </p:nvPicPr>
        <p:blipFill>
          <a:blip r:embed="rId1"/>
          <a:stretch/>
        </p:blipFill>
        <p:spPr>
          <a:xfrm>
            <a:off x="468360" y="40464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3240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жим дн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это четкий распорядок жизни в течение суток, предусматривающий чередование бодрствования и сна, а также рациональную организацию различных видов деятельности.</a:t>
            </a: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56000" y="2708280"/>
            <a:ext cx="36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2" name="Picture 5" descr="0_88741_ea6d4a5f_orig"/>
          <p:cNvPicPr/>
          <p:nvPr/>
        </p:nvPicPr>
        <p:blipFill>
          <a:blip r:embed="rId1"/>
          <a:stretch/>
        </p:blipFill>
        <p:spPr>
          <a:xfrm>
            <a:off x="3564000" y="981000"/>
            <a:ext cx="53658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сновные составляющие режима дня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697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руд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– физиологическая потребность человека, основное условие его существования в социуме, целесообразная, сознательная деятельность индивида, направленная на удовлетворение потребностей его самого и общества;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дых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необходимая составляющая режима дня, способ проведения времени, целью которого является восстановление физических сил и стабилизация психоэмоционального состояния для достижения нормального уровня работоспособности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емы пищи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достаточный интервал времени в период трудовой занятости, отдыха для полноценного приема пищи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чная гигиена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период времени для проведения процедур для сохранения и укрепления здоровья;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ремя на саморазвитие и совершенствование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– период для прочих видов активности (чтение, посещение театра, общение с людьми)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Picture 5" descr="7c34d8fb"/>
          <p:cNvPicPr/>
          <p:nvPr/>
        </p:nvPicPr>
        <p:blipFill>
          <a:blip r:embed="rId1"/>
          <a:stretch/>
        </p:blipFill>
        <p:spPr>
          <a:xfrm>
            <a:off x="7164360" y="1268280"/>
            <a:ext cx="1630440" cy="127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700"/>
          <p:cNvPicPr/>
          <p:nvPr/>
        </p:nvPicPr>
        <p:blipFill>
          <a:blip r:embed="rId2"/>
          <a:stretch/>
        </p:blipFill>
        <p:spPr>
          <a:xfrm>
            <a:off x="7164360" y="2781360"/>
            <a:ext cx="1733400" cy="99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m"/>
          <p:cNvPicPr/>
          <p:nvPr/>
        </p:nvPicPr>
        <p:blipFill>
          <a:blip r:embed="rId3"/>
          <a:stretch/>
        </p:blipFill>
        <p:spPr>
          <a:xfrm>
            <a:off x="7524720" y="5229360"/>
            <a:ext cx="1176480" cy="129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i_015"/>
          <p:cNvPicPr/>
          <p:nvPr/>
        </p:nvPicPr>
        <p:blipFill>
          <a:blip r:embed="rId4"/>
          <a:stretch/>
        </p:blipFill>
        <p:spPr>
          <a:xfrm>
            <a:off x="7093080" y="4149720"/>
            <a:ext cx="18716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640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тром зазвонил будильник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не будильник ни к чему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тому, что без звоночка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стать так рано я могу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Picture 5" descr="Картинки по запросу утренний подъем ребенка"/>
          <p:cNvPicPr/>
          <p:nvPr/>
        </p:nvPicPr>
        <p:blipFill>
          <a:blip r:embed="rId1"/>
          <a:stretch/>
        </p:blipFill>
        <p:spPr>
          <a:xfrm>
            <a:off x="179280" y="1268280"/>
            <a:ext cx="39229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0" y="457200"/>
            <a:ext cx="5194440" cy="599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анимаюсь я зарядкой, 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 утрам, по вечера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о здоровьем всё в порядке, 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Что советую я Вам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ожками потопали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Ручками похлопали.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от здоровья в чём секрет,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сем друзьям</a:t>
            </a:r>
            <a:br>
              <a:rPr sz="3200"/>
            </a:b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«Физкульт –привет!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5" descr="Картинки по запросу зарядка ребенка"/>
          <p:cNvPicPr/>
          <p:nvPr/>
        </p:nvPicPr>
        <p:blipFill>
          <a:blip r:embed="rId1"/>
          <a:stretch/>
        </p:blipFill>
        <p:spPr>
          <a:xfrm>
            <a:off x="179280" y="1197000"/>
            <a:ext cx="31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95280" y="862560"/>
            <a:ext cx="4824360" cy="50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 шумом струйка водяная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 руках дробит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икогда не забыва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 утрам умыться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убная щётка, паста, мыло –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от и всё, чтоб чистым лицо было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Picture 6" descr="Картинки по запросу умывание ребенка"/>
          <p:cNvPicPr/>
          <p:nvPr/>
        </p:nvPicPr>
        <p:blipFill>
          <a:blip r:embed="rId1"/>
          <a:stretch/>
        </p:blipFill>
        <p:spPr>
          <a:xfrm>
            <a:off x="5219640" y="1268280"/>
            <a:ext cx="37576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9640" y="587880"/>
            <a:ext cx="8280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ъели завтрак, попрощались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Быстро в школу мы собрались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Здравствуй школа! Здравствуй класс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ёт учительница нас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6" name="Picture 6" descr="Картинки по запросу завтрак  ребенка"/>
          <p:cNvPicPr/>
          <p:nvPr/>
        </p:nvPicPr>
        <p:blipFill>
          <a:blip r:embed="rId1"/>
          <a:stretch/>
        </p:blipFill>
        <p:spPr>
          <a:xfrm>
            <a:off x="1908000" y="28526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95280" y="411480"/>
            <a:ext cx="489744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Утром , по дороге в школу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вежим воздухом дышу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Жду подружку я у дома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месте с ней теперь иду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ы немного поболтаем,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смеёмся ведь тогд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ам дорога в школу длинной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Не наскучит никогда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Picture 6" descr="Картинки по запросу дорога в школу  ребенка"/>
          <p:cNvPicPr/>
          <p:nvPr/>
        </p:nvPicPr>
        <p:blipFill>
          <a:blip r:embed="rId1"/>
          <a:stretch/>
        </p:blipFill>
        <p:spPr>
          <a:xfrm>
            <a:off x="5435640" y="1700280"/>
            <a:ext cx="3708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6T18:25:12Z</dcterms:created>
  <dc:creator>1</dc:creator>
  <dc:description/>
  <dc:language>en-US</dc:language>
  <cp:lastModifiedBy>Пользователь</cp:lastModifiedBy>
  <dcterms:modified xsi:type="dcterms:W3CDTF">2021-04-09T12:54:08Z</dcterms:modified>
  <cp:revision>7</cp:revision>
  <dc:subject/>
  <dc:title>РЕЖИМ ДНЯ</dc:title>
</cp:coreProperties>
</file>