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5.png" ContentType="image/pn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jpeg" ContentType="image/jpeg"/>
  <Override PartName="/ppt/media/image43.jpeg" ContentType="image/jpeg"/>
  <Override PartName="/ppt/media/image44.png" ContentType="image/png"/>
  <Override PartName="/ppt/media/image40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1.png" ContentType="image/pn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BC4-7798-4C57-87EF-00297FDE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1B74-3897-4FF7-932E-CEFDDF57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861-2AD2-4279-AAE9-12E9D104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277-538D-41C9-A857-615773FF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C87A-9FF0-404A-BE63-C7F2860D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19ED-AC6E-4C00-BD8C-F4B5C011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3153-4731-438F-8623-C8EC4244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BCEA-795B-4EC9-AAA8-2CD8272F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F8A4-05D0-4A70-A5AD-90B24DF0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32A8-9E7E-4BDE-87CC-9B78EF12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F855-6AFB-4809-8FCD-73F5C497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08B-7215-4F8A-9009-C8E2D00A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A998-6032-423E-B418-E9A72CBD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599A-4D48-449B-B6F5-FA5122F8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CB8D-7108-4E2E-9F2D-66E6744C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FE97-A611-4B6E-9AE1-764D9927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1DEB-7978-4CB8-A1D6-62BDB5FF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AE6E8-4EA9-4259-B4D6-54C1EB69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73C7C-11B4-4DB5-BE87-1863034E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08D4F-DF7D-489D-B26E-85B15362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C88D9-557A-4A85-8C3D-4A61CD9A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EBE7F-1266-4E8C-91F3-20D143F9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217-06B9-4DAE-87C2-8F3D7FA2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B95AA-8548-47A2-8BE4-00341680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6E339-E65C-488C-B69C-CF037CB7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2A8BB-E0F3-4F68-B0E0-06DC96A8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F6411-CB37-4030-B9FF-428334D2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DF3D-ACDB-4BC0-BC0C-84863AF2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F145-0C55-494B-BC29-88C27220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82511-5210-42DA-A5BE-99CEDE63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BEC6B-1EBF-4B3F-BF7A-871F1E86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41019-6249-4D6F-9E65-B3218A30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A6B2F-DD91-4F9B-9F52-E32E4F68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C7D-2177-4485-81CC-E9784EEC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EF7B1-32EC-43D2-A031-63100B3C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12034-90EA-4FA6-A577-B4C4623A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BA5F9-D027-4534-96D3-276D6554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65654-FDDB-4E14-9DFB-9015C4E0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69FB6-5F78-4B8C-8C3F-D6008387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92702-86C4-4B60-984F-5F7E28E8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07AAF-315F-414E-ACE5-DF3BD75B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2400D-1640-4D51-BCC7-F51C0E43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EAF3D-9BF1-44EA-90C0-5B31A246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03073-A7F3-4023-B67C-458ABE37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43C7-7D67-4A69-91EC-3CB5C5CD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540BA-ED35-4988-85D1-DA10064A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B4E1C-4809-4B42-8DFD-F1315E33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4633F-D728-4736-8B5A-67EC2850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C45D1-A36C-4E1E-A017-A91885DF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9DF4D-546D-409D-80AA-2CE152B1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92E46-7B91-4D16-851B-EEAB7ACC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53DE8-724B-4F39-AF17-8E285A9B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62701-0CE8-4B9E-97A3-A9EFBB83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B00B4-AED3-4A68-8693-3EE21DEC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61DCA-9C18-401C-AE62-75D5A73A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2D0-7646-4870-BA4E-94909EC8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0AF31-D425-4AB7-8FBE-FEA63675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9F8FD-861B-4E1D-BEF2-5B368453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5C47C-E1B9-4F20-B1F3-14AA97CE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6EA67-41C9-40A1-900D-CA379C6E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BF145-7618-4A5C-A3F7-03DBD475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83118-25A7-45A5-BDDC-B0093BAC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EA876-D095-4D37-8B8A-C290DBEB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30414-2395-46D4-8196-69D0A066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DFE61-A8F2-4DED-B7D1-CB222E1A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FACA6-0D1C-44EB-8B41-EBC9F580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FBB-F7FD-44D4-BE2C-22D7C7CB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A5D31-5B37-4D08-8D74-6B8DB03E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D8556-A23B-472E-9E40-F6931562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AB882-CB07-472A-968E-F3841B60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6FE1F-8573-43F3-BC57-37C1586E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AC2D4-7248-4D0E-8371-44DBCF38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D3F69-672A-436D-9395-41045637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4F6AA-7B8B-4AA3-B04B-64AF8599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D7467-106B-4991-8415-432619A8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5A6F0-A3BD-4545-8B31-55773353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12EE1-957F-401D-8DFA-BC331831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FA0-0D69-4295-9B03-0DA7E128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373F5-26BF-44AF-BEA2-7E87C577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86982-EB71-4367-9C26-BF0B8C94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87890-66C7-42DE-9A1C-610F372F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188B1-DE3E-49BE-9E44-A60728E6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EDB3D-0613-45BF-B650-E3D9464A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E8A-BA05-45A6-9184-36E1B479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C3B8-EAC7-42C2-B920-465BEACCAE3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C029EE-87EA-4049-915C-9B8586F74A4D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0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2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2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3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B9A7-83A1-4B36-BC6A-8F5F0DC4F2D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B70C03-4D06-4967-BB15-1B2832BF968E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0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3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4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2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2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2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олилиния 3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олилиния 3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олилиния 3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олилиния 3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олилиния 3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олилиния 3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38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39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40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41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42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99F3-48AB-4DB1-AD39-3C5AF725191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FE8C-061A-4338-AA25-54D3F71C032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20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3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4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5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6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27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28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29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30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31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5BED-094D-450D-8D94-321DC1D3559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5A34-DD78-4241-BF84-331941D8435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eb8803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22E970-2D8C-424E-9411-9C4763E27015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20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ая соединительная линия 23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Группа 24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25" name="Прямая соединительная линия 25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26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Прямая соединительная линия 27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Группа 28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9" name="Прямая соединительная линия 29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30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31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Группа 32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33" name="Прямая соединительная линия 33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34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Прямая соединительная линия 35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4C84-FA3B-4EE5-BB58-A870BC5C17E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20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hyperlink" Target="http://antaryamin.files.wordpress.com/2010/02/radiotuning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3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22" descr="bvcb dfbvcd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6"/>
          <p:cNvSpPr/>
          <p:nvPr/>
        </p:nvSpPr>
        <p:spPr>
          <a:xfrm>
            <a:off x="34920" y="214200"/>
            <a:ext cx="853776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c0000"/>
                </a:solidFill>
                <a:latin typeface="Verdana"/>
              </a:rPr>
              <a:t>Massenmedien. Welche Rolle spielen sie in unserem Leb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onsolas"/>
              </a:rPr>
              <a:t>Deutsche Sendunge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Filme (Filmkomödie, Melodramen, Spielfilme, Abenteuerfilme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MacCyve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Raumschiff Enterpris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Sensatione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Talk im Tur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Tag der Wale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ARD-Ratgeber: Gesundhei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Sesamstraß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Die Sendung mit der Mau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Corbel"/>
              </a:rPr>
              <a:t>Pressklub 3(Diskussion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Рисунок 3" descr="http://im0-tub-ru.yandex.net/i?id=383531251-40-72&amp;n=21"/>
          <p:cNvPicPr/>
          <p:nvPr/>
        </p:nvPicPr>
        <p:blipFill>
          <a:blip r:embed="rId1"/>
          <a:stretch/>
        </p:blipFill>
        <p:spPr>
          <a:xfrm>
            <a:off x="6643800" y="178596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4" descr="http://im3-tub-ru.yandex.net/i?id=254170646-38-72&amp;n=21"/>
          <p:cNvPicPr/>
          <p:nvPr/>
        </p:nvPicPr>
        <p:blipFill>
          <a:blip r:embed="rId2"/>
          <a:stretch/>
        </p:blipFill>
        <p:spPr>
          <a:xfrm>
            <a:off x="6215040" y="3357720"/>
            <a:ext cx="2603520" cy="14317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5" descr="http://im4-tub-ru.yandex.net/i?id=284675847-03-72&amp;n=21"/>
          <p:cNvPicPr/>
          <p:nvPr/>
        </p:nvPicPr>
        <p:blipFill>
          <a:blip r:embed="rId3"/>
          <a:stretch/>
        </p:blipFill>
        <p:spPr>
          <a:xfrm>
            <a:off x="7786800" y="4857840"/>
            <a:ext cx="1042920" cy="143172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6" descr="http://im0-tub-ru.yandex.net/i?id=343221158-36-72&amp;n=21"/>
          <p:cNvPicPr/>
          <p:nvPr/>
        </p:nvPicPr>
        <p:blipFill>
          <a:blip r:embed="rId4"/>
          <a:stretch/>
        </p:blipFill>
        <p:spPr>
          <a:xfrm>
            <a:off x="5286240" y="5425920"/>
            <a:ext cx="2544840" cy="143208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7" descr="http://www.de-online.ru/images/erste.png"/>
          <p:cNvPicPr/>
          <p:nvPr/>
        </p:nvPicPr>
        <p:blipFill>
          <a:blip r:embed="rId5"/>
          <a:stretch/>
        </p:blipFill>
        <p:spPr>
          <a:xfrm>
            <a:off x="3635280" y="3284640"/>
            <a:ext cx="3143520" cy="79200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5" descr="http://www.de-online.ru/images/N-tv-2008.png"/>
          <p:cNvPicPr/>
          <p:nvPr/>
        </p:nvPicPr>
        <p:blipFill>
          <a:blip r:embed="rId6"/>
          <a:stretch/>
        </p:blipFill>
        <p:spPr>
          <a:xfrm>
            <a:off x="4143240" y="1857240"/>
            <a:ext cx="1460520" cy="56700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6" descr="http://www.de-online.ru/images/tva.png"/>
          <p:cNvPicPr/>
          <p:nvPr/>
        </p:nvPicPr>
        <p:blipFill>
          <a:blip r:embed="rId7"/>
          <a:stretch/>
        </p:blipFill>
        <p:spPr>
          <a:xfrm>
            <a:off x="357120" y="333360"/>
            <a:ext cx="15051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onsolas"/>
              </a:rPr>
              <a:t>Russische Sendunge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Nachrichten heute“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Guten Morgen“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Leben gesund!“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Die Wahrheit ist irgendwo in der Nähe“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Guten Nacht, Kinder</a:t>
            </a:r>
            <a:r>
              <a:rPr b="0" lang="ru-RU" sz="2800" spc="-1" strike="noStrike">
                <a:solidFill>
                  <a:srgbClr val="ffff00"/>
                </a:solidFill>
                <a:latin typeface="Corbel"/>
              </a:rPr>
              <a:t>!</a:t>
            </a: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„</a:t>
            </a: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Warte auf mich“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Corbel"/>
              </a:rPr>
              <a:t>„</a:t>
            </a:r>
            <a:r>
              <a:rPr b="0" lang="ru-RU" sz="2800" spc="-1" strike="noStrike">
                <a:solidFill>
                  <a:srgbClr val="ffff00"/>
                </a:solidFill>
                <a:latin typeface="Corbel"/>
              </a:rPr>
              <a:t>Mein Planet</a:t>
            </a:r>
            <a:r>
              <a:rPr b="0" lang="de-DE" sz="3000" spc="-1" strike="noStrike">
                <a:solidFill>
                  <a:srgbClr val="ffff00"/>
                </a:solidFill>
                <a:latin typeface="Corbel"/>
              </a:rPr>
              <a:t>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Corbel"/>
              </a:rPr>
              <a:t>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Corbel"/>
              </a:rPr>
              <a:t>„</a:t>
            </a:r>
            <a:r>
              <a:rPr b="0" lang="de-DE" sz="3000" spc="-1" strike="noStrike">
                <a:solidFill>
                  <a:srgbClr val="ffff00"/>
                </a:solidFill>
                <a:latin typeface="Corbel"/>
              </a:rPr>
              <a:t>Genies und clever“ und andere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3" name="Рисунок 3" descr="http://im1-tub-ru.yandex.net/i?id=131617370-55-72&amp;n=21"/>
          <p:cNvPicPr/>
          <p:nvPr/>
        </p:nvPicPr>
        <p:blipFill>
          <a:blip r:embed="rId1"/>
          <a:stretch/>
        </p:blipFill>
        <p:spPr>
          <a:xfrm>
            <a:off x="357120" y="214200"/>
            <a:ext cx="1432080" cy="143208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4" descr="http://im0-tub-ru.yandex.net/i?id=272673401-69-72&amp;n=21"/>
          <p:cNvPicPr/>
          <p:nvPr/>
        </p:nvPicPr>
        <p:blipFill>
          <a:blip r:embed="rId2"/>
          <a:stretch/>
        </p:blipFill>
        <p:spPr>
          <a:xfrm>
            <a:off x="4000680" y="4286160"/>
            <a:ext cx="1452240" cy="164304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5" descr="http://im3-tub-ru.yandex.net/i?id=420311335-25-72&amp;n=21"/>
          <p:cNvPicPr/>
          <p:nvPr/>
        </p:nvPicPr>
        <p:blipFill>
          <a:blip r:embed="rId3"/>
          <a:stretch/>
        </p:blipFill>
        <p:spPr>
          <a:xfrm>
            <a:off x="5072040" y="1785960"/>
            <a:ext cx="1908360" cy="143208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6" descr="http://im7-tub-ru.yandex.net/i?id=428524181-51-72&amp;n=21"/>
          <p:cNvPicPr/>
          <p:nvPr/>
        </p:nvPicPr>
        <p:blipFill>
          <a:blip r:embed="rId4"/>
          <a:stretch/>
        </p:blipFill>
        <p:spPr>
          <a:xfrm>
            <a:off x="6072120" y="3857760"/>
            <a:ext cx="2786040" cy="193176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7" descr="http://im3-tub-ru.yandex.net/i?id=912833585-70-72&amp;n=21"/>
          <p:cNvPicPr/>
          <p:nvPr/>
        </p:nvPicPr>
        <p:blipFill>
          <a:blip r:embed="rId5"/>
          <a:stretch/>
        </p:blipFill>
        <p:spPr>
          <a:xfrm>
            <a:off x="6000840" y="928800"/>
            <a:ext cx="2862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Солнце 5"/>
          <p:cNvSpPr/>
          <p:nvPr/>
        </p:nvSpPr>
        <p:spPr>
          <a:xfrm>
            <a:off x="214200" y="1214280"/>
            <a:ext cx="2643480" cy="1357560"/>
          </a:xfrm>
          <a:prstGeom prst="sun">
            <a:avLst>
              <a:gd name="adj" fmla="val 250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olas"/>
              </a:rPr>
              <a:t>Fernsehen ist es interessant,</a:t>
            </a:r>
            <a:r>
              <a:rPr b="0" lang="de-DE" sz="36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Consolas"/>
              </a:rPr>
              <a:t>aber….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1" lang="de-DE" sz="4000" spc="-1" strike="noStrike">
                <a:solidFill>
                  <a:srgbClr val="ff0000"/>
                </a:solidFill>
                <a:latin typeface="Corbel"/>
              </a:rPr>
              <a:t>Pro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rbel"/>
              </a:rPr>
              <a:t>Viele Funktionen in der Gesellschaft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rbel"/>
              </a:rPr>
              <a:t>Kritisiert Missstände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as Fernsehen hilft den Menschen neue Kenntnisse aus verschiedenen Sachgebieten erwerbe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Verbreit Information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ir erfahren politische und kulturelle Nachrichte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orbel"/>
              </a:rPr>
              <a:t>Contr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fa326"/>
                </a:solidFill>
                <a:latin typeface="Corbel"/>
              </a:rPr>
              <a:t>wird zu oft einer richtigen Sucht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fa326"/>
                </a:solidFill>
                <a:latin typeface="Corbel"/>
              </a:rPr>
              <a:t>Die lange Sitzen vor dem Fernseher schadet der Gesundheit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2c32e"/>
                </a:solidFill>
                <a:latin typeface="Corbel"/>
              </a:rPr>
              <a:t>Zu viel Kriminalfilme, wo Gewalt eine große Rolle spielt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2c32e"/>
                </a:solidFill>
                <a:latin typeface="Corbel"/>
              </a:rPr>
              <a:t>Zu viel Werbung geht oft den Zuschauern auf die Nerven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72c32e"/>
                </a:solidFill>
                <a:latin typeface="Corbel"/>
              </a:rPr>
              <a:t>Zu viele schlechte Vorbilder: Gangster, Diebe u.a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12-конечная звезда 4"/>
          <p:cNvSpPr/>
          <p:nvPr/>
        </p:nvSpPr>
        <p:spPr>
          <a:xfrm>
            <a:off x="4786200" y="1500120"/>
            <a:ext cx="2357640" cy="928800"/>
          </a:xfrm>
          <a:custGeom>
            <a:avLst/>
            <a:gdLst>
              <a:gd name="textAreaLeft" fmla="*/ 553680 w 2357640"/>
              <a:gd name="textAreaRight" fmla="*/ 1803960 w 2357640"/>
              <a:gd name="textAreaTop" fmla="*/ 218160 h 928800"/>
              <a:gd name="textAreaBottom" fmla="*/ 710640 h 928800"/>
            </a:gdLst>
            <a:ahLst/>
            <a:rect l="textAreaLeft" t="textAreaTop" r="textAreaRight" b="textAreaBottom"/>
            <a:pathLst>
              <a:path w="2357437" h="928687">
                <a:moveTo>
                  <a:pt x="0" y="464344"/>
                </a:moveTo>
                <a:lnTo>
                  <a:pt x="324802" y="374208"/>
                </a:lnTo>
                <a:lnTo>
                  <a:pt x="157918" y="232172"/>
                </a:lnTo>
                <a:lnTo>
                  <a:pt x="553609" y="218088"/>
                </a:lnTo>
                <a:lnTo>
                  <a:pt x="589359" y="62210"/>
                </a:lnTo>
                <a:lnTo>
                  <a:pt x="949913" y="127952"/>
                </a:lnTo>
                <a:lnTo>
                  <a:pt x="1178719" y="0"/>
                </a:lnTo>
                <a:lnTo>
                  <a:pt x="1407524" y="127952"/>
                </a:lnTo>
                <a:lnTo>
                  <a:pt x="1768077" y="62210"/>
                </a:lnTo>
                <a:lnTo>
                  <a:pt x="1803828" y="218088"/>
                </a:lnTo>
                <a:lnTo>
                  <a:pt x="2199519" y="232172"/>
                </a:lnTo>
                <a:lnTo>
                  <a:pt x="2032635" y="374208"/>
                </a:lnTo>
                <a:lnTo>
                  <a:pt x="2357437" y="464344"/>
                </a:lnTo>
                <a:lnTo>
                  <a:pt x="2032635" y="554479"/>
                </a:lnTo>
                <a:lnTo>
                  <a:pt x="2199519" y="696515"/>
                </a:lnTo>
                <a:lnTo>
                  <a:pt x="1803828" y="710599"/>
                </a:lnTo>
                <a:lnTo>
                  <a:pt x="1768077" y="866477"/>
                </a:lnTo>
                <a:lnTo>
                  <a:pt x="1407524" y="800735"/>
                </a:lnTo>
                <a:lnTo>
                  <a:pt x="1178719" y="928687"/>
                </a:lnTo>
                <a:lnTo>
                  <a:pt x="949913" y="800735"/>
                </a:lnTo>
                <a:lnTo>
                  <a:pt x="589359" y="866477"/>
                </a:lnTo>
                <a:lnTo>
                  <a:pt x="553609" y="710599"/>
                </a:lnTo>
                <a:lnTo>
                  <a:pt x="157918" y="696515"/>
                </a:lnTo>
                <a:lnTo>
                  <a:pt x="324802" y="554479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72c32e"/>
                </a:solidFill>
                <a:latin typeface="Consolas"/>
              </a:rPr>
              <a:t>Computer hat  seinen Siegeszug um die Welt angetreten</a:t>
            </a:r>
            <a:endParaRPr b="0" lang="en-US" sz="2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5fa326"/>
                </a:solidFill>
                <a:latin typeface="Corbel"/>
              </a:rPr>
              <a:t>Der Mensch hat mehr Zeit dank dem Computer!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5fa326"/>
                </a:solidFill>
                <a:latin typeface="Corbel"/>
              </a:rPr>
              <a:t>Er befreit den Menschen von schwerer Routinearbei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5fa326"/>
                </a:solidFill>
                <a:latin typeface="Corbel"/>
              </a:rPr>
              <a:t>Er erleichtert den Unterrich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5fa326"/>
                </a:solidFill>
                <a:latin typeface="Corbel"/>
              </a:rPr>
              <a:t>Man kann Projekte machen und vieles andere</a:t>
            </a:r>
            <a:r>
              <a:rPr b="0" i="1" lang="de-DE" sz="28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ffffff"/>
                </a:solidFill>
                <a:latin typeface="Corbel"/>
              </a:rPr>
              <a:t>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5" name="Рисунок 5" descr="http://im4-tub-ru.yandex.net/i?id=305943174-34-72&amp;n=21"/>
          <p:cNvPicPr/>
          <p:nvPr/>
        </p:nvPicPr>
        <p:blipFill>
          <a:blip r:embed="rId1"/>
          <a:stretch/>
        </p:blipFill>
        <p:spPr>
          <a:xfrm>
            <a:off x="6572160" y="5072040"/>
            <a:ext cx="2357640" cy="128916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6" descr=""/>
          <p:cNvPicPr/>
          <p:nvPr/>
        </p:nvPicPr>
        <p:blipFill>
          <a:blip r:embed="rId2"/>
          <a:stretch/>
        </p:blipFill>
        <p:spPr>
          <a:xfrm>
            <a:off x="506520" y="4748040"/>
            <a:ext cx="740556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72c32e"/>
                </a:solidFill>
                <a:latin typeface="Consolas"/>
              </a:rPr>
              <a:t>Der Computer ist eine psychologische Abhängigkeit geworden</a:t>
            </a:r>
            <a:endParaRPr b="0" lang="en-US" sz="2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fa326"/>
                </a:solidFill>
                <a:latin typeface="Corbel"/>
              </a:rPr>
              <a:t>Für manche wird das Leben ohne Computer sinnlos. Dies kann zu dem Suizid führe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fa326"/>
                </a:solidFill>
                <a:latin typeface="Corbel"/>
              </a:rPr>
              <a:t>Längeres Sitzen vor dem Computer führt zu den Rückenschmerzen, Epileptischen Anfälle, zu den Problemen mit den Aug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Corbel"/>
              </a:rPr>
              <a:t>             </a:t>
            </a:r>
            <a:r>
              <a:rPr b="0" lang="de-DE" sz="3000" spc="-1" strike="noStrike">
                <a:solidFill>
                  <a:srgbClr val="72c32e"/>
                </a:solidFill>
                <a:latin typeface="Corbel"/>
              </a:rPr>
              <a:t>Das ist für die Gesundheit nicht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2c32e"/>
                </a:solidFill>
                <a:latin typeface="Corbel"/>
              </a:rPr>
              <a:t>                           </a:t>
            </a:r>
            <a:r>
              <a:rPr b="0" lang="de-DE" sz="3000" spc="-1" strike="noStrike">
                <a:solidFill>
                  <a:srgbClr val="72c32e"/>
                </a:solidFill>
                <a:latin typeface="Corbel"/>
              </a:rPr>
              <a:t>nützlich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Consolas"/>
              </a:rPr>
              <a:t>Das Internet hat in der letzen Zeit für die Menschen immer mehr Bedeutung gewonnen</a:t>
            </a:r>
            <a:endParaRPr b="0" lang="en-US" sz="29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24000" y="234900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fa326"/>
                </a:solidFill>
                <a:latin typeface="Corbel"/>
              </a:rPr>
              <a:t>Viele Menschen verbringen jetzt ihre Freizeit im Interne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5fa326"/>
                </a:solidFill>
                <a:latin typeface="Corbel"/>
              </a:rPr>
              <a:t>Das Internet wird oft benutzt um einzukaufen, ohne das Haus zu verlass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1" name="Рисунок 4" descr="http://im6-tub-ru.yandex.net/i?id=187280392-01-72&amp;n=21"/>
          <p:cNvPicPr/>
          <p:nvPr/>
        </p:nvPicPr>
        <p:blipFill>
          <a:blip r:embed="rId1"/>
          <a:stretch/>
        </p:blipFill>
        <p:spPr>
          <a:xfrm>
            <a:off x="1714680" y="4000680"/>
            <a:ext cx="3214440" cy="1643040"/>
          </a:xfrm>
          <a:prstGeom prst="rect">
            <a:avLst/>
          </a:prstGeom>
          <a:ln w="0">
            <a:noFill/>
          </a:ln>
        </p:spPr>
      </p:pic>
      <p:pic>
        <p:nvPicPr>
          <p:cNvPr id="462" name="Рисунок 5" descr="http://im6-tub-ru.yandex.net/i?id=512278417-46-72&amp;n=21"/>
          <p:cNvPicPr/>
          <p:nvPr/>
        </p:nvPicPr>
        <p:blipFill>
          <a:blip r:embed="rId2"/>
          <a:stretch/>
        </p:blipFill>
        <p:spPr>
          <a:xfrm>
            <a:off x="5857920" y="3857760"/>
            <a:ext cx="2786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2c32e"/>
                </a:solidFill>
                <a:latin typeface="Consolas"/>
              </a:rPr>
              <a:t>Aufgaben der Massenmedien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Горизонтальный свиток 3"/>
          <p:cNvSpPr/>
          <p:nvPr/>
        </p:nvSpPr>
        <p:spPr>
          <a:xfrm>
            <a:off x="785880" y="1500120"/>
            <a:ext cx="2143080" cy="164304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Kritisier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Missstän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Горизонтальный свиток 4"/>
          <p:cNvSpPr/>
          <p:nvPr/>
        </p:nvSpPr>
        <p:spPr>
          <a:xfrm>
            <a:off x="3564000" y="1844640"/>
            <a:ext cx="2579760" cy="136836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Kontrolli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as Verhal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er Amtsinha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Горизонтальный свиток 5"/>
          <p:cNvSpPr/>
          <p:nvPr/>
        </p:nvSpPr>
        <p:spPr>
          <a:xfrm>
            <a:off x="857160" y="3286080"/>
            <a:ext cx="2143080" cy="150012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Tragen z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Meinungsbil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Der Bürger b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Горизонтальный свиток 6"/>
          <p:cNvSpPr/>
          <p:nvPr/>
        </p:nvSpPr>
        <p:spPr>
          <a:xfrm>
            <a:off x="3786120" y="3357720"/>
            <a:ext cx="2286000" cy="157140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Verbreit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Informatio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Горизонтальный свиток 7"/>
          <p:cNvSpPr/>
          <p:nvPr/>
        </p:nvSpPr>
        <p:spPr>
          <a:xfrm>
            <a:off x="6732720" y="1700280"/>
            <a:ext cx="1911240" cy="129996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Machen politis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Problrme und 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Zusammenhä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einsicht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Горизонтальный свиток 8"/>
          <p:cNvSpPr/>
          <p:nvPr/>
        </p:nvSpPr>
        <p:spPr>
          <a:xfrm>
            <a:off x="6572160" y="3357720"/>
            <a:ext cx="2214720" cy="1643040"/>
          </a:xfrm>
          <a:prstGeom prst="horizontalScroll">
            <a:avLst>
              <a:gd name="adj" fmla="val 12500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ontrollier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e Entscheidung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r politisch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stitution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1"/>
          <a:stretch/>
        </p:blipFill>
        <p:spPr>
          <a:xfrm>
            <a:off x="457200" y="1036800"/>
            <a:ext cx="8461440" cy="25714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4000" y="2781000"/>
            <a:ext cx="8078760" cy="5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Corbel"/>
              </a:rPr>
              <a:t>Beantwortet die Frage!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a326"/>
                </a:solidFill>
                <a:latin typeface="Consolas"/>
              </a:rPr>
              <a:t>Eine Umfrage der Schüler der 8. und 9. Klassen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74" name="Содержимое 3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2c32e"/>
                </a:solidFill>
                <a:latin typeface="Consolas"/>
              </a:rPr>
              <a:t>Wie viel Zeit verbringst du vor dem Computer?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434960"/>
            <a:ext cx="2514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700" spc="-1" strike="noStrike">
                <a:solidFill>
                  <a:srgbClr val="ffff00"/>
                </a:solidFill>
                <a:latin typeface="Corbel"/>
              </a:rPr>
              <a:t>Antwort: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marL="5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700" spc="-1" strike="noStrike">
                <a:solidFill>
                  <a:srgbClr val="ffff00"/>
                </a:solidFill>
                <a:latin typeface="Corbel"/>
              </a:rPr>
              <a:t>2 -4 Uhr jeden tag!!!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  <a:p>
            <a:pPr marL="5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700" spc="-1" strike="noStrike">
                <a:solidFill>
                  <a:srgbClr val="ffff00"/>
                </a:solidFill>
                <a:latin typeface="Corbel"/>
              </a:rPr>
              <a:t>Aber wenig Bücher lesen!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7" name="Содержимое 4" descr=""/>
          <p:cNvPicPr/>
          <p:nvPr/>
        </p:nvPicPr>
        <p:blipFill>
          <a:blip r:embed="rId1"/>
          <a:stretch/>
        </p:blipFill>
        <p:spPr>
          <a:xfrm>
            <a:off x="4175280" y="1434960"/>
            <a:ext cx="399384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395280" y="189000"/>
            <a:ext cx="803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r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st dieses Thema „Massenmedien“ heute aktuill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900000" y="1143000"/>
            <a:ext cx="770436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Wir benutzen Informatione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20520" y="33480"/>
            <a:ext cx="256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оугольник 4"/>
          <p:cNvSpPr/>
          <p:nvPr/>
        </p:nvSpPr>
        <p:spPr>
          <a:xfrm>
            <a:off x="2286000" y="236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Прямоугольник 7"/>
          <p:cNvSpPr/>
          <p:nvPr/>
        </p:nvSpPr>
        <p:spPr>
          <a:xfrm>
            <a:off x="2286000" y="5429160"/>
            <a:ext cx="66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cht ihr eine Liste von Medien, die du und deine Familie im Alltag am        liebsten benutz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Схема 8" descr=""/>
          <p:cNvPicPr/>
          <p:nvPr/>
        </p:nvPicPr>
        <p:blipFill>
          <a:blip r:embed="rId1"/>
          <a:stretch/>
        </p:blipFill>
        <p:spPr>
          <a:xfrm>
            <a:off x="-6480" y="1249200"/>
            <a:ext cx="915696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olas"/>
              </a:rPr>
              <a:t>Beenden Sie die Sätze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rbel"/>
              </a:rPr>
              <a:t>1.Die Massenmedien haben die Aufgabe, Informationen zu ..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rbel"/>
              </a:rPr>
              <a:t>Verbreite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rbel"/>
              </a:rPr>
              <a:t>2.Sie müssen zur Meinungsbildung der Burger ..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rbel"/>
              </a:rPr>
              <a:t>Beitrage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rbel"/>
              </a:rPr>
              <a:t>3.Sie müssen komplizierte politische Probleme ...              </a:t>
            </a: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   </a:t>
            </a:r>
            <a:r>
              <a:rPr b="1" lang="de-DE" sz="2000" spc="-1" strike="noStrike">
                <a:solidFill>
                  <a:srgbClr val="ffff00"/>
                </a:solidFill>
                <a:latin typeface="Corbel"/>
              </a:rPr>
              <a:t>machen und politische Ereignisse ..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rbel"/>
              </a:rPr>
              <a:t>E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insichtig                                   </a:t>
            </a:r>
            <a:r>
              <a:rPr b="1" lang="de-DE" sz="2000" spc="-1" strike="noStrike">
                <a:solidFill>
                  <a:srgbClr val="ff0000"/>
                </a:solidFill>
                <a:latin typeface="Corbel"/>
              </a:rPr>
              <a:t>kommentiere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rbel"/>
              </a:rPr>
              <a:t>4.Sie haben die Aufgabe, die Entscheidungen der politischen Institutionen zu ..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rbel"/>
              </a:rPr>
              <a:t>kontroliere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Corbel"/>
              </a:rPr>
              <a:t>5.Auch das Verhalten der Amtsinhaber müssen sie ...            und Mißstände ... </a:t>
            </a:r>
            <a:r>
              <a:rPr b="1" lang="de-DE" sz="2000" spc="-1" strike="noStrike">
                <a:solidFill>
                  <a:srgbClr val="ff0000"/>
                </a:solidFill>
                <a:latin typeface="Corbel"/>
              </a:rPr>
              <a:t>Kontrolieren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                    </a:t>
            </a:r>
            <a:r>
              <a:rPr b="1" lang="de-DE" sz="2000" spc="-1" strike="noStrike">
                <a:solidFill>
                  <a:srgbClr val="ff0000"/>
                </a:solidFill>
                <a:latin typeface="Corbel"/>
              </a:rPr>
              <a:t>kritisiere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olas"/>
              </a:rPr>
              <a:t>Wie kann man neue Information bekommen</a:t>
            </a: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?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Per Radi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Per Fernseh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Per Compu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8" name="Рисунок 3" descr="http://im2-tub-ru.yandex.net/i?id=175276395-12-72&amp;n=21"/>
          <p:cNvPicPr/>
          <p:nvPr/>
        </p:nvPicPr>
        <p:blipFill>
          <a:blip r:embed="rId1"/>
          <a:stretch/>
        </p:blipFill>
        <p:spPr>
          <a:xfrm rot="20589600">
            <a:off x="3795480" y="1616040"/>
            <a:ext cx="3571920" cy="207180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4" descr="http://im4-tub-ru.yandex.net/i?id=305943174-34-72&amp;n=21"/>
          <p:cNvPicPr/>
          <p:nvPr/>
        </p:nvPicPr>
        <p:blipFill>
          <a:blip r:embed="rId2"/>
          <a:stretch/>
        </p:blipFill>
        <p:spPr>
          <a:xfrm>
            <a:off x="500040" y="3643200"/>
            <a:ext cx="3429000" cy="164304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5" descr="http://im2-tub-ru.yandex.net/i?id=287912726-38-72&amp;n=21"/>
          <p:cNvPicPr/>
          <p:nvPr/>
        </p:nvPicPr>
        <p:blipFill>
          <a:blip r:embed="rId3"/>
          <a:stretch/>
        </p:blipFill>
        <p:spPr>
          <a:xfrm rot="20656200">
            <a:off x="5307120" y="3467160"/>
            <a:ext cx="3143160" cy="16430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6" descr="http://im7-tub-ru.yandex.net/i?id=429229891-49-72&amp;n=21"/>
          <p:cNvPicPr/>
          <p:nvPr/>
        </p:nvPicPr>
        <p:blipFill>
          <a:blip r:embed="rId4"/>
          <a:stretch/>
        </p:blipFill>
        <p:spPr>
          <a:xfrm>
            <a:off x="7000920" y="492912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5"/>
          <a:stretch/>
        </p:blipFill>
        <p:spPr>
          <a:xfrm rot="20133000">
            <a:off x="4536720" y="4539960"/>
            <a:ext cx="2000160" cy="199368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8" descr="http://my-skype-lesson.ru/newspaper_spiegel.jpg"/>
          <p:cNvPicPr/>
          <p:nvPr/>
        </p:nvPicPr>
        <p:blipFill>
          <a:blip r:embed="rId6"/>
          <a:stretch/>
        </p:blipFill>
        <p:spPr>
          <a:xfrm rot="19954200">
            <a:off x="2738520" y="5295600"/>
            <a:ext cx="19047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Büch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ff"/>
                </a:solidFill>
                <a:latin typeface="Corbel"/>
              </a:rPr>
              <a:t>Das älteste Massenmedium ist, wie bekannt, das Buc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6" name="i-main-pic" descr="Картинка 141 из 4000"/>
          <p:cNvPicPr/>
          <p:nvPr/>
        </p:nvPicPr>
        <p:blipFill>
          <a:blip r:embed="rId1"/>
          <a:stretch/>
        </p:blipFill>
        <p:spPr>
          <a:xfrm>
            <a:off x="1258920" y="3573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4" descr="http://im7-tub-ru.yandex.net/i?id=429229891-49-72&amp;n=21"/>
          <p:cNvPicPr/>
          <p:nvPr/>
        </p:nvPicPr>
        <p:blipFill>
          <a:blip r:embed="rId2"/>
          <a:stretch/>
        </p:blipFill>
        <p:spPr>
          <a:xfrm>
            <a:off x="5076720" y="3357720"/>
            <a:ext cx="29084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179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undfunk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as ist ein Informationsmitt</a:t>
            </a:r>
            <a:r>
              <a:rPr b="0" lang="de-DE" sz="4000" spc="-1" strike="noStrike">
                <a:solidFill>
                  <a:srgbClr val="c1eeff"/>
                </a:solidFill>
                <a:latin typeface="Consolas"/>
              </a:rPr>
              <a:t>e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2400480" y="2322360"/>
            <a:ext cx="4800600" cy="349596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4"/>
          <p:cNvSpPr/>
          <p:nvPr/>
        </p:nvSpPr>
        <p:spPr>
          <a:xfrm>
            <a:off x="5857920" y="3500280"/>
            <a:ext cx="2928960" cy="20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eutsche Welle – это единственный глобальный вещатель, уделяющий особое внимание происходящему в Германии и Европ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Прямоугольник с двумя вырезанными противолежащими углами 5"/>
          <p:cNvGrpSpPr/>
          <p:nvPr/>
        </p:nvGrpSpPr>
        <p:grpSpPr>
          <a:xfrm>
            <a:off x="2687760" y="5486400"/>
            <a:ext cx="4054320" cy="1243080"/>
            <a:chOff x="2687760" y="5486400"/>
            <a:chExt cx="4054320" cy="1243080"/>
          </a:xfrm>
        </p:grpSpPr>
        <p:pic>
          <p:nvPicPr>
            <p:cNvPr id="402" name="Прямоугольник с двумя вырезанными противолежащими углами 5" descr=""/>
            <p:cNvPicPr/>
            <p:nvPr/>
          </p:nvPicPr>
          <p:blipFill>
            <a:blip r:embed="rId2"/>
            <a:stretch/>
          </p:blipFill>
          <p:spPr>
            <a:xfrm>
              <a:off x="2687760" y="5486400"/>
              <a:ext cx="405432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860560" y="5661000"/>
              <a:ext cx="3710160" cy="8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rbel"/>
                </a:rPr>
                <a:t>Aber! Radiosendungen kann                             man nur      hören</a:t>
              </a:r>
              <a:r>
                <a:rPr b="1" lang="en-US" sz="1800" spc="-1" strike="noStrike">
                  <a:solidFill>
                    <a:srgbClr val="000000"/>
                  </a:solidFill>
                  <a:latin typeface="Corbel"/>
                </a:rPr>
                <a:t>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2928960" y="207180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"/>
          <p:cNvPicPr/>
          <p:nvPr/>
        </p:nvPicPr>
        <p:blipFill>
          <a:blip r:embed="rId4"/>
          <a:stretch/>
        </p:blipFill>
        <p:spPr>
          <a:xfrm>
            <a:off x="428760" y="1714680"/>
            <a:ext cx="2500200" cy="2296800"/>
          </a:xfrm>
          <a:prstGeom prst="rect">
            <a:avLst/>
          </a:prstGeom>
          <a:ln w="0">
            <a:noFill/>
          </a:ln>
        </p:spPr>
      </p:pic>
      <p:pic>
        <p:nvPicPr>
          <p:cNvPr id="406" name="i-main-pic" descr="Картинка 33 из 91766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53160" y="2786040"/>
            <a:ext cx="33908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ffff00"/>
                </a:solidFill>
                <a:latin typeface="Consolas"/>
              </a:rPr>
              <a:t>Ihr müsst deutsche und russische Äquivalente finden</a:t>
            </a:r>
            <a:r>
              <a:rPr b="0" i="1" lang="de-DE" sz="3600" spc="-1" strike="noStrike" u="sng">
                <a:solidFill>
                  <a:srgbClr val="c1eeff"/>
                </a:solidFill>
                <a:uFillTx/>
                <a:latin typeface="Consolas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as Fernsehen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ie Zeitung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ie Entscheidung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ie Sendung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ie Nachricht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ie Zeitschrift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er Zuschauer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er Zusammenhang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as Rundfunk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er Amtsinhaber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ie Massenmedien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die Verfassung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verbreiten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vermitteln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Corbel"/>
              </a:rPr>
              <a:t>unterhaltsam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Средства массовой информации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Новость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Телевидение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Связь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Распространять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Конституция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Передавать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Владелец предприятия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Передача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Зритель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Газета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Интересный, занимательный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Правительство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Решение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Журнал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Радио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olas"/>
              </a:rPr>
              <a:t>Die ganze Welt ist vor Augen</a:t>
            </a:r>
            <a:r>
              <a:rPr b="0" lang="ru-RU" sz="3600" spc="-1" strike="noStrike">
                <a:solidFill>
                  <a:srgbClr val="000000"/>
                </a:solidFill>
                <a:latin typeface="Consolas"/>
              </a:rPr>
              <a:t>!</a:t>
            </a:r>
            <a:br>
              <a:rPr sz="3600"/>
            </a:br>
            <a:r>
              <a:rPr b="1" i="1" lang="ru-RU" sz="3600" spc="-1" strike="noStrike">
                <a:solidFill>
                  <a:srgbClr val="ffc000"/>
                </a:solidFill>
                <a:latin typeface="Consolas"/>
              </a:rPr>
              <a:t>Sehen, Hören und auch Lesen.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Рисунок 3" descr="http://im1-tub-ru.yandex.net/i?id=43002571-49-72&amp;n=21"/>
          <p:cNvPicPr/>
          <p:nvPr/>
        </p:nvPicPr>
        <p:blipFill>
          <a:blip r:embed="rId1"/>
          <a:stretch/>
        </p:blipFill>
        <p:spPr>
          <a:xfrm>
            <a:off x="179280" y="2565360"/>
            <a:ext cx="4168800" cy="285768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4" descr="http://im4-tub-ru.yandex.net/i?id=122981026-18-72&amp;n=21"/>
          <p:cNvPicPr/>
          <p:nvPr/>
        </p:nvPicPr>
        <p:blipFill>
          <a:blip r:embed="rId2"/>
          <a:stretch/>
        </p:blipFill>
        <p:spPr>
          <a:xfrm>
            <a:off x="4500720" y="3284640"/>
            <a:ext cx="4643280" cy="26431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5" descr="http://www.de-online.ru/images/N-tv-2008.png"/>
          <p:cNvPicPr/>
          <p:nvPr/>
        </p:nvPicPr>
        <p:blipFill>
          <a:blip r:embed="rId3"/>
          <a:stretch/>
        </p:blipFill>
        <p:spPr>
          <a:xfrm>
            <a:off x="4284720" y="2349360"/>
            <a:ext cx="1460520" cy="5670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6" descr="http://www.de-online.ru/images/tva.png"/>
          <p:cNvPicPr/>
          <p:nvPr/>
        </p:nvPicPr>
        <p:blipFill>
          <a:blip r:embed="rId4"/>
          <a:stretch/>
        </p:blipFill>
        <p:spPr>
          <a:xfrm>
            <a:off x="7215120" y="549360"/>
            <a:ext cx="1928880" cy="53820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7" descr="http://www.de-online.ru/images/erste.png"/>
          <p:cNvPicPr/>
          <p:nvPr/>
        </p:nvPicPr>
        <p:blipFill>
          <a:blip r:embed="rId5"/>
          <a:stretch/>
        </p:blipFill>
        <p:spPr>
          <a:xfrm>
            <a:off x="2500200" y="5715000"/>
            <a:ext cx="37069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olas"/>
              </a:rPr>
              <a:t>Alles, was in der Welt passiert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olas"/>
              </a:rPr>
              <a:t>Die größte Ereignisse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214308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Corbel"/>
              </a:rPr>
              <a:t>Die </a:t>
            </a:r>
            <a:r>
              <a:rPr b="0" lang="ru-RU" sz="3000" spc="-1" strike="noStrike">
                <a:solidFill>
                  <a:srgbClr val="ffff00"/>
                </a:solidFill>
                <a:latin typeface="Corbel"/>
              </a:rPr>
              <a:t>XXII</a:t>
            </a:r>
            <a:r>
              <a:rPr b="0" lang="de-DE" sz="3000" spc="-1" strike="noStrike">
                <a:solidFill>
                  <a:srgbClr val="ffff00"/>
                </a:solidFill>
                <a:latin typeface="Corbel"/>
              </a:rPr>
              <a:t> Olympische Spielen in Sotch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9" name="Рисунок 4" descr="http://im0-tub-ru.yandex.net/i?id=674628994-39-72&amp;n=21"/>
          <p:cNvPicPr/>
          <p:nvPr/>
        </p:nvPicPr>
        <p:blipFill>
          <a:blip r:embed="rId1"/>
          <a:stretch/>
        </p:blipFill>
        <p:spPr>
          <a:xfrm>
            <a:off x="8145360" y="0"/>
            <a:ext cx="998640" cy="119700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5" descr="http://im0-tub-ru.yandex.net/i?id=5872741-05-16f-90226&amp;n=21"/>
          <p:cNvPicPr/>
          <p:nvPr/>
        </p:nvPicPr>
        <p:blipFill>
          <a:blip r:embed="rId2"/>
          <a:stretch/>
        </p:blipFill>
        <p:spPr>
          <a:xfrm>
            <a:off x="0" y="2928960"/>
            <a:ext cx="3444840" cy="200016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8" descr="http://im6-tub-ru.yandex.net/i?id=267603369-32-72&amp;n=21"/>
          <p:cNvPicPr/>
          <p:nvPr/>
        </p:nvPicPr>
        <p:blipFill>
          <a:blip r:embed="rId3"/>
          <a:stretch/>
        </p:blipFill>
        <p:spPr>
          <a:xfrm>
            <a:off x="6429240" y="4572000"/>
            <a:ext cx="2714760" cy="170964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9" descr="http://im4-tub-ru.yandex.net/i?id=159045637-60-72&amp;n=21"/>
          <p:cNvPicPr/>
          <p:nvPr/>
        </p:nvPicPr>
        <p:blipFill>
          <a:blip r:embed="rId4"/>
          <a:stretch/>
        </p:blipFill>
        <p:spPr>
          <a:xfrm>
            <a:off x="6381720" y="2571840"/>
            <a:ext cx="2762280" cy="171432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7" descr="http://im3-tub-ru.yandex.net/i?id=257738224-31-72&amp;n=21"/>
          <p:cNvPicPr/>
          <p:nvPr/>
        </p:nvPicPr>
        <p:blipFill>
          <a:blip r:embed="rId5"/>
          <a:stretch/>
        </p:blipFill>
        <p:spPr>
          <a:xfrm>
            <a:off x="2714760" y="4929120"/>
            <a:ext cx="3214440" cy="192888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8" descr="http://im2-tub-ru.yandex.net/i?id=193696485-40-72&amp;n=21"/>
          <p:cNvPicPr/>
          <p:nvPr/>
        </p:nvPicPr>
        <p:blipFill>
          <a:blip r:embed="rId6"/>
          <a:stretch/>
        </p:blipFill>
        <p:spPr>
          <a:xfrm>
            <a:off x="0" y="368280"/>
            <a:ext cx="1619280" cy="156204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9" descr="http://im6-tub-ru.yandex.net/i?id=154098570-25-72&amp;n=21"/>
          <p:cNvPicPr/>
          <p:nvPr/>
        </p:nvPicPr>
        <p:blipFill>
          <a:blip r:embed="rId7"/>
          <a:stretch/>
        </p:blipFill>
        <p:spPr>
          <a:xfrm>
            <a:off x="3857760" y="3143160"/>
            <a:ext cx="19731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olas"/>
              </a:rPr>
              <a:t>Alles, was in der Welt passiert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Consolas"/>
              </a:rPr>
              <a:t>Die größte Ereignisse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Corbel"/>
              </a:rPr>
              <a:t>Jahr der Kultur in der Russischen Föder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8" name="Рисунок 3" descr="http://im3-tub-ru.yandex.net/i?id=204590535-49-72&amp;n=21"/>
          <p:cNvPicPr/>
          <p:nvPr/>
        </p:nvPicPr>
        <p:blipFill>
          <a:blip r:embed="rId1"/>
          <a:stretch/>
        </p:blipFill>
        <p:spPr>
          <a:xfrm>
            <a:off x="2000160" y="2712960"/>
            <a:ext cx="3495600" cy="257328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4" descr="http://im6-tub-ru.yandex.net/i?id=8845557-05-16f-63508&amp;n=21"/>
          <p:cNvPicPr/>
          <p:nvPr/>
        </p:nvPicPr>
        <p:blipFill>
          <a:blip r:embed="rId2"/>
          <a:stretch/>
        </p:blipFill>
        <p:spPr>
          <a:xfrm>
            <a:off x="6786720" y="1928880"/>
            <a:ext cx="1908000" cy="143172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5" descr="http://im5-tub-ru.yandex.net/i?id=497481095-13-72&amp;n=21"/>
          <p:cNvPicPr/>
          <p:nvPr/>
        </p:nvPicPr>
        <p:blipFill>
          <a:blip r:embed="rId3"/>
          <a:stretch/>
        </p:blipFill>
        <p:spPr>
          <a:xfrm>
            <a:off x="6286680" y="3571920"/>
            <a:ext cx="2157120" cy="143172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6" descr="http://im3-tub-ru.yandex.net/i?id=8161476-04-16f-44726&amp;n=21"/>
          <p:cNvPicPr/>
          <p:nvPr/>
        </p:nvPicPr>
        <p:blipFill>
          <a:blip r:embed="rId4"/>
          <a:stretch/>
        </p:blipFill>
        <p:spPr>
          <a:xfrm>
            <a:off x="5643720" y="5143680"/>
            <a:ext cx="21463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RET</cp:lastModifiedBy>
  <dcterms:modified xsi:type="dcterms:W3CDTF">2021-04-08T12:16:16Z</dcterms:modified>
  <cp:revision>96</cp:revision>
  <dc:subject/>
  <dc:title>Hand Carrying Earth</dc:title>
</cp:coreProperties>
</file>