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599-3535-4D35-A0DA-CD619735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6D1-69BF-4995-8DC2-14115B2D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E59-30E0-473C-867B-705272E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ACC-73F8-4B19-8D19-10FB38F8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C137-EFB1-494E-A1DE-08624BE6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C76AE-5793-4F0C-81CE-FBF465FC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77EE5-149C-45B6-AE58-C125127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D6D6-BDD7-4193-8A7C-361D9CF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91A55-C4C9-4967-91A0-B4FBDC4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2610-4910-4643-B244-577FCEA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788C7-C127-4001-90C4-EC16885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E8F-37B5-4558-A5C6-75BF186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A9C18-99CB-408B-9425-126D825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C3764-1DBF-4A24-B016-F94D5BF7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E1DB9-7E76-46CB-94CB-F16F9F5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D716-3346-4ABD-B5E2-68CCA78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90F61-E1AD-4C83-B921-8116946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DEE-0CBA-49A2-8314-F97F668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9CF-2BBD-4C6F-A1E2-322050B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870-804A-41B5-9DCD-62E60D1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698-BF84-4767-AAD1-595B791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4D1-17F2-4015-89CC-F37D289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AA0-B459-4D37-A7C2-C21AAA97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523-63C9-4394-953A-7062359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4949-7F98-445E-9E80-B31FB704B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C29A-4F9D-4710-85C1-3BC87CBD2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1055;%202.ppt" TargetMode="External"/><Relationship Id="rId3" Type="http://schemas.openxmlformats.org/officeDocument/2006/relationships/hyperlink" Target="file:///&#1055;%207.ppt" TargetMode="External"/><Relationship Id="rId4" Type="http://schemas.openxmlformats.org/officeDocument/2006/relationships/hyperlink" Target="file:///&#1055;%204.ppt" TargetMode="External"/><Relationship Id="rId5" Type="http://schemas.openxmlformats.org/officeDocument/2006/relationships/hyperlink" Target="file:///&#1055;6.ppt" TargetMode="External"/><Relationship Id="rId6" Type="http://schemas.openxmlformats.org/officeDocument/2006/relationships/hyperlink" Target="file:///&#1055;%2011.ppt" TargetMode="External"/><Relationship Id="rId7" Type="http://schemas.openxmlformats.org/officeDocument/2006/relationships/hyperlink" Target="file:///&#1055;%2012.ppt" TargetMode="External"/><Relationship Id="rId8" Type="http://schemas.openxmlformats.org/officeDocument/2006/relationships/hyperlink" Target="file:///&#1055;%2018.ppt" TargetMode="External"/><Relationship Id="rId9" Type="http://schemas.openxmlformats.org/officeDocument/2006/relationships/hyperlink" Target="file:///&#1055;%2019.ppt" TargetMode="External"/><Relationship Id="rId10" Type="http://schemas.openxmlformats.org/officeDocument/2006/relationships/hyperlink" Target="file:///&#1055;%2017.ppt" TargetMode="External"/><Relationship Id="rId11" Type="http://schemas.openxmlformats.org/officeDocument/2006/relationships/hyperlink" Target="file:///&#1055;%2020.ppt" TargetMode="External"/><Relationship Id="rId12" Type="http://schemas.openxmlformats.org/officeDocument/2006/relationships/hyperlink" Target="file:///&#1055;%2015.ppt" TargetMode="External"/><Relationship Id="rId13" Type="http://schemas.openxmlformats.org/officeDocument/2006/relationships/hyperlink" Target="file:///&#1055;%205.ppt" TargetMode="External"/><Relationship Id="rId14" Type="http://schemas.openxmlformats.org/officeDocument/2006/relationships/hyperlink" Target="file:///&#1055;%2016.ppt" TargetMode="External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5280" y="333360"/>
          <a:ext cx="8497800" cy="629280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Графики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Графики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/>
                        </a:rPr>
                        <a:t>Графики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/>
                        </a:rPr>
                        <a:t>Графики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т в меш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/>
                        </a:rPr>
                        <a:t>Определение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/>
                        </a:rPr>
                        <a:t>Определение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опрос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опрос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/>
                        </a:rPr>
                        <a:t>Вопрос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/>
                        </a:rPr>
                        <a:t>Вопрос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/>
                        </a:rPr>
                        <a:t>Газовые законы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/>
                        </a:rPr>
                        <a:t>Газовые законы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/>
                        </a:rPr>
                        <a:t>Газовые законы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/>
                        </a:rPr>
                        <a:t>Газовые законы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! Это просто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/>
                        </a:rPr>
                        <a:t>Сюрпр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/>
                        </a:rPr>
                        <a:t>Темная лош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989000"/>
            <a:ext cx="723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называют изопроцессами?  Какие изопроцессы вы знает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616536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317080" y="5661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суде находится идеальный газ, масса которого изменяется. На графике приведен процесс изотермического изменения состояния газа. В какой из точек графика масса газа наибольша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95640" y="299700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373720"/>
            <a:ext cx="2736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56000" y="350028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350028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500280"/>
            <a:ext cx="720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4221000"/>
            <a:ext cx="7164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42900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71628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429000"/>
            <a:ext cx="730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544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016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Каков физический смысл универсальной газовой постоянной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ой газ называется идеальным? Чем он отличается от реального газ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нагревании газа получена зависимость давления от температуры. Сжимается или расширяется га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2565000"/>
            <a:ext cx="0" cy="280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530064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59280" y="3933720"/>
            <a:ext cx="1152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084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92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Гей-Люссака. О каком изопроцессе идет речь в зако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формулируйте закон Шарля. О каком изопроцессе идет речь в зак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ие процессы изображены на график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24000" y="278100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15772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335772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335772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65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28464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28464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429264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61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6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416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380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5734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7493"/>
                </a:moveTo>
                <a:lnTo>
                  <a:pt x="9498" y="7493"/>
                </a:lnTo>
                <a:lnTo>
                  <a:pt x="9498" y="12828"/>
                </a:lnTo>
                <a:cubicBezTo>
                  <a:pt x="9498" y="13751"/>
                  <a:pt x="10299" y="14482"/>
                  <a:pt x="11334" y="14482"/>
                </a:cubicBezTo>
                <a:lnTo>
                  <a:pt x="12997" y="14482"/>
                </a:lnTo>
                <a:cubicBezTo>
                  <a:pt x="14033" y="14482"/>
                  <a:pt x="14833" y="13751"/>
                  <a:pt x="14833" y="12828"/>
                </a:cubicBezTo>
                <a:lnTo>
                  <a:pt x="14833" y="7493"/>
                </a:lnTo>
                <a:lnTo>
                  <a:pt x="12997" y="7493"/>
                </a:lnTo>
                <a:lnTo>
                  <a:pt x="16504" y="3985"/>
                </a:lnTo>
                <a:lnTo>
                  <a:pt x="20177" y="7493"/>
                </a:lnTo>
                <a:lnTo>
                  <a:pt x="18341" y="7493"/>
                </a:lnTo>
                <a:lnTo>
                  <a:pt x="18341" y="12828"/>
                </a:lnTo>
                <a:cubicBezTo>
                  <a:pt x="18341" y="15596"/>
                  <a:pt x="15765" y="18155"/>
                  <a:pt x="12997" y="18155"/>
                </a:cubicBezTo>
                <a:lnTo>
                  <a:pt x="11334" y="18155"/>
                </a:lnTo>
                <a:cubicBezTo>
                  <a:pt x="8567" y="18155"/>
                  <a:pt x="5990" y="15596"/>
                  <a:pt x="599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50560" y="836280"/>
            <a:ext cx="85690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ри баллона емкостью 3 л, 7 л, 5 л, заполнены кислородом (р=2 атм), азотом (р= 3 атм) и углекислым газом (0,6 атм)при одной и той же  температуре. Баллоны соединяют между собой, причем образуется смесь той же температуры. Каково давление смес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10800000">
            <a:off x="321840" y="1267920"/>
            <a:ext cx="88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высокий стеклянный сосуд объемом 1 куб.дм наполнен воздухом при давлении 200 мм.рт.ст. Какое количество воды войдет в сосуд, если в нем сделать отверстие под водой на глубине 2 м от поверхности? Атмосферное давление 800 мм.рт.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формулируйте закон Дальт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44000" y="595008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7493"/>
                </a:moveTo>
                <a:lnTo>
                  <a:pt x="9500" y="7493"/>
                </a:lnTo>
                <a:lnTo>
                  <a:pt x="9500" y="12828"/>
                </a:lnTo>
                <a:cubicBezTo>
                  <a:pt x="9500" y="13751"/>
                  <a:pt x="10301" y="14482"/>
                  <a:pt x="11337" y="14482"/>
                </a:cubicBezTo>
                <a:lnTo>
                  <a:pt x="12999" y="14482"/>
                </a:lnTo>
                <a:cubicBezTo>
                  <a:pt x="14035" y="14482"/>
                  <a:pt x="14835" y="13751"/>
                  <a:pt x="14835" y="12828"/>
                </a:cubicBezTo>
                <a:lnTo>
                  <a:pt x="14835" y="7493"/>
                </a:lnTo>
                <a:lnTo>
                  <a:pt x="12999" y="7493"/>
                </a:lnTo>
                <a:lnTo>
                  <a:pt x="16507" y="3985"/>
                </a:lnTo>
                <a:lnTo>
                  <a:pt x="20180" y="7493"/>
                </a:lnTo>
                <a:lnTo>
                  <a:pt x="18343" y="7493"/>
                </a:lnTo>
                <a:lnTo>
                  <a:pt x="18343" y="12828"/>
                </a:lnTo>
                <a:cubicBezTo>
                  <a:pt x="18343" y="15596"/>
                  <a:pt x="15767" y="18155"/>
                  <a:pt x="12999" y="18155"/>
                </a:cubicBezTo>
                <a:lnTo>
                  <a:pt x="11337" y="18155"/>
                </a:lnTo>
                <a:cubicBezTo>
                  <a:pt x="8569" y="18155"/>
                  <a:pt x="5993" y="15596"/>
                  <a:pt x="599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чему от  горящих сухих поленьев с треском отскакивают искр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587700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3794" y="7531"/>
                </a:moveTo>
                <a:lnTo>
                  <a:pt x="7301" y="7531"/>
                </a:lnTo>
                <a:lnTo>
                  <a:pt x="7301" y="12867"/>
                </a:lnTo>
                <a:cubicBezTo>
                  <a:pt x="7301" y="13789"/>
                  <a:pt x="8102" y="14520"/>
                  <a:pt x="9138" y="14520"/>
                </a:cubicBezTo>
                <a:lnTo>
                  <a:pt x="10800" y="14520"/>
                </a:lnTo>
                <a:cubicBezTo>
                  <a:pt x="11836" y="14520"/>
                  <a:pt x="12636" y="13789"/>
                  <a:pt x="12636" y="12867"/>
                </a:cubicBezTo>
                <a:lnTo>
                  <a:pt x="12636" y="7531"/>
                </a:lnTo>
                <a:lnTo>
                  <a:pt x="10800" y="7531"/>
                </a:lnTo>
                <a:lnTo>
                  <a:pt x="14308" y="4024"/>
                </a:lnTo>
                <a:lnTo>
                  <a:pt x="17981" y="7531"/>
                </a:lnTo>
                <a:lnTo>
                  <a:pt x="16144" y="7531"/>
                </a:lnTo>
                <a:lnTo>
                  <a:pt x="16144" y="12867"/>
                </a:lnTo>
                <a:cubicBezTo>
                  <a:pt x="16144" y="15634"/>
                  <a:pt x="13568" y="18193"/>
                  <a:pt x="10800" y="18193"/>
                </a:cubicBezTo>
                <a:lnTo>
                  <a:pt x="9138" y="18193"/>
                </a:lnTo>
                <a:cubicBezTo>
                  <a:pt x="6370" y="18193"/>
                  <a:pt x="3794" y="15634"/>
                  <a:pt x="3794" y="1286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353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гласно закону Бойля-Мариотта для идеального газа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V=const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и Т=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st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Почему же тогда при надувании щек и давление и объем в ротовой полости возрастаю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92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Бойля-Мариотта. О каком изопроцессе идет речь в зако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26920" y="1196640"/>
            <a:ext cx="756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В цилиндре под поршнем находится газ. Масса поршня 0,6 кг, его площадь 20 кв.см. С какой силой надо действовать на поршень, чтобы объем газа в цилиндре уменьшился вдвое? Температура газа не изменяется. Атмосферное давление нормальн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ишите три формулы для расчета количества вещест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101080" y="580536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493"/>
                </a:moveTo>
                <a:lnTo>
                  <a:pt x="8830" y="7493"/>
                </a:lnTo>
                <a:lnTo>
                  <a:pt x="8830" y="12828"/>
                </a:lnTo>
                <a:cubicBezTo>
                  <a:pt x="8830" y="13751"/>
                  <a:pt x="9630" y="14482"/>
                  <a:pt x="10666" y="14482"/>
                </a:cubicBezTo>
                <a:lnTo>
                  <a:pt x="12329" y="14482"/>
                </a:lnTo>
                <a:cubicBezTo>
                  <a:pt x="13364" y="14482"/>
                  <a:pt x="14165" y="13751"/>
                  <a:pt x="14165" y="12828"/>
                </a:cubicBezTo>
                <a:lnTo>
                  <a:pt x="14165" y="7493"/>
                </a:lnTo>
                <a:lnTo>
                  <a:pt x="12329" y="7493"/>
                </a:lnTo>
                <a:lnTo>
                  <a:pt x="15836" y="3985"/>
                </a:lnTo>
                <a:lnTo>
                  <a:pt x="19509" y="7493"/>
                </a:lnTo>
                <a:lnTo>
                  <a:pt x="17673" y="7493"/>
                </a:lnTo>
                <a:lnTo>
                  <a:pt x="17673" y="12828"/>
                </a:lnTo>
                <a:cubicBezTo>
                  <a:pt x="17673" y="15596"/>
                  <a:pt x="15096" y="18155"/>
                  <a:pt x="12329" y="18155"/>
                </a:cubicBezTo>
                <a:lnTo>
                  <a:pt x="10666" y="18155"/>
                </a:lnTo>
                <a:cubicBezTo>
                  <a:pt x="7898" y="18155"/>
                  <a:pt x="5322" y="15596"/>
                  <a:pt x="532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очему барабанная перепонка уха не продавливается бомбардирующими ее молекулами воздух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806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чему у глубоководных рыб пузырь выходит наружу, если их извлечь из во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02800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782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определение температуры.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нимо ли понятие температуры к одной молекул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88508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7493"/>
                </a:moveTo>
                <a:lnTo>
                  <a:pt x="10874" y="7493"/>
                </a:lnTo>
                <a:lnTo>
                  <a:pt x="10874" y="12828"/>
                </a:lnTo>
                <a:cubicBezTo>
                  <a:pt x="10874" y="13751"/>
                  <a:pt x="11675" y="14482"/>
                  <a:pt x="12711" y="14482"/>
                </a:cubicBezTo>
                <a:lnTo>
                  <a:pt x="14373" y="14482"/>
                </a:lnTo>
                <a:cubicBezTo>
                  <a:pt x="15409" y="14482"/>
                  <a:pt x="16209" y="13751"/>
                  <a:pt x="16209" y="12828"/>
                </a:cubicBezTo>
                <a:lnTo>
                  <a:pt x="16209" y="7493"/>
                </a:lnTo>
                <a:lnTo>
                  <a:pt x="14373" y="7493"/>
                </a:lnTo>
                <a:lnTo>
                  <a:pt x="17881" y="3985"/>
                </a:lnTo>
                <a:lnTo>
                  <a:pt x="21554" y="7493"/>
                </a:lnTo>
                <a:lnTo>
                  <a:pt x="19717" y="7493"/>
                </a:lnTo>
                <a:lnTo>
                  <a:pt x="19717" y="12828"/>
                </a:lnTo>
                <a:cubicBezTo>
                  <a:pt x="19717" y="15596"/>
                  <a:pt x="17141" y="18155"/>
                  <a:pt x="14373" y="18155"/>
                </a:cubicBezTo>
                <a:lnTo>
                  <a:pt x="12711" y="18155"/>
                </a:lnTo>
                <a:cubicBezTo>
                  <a:pt x="9943" y="18155"/>
                  <a:pt x="7367" y="15596"/>
                  <a:pt x="736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8508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7493"/>
                </a:moveTo>
                <a:lnTo>
                  <a:pt x="10874" y="7493"/>
                </a:lnTo>
                <a:lnTo>
                  <a:pt x="10874" y="12828"/>
                </a:lnTo>
                <a:cubicBezTo>
                  <a:pt x="10874" y="13751"/>
                  <a:pt x="11675" y="14482"/>
                  <a:pt x="12711" y="14482"/>
                </a:cubicBezTo>
                <a:lnTo>
                  <a:pt x="14373" y="14482"/>
                </a:lnTo>
                <a:cubicBezTo>
                  <a:pt x="15409" y="14482"/>
                  <a:pt x="16209" y="13751"/>
                  <a:pt x="16209" y="12828"/>
                </a:cubicBezTo>
                <a:lnTo>
                  <a:pt x="16209" y="7493"/>
                </a:lnTo>
                <a:lnTo>
                  <a:pt x="14373" y="7493"/>
                </a:lnTo>
                <a:lnTo>
                  <a:pt x="17881" y="3985"/>
                </a:lnTo>
                <a:lnTo>
                  <a:pt x="21554" y="7493"/>
                </a:lnTo>
                <a:lnTo>
                  <a:pt x="19717" y="7493"/>
                </a:lnTo>
                <a:lnTo>
                  <a:pt x="19717" y="12828"/>
                </a:lnTo>
                <a:cubicBezTo>
                  <a:pt x="19717" y="15596"/>
                  <a:pt x="17141" y="18155"/>
                  <a:pt x="14373" y="18155"/>
                </a:cubicBezTo>
                <a:lnTo>
                  <a:pt x="12711" y="18155"/>
                </a:lnTo>
                <a:cubicBezTo>
                  <a:pt x="9943" y="18155"/>
                  <a:pt x="7367" y="15596"/>
                  <a:pt x="736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вух одинаковых сосудах нагревают один и тот же газ разной массы. Зависимость давления газа от температуры в этих сосудах на рисунке. Сравните массы газа в сосуд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76360" y="2707920"/>
            <a:ext cx="0" cy="3097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5805360"/>
            <a:ext cx="3166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76360" y="3212640"/>
            <a:ext cx="129528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76360" y="4149360"/>
            <a:ext cx="25909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9440" y="558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180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600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56:58Z</dcterms:created>
  <dc:creator>Company MIR</dc:creator>
  <dc:description/>
  <dc:language>en-US</dc:language>
  <cp:lastModifiedBy>Company MIR</cp:lastModifiedBy>
  <dcterms:modified xsi:type="dcterms:W3CDTF">2009-10-20T19:48:41Z</dcterms:modified>
  <cp:revision>7</cp:revision>
  <dc:subject/>
  <dc:title>Слайд 1</dc:title>
</cp:coreProperties>
</file>