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5A7-30FA-4399-BC43-170D46DB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F2F-30A9-4E4D-A7F6-0C3A6928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B17-43F8-460A-95A7-1A3D418C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2C4-029A-4EF7-91A9-DB61A473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A84EE-3BA3-4109-8F1B-7D15A285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08A08-55DD-4759-A22B-C1D12EFC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E86E4-FBD9-4092-AA49-C996D12D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B5706-7F46-44E4-A9FC-8F655CB2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5FBD2-E649-4C40-B812-BBF3E353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32AD7-3551-45B5-B1E2-B7A8D836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52F7D-5CB7-42A8-84DE-094D613A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E05-C6A9-4901-92C9-5A703696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5FF3A-AE12-4D89-9A27-351D1E46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D9CF7-2BEF-4F6F-98D2-554E3395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74571-39F4-408E-AA48-8B103C9C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3DA14-2AAD-44BE-B9F3-8CC6C292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E08AF-CAC4-4AC4-ACB0-BF1B24EE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243-847B-4A53-A86F-0332E1BC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A62-B989-480C-90B2-5E830C4F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3EA-C1F4-48FF-BB61-D2667845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CD8-23E7-4845-AF44-2D8A0D4E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937-BF7F-4B49-A206-7D61921B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795-DF91-4C3A-AEBD-77C1039A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D5D-C5DF-473E-8AE2-B5A20C8D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971A-01CF-4B56-B834-E6DFD8EEA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7933-5033-48AE-96E5-42DAD32DC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&#1055;%202.ppt" TargetMode="External"/><Relationship Id="rId3" Type="http://schemas.openxmlformats.org/officeDocument/2006/relationships/hyperlink" Target="file:///&#1055;%207.ppt" TargetMode="External"/><Relationship Id="rId4" Type="http://schemas.openxmlformats.org/officeDocument/2006/relationships/hyperlink" Target="file:///&#1055;%204.ppt" TargetMode="External"/><Relationship Id="rId5" Type="http://schemas.openxmlformats.org/officeDocument/2006/relationships/hyperlink" Target="file:///&#1055;6.ppt" TargetMode="External"/><Relationship Id="rId6" Type="http://schemas.openxmlformats.org/officeDocument/2006/relationships/hyperlink" Target="file:///&#1055;%2011.ppt" TargetMode="External"/><Relationship Id="rId7" Type="http://schemas.openxmlformats.org/officeDocument/2006/relationships/hyperlink" Target="file:///&#1055;%2012.ppt" TargetMode="External"/><Relationship Id="rId8" Type="http://schemas.openxmlformats.org/officeDocument/2006/relationships/hyperlink" Target="file:///&#1055;%2018.ppt" TargetMode="External"/><Relationship Id="rId9" Type="http://schemas.openxmlformats.org/officeDocument/2006/relationships/hyperlink" Target="file:///&#1055;%2019.ppt" TargetMode="External"/><Relationship Id="rId10" Type="http://schemas.openxmlformats.org/officeDocument/2006/relationships/hyperlink" Target="file:///&#1055;%2017.ppt" TargetMode="External"/><Relationship Id="rId11" Type="http://schemas.openxmlformats.org/officeDocument/2006/relationships/hyperlink" Target="file:///&#1055;%2020.ppt" TargetMode="External"/><Relationship Id="rId12" Type="http://schemas.openxmlformats.org/officeDocument/2006/relationships/hyperlink" Target="file:///&#1055;%2015.ppt" TargetMode="External"/><Relationship Id="rId13" Type="http://schemas.openxmlformats.org/officeDocument/2006/relationships/hyperlink" Target="file:///&#1055;%205.ppt" TargetMode="External"/><Relationship Id="rId14" Type="http://schemas.openxmlformats.org/officeDocument/2006/relationships/hyperlink" Target="file:///&#1055;%2016.ppt" TargetMode="External"/><Relationship Id="rId1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95280" y="333360"/>
          <a:ext cx="8497800" cy="6292800"/>
        </p:xfrm>
        <a:graphic>
          <a:graphicData uri="http://schemas.openxmlformats.org/drawingml/2006/table">
            <a:tbl>
              <a:tblPr/>
              <a:tblGrid>
                <a:gridCol w="2124000"/>
                <a:gridCol w="2125800"/>
                <a:gridCol w="2124000"/>
                <a:gridCol w="21240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Графики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Графики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2"/>
                        </a:rPr>
                        <a:t>Графики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3"/>
                        </a:rPr>
                        <a:t>Графики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пределение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от в меш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4"/>
                        </a:rPr>
                        <a:t>Определение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5"/>
                        </a:rPr>
                        <a:t>Определение 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Вопрос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Вопрос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6"/>
                        </a:rPr>
                        <a:t>Вопрос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7"/>
                        </a:rPr>
                        <a:t>Вопрос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8"/>
                        </a:rPr>
                        <a:t>Газовые законы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9"/>
                        </a:rPr>
                        <a:t>Газовые законы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0"/>
                        </a:rPr>
                        <a:t>Газовые законы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1"/>
                        </a:rPr>
                        <a:t>Газовые законы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у! Это просто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2"/>
                        </a:rPr>
                        <a:t>Сме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3"/>
                        </a:rPr>
                        <a:t>Сюрпр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cc00"/>
                          </a:solidFill>
                          <a:uFillTx/>
                          <a:latin typeface="Tahoma"/>
                          <a:hlinkClick r:id="rId14"/>
                        </a:rPr>
                        <a:t>Темная лошад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1989000"/>
            <a:ext cx="7235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Что называют изопроцессами?  Какие изопроцессы вы знает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6165360"/>
            <a:ext cx="6400800" cy="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8317080" y="5661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7493"/>
                </a:moveTo>
                <a:lnTo>
                  <a:pt x="8825" y="7493"/>
                </a:lnTo>
                <a:lnTo>
                  <a:pt x="8825" y="12828"/>
                </a:lnTo>
                <a:cubicBezTo>
                  <a:pt x="8825" y="13751"/>
                  <a:pt x="9626" y="14482"/>
                  <a:pt x="10662" y="14482"/>
                </a:cubicBezTo>
                <a:lnTo>
                  <a:pt x="12324" y="14482"/>
                </a:lnTo>
                <a:cubicBezTo>
                  <a:pt x="13360" y="14482"/>
                  <a:pt x="14161" y="13751"/>
                  <a:pt x="14161" y="12828"/>
                </a:cubicBezTo>
                <a:lnTo>
                  <a:pt x="14161" y="7493"/>
                </a:lnTo>
                <a:lnTo>
                  <a:pt x="12324" y="7493"/>
                </a:lnTo>
                <a:lnTo>
                  <a:pt x="15832" y="3985"/>
                </a:lnTo>
                <a:lnTo>
                  <a:pt x="19505" y="7493"/>
                </a:lnTo>
                <a:lnTo>
                  <a:pt x="17668" y="7493"/>
                </a:lnTo>
                <a:lnTo>
                  <a:pt x="17668" y="12828"/>
                </a:lnTo>
                <a:cubicBezTo>
                  <a:pt x="17668" y="15596"/>
                  <a:pt x="15092" y="18155"/>
                  <a:pt x="12324" y="18155"/>
                </a:cubicBezTo>
                <a:lnTo>
                  <a:pt x="10662" y="18155"/>
                </a:lnTo>
                <a:cubicBezTo>
                  <a:pt x="7894" y="18155"/>
                  <a:pt x="5318" y="15596"/>
                  <a:pt x="531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осуде находится идеальный газ, масса которого изменяется. На графике приведен процесс изотермического изменения состояния газа. В какой из точек графика масса газа наибольша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95640" y="2997000"/>
            <a:ext cx="0" cy="23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373720"/>
            <a:ext cx="2736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56000" y="3500280"/>
            <a:ext cx="36036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350028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3500280"/>
            <a:ext cx="72072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4360" y="4221000"/>
            <a:ext cx="71640" cy="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3429000"/>
            <a:ext cx="7128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716280"/>
            <a:ext cx="712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3429000"/>
            <a:ext cx="73080" cy="7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544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50160" y="51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3080" y="4221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306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314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652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Каков физический смысл универсальной газовой постоянной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ой газ называется идеальным? Чем он отличается от реального газ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нагревании газа получена зависимость давления от температуры. Сжимается или расширяется газ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2565000"/>
            <a:ext cx="0" cy="280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5300640"/>
            <a:ext cx="273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59280" y="3933720"/>
            <a:ext cx="115236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81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508464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692360" y="155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формулируйте закон Гей-Люссака. О каком изопроцессе идет речь в закон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формулируйте закон Шарля. О каком изопроцессе идет речь в закон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кие процессы изображены на график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124000" y="2781000"/>
            <a:ext cx="0" cy="23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5157720"/>
            <a:ext cx="273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335772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1280" y="335772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65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284640"/>
            <a:ext cx="712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28464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0000" y="4292640"/>
            <a:ext cx="712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616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616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416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3800" y="501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85080" y="573408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7493"/>
                </a:moveTo>
                <a:lnTo>
                  <a:pt x="9498" y="7493"/>
                </a:lnTo>
                <a:lnTo>
                  <a:pt x="9498" y="12828"/>
                </a:lnTo>
                <a:cubicBezTo>
                  <a:pt x="9498" y="13751"/>
                  <a:pt x="10299" y="14482"/>
                  <a:pt x="11334" y="14482"/>
                </a:cubicBezTo>
                <a:lnTo>
                  <a:pt x="12997" y="14482"/>
                </a:lnTo>
                <a:cubicBezTo>
                  <a:pt x="14033" y="14482"/>
                  <a:pt x="14833" y="13751"/>
                  <a:pt x="14833" y="12828"/>
                </a:cubicBezTo>
                <a:lnTo>
                  <a:pt x="14833" y="7493"/>
                </a:lnTo>
                <a:lnTo>
                  <a:pt x="12997" y="7493"/>
                </a:lnTo>
                <a:lnTo>
                  <a:pt x="16504" y="3985"/>
                </a:lnTo>
                <a:lnTo>
                  <a:pt x="20177" y="7493"/>
                </a:lnTo>
                <a:lnTo>
                  <a:pt x="18341" y="7493"/>
                </a:lnTo>
                <a:lnTo>
                  <a:pt x="18341" y="12828"/>
                </a:lnTo>
                <a:cubicBezTo>
                  <a:pt x="18341" y="15596"/>
                  <a:pt x="15765" y="18155"/>
                  <a:pt x="12997" y="18155"/>
                </a:cubicBezTo>
                <a:lnTo>
                  <a:pt x="11334" y="18155"/>
                </a:lnTo>
                <a:cubicBezTo>
                  <a:pt x="8567" y="18155"/>
                  <a:pt x="5990" y="15596"/>
                  <a:pt x="5990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250560" y="836280"/>
            <a:ext cx="85690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ри баллона емкостью 3 л, 7 л, 5 л, заполнены кислородом (р=2 атм), азотом (р= 3 атм) и углекислым газом (0,6 атм)при одной и той же  температуре. Баллоны соединяют между собой, причем образуется смесь той же температуры. Каково давление смес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10800000">
            <a:off x="321840" y="1267920"/>
            <a:ext cx="882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высокий стеклянный сосуд объемом 1 куб.дм наполнен воздухом при давлении 200 мм.рт.ст. Какое количество воды войдет в сосуд, если в нем сделать отверстие под водой на глубине 2 м от поверхности? Атмосферное давление 800 мм.рт.с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28000" y="595008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9627"/>
                </a:moveTo>
                <a:lnTo>
                  <a:pt x="7301" y="9627"/>
                </a:lnTo>
                <a:lnTo>
                  <a:pt x="7301" y="14962"/>
                </a:lnTo>
                <a:cubicBezTo>
                  <a:pt x="7301" y="15885"/>
                  <a:pt x="8102" y="16616"/>
                  <a:pt x="9138" y="16616"/>
                </a:cubicBezTo>
                <a:lnTo>
                  <a:pt x="10800" y="16616"/>
                </a:lnTo>
                <a:cubicBezTo>
                  <a:pt x="11836" y="16616"/>
                  <a:pt x="12636" y="15885"/>
                  <a:pt x="12636" y="14962"/>
                </a:cubicBezTo>
                <a:lnTo>
                  <a:pt x="12636" y="9627"/>
                </a:lnTo>
                <a:lnTo>
                  <a:pt x="10800" y="9627"/>
                </a:lnTo>
                <a:lnTo>
                  <a:pt x="14308" y="6119"/>
                </a:lnTo>
                <a:lnTo>
                  <a:pt x="17981" y="9627"/>
                </a:lnTo>
                <a:lnTo>
                  <a:pt x="16144" y="9627"/>
                </a:lnTo>
                <a:lnTo>
                  <a:pt x="16144" y="14962"/>
                </a:lnTo>
                <a:cubicBezTo>
                  <a:pt x="16144" y="17730"/>
                  <a:pt x="13568" y="20289"/>
                  <a:pt x="10800" y="20289"/>
                </a:cubicBezTo>
                <a:lnTo>
                  <a:pt x="9138" y="20289"/>
                </a:lnTo>
                <a:cubicBezTo>
                  <a:pt x="6370" y="20289"/>
                  <a:pt x="3794" y="17730"/>
                  <a:pt x="3794" y="1496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формулируйте закон Дальт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8244000" y="5950080"/>
            <a:ext cx="431640" cy="3585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5998" h="21600">
                <a:moveTo>
                  <a:pt x="0" y="0"/>
                </a:moveTo>
                <a:lnTo>
                  <a:pt x="25998" y="0"/>
                </a:lnTo>
                <a:lnTo>
                  <a:pt x="25998" y="21600"/>
                </a:lnTo>
                <a:lnTo>
                  <a:pt x="0" y="21600"/>
                </a:lnTo>
                <a:close/>
              </a:path>
              <a:path fill="lightenLess" w="25998" h="21600">
                <a:moveTo>
                  <a:pt x="0" y="0"/>
                </a:moveTo>
                <a:lnTo>
                  <a:pt x="25998" y="0"/>
                </a:lnTo>
                <a:lnTo>
                  <a:pt x="24598" y="1400"/>
                </a:lnTo>
                <a:lnTo>
                  <a:pt x="1400" y="1400"/>
                </a:lnTo>
                <a:close/>
              </a:path>
              <a:path fill="darken" w="25998" h="21600">
                <a:moveTo>
                  <a:pt x="25998" y="0"/>
                </a:moveTo>
                <a:lnTo>
                  <a:pt x="25998" y="21600"/>
                </a:lnTo>
                <a:lnTo>
                  <a:pt x="24598" y="20200"/>
                </a:lnTo>
                <a:lnTo>
                  <a:pt x="24598" y="1400"/>
                </a:lnTo>
                <a:close/>
              </a:path>
              <a:path fill="darkenLess" w="25998" h="21600">
                <a:moveTo>
                  <a:pt x="2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8" y="20200"/>
                </a:lnTo>
                <a:close/>
              </a:path>
              <a:path fill="lighten" w="2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8" h="21600">
                <a:moveTo>
                  <a:pt x="5993" y="7493"/>
                </a:moveTo>
                <a:lnTo>
                  <a:pt x="9500" y="7493"/>
                </a:lnTo>
                <a:lnTo>
                  <a:pt x="9500" y="12828"/>
                </a:lnTo>
                <a:cubicBezTo>
                  <a:pt x="9500" y="13751"/>
                  <a:pt x="10301" y="14482"/>
                  <a:pt x="11337" y="14482"/>
                </a:cubicBezTo>
                <a:lnTo>
                  <a:pt x="12999" y="14482"/>
                </a:lnTo>
                <a:cubicBezTo>
                  <a:pt x="14035" y="14482"/>
                  <a:pt x="14835" y="13751"/>
                  <a:pt x="14835" y="12828"/>
                </a:cubicBezTo>
                <a:lnTo>
                  <a:pt x="14835" y="7493"/>
                </a:lnTo>
                <a:lnTo>
                  <a:pt x="12999" y="7493"/>
                </a:lnTo>
                <a:lnTo>
                  <a:pt x="16507" y="3985"/>
                </a:lnTo>
                <a:lnTo>
                  <a:pt x="20180" y="7493"/>
                </a:lnTo>
                <a:lnTo>
                  <a:pt x="18343" y="7493"/>
                </a:lnTo>
                <a:lnTo>
                  <a:pt x="18343" y="12828"/>
                </a:lnTo>
                <a:cubicBezTo>
                  <a:pt x="18343" y="15596"/>
                  <a:pt x="15767" y="18155"/>
                  <a:pt x="12999" y="18155"/>
                </a:cubicBezTo>
                <a:lnTo>
                  <a:pt x="11337" y="18155"/>
                </a:lnTo>
                <a:cubicBezTo>
                  <a:pt x="8569" y="18155"/>
                  <a:pt x="5993" y="15596"/>
                  <a:pt x="5993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87280" y="1773360"/>
            <a:ext cx="705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чему от  горящих сухих поленьев с треском отскакивают искр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956720" y="5877000"/>
            <a:ext cx="502920" cy="50472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77">
                <a:moveTo>
                  <a:pt x="0" y="0"/>
                </a:moveTo>
                <a:lnTo>
                  <a:pt x="21600" y="0"/>
                </a:lnTo>
                <a:lnTo>
                  <a:pt x="21600" y="21677"/>
                </a:lnTo>
                <a:lnTo>
                  <a:pt x="0" y="21677"/>
                </a:lnTo>
                <a:close/>
              </a:path>
              <a:path fill="lightenLess" w="21600" h="21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7">
                <a:moveTo>
                  <a:pt x="21600" y="0"/>
                </a:moveTo>
                <a:lnTo>
                  <a:pt x="21600" y="21677"/>
                </a:lnTo>
                <a:lnTo>
                  <a:pt x="20200" y="20277"/>
                </a:lnTo>
                <a:lnTo>
                  <a:pt x="20200" y="1400"/>
                </a:lnTo>
                <a:close/>
              </a:path>
              <a:path fill="darkenLess" w="21600" h="21677">
                <a:moveTo>
                  <a:pt x="21600" y="21677"/>
                </a:moveTo>
                <a:lnTo>
                  <a:pt x="0" y="21677"/>
                </a:lnTo>
                <a:lnTo>
                  <a:pt x="1400" y="20277"/>
                </a:lnTo>
                <a:lnTo>
                  <a:pt x="20200" y="20277"/>
                </a:lnTo>
                <a:close/>
              </a:path>
              <a:path fill="lighten" w="21600" h="21677">
                <a:moveTo>
                  <a:pt x="0" y="21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7"/>
                </a:lnTo>
                <a:close/>
              </a:path>
              <a:path fill="darken" w="21600" h="21677">
                <a:moveTo>
                  <a:pt x="3794" y="7531"/>
                </a:moveTo>
                <a:lnTo>
                  <a:pt x="7301" y="7531"/>
                </a:lnTo>
                <a:lnTo>
                  <a:pt x="7301" y="12867"/>
                </a:lnTo>
                <a:cubicBezTo>
                  <a:pt x="7301" y="13789"/>
                  <a:pt x="8102" y="14520"/>
                  <a:pt x="9138" y="14520"/>
                </a:cubicBezTo>
                <a:lnTo>
                  <a:pt x="10800" y="14520"/>
                </a:lnTo>
                <a:cubicBezTo>
                  <a:pt x="11836" y="14520"/>
                  <a:pt x="12636" y="13789"/>
                  <a:pt x="12636" y="12867"/>
                </a:cubicBezTo>
                <a:lnTo>
                  <a:pt x="12636" y="7531"/>
                </a:lnTo>
                <a:lnTo>
                  <a:pt x="10800" y="7531"/>
                </a:lnTo>
                <a:lnTo>
                  <a:pt x="14308" y="4024"/>
                </a:lnTo>
                <a:lnTo>
                  <a:pt x="17981" y="7531"/>
                </a:lnTo>
                <a:lnTo>
                  <a:pt x="16144" y="7531"/>
                </a:lnTo>
                <a:lnTo>
                  <a:pt x="16144" y="12867"/>
                </a:lnTo>
                <a:cubicBezTo>
                  <a:pt x="16144" y="15634"/>
                  <a:pt x="13568" y="18193"/>
                  <a:pt x="10800" y="18193"/>
                </a:cubicBezTo>
                <a:lnTo>
                  <a:pt x="9138" y="18193"/>
                </a:lnTo>
                <a:cubicBezTo>
                  <a:pt x="6370" y="18193"/>
                  <a:pt x="3794" y="15634"/>
                  <a:pt x="3794" y="1286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640" y="1052640"/>
            <a:ext cx="83534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гласно закону Бойля-Мариотта для идеального газа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V=const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ри Т=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nst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 Почему же тогда при надувании щек и давление и объем в ротовой полости возрастают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7380360" y="5661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9236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формулируйте закон Бойля-Мариотта. О каком изопроцессе идет речь в закон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26920" y="1196640"/>
            <a:ext cx="7560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В цилиндре под поршнем находится газ. Масса поршня 0,6 кг, его площадь 20 кв.см. С какой силой надо действовать на поршень, чтобы объем газа в цилиндре уменьшился вдвое? Температура газа не изменяется. Атмосферное давление нормально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пишите три формулы для расчета количества вещест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8101080" y="580536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5322" y="7493"/>
                </a:moveTo>
                <a:lnTo>
                  <a:pt x="8830" y="7493"/>
                </a:lnTo>
                <a:lnTo>
                  <a:pt x="8830" y="12828"/>
                </a:lnTo>
                <a:cubicBezTo>
                  <a:pt x="8830" y="13751"/>
                  <a:pt x="9630" y="14482"/>
                  <a:pt x="10666" y="14482"/>
                </a:cubicBezTo>
                <a:lnTo>
                  <a:pt x="12329" y="14482"/>
                </a:lnTo>
                <a:cubicBezTo>
                  <a:pt x="13364" y="14482"/>
                  <a:pt x="14165" y="13751"/>
                  <a:pt x="14165" y="12828"/>
                </a:cubicBezTo>
                <a:lnTo>
                  <a:pt x="14165" y="7493"/>
                </a:lnTo>
                <a:lnTo>
                  <a:pt x="12329" y="7493"/>
                </a:lnTo>
                <a:lnTo>
                  <a:pt x="15836" y="3985"/>
                </a:lnTo>
                <a:lnTo>
                  <a:pt x="19509" y="7493"/>
                </a:lnTo>
                <a:lnTo>
                  <a:pt x="17673" y="7493"/>
                </a:lnTo>
                <a:lnTo>
                  <a:pt x="17673" y="12828"/>
                </a:lnTo>
                <a:cubicBezTo>
                  <a:pt x="17673" y="15596"/>
                  <a:pt x="15096" y="18155"/>
                  <a:pt x="12329" y="18155"/>
                </a:cubicBezTo>
                <a:lnTo>
                  <a:pt x="10666" y="18155"/>
                </a:lnTo>
                <a:cubicBezTo>
                  <a:pt x="7898" y="18155"/>
                  <a:pt x="5322" y="15596"/>
                  <a:pt x="532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Почему барабанная перепонка уха не продавливается бомбардирующими ее молекулами воздух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9640" y="2060640"/>
            <a:ext cx="8064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чему у глубоководных рыб пузырь выходит наружу, если их извлечь из во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028000" y="580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67820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формулируйте определение температуры. 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именимо ли понятие температуры к одной молекуле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7885080" y="5877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7493"/>
                </a:moveTo>
                <a:lnTo>
                  <a:pt x="10874" y="7493"/>
                </a:lnTo>
                <a:lnTo>
                  <a:pt x="10874" y="12828"/>
                </a:lnTo>
                <a:cubicBezTo>
                  <a:pt x="10874" y="13751"/>
                  <a:pt x="11675" y="14482"/>
                  <a:pt x="12711" y="14482"/>
                </a:cubicBezTo>
                <a:lnTo>
                  <a:pt x="14373" y="14482"/>
                </a:lnTo>
                <a:cubicBezTo>
                  <a:pt x="15409" y="14482"/>
                  <a:pt x="16209" y="13751"/>
                  <a:pt x="16209" y="12828"/>
                </a:cubicBezTo>
                <a:lnTo>
                  <a:pt x="16209" y="7493"/>
                </a:lnTo>
                <a:lnTo>
                  <a:pt x="14373" y="7493"/>
                </a:lnTo>
                <a:lnTo>
                  <a:pt x="17881" y="3985"/>
                </a:lnTo>
                <a:lnTo>
                  <a:pt x="21554" y="7493"/>
                </a:lnTo>
                <a:lnTo>
                  <a:pt x="19717" y="7493"/>
                </a:lnTo>
                <a:lnTo>
                  <a:pt x="19717" y="12828"/>
                </a:lnTo>
                <a:cubicBezTo>
                  <a:pt x="19717" y="15596"/>
                  <a:pt x="17141" y="18155"/>
                  <a:pt x="14373" y="18155"/>
                </a:cubicBezTo>
                <a:lnTo>
                  <a:pt x="12711" y="18155"/>
                </a:lnTo>
                <a:cubicBezTo>
                  <a:pt x="9943" y="18155"/>
                  <a:pt x="7367" y="15596"/>
                  <a:pt x="736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85080" y="5877000"/>
            <a:ext cx="574560" cy="43164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746" h="21600">
                <a:moveTo>
                  <a:pt x="0" y="0"/>
                </a:moveTo>
                <a:lnTo>
                  <a:pt x="28746" y="0"/>
                </a:lnTo>
                <a:lnTo>
                  <a:pt x="28746" y="21600"/>
                </a:lnTo>
                <a:lnTo>
                  <a:pt x="0" y="21600"/>
                </a:lnTo>
                <a:close/>
              </a:path>
              <a:path fill="lightenLess" w="28746" h="21600">
                <a:moveTo>
                  <a:pt x="0" y="0"/>
                </a:moveTo>
                <a:lnTo>
                  <a:pt x="28746" y="0"/>
                </a:lnTo>
                <a:lnTo>
                  <a:pt x="27346" y="1400"/>
                </a:lnTo>
                <a:lnTo>
                  <a:pt x="1400" y="1400"/>
                </a:lnTo>
                <a:close/>
              </a:path>
              <a:path fill="darken" w="28746" h="21600">
                <a:moveTo>
                  <a:pt x="28746" y="0"/>
                </a:moveTo>
                <a:lnTo>
                  <a:pt x="28746" y="21600"/>
                </a:lnTo>
                <a:lnTo>
                  <a:pt x="27346" y="20200"/>
                </a:lnTo>
                <a:lnTo>
                  <a:pt x="27346" y="1400"/>
                </a:lnTo>
                <a:close/>
              </a:path>
              <a:path fill="darkenLess" w="28746" h="21600">
                <a:moveTo>
                  <a:pt x="28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6" y="20200"/>
                </a:lnTo>
                <a:close/>
              </a:path>
              <a:path fill="lighten" w="28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6" h="21600">
                <a:moveTo>
                  <a:pt x="7367" y="7493"/>
                </a:moveTo>
                <a:lnTo>
                  <a:pt x="10874" y="7493"/>
                </a:lnTo>
                <a:lnTo>
                  <a:pt x="10874" y="12828"/>
                </a:lnTo>
                <a:cubicBezTo>
                  <a:pt x="10874" y="13751"/>
                  <a:pt x="11675" y="14482"/>
                  <a:pt x="12711" y="14482"/>
                </a:cubicBezTo>
                <a:lnTo>
                  <a:pt x="14373" y="14482"/>
                </a:lnTo>
                <a:cubicBezTo>
                  <a:pt x="15409" y="14482"/>
                  <a:pt x="16209" y="13751"/>
                  <a:pt x="16209" y="12828"/>
                </a:cubicBezTo>
                <a:lnTo>
                  <a:pt x="16209" y="7493"/>
                </a:lnTo>
                <a:lnTo>
                  <a:pt x="14373" y="7493"/>
                </a:lnTo>
                <a:lnTo>
                  <a:pt x="17881" y="3985"/>
                </a:lnTo>
                <a:lnTo>
                  <a:pt x="21554" y="7493"/>
                </a:lnTo>
                <a:lnTo>
                  <a:pt x="19717" y="7493"/>
                </a:lnTo>
                <a:lnTo>
                  <a:pt x="19717" y="12828"/>
                </a:lnTo>
                <a:cubicBezTo>
                  <a:pt x="19717" y="15596"/>
                  <a:pt x="17141" y="18155"/>
                  <a:pt x="14373" y="18155"/>
                </a:cubicBezTo>
                <a:lnTo>
                  <a:pt x="12711" y="18155"/>
                </a:lnTo>
                <a:cubicBezTo>
                  <a:pt x="9943" y="18155"/>
                  <a:pt x="7367" y="15596"/>
                  <a:pt x="736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двух одинаковых сосудах нагревают один и тот же газ разной массы. Зависимость давления газа от температуры в этих сосудах на рисунке. Сравните массы газа в сосуда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76360" y="2707920"/>
            <a:ext cx="0" cy="3097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5805360"/>
            <a:ext cx="3166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476360" y="3212640"/>
            <a:ext cx="129528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76360" y="4149360"/>
            <a:ext cx="259092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9440" y="558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180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816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600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4:56:58Z</dcterms:created>
  <dc:creator>Company MIR</dc:creator>
  <dc:description/>
  <dc:language>en-US</dc:language>
  <cp:lastModifiedBy>Company MIR</cp:lastModifiedBy>
  <dcterms:modified xsi:type="dcterms:W3CDTF">2009-10-20T19:48:41Z</dcterms:modified>
  <cp:revision>7</cp:revision>
  <dc:subject/>
  <dc:title>Слайд 1</dc:title>
</cp:coreProperties>
</file>