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13.jpeg" ContentType="image/jpeg"/>
  <Override PartName="/ppt/media/image26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20.jpeg" ContentType="image/jpeg"/>
  <Override PartName="/ppt/media/image8.png" ContentType="image/png"/>
  <Override PartName="/ppt/media/image11.jpeg" ContentType="image/jpeg"/>
  <Override PartName="/ppt/media/image27.jpeg" ContentType="image/jpeg"/>
  <Override PartName="/ppt/media/image10.png" ContentType="image/png"/>
  <Override PartName="/ppt/media/image30.jpeg" ContentType="image/jpeg"/>
  <Override PartName="/ppt/media/image24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A99A-80F0-4292-BBA5-C6407788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8972-1C09-4138-AC70-423F1898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58C3-5E2C-4893-A9A8-1D2A7D49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849A-0B6D-4ECD-B478-DA7537E5B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E4CF-184E-4163-BEA0-02C6DD4C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47BA-1D34-47C0-B240-840335F9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560E-45DC-4CD3-A97B-2BDE2576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0FD3-C725-439C-BAEC-CA71D354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6419-B24B-4217-B06C-5DE8D5B7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8C20-6D54-412D-9AD5-68F55CCD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4A51-BF20-48B8-88A1-6230E129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4ACA-1BBE-4F66-801C-FF76062B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CCB0-4E9F-4F04-85A7-DCCF98AA78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1618920"/>
            <a:ext cx="897264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к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ическому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ю по теме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есна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й группе компенсирующей направленности для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яжелыми нарушениями речи № 8 «Речецветик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324000" y="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дошко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ён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 Советски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АДОУ д/с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ён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5072040" y="4565880"/>
            <a:ext cx="4071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л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барева Елена Викторов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3348000" y="6002640"/>
            <a:ext cx="172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Советск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т, 2021 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0" y="900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Хлопни в ладоши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бята, а теперь будьте внимательны. Я назову слова, а вы хлопните, если услышите слово, относящееся к весне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: пригревает, листопад, тает, вьюга, журчит, тёплое, ярче, холодно, набухают, снежинки, половодье, прилетают, проталины, мороз, капель, ледоход, метель, снегопад, солнышк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 просит объяснить слова: проталины, половодье, капель, ледох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https://ds04.infourok.ru/uploads/ex/100c/00107743-5d67243b/img3.jpg"/>
          <p:cNvPicPr/>
          <p:nvPr/>
        </p:nvPicPr>
        <p:blipFill>
          <a:blip r:embed="rId1"/>
          <a:stretch/>
        </p:blipFill>
        <p:spPr>
          <a:xfrm>
            <a:off x="1619280" y="2276640"/>
            <a:ext cx="5796000" cy="4348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13579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аж лиц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Выполняем сто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емлю вернулась красавица весна. Давайте ощутим её прикоснов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ит яркое весеннее солнышко                            - поглажи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ласкает нам лиц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ик ещё холодный.                                             - постукивание подушечками пальц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трам ещё иногда пощипывает морозец.          - пощипы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сё-таки солнышко светит сильнее.                     - снова поглажи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395280" y="76500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 подняться, потянутьс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нагнуться, разогнутьс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в ладоши три хлоп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ою три кив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етыре руки шир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ь тихонько помаха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0" y="6840"/>
            <a:ext cx="889308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«Что лишнее?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мотрим, как вы знаете приметы ранней весны. Слушайте меня и определите, какая из примет лишняя, и объясняйте почем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ает снег, улетают на юг перелетные птицы, начинается капель, появляются протали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https://i.pinimg.com/736x/57/c0/09/57c0099792873c1c62beb919aa785f0c--animal-paintings-acrylic-paintings.jpg"/>
          <p:cNvPicPr/>
          <p:nvPr/>
        </p:nvPicPr>
        <p:blipFill>
          <a:blip r:embed="rId1"/>
          <a:stretch/>
        </p:blipFill>
        <p:spPr>
          <a:xfrm>
            <a:off x="755640" y="160020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пускается верба, начинается ледоход, трещат сильные морозы, расцветает мать-и-мачех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s3.fotokto.ru/concurs/photo/full/10/100577.jpg"/>
          <p:cNvPicPr/>
          <p:nvPr/>
        </p:nvPicPr>
        <p:blipFill>
          <a:blip r:embed="rId1"/>
          <a:stretch/>
        </p:blipFill>
        <p:spPr>
          <a:xfrm>
            <a:off x="468360" y="755640"/>
            <a:ext cx="8136000" cy="6102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ttps://img1.liveinternet.ru/images/attach/d/2/151/524/151524879_5484559730x565.jpg"/>
          <p:cNvPicPr/>
          <p:nvPr/>
        </p:nvPicPr>
        <p:blipFill>
          <a:blip r:embed="rId2"/>
          <a:stretch/>
        </p:blipFill>
        <p:spPr>
          <a:xfrm>
            <a:off x="6084720" y="5157720"/>
            <a:ext cx="2482920" cy="1700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https://img1.liveinternet.ru/images/attach/d/2/151/524/151524879_5484559730x565.jpg"/>
          <p:cNvPicPr/>
          <p:nvPr/>
        </p:nvPicPr>
        <p:blipFill>
          <a:blip r:embed="rId3"/>
          <a:stretch/>
        </p:blipFill>
        <p:spPr>
          <a:xfrm>
            <a:off x="3780000" y="5157720"/>
            <a:ext cx="2484360" cy="1700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бухают почки, созревают яблоки, на проталинах появляется первая травка, грачи начинают строить гнез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https://img-fotki.yandex.ru/get/5603/chita-bizon.c/0_127fff_5faf1aef_XL.jpg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 крыш свисают сосульки, снег темнеет и оседает, листья желтеют и опадают, просыпается медвед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s://static.mchs.ru/upload/site85/document_news/PTv7qMpHLx.jpg"/>
          <p:cNvPicPr/>
          <p:nvPr/>
        </p:nvPicPr>
        <p:blipFill>
          <a:blip r:embed="rId1"/>
          <a:stretch/>
        </p:blipFill>
        <p:spPr>
          <a:xfrm>
            <a:off x="0" y="1023840"/>
            <a:ext cx="9144000" cy="583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0" y="64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/у: «Подбери слова-действия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есной природа оживает и происходит много разных явлений. А вот каких, вспомним вместе. Подберите слова - действия и закончите предлож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ой солнце … (греет, припекает, ласкает…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ой сосульки под солнцем… (тают, капают…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https://i.pinimg.com/originals/40/ba/45/40ba45ad5e41bd481fcd8a75d8595651.jpg"/>
          <p:cNvPicPr/>
          <p:nvPr/>
        </p:nvPicPr>
        <p:blipFill>
          <a:blip r:embed="rId1"/>
          <a:stretch/>
        </p:blipFill>
        <p:spPr>
          <a:xfrm>
            <a:off x="4500720" y="2421000"/>
            <a:ext cx="4348080" cy="3262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https://i.ytimg.com/vi/1Yy13DFpXoo/maxresdefault.jpg"/>
          <p:cNvPicPr/>
          <p:nvPr/>
        </p:nvPicPr>
        <p:blipFill>
          <a:blip r:embed="rId2"/>
          <a:stretch/>
        </p:blipFill>
        <p:spPr>
          <a:xfrm>
            <a:off x="250920" y="2421000"/>
            <a:ext cx="3744720" cy="3384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ой сугробы от солнечного тепла… (оседают, тают…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ой на деревьях почки… (набухают, лопаются…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ttp://i.mycdn.me/i?r=AzEPZsRbOZEKgBhR0XGMT1RkRyAZ7_h1My-9ZHX6EDg_waaKTM5SRkZCeTgDn6uOyic"/>
          <p:cNvPicPr/>
          <p:nvPr/>
        </p:nvPicPr>
        <p:blipFill>
          <a:blip r:embed="rId1"/>
          <a:stretch/>
        </p:blipFill>
        <p:spPr>
          <a:xfrm>
            <a:off x="0" y="1844640"/>
            <a:ext cx="4608360" cy="3627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s://ds05.infourok.ru/uploads/ex/1309/0010ef70-f244bf93/hello_html_m64d93d5.jpg"/>
          <p:cNvPicPr/>
          <p:nvPr/>
        </p:nvPicPr>
        <p:blipFill>
          <a:blip r:embed="rId2"/>
          <a:stretch/>
        </p:blipFill>
        <p:spPr>
          <a:xfrm>
            <a:off x="4708440" y="1844640"/>
            <a:ext cx="443556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ой ручьи… (бегут, журчат, звенят…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ой птицы… (возвращаются, прилетают…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ой птицы гнёзда… (вьют, строят, делают …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ttps://thumbs.dreamstime.com/b/%D0%B7%D0%B8%D0%BC%D0%BD%D0%B8%D0%B9-%D0%B4%D0%B5%D0%BD%D1%8C-%D1%81%D0%BD%D0%B5%D0%B3-%D0%B8-%D1%81%D0%BE%D0%BB%D0%BD%D1%86%D0%B5-%D0%BE%D1%80%D0%B8%D0%B3%D0%B8%D0%BD%D0%B0%D0%BB%D1%8C%D0%BD%D0%B0%D1%8F-%D0%BA%D0%B0%D1%80%D1%82%D0%B8%D0%BD%D0%B0-%D0%B0%D0%BA%D0%B2%D0%B0%D1%80%D0%B5%D0%BB%D0%B8-%D0%BB%D0%B0%D0%BD%D0%B4%D1%88%D0%B0%D1%84%D1%82-156397663.jpg"/>
          <p:cNvPicPr/>
          <p:nvPr/>
        </p:nvPicPr>
        <p:blipFill>
          <a:blip r:embed="rId1"/>
          <a:stretch/>
        </p:blipFill>
        <p:spPr>
          <a:xfrm>
            <a:off x="0" y="1700280"/>
            <a:ext cx="4392720" cy="4176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https://346130.selcdn.ru/storage1/include/site_1068/section_70/thumbs/7xqzxrXE4nBy_1200x0_AybP2us9.jpg"/>
          <p:cNvPicPr/>
          <p:nvPr/>
        </p:nvPicPr>
        <p:blipFill>
          <a:blip r:embed="rId2"/>
          <a:stretch/>
        </p:blipFill>
        <p:spPr>
          <a:xfrm>
            <a:off x="4643280" y="170028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15480" y="264600"/>
            <a:ext cx="907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мическая гимнаст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 показывает пиктограммы (лицо с улыбкой, грустное, злое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называют эмоцию и показывают е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1" descr="http://logomag.ru/files/StoreProdImage/2743.jpg"/>
          <p:cNvPicPr/>
          <p:nvPr/>
        </p:nvPicPr>
        <p:blipFill>
          <a:blip r:embed="rId1"/>
          <a:stretch/>
        </p:blipFill>
        <p:spPr>
          <a:xfrm>
            <a:off x="0" y="1916280"/>
            <a:ext cx="4537080" cy="36781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5"/>
          <p:cNvSpPr/>
          <p:nvPr/>
        </p:nvSpPr>
        <p:spPr>
          <a:xfrm>
            <a:off x="900000" y="5589720"/>
            <a:ext cx="20876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д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6" descr="http://logomag.ru/files/StoreProdImage/2743.jpg"/>
          <p:cNvPicPr/>
          <p:nvPr/>
        </p:nvPicPr>
        <p:blipFill>
          <a:blip r:embed="rId2"/>
          <a:stretch/>
        </p:blipFill>
        <p:spPr>
          <a:xfrm>
            <a:off x="4859280" y="1628640"/>
            <a:ext cx="4002120" cy="39610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7"/>
          <p:cNvSpPr/>
          <p:nvPr/>
        </p:nvSpPr>
        <p:spPr>
          <a:xfrm>
            <a:off x="5940360" y="5661000"/>
            <a:ext cx="20876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л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ой лёд на реке… (тает, трещит, ломается, плывёт…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ой на проталинах первые цветы… (появляются, расцветают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ой травка… (пробивается, растёт, зеленеет…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s://wallbox.ru/resize/1024x600/wallpapers/main2/201718/gory-led-ldina.jpg"/>
          <p:cNvPicPr/>
          <p:nvPr/>
        </p:nvPicPr>
        <p:blipFill>
          <a:blip r:embed="rId1"/>
          <a:stretch/>
        </p:blipFill>
        <p:spPr>
          <a:xfrm>
            <a:off x="250920" y="1989000"/>
            <a:ext cx="4267080" cy="3456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https://fs00.infourok.ru/images/doc/226/247857/hello_html_m403d9e2c.jpg"/>
          <p:cNvPicPr/>
          <p:nvPr/>
        </p:nvPicPr>
        <p:blipFill>
          <a:blip r:embed="rId2"/>
          <a:stretch/>
        </p:blipFill>
        <p:spPr>
          <a:xfrm>
            <a:off x="4727520" y="1989000"/>
            <a:ext cx="4416480" cy="3527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"/>
          <p:cNvSpPr/>
          <p:nvPr/>
        </p:nvSpPr>
        <p:spPr>
          <a:xfrm>
            <a:off x="1233360" y="2924280"/>
            <a:ext cx="684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а вверх мы поднимаем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з потом их опуска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 – быстро поморга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ихонько открыва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ево – вправо, влево - вправо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для наших глаз заба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s://i.pinimg.com/736x/24/a0/61/24a0613a86d723b339449d6cb0677c99.jpg"/>
          <p:cNvPicPr/>
          <p:nvPr/>
        </p:nvPicPr>
        <p:blipFill>
          <a:blip r:embed="rId1"/>
          <a:stretch/>
        </p:blipFill>
        <p:spPr>
          <a:xfrm>
            <a:off x="1042920" y="0"/>
            <a:ext cx="6624720" cy="2200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https://fotoalt.ru/image/catalog/samson/c344f07726bdb3eb4344ea552bda1ee2_xl.jpg"/>
          <p:cNvPicPr/>
          <p:nvPr/>
        </p:nvPicPr>
        <p:blipFill>
          <a:blip r:embed="rId1"/>
          <a:stretch/>
        </p:blipFill>
        <p:spPr>
          <a:xfrm>
            <a:off x="1835280" y="446040"/>
            <a:ext cx="4938480" cy="60850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"/>
          <p:cNvSpPr/>
          <p:nvPr/>
        </p:nvSpPr>
        <p:spPr>
          <a:xfrm>
            <a:off x="539640" y="42984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ваем  тетрад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3"/>
          <p:cNvSpPr/>
          <p:nvPr/>
        </p:nvSpPr>
        <p:spPr>
          <a:xfrm>
            <a:off x="0" y="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Я предлагаю вам не рвать цветы, наоборот, создадим цветочную полянку. Наши весенние цветы заштрихуем и создадим весеннюю полянку. Я думаю, что она получится замечательной и красивой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https://xn--80aaaga2ais1c4e.ot7.ru/admin/uploads/4/9/2/%D0%A0%D0%B0%D1%81%D0%BA%D1%80%D0%B0%D1%81%D0%BA%D0%B8-%D0%BD%D0%B0-%D1%82%D0%B5%D0%BC%D1%83-%D0%B2%D1%80%D0%B5%D0%BC%D1%8F-%D0%B3%D0%BE%D0%B4%D0%B0-%D0%B2%D0%B5%D1%81%D0%BD%D0%B0-2701.jpg"/>
          <p:cNvPicPr/>
          <p:nvPr/>
        </p:nvPicPr>
        <p:blipFill>
          <a:blip r:embed="rId1"/>
          <a:stretch/>
        </p:blipFill>
        <p:spPr>
          <a:xfrm>
            <a:off x="1908000" y="1052640"/>
            <a:ext cx="4896000" cy="5744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3"/>
          <p:cNvSpPr/>
          <p:nvPr/>
        </p:nvSpPr>
        <p:spPr>
          <a:xfrm>
            <a:off x="611280" y="189000"/>
            <a:ext cx="770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лодцы!!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6" descr="https://yt3.ggpht.com/a/AATXAJyv6zhTqWpHwq_X8FGLSr13ypfL6qNOg-4DtUf0=s900-c-k-c0xffffffff-no-rj-mo"/>
          <p:cNvPicPr/>
          <p:nvPr/>
        </p:nvPicPr>
        <p:blipFill>
          <a:blip r:embed="rId1"/>
          <a:stretch/>
        </p:blipFill>
        <p:spPr>
          <a:xfrm>
            <a:off x="1476360" y="1228680"/>
            <a:ext cx="6120000" cy="5445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http://logomag.ru/files/StoreProdImage/2743.jpg"/>
          <p:cNvPicPr/>
          <p:nvPr/>
        </p:nvPicPr>
        <p:blipFill>
          <a:blip r:embed="rId1"/>
          <a:stretch/>
        </p:blipFill>
        <p:spPr>
          <a:xfrm>
            <a:off x="0" y="549360"/>
            <a:ext cx="4716360" cy="47512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900000" y="5589720"/>
            <a:ext cx="20876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5508720" y="5589720"/>
            <a:ext cx="20876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у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4" descr="http://logomag.ru/files/StoreProdImage/2743.jpg"/>
          <p:cNvPicPr/>
          <p:nvPr/>
        </p:nvPicPr>
        <p:blipFill>
          <a:blip r:embed="rId2"/>
          <a:stretch/>
        </p:blipFill>
        <p:spPr>
          <a:xfrm>
            <a:off x="4659480" y="765000"/>
            <a:ext cx="4484520" cy="4608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0" y="97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ти, какое сейчас время год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ла вокруг прир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удилась ото с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олубого небосв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солнцем к нам пришла весн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: «Сегодня мы с вами поговорим о весне. А какое время года было до весны? А какое время года наступит после весны? По какому самому первому признаку можно понять, что пришла весна?» (на небе появилось солнышк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https://im0-tub-ru.yandex.net/i?id=36bd59e44d24f8103a1deab71cfa6bb1-l&amp;n=13"/>
          <p:cNvPicPr/>
          <p:nvPr/>
        </p:nvPicPr>
        <p:blipFill>
          <a:blip r:embed="rId1"/>
          <a:stretch/>
        </p:blipFill>
        <p:spPr>
          <a:xfrm>
            <a:off x="1042920" y="2276640"/>
            <a:ext cx="6513480" cy="4581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6840" y="3600"/>
            <a:ext cx="9228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: «Да, на небе появилось солнышко. Но наше солнышко почему – то без лучи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, мы солнышку подарим красивые слова, которые превратятся в лучики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каем на мышь, появляются лучи солнца на каждое слово дет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https://images.ru.prom.st/651273381_w640_h640_gruppa-doshkolnogo-obrazovaniya.jpg"/>
          <p:cNvPicPr/>
          <p:nvPr/>
        </p:nvPicPr>
        <p:blipFill>
          <a:blip r:embed="rId1"/>
          <a:srcRect l="0" t="-6215" r="0" b="0"/>
          <a:stretch/>
        </p:blipFill>
        <p:spPr>
          <a:xfrm rot="4147200">
            <a:off x="5780880" y="4055040"/>
            <a:ext cx="2995560" cy="2851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https://fs.znanio.ru/methodology/images/cc/58/cc5806a3f3c0cdac83f603e1275255ea84641342.jpg"/>
          <p:cNvPicPr/>
          <p:nvPr/>
        </p:nvPicPr>
        <p:blipFill>
          <a:blip r:embed="rId2"/>
          <a:stretch/>
        </p:blipFill>
        <p:spPr>
          <a:xfrm>
            <a:off x="3059280" y="2349360"/>
            <a:ext cx="2744640" cy="27860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https://images.ru.prom.st/651273381_w640_h640_gruppa-doshkolnogo-obrazovaniya.jpg"/>
          <p:cNvPicPr/>
          <p:nvPr/>
        </p:nvPicPr>
        <p:blipFill>
          <a:blip r:embed="rId3"/>
          <a:srcRect l="0" t="-6215" r="0" b="0"/>
          <a:stretch/>
        </p:blipFill>
        <p:spPr>
          <a:xfrm rot="15781800">
            <a:off x="1045080" y="736920"/>
            <a:ext cx="2519280" cy="20894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7" descr="https://images.ru.prom.st/651273381_w640_h640_gruppa-doshkolnogo-obrazovaniya.jpg"/>
          <p:cNvPicPr/>
          <p:nvPr/>
        </p:nvPicPr>
        <p:blipFill>
          <a:blip r:embed="rId4"/>
          <a:srcRect l="0" t="-6215" r="0" b="0"/>
          <a:stretch/>
        </p:blipFill>
        <p:spPr>
          <a:xfrm rot="11136000">
            <a:off x="647280" y="4654080"/>
            <a:ext cx="3086280" cy="20574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8" descr="https://images.ru.prom.st/651273381_w640_h640_gruppa-doshkolnogo-obrazovaniya.jpg"/>
          <p:cNvPicPr/>
          <p:nvPr/>
        </p:nvPicPr>
        <p:blipFill>
          <a:blip r:embed="rId5"/>
          <a:srcRect l="0" t="-6215" r="0" b="0"/>
          <a:stretch/>
        </p:blipFill>
        <p:spPr>
          <a:xfrm rot="13793400">
            <a:off x="-58680" y="2300040"/>
            <a:ext cx="2633760" cy="28623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9" descr="https://images.ru.prom.st/651273381_w640_h640_gruppa-doshkolnogo-obrazovaniya.jpg"/>
          <p:cNvPicPr/>
          <p:nvPr/>
        </p:nvPicPr>
        <p:blipFill>
          <a:blip r:embed="rId6"/>
          <a:srcRect l="0" t="-6215" r="0" b="0"/>
          <a:stretch/>
        </p:blipFill>
        <p:spPr>
          <a:xfrm>
            <a:off x="5292720" y="836640"/>
            <a:ext cx="2879640" cy="16556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0" descr="https://images.ru.prom.st/651273381_w640_h640_gruppa-doshkolnogo-obrazovaniya.jpg"/>
          <p:cNvPicPr/>
          <p:nvPr/>
        </p:nvPicPr>
        <p:blipFill>
          <a:blip r:embed="rId7"/>
          <a:srcRect l="0" t="-6215" r="0" b="0"/>
          <a:stretch/>
        </p:blipFill>
        <p:spPr>
          <a:xfrm rot="1701600">
            <a:off x="5874840" y="2034720"/>
            <a:ext cx="3143520" cy="23828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1" descr="https://images.ru.prom.st/651273381_w640_h640_gruppa-doshkolnogo-obrazovaniya.jpg"/>
          <p:cNvPicPr/>
          <p:nvPr/>
        </p:nvPicPr>
        <p:blipFill>
          <a:blip r:embed="rId8"/>
          <a:srcRect l="0" t="-6215" r="0" b="0"/>
          <a:stretch/>
        </p:blipFill>
        <p:spPr>
          <a:xfrm rot="7016400">
            <a:off x="3876120" y="5312160"/>
            <a:ext cx="2172960" cy="16574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2" descr="https://images.ru.prom.st/651273381_w640_h640_gruppa-doshkolnogo-obrazovaniya.jpg"/>
          <p:cNvPicPr/>
          <p:nvPr/>
        </p:nvPicPr>
        <p:blipFill>
          <a:blip r:embed="rId9"/>
          <a:srcRect l="0" t="-6215" r="0" b="0"/>
          <a:stretch/>
        </p:blipFill>
        <p:spPr>
          <a:xfrm rot="17881800">
            <a:off x="2954160" y="-44280"/>
            <a:ext cx="2519280" cy="2087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324000" y="5450040"/>
            <a:ext cx="3168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Горк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Язык за зубы опускается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Его кончик к зубам прижимаетс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ина сильно-сильно выгибается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т какая горка получается!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932360" y="5593320"/>
            <a:ext cx="3851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казать непослушный язык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Язык твой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зорник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н не слушает теб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кажи его скорее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я-пя, пя-пя, пя-пя-пя!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5"/>
          <p:cNvSpPr/>
          <p:nvPr/>
        </p:nvSpPr>
        <p:spPr>
          <a:xfrm>
            <a:off x="0" y="18900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ю  языки размя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читаю стих, вы выполняете упражн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s://ds05.infourok.ru/uploads/ex/0058/0004328f-51989f86/hello_html_2293f0f1.png"/>
          <p:cNvPicPr/>
          <p:nvPr/>
        </p:nvPicPr>
        <p:blipFill>
          <a:blip r:embed="rId1"/>
          <a:stretch/>
        </p:blipFill>
        <p:spPr>
          <a:xfrm>
            <a:off x="324000" y="1341360"/>
            <a:ext cx="3389040" cy="3672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3.bp.blogspot.com/-TlTeZLX4bjk/VeG-v8jnXqI/AAAAAAAAB8c/ot6Nc-17SrI/s1600/%25D0%25BD%25D0%25B0%25D0%25BA%25D0%25B0%25D0%25B7%25D0%25B0%25D1%2582%25D1%258C.jpg"/>
          <p:cNvPicPr/>
          <p:nvPr/>
        </p:nvPicPr>
        <p:blipFill>
          <a:blip r:embed="rId2"/>
          <a:stretch/>
        </p:blipFill>
        <p:spPr>
          <a:xfrm>
            <a:off x="5003640" y="1413000"/>
            <a:ext cx="3672000" cy="3192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250920" y="5304240"/>
            <a:ext cx="3779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чели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качелях я качаюсь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верх-вниз, вверх-вниз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А потом спускаюсь вниз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156360" y="5020560"/>
            <a:ext cx="2987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Лошадка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за цокот раздаётся?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 лошадка к нам несётс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лошадку мы гляди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 же цокать все хотим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ок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—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цок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цок, цок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цок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цок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0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ш зацокал язык. </a:t>
            </a:r>
            <a:r>
              <a:rPr b="0" lang="ru-RU" sz="1400" spc="-1" strike="noStrike">
                <a:solidFill>
                  <a:srgbClr val="808080"/>
                </a:solidFill>
                <a:latin typeface="Times New Roman"/>
                <a:ea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https://ds04.infourok.ru/uploads/ex/12de/001227c5-5f4928d8/img9.jpg"/>
          <p:cNvPicPr/>
          <p:nvPr/>
        </p:nvPicPr>
        <p:blipFill>
          <a:blip r:embed="rId1"/>
          <a:stretch/>
        </p:blipFill>
        <p:spPr>
          <a:xfrm>
            <a:off x="324000" y="476280"/>
            <a:ext cx="3743280" cy="434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https://ds04.infourok.ru/uploads/ex/1191/000a4ac0-2082dfe3/img21.jpg"/>
          <p:cNvPicPr/>
          <p:nvPr/>
        </p:nvPicPr>
        <p:blipFill>
          <a:blip r:embed="rId2"/>
          <a:stretch/>
        </p:blipFill>
        <p:spPr>
          <a:xfrm>
            <a:off x="4932360" y="83664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0" y="864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/у «Подбери признак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 весной (какое?) – яркое, желтое, горячее, ясное, лучистое, круглое, веселое, золотое, тепло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: - Вот наше солнце засияло еще ярче и так быстро растопило весь снег, что кругом потекли ручейки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ыставляется картинку солнышко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: - Ребята, а на что похоже солнышко? Какой оно формы, цвет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сказать, что оно лучистое? Почему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https://avatars.mds.yandex.net/get-zen_doc/244664/pub_5c6fdca237874700af708dcc_5c7018c5836cde00b565bcff/scale_1200"/>
          <p:cNvPicPr/>
          <p:nvPr/>
        </p:nvPicPr>
        <p:blipFill>
          <a:blip r:embed="rId1"/>
          <a:stretch/>
        </p:blipFill>
        <p:spPr>
          <a:xfrm>
            <a:off x="1187280" y="1471680"/>
            <a:ext cx="6913800" cy="5386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0" y="-99360"/>
            <a:ext cx="9144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Подбери словечко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 Я напомню вам признаки весны, а вы мне поможете. (Логопед говорит предложение, а дети его заканчивают, подбирая нужное слово. Появляются подобранные логопедом картинки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чилась долгая, холодная… (зима)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ила тёплая, долгожданная… (весна)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ярче светит весеннее… (солнышко)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ляются первые… (проталины)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ут звонкие…(ручьи)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рыш домов капают… (сосульки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еревьях набухают… (почки)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ёплых краёв прилетают… (птицы)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 строят для скворцов… (скворечники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очень любим первые весенние… (цветы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6213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олодцы, вы правильно подобрали слова, и составили предложения, у на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училась весенняя карти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https://im0-tub-ru.yandex.net/i?id=9a75081c6fed8af92e109011ef53c343-l&amp;n=13"/>
          <p:cNvPicPr/>
          <p:nvPr/>
        </p:nvPicPr>
        <p:blipFill>
          <a:blip r:embed="rId1"/>
          <a:stretch/>
        </p:blipFill>
        <p:spPr>
          <a:xfrm>
            <a:off x="2340000" y="1628640"/>
            <a:ext cx="4464000" cy="4626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9T04:40:14Z</dcterms:created>
  <dc:creator>User</dc:creator>
  <dc:description/>
  <dc:language>en-US</dc:language>
  <cp:lastModifiedBy>Админ</cp:lastModifiedBy>
  <dcterms:modified xsi:type="dcterms:W3CDTF">2021-04-09T14:33:08Z</dcterms:modified>
  <cp:revision>180</cp:revision>
  <dc:subject/>
  <dc:title>Слайд 1</dc:title>
</cp:coreProperties>
</file>