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28.jpeg" ContentType="image/jpeg"/>
  <Override PartName="/ppt/media/image20.png" ContentType="image/png"/>
  <Override PartName="/ppt/media/image19.png" ContentType="image/png"/>
  <Override PartName="/ppt/media/image14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7CC0-55D4-4E9B-9504-75FDDB1934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FACD-61F7-4700-A4D6-3A5D436675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24F-8643-4732-97F4-AAEE73A5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F1A2-1751-42D0-8425-944B0251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3090-F050-4DF0-9280-32491576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E66-BFB4-4BF9-82EA-E4FA6D76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87099-28E2-4A9A-8770-CBA4F683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2ABCF-31EC-422A-B115-7BD6C9FF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E751C-788F-473F-8900-14076084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2A8CA-7742-4023-AF9B-9B3A31C3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E226E-D0F6-43BA-A380-FD2017A7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68921-8537-4D6E-BD8D-BEE81880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83A95-938C-40D4-A531-62756CF9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601-C085-43BD-A0D4-B22F6707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747AF-A0EE-44D6-A6E8-1603DAA0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A1306-D25E-4279-A516-6B3BD761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D029F-22F3-4D49-B20C-7670EECF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4D586-5C40-41A8-BF8A-17CE03F9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81CFC-8240-4EC9-AC31-91B49B7F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DABB1-2032-44F8-93B2-C77917B7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ECA97-FC0D-40F7-AC33-2A2B305E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7D16F-D304-4082-8133-BE8F7C79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48196-91F8-45FE-8EC6-59610B15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F6B44-9CA4-499B-B01B-87767B18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5F3B-D235-4845-A114-B71B5536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2E3EB-40A6-4E5D-965E-8496173F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C976B-ECF6-4404-BB63-DA5BC566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0BF98-C138-4A2E-8CCC-61CA39EF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9C9E8-982F-444C-B3ED-FE44D47F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95D54-5148-4B18-BC10-256FC48A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60CB5-CD40-40EB-B8E8-EF0096EC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344B5-C12D-45A9-BEFC-05EC8B30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EBCA90-EB69-475C-BB79-9FAE94E7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B3429A-EA7B-4910-A160-DD305963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1E39F7-C7C4-4B44-8C44-73AFFF28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85BD-B8F5-42A7-B772-71F767F5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D6E047-E141-4128-9F5B-1AE9A28C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79CBD4-6DB6-4C02-9058-BB10047C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08DFBB-B63F-4705-AC9D-7CD38193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F10AE2-FB8E-40CF-861B-AFAAED27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F134FF-E23E-465B-AAA7-008A33B7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2FD025-8AD4-4866-A5A4-F74404CC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A7B46F-BFF7-47FE-AC08-36E50B50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D06C91-704B-44CD-9902-22E93C60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AF57EB-4E90-41A8-943F-5D033951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1F3-CC22-4D28-B094-3B43B168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954-0592-416C-AB91-DD5F9EA0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C99-95A8-4BC5-AE4A-67E8E750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1C5-7C52-4B3A-A920-9726D37D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D62-31B5-4890-8FAC-24A69A01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D48C-36F1-478F-BED2-74C8B0E70FA7}" type="slidenum">
              <a:rPr b="0" lang="ru-RU" sz="16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5B53-5906-4F8B-BD22-F35A9CA27AEA}" type="slidenum">
              <a:rPr b="0" lang="ru-RU" sz="16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17F9-1479-433A-BA48-372FA02C5361}" type="slidenum">
              <a:rPr b="0" lang="ru-RU" sz="16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BCAA-6AD2-48E4-895D-9E8CC7DA17E8}" type="slidenum">
              <a:rPr b="0" lang="ru-RU" sz="16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1371600" y="907920"/>
            <a:ext cx="7772400" cy="17384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02000" y="3284280"/>
            <a:ext cx="664200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готовила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ель немецкого язык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КОУ «Самовецкая СОШ» Жукова Е.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September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Oktober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November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1198855656_iii_15"/>
          <p:cNvPicPr/>
          <p:nvPr/>
        </p:nvPicPr>
        <p:blipFill>
          <a:blip r:embed="rId2"/>
          <a:stretch/>
        </p:blipFill>
        <p:spPr>
          <a:xfrm>
            <a:off x="900000" y="1197000"/>
            <a:ext cx="7128000" cy="53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443-1024"/>
          <p:cNvPicPr/>
          <p:nvPr/>
        </p:nvPicPr>
        <p:blipFill>
          <a:blip r:embed="rId2"/>
          <a:stretch/>
        </p:blipFill>
        <p:spPr>
          <a:xfrm>
            <a:off x="755640" y="1413000"/>
            <a:ext cx="7704000" cy="47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Dezember 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            </a:t>
            </a: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Januar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                </a:t>
            </a: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Februar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p253_58"/>
          <p:cNvPicPr/>
          <p:nvPr/>
        </p:nvPicPr>
        <p:blipFill>
          <a:blip r:embed="rId2"/>
          <a:stretch/>
        </p:blipFill>
        <p:spPr>
          <a:xfrm>
            <a:off x="826920" y="1197000"/>
            <a:ext cx="720108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79-1024"/>
          <p:cNvPicPr/>
          <p:nvPr/>
        </p:nvPicPr>
        <p:blipFill>
          <a:blip r:embed="rId2"/>
          <a:stretch/>
        </p:blipFill>
        <p:spPr>
          <a:xfrm>
            <a:off x="250920" y="1376280"/>
            <a:ext cx="4392360" cy="3997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88-10243"/>
          <p:cNvPicPr/>
          <p:nvPr/>
        </p:nvPicPr>
        <p:blipFill>
          <a:blip r:embed="rId3"/>
          <a:stretch/>
        </p:blipFill>
        <p:spPr>
          <a:xfrm>
            <a:off x="4211640" y="2565360"/>
            <a:ext cx="4681440" cy="41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Draussen steht ein weisser Mann,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der sich niemals warmen kann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Wenn die Fruhlingssonne scheint,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Schwitzt der weise Mann und weint,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Er wird klein und immer kleiner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Sagt, was ist das wohl fur einer?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9144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Er braucht keinen Motor,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Er braucht keinen Wind.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Er tragt mich trotz allem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Bergabwarts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 geschwind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02"/>
          <p:cNvPicPr/>
          <p:nvPr/>
        </p:nvPicPr>
        <p:blipFill>
          <a:blip r:embed="rId1"/>
          <a:stretch/>
        </p:blipFill>
        <p:spPr>
          <a:xfrm>
            <a:off x="539640" y="1413000"/>
            <a:ext cx="8099640" cy="4333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900000" y="-243000"/>
            <a:ext cx="7175520" cy="22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Er fallt vom Himmel im Winter,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Holen den Schlitten die Kinder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Und wenn es wieder zerrint,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Dann wird es Fruhling, mein Kind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Es war eine Mutter,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sie hatte vier Kinder: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den Fruhling, den Sommer,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den Herbst und den Winter.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dark-blue-snow-1024"/>
          <p:cNvPicPr/>
          <p:nvPr/>
        </p:nvPicPr>
        <p:blipFill>
          <a:blip r:embed="rId2"/>
          <a:stretch/>
        </p:blipFill>
        <p:spPr>
          <a:xfrm>
            <a:off x="1332000" y="1285920"/>
            <a:ext cx="7164360" cy="55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6" repeatCount="100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Wir wissen schon viel von Jahreszeiten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Aber es gibt noch viel Neues und Interessantes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Viel Erfolg !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345-1024"/>
          <p:cNvPicPr/>
          <p:nvPr/>
        </p:nvPicPr>
        <p:blipFill>
          <a:blip r:embed="rId2"/>
          <a:stretch/>
        </p:blipFill>
        <p:spPr>
          <a:xfrm>
            <a:off x="1116000" y="1916280"/>
            <a:ext cx="636444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Constantia"/>
              </a:rPr>
              <a:t>Marz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en-US" sz="7200" spc="-1" strike="noStrike">
                <a:solidFill>
                  <a:srgbClr val="ffffff"/>
                </a:solidFill>
                <a:latin typeface="Constantia"/>
              </a:rPr>
              <a:t>April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nstantia"/>
              </a:rPr>
              <a:t>                       </a:t>
            </a:r>
            <a:r>
              <a:rPr b="0" lang="en-US" sz="7200" spc="-1" strike="noStrike">
                <a:solidFill>
                  <a:srgbClr val="ffffff"/>
                </a:solidFill>
                <a:latin typeface="Constantia"/>
              </a:rPr>
              <a:t>Mai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iris_field"/>
          <p:cNvPicPr/>
          <p:nvPr/>
        </p:nvPicPr>
        <p:blipFill>
          <a:blip r:embed="rId2"/>
          <a:stretch/>
        </p:blipFill>
        <p:spPr>
          <a:xfrm>
            <a:off x="557280" y="1547640"/>
            <a:ext cx="7704000" cy="531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meadow-road-tree-1024"/>
          <p:cNvPicPr/>
          <p:nvPr/>
        </p:nvPicPr>
        <p:blipFill>
          <a:blip r:embed="rId2"/>
          <a:stretch/>
        </p:blipFill>
        <p:spPr>
          <a:xfrm>
            <a:off x="1258920" y="1484280"/>
            <a:ext cx="6516720" cy="48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Juni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eece1"/>
                </a:solidFill>
                <a:latin typeface="Constantia"/>
              </a:rPr>
              <a:t>          </a:t>
            </a:r>
            <a:r>
              <a:rPr b="0" lang="en-US" sz="7200" spc="-1" strike="noStrike">
                <a:solidFill>
                  <a:srgbClr val="eeece1"/>
                </a:solidFill>
                <a:latin typeface="Constantia"/>
              </a:rPr>
              <a:t>Juli</a:t>
            </a:r>
            <a:endParaRPr b="0" lang="en-US" sz="7200" spc="-1" strike="noStrike">
              <a:solidFill>
                <a:srgbClr val="eeece1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                 </a:t>
            </a: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August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makovoe-pole-1024"/>
          <p:cNvPicPr/>
          <p:nvPr/>
        </p:nvPicPr>
        <p:blipFill>
          <a:blip r:embed="rId2"/>
          <a:stretch/>
        </p:blipFill>
        <p:spPr>
          <a:xfrm>
            <a:off x="179280" y="1268280"/>
            <a:ext cx="864252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Rectangle 2" descr=""/>
          <p:cNvPicPr/>
          <p:nvPr/>
        </p:nvPicPr>
        <p:blipFill>
          <a:blip r:embed="rId1"/>
          <a:stretch/>
        </p:blipFill>
        <p:spPr>
          <a:xfrm>
            <a:off x="0" y="231840"/>
            <a:ext cx="8510760" cy="1322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413-1024"/>
          <p:cNvPicPr/>
          <p:nvPr/>
        </p:nvPicPr>
        <p:blipFill>
          <a:blip r:embed="rId2"/>
          <a:stretch/>
        </p:blipFill>
        <p:spPr>
          <a:xfrm>
            <a:off x="1979640" y="1913040"/>
            <a:ext cx="6659640" cy="494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3:29:56Z</dcterms:created>
  <dc:creator>User</dc:creator>
  <dc:description/>
  <dc:language>en-US</dc:language>
  <cp:lastModifiedBy>Teacher</cp:lastModifiedBy>
  <dcterms:modified xsi:type="dcterms:W3CDTF">2021-04-09T10:48:22Z</dcterms:modified>
  <cp:revision>26</cp:revision>
  <dc:subject/>
  <dc:title>Jahreszeiten</dc:title>
</cp:coreProperties>
</file>