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14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F81B-2375-43B1-AC8A-BDB404254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D07-4857-41AC-80B6-8EFC0C9F6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FD0-75E5-46B1-8A2F-1B28424F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F7E-9392-4509-8DCC-259EBEFF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B7B-B574-40E6-A081-68E488B8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E60-71AF-4812-9A07-BB95B313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8BECE-2775-433E-AAD9-7EE67574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7EA3B-61DA-480F-9B4F-2A52DD00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CAF79-17AC-42A5-8B94-94E3E4FC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269CA-E956-4BDB-A8D7-824CED7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8D8CE-51E1-4E25-B4CA-9C413542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9D5A-1B54-47BA-B5AF-3517EFC2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5F5F-A857-48A3-8420-10FCD65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999-9E54-490B-A94A-1D3FE53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879D6-FFFF-4E60-9DC9-9517311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ABEE8-5364-416B-98C8-0C825E6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F6F2E-61E0-4E66-9206-1D2A69B8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97DF-AAFA-43A6-B549-5A5DFD82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2A24D-7043-4917-BB11-50F299EC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BF3F-5946-4A39-B287-1C77B927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6DDF-4233-432D-9CBC-C0233E52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A3E6-F44C-409C-9BB0-356A3FD0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D9B7-2E50-4FA1-A4BB-A853CF09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BFA1-C320-4D8F-A6D6-89084D8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1D8-1ED6-4956-863E-49D1321C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6D58-B650-47CC-961F-C8999FD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B302-AEA7-4B4B-8A82-2AC2461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CCA3-971C-4D28-95F3-2DF0E62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4CA0-DB82-4D66-8060-289F0E6A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F437-331C-4870-A7C5-A76CE5BB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3238-2F51-430D-944A-D25860C6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A10D-514D-47AF-92EE-D2480875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73E5C-BD25-482B-8436-00E65AAB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6E385-2531-4B2E-99CD-88F4CB4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86F17-1455-4E62-BCD8-FAF6CA5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DE4-D521-477F-8D91-934C6DB1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EC86E-1F30-4952-95E3-95A4138E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B954C-7CEE-415A-95E8-A93E4D00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8C304-B715-411C-BE28-6A51D41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3E527-54F8-4FC5-9DFC-8365691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600F3-045C-48F9-A0A0-689B45C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5C51A-0AA0-4C56-B0D4-48FEC94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C65FD-8BA1-4CD9-B110-40A00A5B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901FA-37D4-4F35-8BB1-1543AD52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A154E-6D85-410F-BAA8-6FD3E00C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86D-4A68-4C3C-AD52-5512144B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896-5471-434C-AFE5-6435F341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9FD-0748-4031-A7D7-A324330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649-1AB3-49C6-A9B5-0A42FABA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A26-3194-4559-9B1D-7EB7E6E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AA4D-08EF-47AB-A986-DAB3B2C306FD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5C0-6AFF-49A7-BA1F-BC8081F5B41A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4547-6397-4077-8168-BBCE075E41D1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0179-195E-435C-9A51-08D69AB95BF2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1371600" y="907920"/>
            <a:ext cx="7772400" cy="1738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02000" y="328428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немецкого язык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КОУ «Самовецкая СОШ» Жукова Е.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Septembe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Oktobe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Novembe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1198855656_iii_15"/>
          <p:cNvPicPr/>
          <p:nvPr/>
        </p:nvPicPr>
        <p:blipFill>
          <a:blip r:embed="rId2"/>
          <a:stretch/>
        </p:blipFill>
        <p:spPr>
          <a:xfrm>
            <a:off x="900000" y="1197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443-1024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Dezember 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Janua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Februa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p253_58"/>
          <p:cNvPicPr/>
          <p:nvPr/>
        </p:nvPicPr>
        <p:blipFill>
          <a:blip r:embed="rId2"/>
          <a:stretch/>
        </p:blipFill>
        <p:spPr>
          <a:xfrm>
            <a:off x="826920" y="1197000"/>
            <a:ext cx="72010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79-1024"/>
          <p:cNvPicPr/>
          <p:nvPr/>
        </p:nvPicPr>
        <p:blipFill>
          <a:blip r:embed="rId2"/>
          <a:stretch/>
        </p:blipFill>
        <p:spPr>
          <a:xfrm>
            <a:off x="250920" y="1376280"/>
            <a:ext cx="4392360" cy="399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88-10243"/>
          <p:cNvPicPr/>
          <p:nvPr/>
        </p:nvPicPr>
        <p:blipFill>
          <a:blip r:embed="rId3"/>
          <a:stretch/>
        </p:blipFill>
        <p:spPr>
          <a:xfrm>
            <a:off x="4211640" y="2565360"/>
            <a:ext cx="468144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ussen steht ein weisser Mann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er sich niemals warmen kann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Wenn die Fruhlingssonne scheint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Schwitzt der weise Mann und weint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Er wird klein und immer kleiner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Sagt, was ist das wohl fur einer?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r braucht keinen Motor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r braucht keinen Wind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r tragt mich trotz allem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Bergabwarts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geschwind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02"/>
          <p:cNvPicPr/>
          <p:nvPr/>
        </p:nvPicPr>
        <p:blipFill>
          <a:blip r:embed="rId1"/>
          <a:stretch/>
        </p:blipFill>
        <p:spPr>
          <a:xfrm>
            <a:off x="539640" y="1413000"/>
            <a:ext cx="8099640" cy="433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900000" y="-243000"/>
            <a:ext cx="717552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Er fallt vom Himmel im Winter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Holen den Schlitten die Kinder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nd wenn es wieder zerrint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nn wird es Fruhling, mein Kind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s war eine Mutter,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sie hatte vier Kinder: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den Fruhling, den Sommer,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den Herbst und den Winter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dark-blue-snow-1024"/>
          <p:cNvPicPr/>
          <p:nvPr/>
        </p:nvPicPr>
        <p:blipFill>
          <a:blip r:embed="rId2"/>
          <a:stretch/>
        </p:blipFill>
        <p:spPr>
          <a:xfrm>
            <a:off x="1332000" y="1285920"/>
            <a:ext cx="7164360" cy="55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6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Wir wissen schon viel von Jahreszeiten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Aber es gibt noch viel Neues und Interessante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Viel Erfolg !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345-1024"/>
          <p:cNvPicPr/>
          <p:nvPr/>
        </p:nvPicPr>
        <p:blipFill>
          <a:blip r:embed="rId2"/>
          <a:stretch/>
        </p:blipFill>
        <p:spPr>
          <a:xfrm>
            <a:off x="1116000" y="1916280"/>
            <a:ext cx="63644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Marz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April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Mai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ris_field"/>
          <p:cNvPicPr/>
          <p:nvPr/>
        </p:nvPicPr>
        <p:blipFill>
          <a:blip r:embed="rId2"/>
          <a:stretch/>
        </p:blipFill>
        <p:spPr>
          <a:xfrm>
            <a:off x="557280" y="1547640"/>
            <a:ext cx="7704000" cy="531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eadow-road-tree-1024"/>
          <p:cNvPicPr/>
          <p:nvPr/>
        </p:nvPicPr>
        <p:blipFill>
          <a:blip r:embed="rId2"/>
          <a:stretch/>
        </p:blipFill>
        <p:spPr>
          <a:xfrm>
            <a:off x="1258920" y="1484280"/>
            <a:ext cx="651672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Juni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eece1"/>
                </a:solidFill>
                <a:latin typeface="Constantia"/>
              </a:rPr>
              <a:t>          </a:t>
            </a:r>
            <a:r>
              <a:rPr b="0" lang="en-US" sz="7200" spc="-1" strike="noStrike">
                <a:solidFill>
                  <a:srgbClr val="eeece1"/>
                </a:solidFill>
                <a:latin typeface="Constantia"/>
              </a:rPr>
              <a:t>Juli</a:t>
            </a:r>
            <a:endParaRPr b="0" lang="en-US" sz="7200" spc="-1" strike="noStrike">
              <a:solidFill>
                <a:srgbClr val="eeece1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August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makovoe-pole-1024"/>
          <p:cNvPicPr/>
          <p:nvPr/>
        </p:nvPicPr>
        <p:blipFill>
          <a:blip r:embed="rId2"/>
          <a:stretch/>
        </p:blipFill>
        <p:spPr>
          <a:xfrm>
            <a:off x="179280" y="1268280"/>
            <a:ext cx="86425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413-1024"/>
          <p:cNvPicPr/>
          <p:nvPr/>
        </p:nvPicPr>
        <p:blipFill>
          <a:blip r:embed="rId2"/>
          <a:stretch/>
        </p:blipFill>
        <p:spPr>
          <a:xfrm>
            <a:off x="1979640" y="1913040"/>
            <a:ext cx="6659640" cy="494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29:56Z</dcterms:created>
  <dc:creator>User</dc:creator>
  <dc:description/>
  <dc:language>en-US</dc:language>
  <cp:lastModifiedBy>Teacher</cp:lastModifiedBy>
  <dcterms:modified xsi:type="dcterms:W3CDTF">2021-04-09T10:48:22Z</dcterms:modified>
  <cp:revision>26</cp:revision>
  <dc:subject/>
  <dc:title>Jahreszeiten</dc:title>
</cp:coreProperties>
</file>