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A703-239C-4AB3-A260-E221D4A1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B79B-079D-4754-BBF9-D73BCD81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D597-EC20-419C-98D7-776F124E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AD8F-49B6-4CC3-BB43-BFBC403D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938E-F6DA-45A9-8B0D-4B6E66A8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54F6-DB01-4300-ADDD-92A9805F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B1AA-E162-4445-AE67-8594E1B4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2CD2-A715-4D96-BEEC-7815079C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5044-AE98-4F06-B9D0-876541A7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90F8-A807-4551-A368-394BC6A5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7ABB-E792-49A6-BBC3-2B4D5721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D33A-8760-4F60-924F-CE915F19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BB3E-F48E-4F7D-9A45-6E1FA03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E0FE-935C-4237-A65F-37C3F479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CA3C-8A4F-4103-B923-1B75FC66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3542-FCF4-4D0F-B184-A8C512B3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0B5F-2734-479A-8252-3A010197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1DA6-41AF-427E-ADDA-1416C6E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FC48-60F7-4B6B-A751-8761426F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F0ED-9F98-4101-906D-CE6EA551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7814-5275-4428-96AA-13F9420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3543-6FB6-4779-B0E6-B892F14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B851-79A9-4FF5-9D61-21B5DFC6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94D3-04FC-40F1-B153-26EA4127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B36D-01D5-43B3-B8A0-7A7CD63CC8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848F-90EE-48A8-83B3-AC03A3A36E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332000" y="1341360"/>
            <a:ext cx="7056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Georgia"/>
              </a:rPr>
              <a:t>Литературное чт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99"/>
                </a:solidFill>
                <a:latin typeface="Georgia"/>
              </a:rPr>
              <a:t>2 клас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79280" y="97380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Шляпа вылезла на середину комнаты и остановилась. Ребята смотрят на нее и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трясутся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от страха.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Тут шляпа повернулась и поползла к див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—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Ай! Ой! —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закричали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ребя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скочили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с дивана — и бегом из ком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Прибежали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а кухню и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верь за собой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закрыли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00007d"/>
                </a:solidFill>
                <a:latin typeface="Arial"/>
              </a:rPr>
              <a:t>Физминут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2951280" cy="2011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24936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-0.2831 C 0.2092 -0.2831 0.35069 -0.12824 0.35069 0.06296 C 0.35069 0.2544 0.2092 0.40995 0.03541 0.40995 C -0.13837 0.40995 -0.27934 0.2544 -0.27934 0.06296 C -0.27934 -0.12824 -0.13837 -0.2831 0.03541 -0.2831 Z">
                                      <p:cBhvr>
                                        <p:cTn id="8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639 -0.35093 L 0.20833 0.41551 E">
                                      <p:cBhvr>
                                        <p:cTn id="93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1000"/>
                            </p:stCondLst>
                            <p:childTnLst>
                              <p:par>
                                <p:cTn id="95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54 0.37361 L -0.49254 0.06389 C -0.49254 -0.07523 -0.33629 -0.24584 -0.20903 -0.24584 L 0.07447 -0.24584 E">
                                      <p:cBhvr>
                                        <p:cTn id="96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7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95280" y="476280"/>
          <a:ext cx="8497800" cy="49687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7030a0"/>
                          </a:solidFill>
                          <a:latin typeface="Georgia"/>
                          <a:ea typeface="Times New Roman"/>
                        </a:rPr>
                        <a:t>Кочерг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 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Волод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7030a0"/>
                          </a:solidFill>
                          <a:latin typeface="Georgia"/>
                          <a:ea typeface="Times New Roman"/>
                        </a:rPr>
                        <a:t>Лыжная палк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Вади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7"/>
          <p:cNvSpPr/>
          <p:nvPr/>
        </p:nvSpPr>
        <p:spPr>
          <a:xfrm>
            <a:off x="3098880" y="3125880"/>
            <a:ext cx="1473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476280"/>
          <a:ext cx="8497800" cy="49687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7030a0"/>
                          </a:solidFill>
                          <a:latin typeface="Georgia"/>
                          <a:ea typeface="Times New Roman"/>
                        </a:rPr>
                        <a:t>Кочерг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 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Володя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7030a0"/>
                          </a:solidFill>
                          <a:latin typeface="Georgia"/>
                          <a:ea typeface="Times New Roman"/>
                        </a:rPr>
                        <a:t>Лыжная палк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r>
                        <a:rPr b="1" lang="ru-RU" sz="5400" spc="-1" strike="noStrike">
                          <a:solidFill>
                            <a:srgbClr val="c00000"/>
                          </a:solidFill>
                          <a:latin typeface="Georgia"/>
                          <a:ea typeface="Times New Roman"/>
                        </a:rPr>
                        <a:t>Вади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Line 129"/>
          <p:cNvSpPr/>
          <p:nvPr/>
        </p:nvSpPr>
        <p:spPr>
          <a:xfrm flipH="1" flipV="1">
            <a:off x="3924360" y="1844280"/>
            <a:ext cx="1727280" cy="18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0"/>
          <p:cNvSpPr/>
          <p:nvPr/>
        </p:nvSpPr>
        <p:spPr>
          <a:xfrm flipH="1">
            <a:off x="3924000" y="1916280"/>
            <a:ext cx="1655640" cy="23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24000" y="304920"/>
            <a:ext cx="849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Georgia"/>
              </a:rPr>
              <a:t>1.Они вернулись на кухню, набрали из корзины огурцов и стали швырять её в шля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Georgia"/>
              </a:rPr>
              <a:t>2.Они вернулись на кухню, набрали из корзины картошки и стали швырять её в шля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3.Они вернулись на кухню, набрали из корзины свёклы и стали швырять её в шля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24000" y="1541160"/>
            <a:ext cx="849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Georgia"/>
              </a:rPr>
              <a:t>2.Они вернулись на кухню, набрали из корзины картошки и стали швырять её в шляп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16000" y="1536840"/>
            <a:ext cx="633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7d"/>
                </a:solidFill>
                <a:latin typeface="Arial"/>
              </a:rPr>
              <a:t>Фыркал, жмурилс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2133000"/>
            <a:ext cx="831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Синяя шляпк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я доволен своей работой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расная шляпк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я был   активен, но не всё у меня получалось на уроке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79092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Arial"/>
              </a:rPr>
              <a:t>Рефлекс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 rot="20319000">
            <a:off x="468360" y="1267920"/>
            <a:ext cx="1236600" cy="843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 rot="20808600">
            <a:off x="6300360" y="5445000"/>
            <a:ext cx="122400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4683240" cy="532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 rot="20348400">
            <a:off x="1618920" y="333000"/>
            <a:ext cx="3335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1763640" y="47988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Домашнее зад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635920"/>
            <a:ext cx="90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Страница 38-40, отчитать хорошо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Придумать по 1 вопросу к тек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50920" y="1331640"/>
            <a:ext cx="849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Прозвенел звонок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начинается ур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Наши ушки на макуш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Слушаем, запоминаем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Ни минутки не теря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78047095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5148360" y="1125360"/>
            <a:ext cx="3995640" cy="4857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09" name="Rectangle 5"/>
          <p:cNvSpPr/>
          <p:nvPr/>
        </p:nvSpPr>
        <p:spPr>
          <a:xfrm>
            <a:off x="0" y="620640"/>
            <a:ext cx="514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Николай</a:t>
            </a: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Николаевич Носов</a:t>
            </a: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(23.11.1908-1976)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детский</a:t>
            </a: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Georgia"/>
              </a:rPr>
              <a:t>писатель</a:t>
            </a:r>
            <a:r>
              <a:rPr b="0" lang="ru-RU" sz="54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468360" y="765000"/>
            <a:ext cx="8496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* Киев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*В семье актё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*Музыка, театр,    шахматы, фотограф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Georgia"/>
              </a:rPr>
              <a:t>*Затейники</a:t>
            </a: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75272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4932360" y="1557360"/>
            <a:ext cx="39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eorgia"/>
              </a:rPr>
              <a:t>Н.Н Но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eorgia"/>
              </a:rPr>
              <a:t>«Живая шляп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885080" y="558972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153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332000" y="765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Georgia"/>
              </a:rPr>
              <a:t>Словарная работа</a:t>
            </a: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900000" y="1455480"/>
            <a:ext cx="68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Кочерга </a:t>
            </a: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- </a:t>
            </a:r>
            <a:r>
              <a:rPr b="1" lang="ru-RU" sz="3200" spc="-1" strike="noStrike">
                <a:solidFill>
                  <a:srgbClr val="6600cc"/>
                </a:solidFill>
                <a:latin typeface="Georgia"/>
              </a:rPr>
              <a:t>железный прут с закруглённым концом для перемешивания топлива в печи.</a:t>
            </a:r>
            <a:r>
              <a:rPr b="1" lang="ru-RU" sz="3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859920"/>
            <a:ext cx="72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омод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шкаф с выдвижными ящиками для белья, разных мелких домашних вещей.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18435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ТРЕСН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6520" y="1844640"/>
            <a:ext cx="27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- удар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3715560"/>
            <a:ext cx="43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– 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тяжело сесть и упасть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7152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Плюхну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539640" y="6195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Georgia"/>
              </a:rPr>
              <a:t>Физкультминут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79280" y="1697760"/>
            <a:ext cx="9624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се котятки мыли лапки: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от так, вот так!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Мыли ушки, мыли брюшки: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от так, вот так!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А потом они устали,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Сладко, сладко засыпали: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от так, вот та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179280" y="97380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Шляпа вылезла на середину комнаты и остановилась. Ребята смотрят на нее и трясутся от страха. Тут шляпа повернулась и поползла к див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— </a:t>
            </a: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Ай! Ой! — закричали ребя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Соскочили с дивана — и бегом из комн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Прибежали на кухню и дверь за собой закры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5T05:43:12Z</dcterms:created>
  <dc:creator>Lenovo</dc:creator>
  <dc:description/>
  <dc:language>en-US</dc:language>
  <cp:lastModifiedBy>Lenovo</cp:lastModifiedBy>
  <dcterms:modified xsi:type="dcterms:W3CDTF">2020-02-26T14:07:05Z</dcterms:modified>
  <cp:revision>12</cp:revision>
  <dc:subject/>
  <dc:title>Слайд 1</dc:title>
</cp:coreProperties>
</file>