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58EF-A9F5-4E38-B8A7-918158BF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EE36-7028-4264-A440-8DD22BBA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5689-ADC0-4632-BA16-6942073C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A377-C23A-46EE-A228-BD182F34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A707-FC99-4FA1-A93F-00AE3D08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337E-A51D-49F5-8E0E-FC2F47D7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0A58-4BDB-432C-BB91-73A28441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76C5-6F85-4F28-85AD-4FE95DFB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A31E-67D1-400F-88C5-D800020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871F-90D9-43C3-B79B-8F04AA0D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97F2-71A4-4C0C-B4CF-B9897EA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8DBD-C67F-4D69-9912-8AC16D7B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0EEF-5582-4DA9-AE04-81DA7E9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B99C-CD98-4D60-A5C4-36A42AF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6DB5-2830-46E3-A572-C0DCC3B7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A8F0-69D1-4978-9C5C-E8A9C997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EC5F-FE6B-43D9-84D3-79C79373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787D-450E-4C72-990E-A7A7C249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DE5B-84EA-4710-B6B3-17D388CD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A631-BDC7-4466-93CC-8359E7A9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FE23-7238-4F1D-94B9-510C77CC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B132-0820-4946-87AF-97C2FE5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040F-15FF-4A8B-907F-30D1BD4E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2078-8D39-4A7C-AD6B-26C0B523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4F94-E8E0-4C5D-AB42-64B0E9D394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AC8D-0531-4E64-AE8F-5F35E99368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332000" y="1341360"/>
            <a:ext cx="7056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Georgia"/>
              </a:rPr>
              <a:t>Литературное чт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Georgia"/>
              </a:rPr>
              <a:t>2 клас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79280" y="97380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Шляпа вылезла на середину комнаты и остановилась. Ребята смотрят на нее и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трясутся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от страха.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Тут шляпа повернулась и поползла к див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—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Ай! Ой! —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закричали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ребя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скочили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с дивана — и бегом из ком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Прибежали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а кухню и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верь за собой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закрыли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00007d"/>
                </a:solidFill>
                <a:latin typeface="Arial"/>
              </a:rPr>
              <a:t>Физминут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2951280" cy="2011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24936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-0.2831 C 0.2092 -0.2831 0.35069 -0.12824 0.35069 0.06296 C 0.35069 0.2544 0.2092 0.40995 0.03541 0.40995 C -0.13837 0.40995 -0.27934 0.2544 -0.27934 0.06296 C -0.27934 -0.12824 -0.13837 -0.2831 0.03541 -0.2831 Z">
                                      <p:cBhvr>
                                        <p:cTn id="8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639 -0.35093 L 0.20833 0.41551 E">
                                      <p:cBhvr>
                                        <p:cTn id="93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54 0.37361 L -0.49254 0.06389 C -0.49254 -0.07523 -0.33629 -0.24584 -0.20903 -0.24584 L 0.07447 -0.24584 E">
                                      <p:cBhvr>
                                        <p:cTn id="96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5280" y="476280"/>
          <a:ext cx="8497800" cy="49687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7030a0"/>
                          </a:solidFill>
                          <a:latin typeface="Georgia"/>
                          <a:ea typeface="Times New Roman"/>
                        </a:rPr>
                        <a:t>Кочерг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 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Волод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7030a0"/>
                          </a:solidFill>
                          <a:latin typeface="Georgia"/>
                          <a:ea typeface="Times New Roman"/>
                        </a:rPr>
                        <a:t>Лыжная палк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Вади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7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476280"/>
          <a:ext cx="8497800" cy="49687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7030a0"/>
                          </a:solidFill>
                          <a:latin typeface="Georgia"/>
                          <a:ea typeface="Times New Roman"/>
                        </a:rPr>
                        <a:t>Кочерг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 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Волод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7030a0"/>
                          </a:solidFill>
                          <a:latin typeface="Georgia"/>
                          <a:ea typeface="Times New Roman"/>
                        </a:rPr>
                        <a:t>Лыжная палк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Вади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Line 129"/>
          <p:cNvSpPr/>
          <p:nvPr/>
        </p:nvSpPr>
        <p:spPr>
          <a:xfrm flipH="1" flipV="1">
            <a:off x="3924360" y="1844280"/>
            <a:ext cx="1727280" cy="18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0"/>
          <p:cNvSpPr/>
          <p:nvPr/>
        </p:nvSpPr>
        <p:spPr>
          <a:xfrm flipH="1">
            <a:off x="3924000" y="1916280"/>
            <a:ext cx="1655640" cy="23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24000" y="304920"/>
            <a:ext cx="849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Georgia"/>
              </a:rPr>
              <a:t>1.Они вернулись на кухню, набрали из корзины огурцов и стали швырять её в шля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Georgia"/>
              </a:rPr>
              <a:t>2.Они вернулись на кухню, набрали из корзины картошки и стали швырять её в шля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3.Они вернулись на кухню, набрали из корзины свёклы и стали швырять её в шля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24000" y="1541160"/>
            <a:ext cx="84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eorgia"/>
              </a:rPr>
              <a:t>2.Они вернулись на кухню, набрали из корзины картошки и стали швырять её в шляп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16000" y="1536840"/>
            <a:ext cx="633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7d"/>
                </a:solidFill>
                <a:latin typeface="Arial"/>
              </a:rPr>
              <a:t>Фыркал, жмурилс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2133000"/>
            <a:ext cx="831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Синяя шляпк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 доволен своей работой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расная шляпк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я был   активен, но не всё у меня получалось на урок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79092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Рефлекс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 rot="20319000">
            <a:off x="468360" y="1267920"/>
            <a:ext cx="1236600" cy="843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 rot="20808600">
            <a:off x="6300360" y="5445000"/>
            <a:ext cx="122400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468324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 rot="20348400">
            <a:off x="1618920" y="333000"/>
            <a:ext cx="3335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763640" y="47988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Домашнее зад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635920"/>
            <a:ext cx="90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Страница 38-40, отчитать хорошо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Придумать по 1 вопросу к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50920" y="1331640"/>
            <a:ext cx="849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Прозвенел звонок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начинается ур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Наши ушки на макуш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Слушаем, запоминае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Ни минутки не теря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78047095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148360" y="1125360"/>
            <a:ext cx="3995640" cy="4857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09" name="Rectangle 5"/>
          <p:cNvSpPr/>
          <p:nvPr/>
        </p:nvSpPr>
        <p:spPr>
          <a:xfrm>
            <a:off x="0" y="620640"/>
            <a:ext cx="514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Николай</a:t>
            </a: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Николаевич Носов</a:t>
            </a: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(23.11.1908-1976)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детский</a:t>
            </a: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писатель</a:t>
            </a: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468360" y="765000"/>
            <a:ext cx="8496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* Киев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*В семье актё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*Музыка, театр,    шахматы, фотограф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*Затейники</a:t>
            </a: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75272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4932360" y="1557360"/>
            <a:ext cx="39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eorgia"/>
              </a:rPr>
              <a:t>Н.Н Но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eorgia"/>
              </a:rPr>
              <a:t>«Живая шляп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885080" y="558972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153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332000" y="765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Georgia"/>
              </a:rPr>
              <a:t>Словарная работа</a:t>
            </a: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900000" y="1455480"/>
            <a:ext cx="68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Кочерга </a:t>
            </a: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- </a:t>
            </a:r>
            <a:r>
              <a:rPr b="1" lang="ru-RU" sz="3200" spc="-1" strike="noStrike">
                <a:solidFill>
                  <a:srgbClr val="6600cc"/>
                </a:solidFill>
                <a:latin typeface="Georgia"/>
              </a:rPr>
              <a:t>железный прут с закруглённым концом для перемешивания топлива в печи.</a:t>
            </a: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859920"/>
            <a:ext cx="72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омод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шкаф с выдвижными ящиками для белья, разных мелких домашних вещей.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18435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ТРЕСН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6520" y="1844640"/>
            <a:ext cx="27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- удар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3715560"/>
            <a:ext cx="43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– 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тяжело сесть и упасть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7152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люхну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39640" y="6195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Georgia"/>
              </a:rPr>
              <a:t>Физкультминут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79280" y="1697760"/>
            <a:ext cx="9624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се котятки мыли лапки: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от так, вот так!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Мыли ушки, мыли брюшки: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от так, вот так!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А потом они устали,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Сладко, сладко засыпали: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от так, вот та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179280" y="97380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Шляпа вылезла на середину комнаты и остановилась. Ребята смотрят на нее и трясутся от страха. Тут шляпа повернулась и поползла к див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—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Ай! Ой! — закричали ребя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Соскочили с дивана — и бегом из ком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Прибежали на кухню и дверь за собой закры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5T05:43:12Z</dcterms:created>
  <dc:creator>Lenovo</dc:creator>
  <dc:description/>
  <dc:language>en-US</dc:language>
  <cp:lastModifiedBy>Lenovo</cp:lastModifiedBy>
  <dcterms:modified xsi:type="dcterms:W3CDTF">2020-02-26T14:07:05Z</dcterms:modified>
  <cp:revision>12</cp:revision>
  <dc:subject/>
  <dc:title>Слайд 1</dc:title>
</cp:coreProperties>
</file>