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8D40-8F83-4022-AF17-19DA36E96C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350C-AC39-4325-9E28-E49EBC75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339852-DF7F-4797-97FD-2090E056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47FBEA-EABA-43E0-B646-9ED74222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A4A93D-3E2B-4EFA-980E-CFE4C1BF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8B9281-C84C-49CF-BC5B-81FFC675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7FF50F-4B49-4D8C-84B6-862C688B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795E39-3FC8-4972-82E8-AE27E4B0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A287EB-E5F1-4517-8E1C-AC3FF68E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9413D1-15EE-4ADB-B843-31E4F2E3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2BCB74-EC09-44C8-809D-D58719E1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91AA1A-724A-454D-9565-339A975B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BCD2-BEA3-4CE2-AB5E-62165E7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000478-46AC-4311-9B9D-1E9B23F5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DC287F-1CCC-42D7-ADA6-5EB2E80E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DA2899-C13B-489F-AC81-A1400498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DD014A-1369-4D33-A729-F889395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3CE7AB-6F0B-48FD-9DE8-DF54675C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26D7A3-13F3-4027-9BE2-B94EC094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3B885E-83BD-4E54-A08F-B2176044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82EC30-95AA-4A9C-BB55-38D643EF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74DBBD-F2B5-449B-8552-25A62E11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AFB9BF-5F35-4084-8F28-5489EB8B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0AB8-1F6A-4D18-AE0C-B1ED14459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3F7471-6122-442F-9C16-AB805450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05EE8E-6ABF-4ACE-A1EB-EDCAD328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86F4FA-FFBE-4536-9F37-6C471817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E63974-6D24-45E1-8884-F508A80B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CAF347-F0B4-46B5-9ED0-19542D29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720033-FD52-45AF-AA3A-D0613FF6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1DA011-3CD1-4E31-A461-665D7AD2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C8D3A1-94D4-466D-8519-0A74F68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996159-CCDE-4051-858C-83D7972C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13DF25-931E-492F-8E10-3F3A8EF5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2A1F9-F7E2-4EAA-928F-2433225016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D40AEE-15E4-4215-AF14-CBB9F25B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CE8829-36FE-4292-A325-4F67E431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41FB4F-4049-4CE4-BB1B-A44FCCB8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585D68-6093-45E9-B0D9-068552C0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B418C1-B3E2-4C92-A510-7F7A3D28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640CD2-3AFE-4B40-BF05-1E48F8E1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B2D825-3240-4576-B3CA-D58D21AD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BD9A12-04D4-4EDA-89EB-B9AC1216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7480EF-CCB0-4571-88D5-94196047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043818-57E6-45DF-AC8C-613B9BCC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B2F97-21A4-4956-8CE6-0DDB5449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A2942C-DA42-467E-95C2-86079048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F1399A-15D9-49AA-9D49-5BF47FCD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34121A-CEEE-4DFF-BA87-662850B4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040B2A-6CF0-4A38-90AD-A34B26F8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62449E-C801-4C68-ADA0-8F495BC5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74EE39-90B8-438F-82D7-4CF4AA04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AA549F-0F17-4173-BA1C-16CF506B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9A4658-998C-47B4-8470-6839D4C6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02497B-859D-4B17-B6A4-292EBFAF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01C440-4339-4ED8-A33F-F25B9871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B0FAA-ECC4-418F-B33E-F6052381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4E423E-591C-40B3-8D3B-4D123ABF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09955D-0BB0-4719-90F8-3F5DD2E1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16CAF8-EEE9-466E-A58B-DD8239EC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3CC01C-A47C-4DA1-A390-FEC59A16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1774BC-FD8C-4ECA-8466-0E0BB056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2072C2-ECFA-47DC-8213-B4F26D11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B3FE75-6E4C-4638-A6AC-1D81EE32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7513C2-BC29-47AF-8919-757DAC79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0750F4-3FC2-4A10-9B25-09307FB9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3F77D8-0F8C-40FE-A61B-C9AA6C84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B4AE7-0841-40DB-ACF8-0EE3F07A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A7BC72-5EE5-4645-89B8-D3C96FDD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2F5089-1BEE-487C-92E1-08AD5281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E66D53-0111-4CD9-B9DD-7928CB34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BD1217-64BA-45AF-B013-85614AC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2AB03F-672E-4D25-A871-8B12CC27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A89C08-7CC5-401D-A72D-DF8DEB73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7EF4BD-8E27-47BE-A579-19482104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CD73EF-BCD1-47A3-B884-AB7EAEB5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A6FC12-A338-487E-8C26-A84CAEA2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5A027C7-19F2-4899-AE1E-89CDA144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3F63A-1FCF-4880-9795-DF9A417C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2B40E3-5CAC-4749-B39F-CB1596FE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661BDA-284A-49AB-9984-379F48EE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DF5BE9-0489-43F9-8AB1-741DCCF2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5125C1-F723-4ED7-84B6-154BD930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9B5E69-4885-45A6-9F93-3332DFC7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843149-B104-4BCF-85C3-EF3FC520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5780D2-D71E-4337-809C-268DF45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5FEA7A-9752-4AA0-BCDE-E31A65C4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7A04D0-BF9D-4086-93A0-608F2B4F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65F9F2-5E27-4FAA-8649-B12FD545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2F5F8-7F81-4567-88C5-28FA5FA8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C49A08-9A5C-47AE-8362-66727C88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2CB603-E910-4A52-A092-D10401EB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43502C-8FC5-482D-80BD-6CE66D5E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82C5D0-9552-49BA-9DEA-648C24C3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B2B3F4-9B13-41E2-9466-80AAF1BF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A61625-6A17-45A6-8B85-37BDBA17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282863-F32D-4DCA-926B-D902EAB9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FD192C-3E61-45B9-8F22-CF7B0924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89A752-43B1-4E8F-A0EF-4154E56B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58C3D2-08CE-4DDD-AF4A-2FAE44F3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0FD4E-7AE0-4FF7-ACCD-9991A1F5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FFBBC4-2424-4B0A-B5DB-C916142C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1FEFE59-EEC9-4C88-B08C-522C6F6F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736D80-61CC-49DD-AA2B-BE21E2A1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7F5E-58AE-40E5-86A0-81B728E8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33E2C-8FEC-498C-906B-2E404121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16D24-A387-4AA1-8A1A-0E10404C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78A24-1A9E-417C-BA5B-D8CCB4D4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A909D-22D7-4FA3-9326-06BFC037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3A6BA-5049-4C17-AFEF-DBCA48912B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3C55-478B-4DFD-B62C-CF93CCDD46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6CCE-D428-4683-BE3B-1D4F6322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D15D-A926-4F2A-9C3C-9451A770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7971-A3F8-40A6-8602-036AF805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9E24-A0A1-42F0-8684-B8D6A9EE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C0FD-EAFC-469D-A6F1-D295CAE8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E83F-63FD-468C-874E-4ADD9B12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EFB2-5B53-495C-9F07-9E6DAEE4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0D41-BDBD-458B-B83A-2161C0AB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BBAE-138D-4DC2-A265-D58D6E5A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A7E6-C492-4157-A214-0FDA082D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90E5-A061-499E-BA76-D15FC8FE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EDB6-C117-410E-A634-B2746F46C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260CD-3CFB-4EEC-B973-26D5847F32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42319-7A3E-4A05-90E4-E9F9E42A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6B102-0618-4AC5-BE44-B28D3DA4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E54D-7C8B-4F4F-8C8B-3A5494B8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03D393-505B-4B6B-B6B5-E0A9AA7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E95BD-84B8-40B3-A4CE-72B7794D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86D2D-BB0A-4CE8-9BF0-5233D76A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4A3A0-A631-446D-A683-B667E516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3A914-EC53-4392-B455-C03AAE59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25C7F-4CC4-4F9B-96D2-B4C326C3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6EB60-526E-4FA7-8EEC-774B808D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59356-4AC2-4D43-A964-0B5BB863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E256D-0D2B-46FC-92DE-FA3A7EC3B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5E72A-E4BE-487C-9BBD-18094800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E011-3376-4F5B-935F-0DC95EE4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86BC7-7866-4A91-B114-6ECB37CE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2053C-D4D8-4502-A357-54F82057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81C4B-B8B1-4E04-AD75-7327B480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32F09-6D94-49DD-AAE7-5BE51D13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CC4995-3F64-4048-AED3-E9CF7649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E00EE-677E-4A9B-9E6D-0F6EFF5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F3D37-EE47-4C8D-BFC4-A9AC19AC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B5EE4-5286-4664-AB18-85A6837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BB5AA8-67E7-405D-A048-657A15AD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CF17C3-2F5E-4CC6-9486-7C2F215E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35CC-42D5-415C-8D25-137401F2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22AE5-2BF8-4909-A89C-EC0134BD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D9466-D4D8-4D24-8060-83EC205D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C86B5-7148-4604-B6C9-28C5DD3A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7C4B1-2A27-49C3-AF26-236018BA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F7C02-9A21-499C-B35F-62D9328F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2F962-F0FB-40E7-A88A-11460C07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D6097-2EEC-4664-9393-EBBB142E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D7833-EC19-4DDC-8091-BFD686FE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C32D8-D34E-4546-8E6F-16386EF6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1340F-1BFE-41D8-954E-AE571674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F5DF-1D7D-4C22-AFC0-69ED4A9F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8C309-128D-4A7F-B786-FE4A7CCF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4A7CF-F1A6-498D-A30F-52326202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19E60-1418-44DE-A8C3-1CFDF5AC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747A6-7A6B-4142-853C-89F251F2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B26886-2E66-4355-876A-01E14E6C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BD324A-2D1B-47D1-83C1-F24DB341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8FBA5-1329-4521-AF3B-7B380344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59EB9-5E55-449E-8BF9-5316B5DF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DD0917-FB84-4F4E-A5AD-3F560F18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A6DF0-B245-49A5-8CB7-44C4BF9F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3F69-9D3D-4C5F-8880-E30FCA15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1D611-4F08-4A0D-A142-CEFDA4D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51C2E-DD3D-4517-87C2-C1C5F837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FF4AAF-1989-446A-8F31-9E5F7642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7BE05F-4DC1-49A5-A0B2-BE5648D0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0AB59-A264-45C6-AF61-F059B2F1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6EFDBA-17B4-49C2-8B51-A5592479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149DD1-303F-433B-B1A4-DBCB15C4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D9A78-A9D6-4944-BADD-8113A87A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02173-5699-44D4-BACB-E7D278A8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67960-D351-48F1-94AD-463E58F6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2837-BEFC-412B-B667-45F4A0A8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B3114-0ACF-4A77-8D99-86C77342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1BAE3-2C72-4B6C-B952-9D24B729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F8C21A-5850-4609-A94C-B3AE7723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A0714-FDAC-4B71-94FF-7FB184B8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6182B-ED4E-491E-88E5-A04A5786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41D38-0A77-4B70-BC15-24DB1580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8A8DD1-3E45-4A18-9D74-1EE35A1E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54BF3-2CAB-4A14-A2E2-BB9BB90D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C53FED-1BC3-4D62-9A11-05673CD6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B71B76-017D-482C-BB26-13984064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55440" y="-30240"/>
            <a:ext cx="9253440" cy="6966000"/>
            <a:chOff x="-55440" y="-30240"/>
            <a:chExt cx="9253440" cy="69660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3440" cy="69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162000" y="162000"/>
              <a:ext cx="8818560" cy="65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4FF05-8C57-465C-A12E-651A6D74C84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E61A35-732B-43F6-B59A-FE33148014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5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E4C574-3F50-431A-851E-425C5C4082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6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8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F4760A-17FD-4448-9214-BA09E645AB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F53752-33AF-4150-8098-545B6DE425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9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9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C48DC2-E5C5-41F1-AA41-C23CC4E4B0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4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CD653B-5C0A-4AC7-86EE-285A9F6233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9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9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9F028A-84B4-4437-A7EF-EDBF8A13B6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-55440" y="-30240"/>
            <a:ext cx="9253440" cy="6966000"/>
            <a:chOff x="-55440" y="-30240"/>
            <a:chExt cx="9253440" cy="696600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3440" cy="69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162000" y="162000"/>
              <a:ext cx="8818560" cy="65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2D71F-4284-4DA5-8EF4-4823BF41D94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"/>
          <p:cNvGrpSpPr/>
          <p:nvPr/>
        </p:nvGrpSpPr>
        <p:grpSpPr>
          <a:xfrm>
            <a:off x="-55440" y="-30240"/>
            <a:ext cx="9253440" cy="6966000"/>
            <a:chOff x="-55440" y="-30240"/>
            <a:chExt cx="9253440" cy="6966000"/>
          </a:xfrm>
        </p:grpSpPr>
        <p:pic>
          <p:nvPicPr>
            <p:cNvPr id="89" name="Picture 2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3440" cy="69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"/>
            <p:cNvSpPr/>
            <p:nvPr/>
          </p:nvSpPr>
          <p:spPr>
            <a:xfrm>
              <a:off x="162000" y="162000"/>
              <a:ext cx="8818560" cy="65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B446C-9A3E-433B-81B1-D0758FDBAE6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"/>
          <p:cNvGrpSpPr/>
          <p:nvPr/>
        </p:nvGrpSpPr>
        <p:grpSpPr>
          <a:xfrm>
            <a:off x="-55440" y="-30240"/>
            <a:ext cx="9253440" cy="6966000"/>
            <a:chOff x="-55440" y="-30240"/>
            <a:chExt cx="9253440" cy="6966000"/>
          </a:xfrm>
        </p:grpSpPr>
        <p:pic>
          <p:nvPicPr>
            <p:cNvPr id="133" name="Picture 2" descr=""/>
            <p:cNvPicPr/>
            <p:nvPr/>
          </p:nvPicPr>
          <p:blipFill>
            <a:blip r:embed="rId3"/>
            <a:stretch/>
          </p:blipFill>
          <p:spPr>
            <a:xfrm>
              <a:off x="-55440" y="-30240"/>
              <a:ext cx="9253440" cy="69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"/>
            <p:cNvSpPr/>
            <p:nvPr/>
          </p:nvSpPr>
          <p:spPr>
            <a:xfrm>
              <a:off x="162000" y="162000"/>
              <a:ext cx="8818560" cy="65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F8549-D02C-4299-86BC-37C82ECFB0D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7C854E-15E1-49C5-B2E7-BDEAA159E1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225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22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8F63F5-2003-4825-A712-9CA6A35426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21DE69-9F60-4620-BB1E-056CD5B827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85CEA1-C3AB-4194-A760-BFDA8241CEC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Пасечник Е.А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78441F-C260-48D1-8F28-E894532658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1"/>
          <p:cNvSpPr/>
          <p:nvPr/>
        </p:nvSpPr>
        <p:spPr>
          <a:xfrm>
            <a:off x="-181080" y="0"/>
            <a:ext cx="532944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Monotype Corsiva"/>
              </a:rPr>
              <a:t>Космос. День космонавтики –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Monotype Corsiva"/>
              </a:rPr>
              <a:t>12 апрел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2"/>
          <p:cNvSpPr/>
          <p:nvPr/>
        </p:nvSpPr>
        <p:spPr>
          <a:xfrm>
            <a:off x="1428840" y="4643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Box 3"/>
          <p:cNvSpPr/>
          <p:nvPr/>
        </p:nvSpPr>
        <p:spPr>
          <a:xfrm>
            <a:off x="5940360" y="493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f1e25"/>
                </a:solidFill>
                <a:latin typeface="Arial"/>
                <a:ea typeface="Arial"/>
              </a:rPr>
              <a:t>Презентация для логопедической 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cc0000"/>
                </a:solidFill>
                <a:uFillTx/>
                <a:latin typeface="Lucida Sans Unicode"/>
              </a:rPr>
              <a:t>Задач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иобщение детей к мероприятиям, имеющим государственное значени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ивитие детям чувство благодарности к человеку за его труд через знакомство с первыми людьми, покорителями космос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ознакомить с названиями планет солнечной систем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тие связной реч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ывать доброту, чувство любви к людям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а также уважение к старши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38" name="Заголовок 1" descr=""/>
          <p:cNvPicPr/>
          <p:nvPr/>
        </p:nvPicPr>
        <p:blipFill>
          <a:blip r:embed="rId1"/>
          <a:stretch/>
        </p:blipFill>
        <p:spPr>
          <a:xfrm>
            <a:off x="208080" y="66600"/>
            <a:ext cx="84852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381880" cy="1513080"/>
          </a:xfrm>
          <a:prstGeom prst="rect">
            <a:avLst/>
          </a:prstGeom>
          <a:ln w="0">
            <a:noFill/>
          </a:ln>
        </p:spPr>
      </p:pic>
      <p:pic>
        <p:nvPicPr>
          <p:cNvPr id="740" name="Рисунок 3" descr="img 5555.png"/>
          <p:cNvPicPr/>
          <p:nvPr/>
        </p:nvPicPr>
        <p:blipFill>
          <a:blip r:embed="rId2"/>
          <a:stretch/>
        </p:blipFill>
        <p:spPr>
          <a:xfrm>
            <a:off x="285840" y="1500120"/>
            <a:ext cx="4286160" cy="5110200"/>
          </a:xfrm>
          <a:prstGeom prst="rect">
            <a:avLst/>
          </a:prstGeom>
          <a:ln w="0">
            <a:noFill/>
          </a:ln>
        </p:spPr>
      </p:pic>
      <p:sp>
        <p:nvSpPr>
          <p:cNvPr id="741" name="Прямоугольник 4"/>
          <p:cNvSpPr/>
          <p:nvPr/>
        </p:nvSpPr>
        <p:spPr>
          <a:xfrm>
            <a:off x="4643280" y="1285920"/>
            <a:ext cx="407196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целью полёта было исследование влияния на организм факторов космического полё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ёт продолжался более 25 часов. За это время корабль совершил 17 полных витков вокруг Земли. Белка и Стрелка стали первыми животными, которые совершили орбитальный космический полё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успешно вернулис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Земл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Заголовок 1" descr=""/>
          <p:cNvPicPr/>
          <p:nvPr/>
        </p:nvPicPr>
        <p:blipFill>
          <a:blip r:embed="rId1"/>
          <a:stretch/>
        </p:blipFill>
        <p:spPr>
          <a:xfrm>
            <a:off x="517680" y="73080"/>
            <a:ext cx="8351640" cy="1633320"/>
          </a:xfrm>
          <a:prstGeom prst="rect">
            <a:avLst/>
          </a:prstGeom>
          <a:ln w="0">
            <a:noFill/>
          </a:ln>
        </p:spPr>
      </p:pic>
      <p:pic>
        <p:nvPicPr>
          <p:cNvPr id="743" name="Рисунок 4" descr="SoshlemaYurijaGagarinafotoshopomstyorlinadpisSSSRa.jpg"/>
          <p:cNvPicPr/>
          <p:nvPr/>
        </p:nvPicPr>
        <p:blipFill>
          <a:blip r:embed="rId2"/>
          <a:stretch/>
        </p:blipFill>
        <p:spPr>
          <a:xfrm>
            <a:off x="900000" y="1692360"/>
            <a:ext cx="4238640" cy="4941720"/>
          </a:xfrm>
          <a:prstGeom prst="rect">
            <a:avLst/>
          </a:prstGeom>
          <a:ln w="0">
            <a:noFill/>
          </a:ln>
        </p:spPr>
      </p:pic>
      <p:sp>
        <p:nvSpPr>
          <p:cNvPr id="744" name="Прямоугольник 1"/>
          <p:cNvSpPr/>
          <p:nvPr/>
        </p:nvSpPr>
        <p:spPr>
          <a:xfrm>
            <a:off x="5003640" y="1531800"/>
            <a:ext cx="4572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апреля 1961 года, на корабле «Восток» отправился в открытый космос Юрий Гагарин, став космическим первопроходцем для всего человечества. 108 минут проведенные им в космосе открыли дорогу другим исследователям космического простран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" descr=""/>
          <p:cNvPicPr/>
          <p:nvPr/>
        </p:nvPicPr>
        <p:blipFill>
          <a:blip r:embed="rId1"/>
          <a:stretch/>
        </p:blipFill>
        <p:spPr>
          <a:xfrm>
            <a:off x="2550960" y="1704960"/>
            <a:ext cx="4042080" cy="4078440"/>
          </a:xfrm>
          <a:prstGeom prst="rect">
            <a:avLst/>
          </a:prstGeom>
          <a:ln w="0">
            <a:noFill/>
          </a:ln>
        </p:spPr>
      </p:pic>
      <p:pic>
        <p:nvPicPr>
          <p:cNvPr id="746" name="Заголовок 2" descr=""/>
          <p:cNvPicPr/>
          <p:nvPr/>
        </p:nvPicPr>
        <p:blipFill>
          <a:blip r:embed="rId2"/>
          <a:stretch/>
        </p:blipFill>
        <p:spPr>
          <a:xfrm>
            <a:off x="237960" y="146160"/>
            <a:ext cx="8448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Заголовок 1" descr=""/>
          <p:cNvPicPr/>
          <p:nvPr/>
        </p:nvPicPr>
        <p:blipFill>
          <a:blip r:embed="rId1"/>
          <a:stretch/>
        </p:blipFill>
        <p:spPr>
          <a:xfrm>
            <a:off x="139680" y="353880"/>
            <a:ext cx="8650440" cy="1030320"/>
          </a:xfrm>
          <a:prstGeom prst="rect">
            <a:avLst/>
          </a:prstGeom>
          <a:ln w="0">
            <a:noFill/>
          </a:ln>
        </p:spPr>
      </p:pic>
      <p:pic>
        <p:nvPicPr>
          <p:cNvPr id="748" name="Рисунок 4" descr="1433264449_soln.jpeg"/>
          <p:cNvPicPr/>
          <p:nvPr/>
        </p:nvPicPr>
        <p:blipFill>
          <a:blip r:embed="rId2"/>
          <a:stretch/>
        </p:blipFill>
        <p:spPr>
          <a:xfrm>
            <a:off x="357120" y="1214280"/>
            <a:ext cx="842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0" name="Прямоугольник 1"/>
          <p:cNvSpPr/>
          <p:nvPr/>
        </p:nvSpPr>
        <p:spPr>
          <a:xfrm>
            <a:off x="395280" y="109548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Lucida Sans Unicode"/>
              </a:rPr>
              <a:t>Юрий Гагарин</a:t>
            </a:r>
            <a:br>
              <a:rPr sz="3200"/>
            </a:br>
            <a:r>
              <a:rPr b="1" lang="ru-RU" sz="3200" spc="-1" strike="noStrike">
                <a:solidFill>
                  <a:srgbClr val="006600"/>
                </a:solidFill>
                <a:latin typeface="Lucida Sans Unicode"/>
              </a:rPr>
              <a:t>Автор: Владимир Степа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Прямоугольник 2"/>
          <p:cNvSpPr/>
          <p:nvPr/>
        </p:nvSpPr>
        <p:spPr>
          <a:xfrm>
            <a:off x="2124000" y="242100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космической ракет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 названием "Восток"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н первым на планет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дняться к звёздам смог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ёт об этом песни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сенняя капель: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веки будут вместе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агарин и апрел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08:27:18Z</dcterms:created>
  <dc:creator>Lenovo</dc:creator>
  <dc:description/>
  <dc:language>en-US</dc:language>
  <cp:lastModifiedBy>Алексей Эдуардович</cp:lastModifiedBy>
  <dcterms:modified xsi:type="dcterms:W3CDTF">2021-04-10T17:43:37Z</dcterms:modified>
  <cp:revision>16</cp:revision>
  <dc:subject/>
  <dc:title>Слайд 1</dc:title>
</cp:coreProperties>
</file>