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14655-87DF-4EAF-ADC4-D31F237D6B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DA398-DA5F-4D3A-AE45-B75B0085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3310A6-CE60-4D2F-929C-BC3B3681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DA6D1D-F3DC-4060-951D-544C4374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827A13-4EE7-42D9-8764-E72ED298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81AD47-4C8D-4D90-B696-CF9346F3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323645-5DAC-4419-B217-C6E39EEE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BD08C0-849D-4800-B42E-82B9F27C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6823F6-80AA-4487-A449-5936EE50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E25456-FCBD-4E79-AD0A-C7725813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8BAA79-B987-4766-9B92-B2445E36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2AB659-5BD2-47FC-916E-C130E64B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A5B14-2C24-4863-A5F7-0519A96A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ED9860-A667-4D06-B4D1-1322058A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B9F936-18F3-4932-97AC-DF12A172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11F163-210B-41D8-B16B-0D8DCF99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2618B9-C049-4048-AA2C-AC234A51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BE740D-E8A3-481C-8D66-26720255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40B7A0-B843-42DC-AFA6-CB3071F0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09BF3C-16F2-47D4-B896-A0D448FB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68F610-23B2-46DD-AD79-3097AD5E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0898CA-BCCA-40BB-AC6E-A125E4EF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844D5C-8582-4258-B0FB-5299C317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0F921-D86F-4D0A-81A1-DEA6823EF9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AC8375-20B1-4B44-8902-E6297C02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989F11-4A4E-4578-BBF9-C1DF2020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70D3CC-CD57-4E13-BCE5-559A0265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E96D30-D0B2-4794-8761-9C82DDBF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6EB163-A962-4C24-8487-904E8B88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0D08FD-5B01-4790-B186-D5F7B631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EFE5CE-1289-46C4-923E-351DCD65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10F5B8-78B0-4C46-A169-0928C771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89DD28-A4F2-4C43-8262-608B47D7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50CD97-1080-4BB1-BBDB-09738A5E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5C799-71E6-41A7-BA34-0AF1110B5E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A71963-8E6C-4F67-83AC-118EDC33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05A179-4E31-4F57-93F2-67E5B397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BA33D8-9848-4F68-83EE-357B10AF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C2F213-3D54-4640-AC87-1171D4FB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5444DB-DB70-4C04-A2D9-91A0662C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B1FC8C-263C-4A54-857B-3B3C778F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8302BE-BE10-42E7-B119-7F6E3328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EB4E06-9559-4A99-AD91-E2D75006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EBFD9D-195B-4F70-9BE9-C307021C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796B82-8949-427E-8027-7A9FBEEE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B3ECE-3BB0-4F20-BEC8-ED00460C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442170-1365-49A3-9AA1-1AE92BE4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DBB6E7-90B6-4EEB-8EB8-81A5B507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751B98-1358-48D2-8615-BB0E909B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94A5C4-D350-4DD0-9A1A-3140B68D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5EDDAE-6AAA-47E2-AAC3-B6CE950E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6DCDF7-E4B0-4C8A-B209-1C5B785E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BDD744-68A6-4167-815E-232988DA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EF694E-4E59-4332-BF9A-C8DCC36C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325900-54F8-4B75-B79D-B0AF0837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E72415-FFE0-4635-B606-15CCD946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2F013-998D-4B91-961D-1C7ADE3B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AD58F1-6208-4528-A3E1-22181E31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57B5DC-33DF-4265-B92E-837C0B9F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E4E86E-7805-46FD-AB9E-3D40F47F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33BA78-B318-4682-A7EC-EB2A386E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91C131-B832-4DBE-B34D-794C4598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114276-5074-4429-ADF2-58C6FD47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A4C0A6-FCEF-42CE-8862-CAF386C6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C9FBB9-CC45-46AB-914E-D2942964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DDA480-3C06-42B2-A74D-580F3F9E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AB544B-D04C-4CBE-8B62-5F110FCF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7667B-284E-431B-AC2D-A1A8ACD9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CECF75-5A38-418E-B5E3-3E4E6610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E21EE1-703D-497C-AD9B-D5673060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EA706D-93DE-4F2F-B3B9-3807E3E2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743CDD-416D-4EEF-8F1C-A9141DF7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1FACDA-6645-45C2-AAA3-A9C404E5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182C71-FC46-45B0-BEDA-71483843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204F45-9C4F-4880-A5F4-9B6A4AAE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B0A44B-BB8F-466F-9E80-7041BB7E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F0330D-F9AF-44E1-8F12-812A854E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F6A89B-D873-4302-A26D-ADF89F4A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84A3B-CD14-4F32-9C8F-F28B06B4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E12C2F-FAD0-48BA-B056-E274AE52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6B2A26-6A3A-446D-B8B9-9E93F249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DE3EB9-9A0C-402F-A2A3-7CE19BE6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B15CFA-381D-4567-AE69-3A5F0F7B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C1F35C-5B0A-4423-848F-E5C98F78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894248-3FD9-4DBA-B949-25139025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731F67-B333-405B-ACB1-F83C080B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309890-7C76-4A43-AA3C-AD5D1A61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6B24FF-5C93-42F0-973A-B7738432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E69A49-0BE7-46BD-87D0-8144825A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CA648-A6D0-40FE-B226-A2EA822F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9E09DD-6BDD-4503-9E85-70E4780F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605037-F791-482F-916B-EFE369FC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9D5A88-A624-4DCE-95F2-6252A3CD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F972B1-7825-40A8-9CD0-D45BECAC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8F0FB1-3A97-46F9-905B-6470133D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40EB12-C959-4EAD-B945-85D04600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D48C51-FB06-4433-A152-4F6D42FC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0BA94B-65E2-46F3-AEB9-A1795DC0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503E87-A0A8-4D39-B708-4477C22B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D504EC-EE2A-46F1-A7F6-38934393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C3992-F89F-4745-B43E-5639DE7E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F99A34F-20EE-4125-A605-414EB3D8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73A4D7-82AE-4158-9768-BAA42B54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7BE58E-E0D9-4BC0-B0A1-19F1C48F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BADA7-2DCB-4732-81B2-F337DFD5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578A2-B47F-49C0-B5AB-F20E1B19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8F3D1-21AF-4FB7-9118-C2DB81F8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4A2AE-0FD6-4D18-B1EF-80F61558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B2CB6-43D7-4E16-AF1F-0DF49C43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E4E0A-D233-472B-9CBF-D0025C9220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1434-85AD-4A3C-8235-1376B6A335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1C9F-A964-4410-84EB-89121AC6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309E-A771-499F-A445-507D7FC1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34C0-06EB-489D-86CE-E7646241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61A1-7B9C-435C-8D35-FB2AE9E8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5DB5-90AC-47B2-994D-8E64F5B4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D3AC-1744-46F5-8999-09FDE2F3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E814-9E32-4265-AF3D-6B00A9E4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AC44-E018-4C95-85C3-47C68E40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C0ED-E2BD-433C-902D-3507EFC0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E328-A766-47D1-BCC5-352AE07F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D5E9-CE39-47F8-B8B7-F65AD2B3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6C5F-BEBB-48EF-8866-276FB09E61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DD0C5-789E-400A-8837-B6AB0C1582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4E337E-CC44-46DA-A227-A3B0F20F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0B521-8729-4108-9D61-D8B8DA5A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1527A-2495-4099-A702-5FDA7EF7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0EE50-2753-4A74-9334-3EAF34FD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58661-5F3C-45CE-985B-66AAF9FC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9F2C4-412B-4A09-A0B0-E279EC9D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16314-0B03-48DD-930D-8C0C6F17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15B1E-C911-4DB2-84E9-92462E7C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F5EED-6C11-41DF-95E5-24401EE9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B765B-6990-404B-B80B-DF55EA1C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47DD2-CAE9-4BAE-BC06-8CE9878E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6654B-353E-41D3-8A41-F5E509507D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9ABA70-9A36-4C86-932B-7757984C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462AB-ADF4-4BE3-A735-266ADFA9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9433F0-2FD8-47DB-BEC2-6CBADF20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4D6CEC-60EF-4656-9E42-33D952E3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2BC188-E1E7-4F4E-871A-4848360D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A87A18-0A27-4BB2-B1B2-5A4BEFF6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602212-6563-40AD-A8A6-7CB1245C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FBD356-80AD-4BBE-8466-B80C9F72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525A5B-3433-4EC2-A2E2-20C41934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3FEA3C-591C-446A-8142-B72B8DA0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AFCDBE-8833-4A38-966E-C6C702C1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D56ECB-FF89-480D-B7F8-75108B0A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BF8FE-5DE7-413A-886B-E2CCD82F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B786C0-18AA-43DA-960C-9CE4B89A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CEF3F-12AB-4083-B35B-A129B8B9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71775-0BCA-4666-B0DB-7908DE01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539B9-E3F0-4128-B8F5-6961955D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E7384F-F6A7-442D-AFCE-BB424538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A59823-F8CF-4627-80B2-4E6EC771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1E57C0-99C8-4250-BFD9-22D69825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2A02CF-54E9-46D4-A6E8-87173648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5DF5E6-F660-4720-A18C-A85F1A69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8864F-0927-4122-9FBD-679FCD1F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C8A20-6095-4418-B052-2C0B96D5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17BD3-8420-400F-BB60-BDA866C4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2D5E06-0E47-468C-B26F-17D0589C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48AEA6-EE90-44CA-B289-3BCD0BC1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972DEB-8336-4980-A743-C439990C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43D8DE-EC3F-4816-9857-A876601F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456DDA-4F00-477A-BEAB-EFFBBDD6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2EA3D7-82BA-4332-943A-91CA25C5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0E111D-70A5-465C-9096-EBCE082E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5E981B-A60F-4AF6-A0A7-81B53F51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468863-E1C7-49E9-825A-311D218B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0856B-C1A4-4EC6-834A-8970E758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16569-F078-45CC-AF01-2FFF68B2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D870C7-7481-42AB-ABC2-76C1A2B5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517D80-5EDC-423F-B64F-B37A5368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93B437-9C3B-4743-92AC-734A0DC5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01AC9-323A-4AF0-843E-66F87833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825E0D-B633-4C55-80C2-6EA807B6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FBD50E-8DD9-4E69-AEB4-A9FE0DF2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9C4ADA-0655-4333-A676-683DAE88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C69B2E-1F96-43B7-91D8-909B6AEA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2F1527-E5CA-40F2-92DE-9120A505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ACD68-6161-46BF-9E82-B1B82417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6BB4A-E3BB-492F-B135-A40B4262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DD5E51-1581-4C6B-8617-75478F4B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36B34C-5474-4E14-A0DD-08E40D0B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201F4C-4E49-4A37-907A-D5C829D8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146159-F5A9-461C-B7B4-300CB73B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135E80-593B-44D4-9547-1B3B47DE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A500ED-DB72-43E8-B73C-C7B954C5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7FC782-2942-4548-BC05-9AE95656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A95CB5-AA59-4157-A6D4-A4236A34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8B23A5-04B1-4206-BEDB-A8707091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55440" y="-30240"/>
            <a:ext cx="9253440" cy="6966000"/>
            <a:chOff x="-55440" y="-30240"/>
            <a:chExt cx="9253440" cy="696600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-55440" y="-30240"/>
              <a:ext cx="9253440" cy="69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162000" y="162000"/>
              <a:ext cx="8818560" cy="65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95DE4-6722-4B14-980A-1161EE3B91D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257EBF-DA46-439B-BB5F-C3042932AC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5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2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2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73DD41-CEC6-42C1-BA50-089BBD07845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6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8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7EA9F1-8A3D-4FCE-99C3-87C1C545BD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C7EAB8-AD6E-4F2D-8FE2-D3F57C0499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9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9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AE785C-2928-4EDD-A9D3-C0EE12F7029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4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14094D-37C3-4896-A907-0B64E62791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9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9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4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4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6AB973-F095-4665-9AFD-0FDEECFB51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"/>
          <p:cNvGrpSpPr/>
          <p:nvPr/>
        </p:nvGrpSpPr>
        <p:grpSpPr>
          <a:xfrm>
            <a:off x="-55440" y="-30240"/>
            <a:ext cx="9253440" cy="6966000"/>
            <a:chOff x="-55440" y="-30240"/>
            <a:chExt cx="9253440" cy="6966000"/>
          </a:xfrm>
        </p:grpSpPr>
        <p:pic>
          <p:nvPicPr>
            <p:cNvPr id="45" name="Picture 2" descr=""/>
            <p:cNvPicPr/>
            <p:nvPr/>
          </p:nvPicPr>
          <p:blipFill>
            <a:blip r:embed="rId3"/>
            <a:stretch/>
          </p:blipFill>
          <p:spPr>
            <a:xfrm>
              <a:off x="-55440" y="-30240"/>
              <a:ext cx="9253440" cy="69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3"/>
            <p:cNvSpPr/>
            <p:nvPr/>
          </p:nvSpPr>
          <p:spPr>
            <a:xfrm>
              <a:off x="162000" y="162000"/>
              <a:ext cx="8818560" cy="65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37F7B-B75A-4920-BD65-45643BF9733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1"/>
          <p:cNvGrpSpPr/>
          <p:nvPr/>
        </p:nvGrpSpPr>
        <p:grpSpPr>
          <a:xfrm>
            <a:off x="-55440" y="-30240"/>
            <a:ext cx="9253440" cy="6966000"/>
            <a:chOff x="-55440" y="-30240"/>
            <a:chExt cx="9253440" cy="6966000"/>
          </a:xfrm>
        </p:grpSpPr>
        <p:pic>
          <p:nvPicPr>
            <p:cNvPr id="89" name="Picture 2" descr=""/>
            <p:cNvPicPr/>
            <p:nvPr/>
          </p:nvPicPr>
          <p:blipFill>
            <a:blip r:embed="rId3"/>
            <a:stretch/>
          </p:blipFill>
          <p:spPr>
            <a:xfrm>
              <a:off x="-55440" y="-30240"/>
              <a:ext cx="9253440" cy="69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3"/>
            <p:cNvSpPr/>
            <p:nvPr/>
          </p:nvSpPr>
          <p:spPr>
            <a:xfrm>
              <a:off x="162000" y="162000"/>
              <a:ext cx="8818560" cy="65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5DD96-7BFC-4B11-BF67-DCC70838B07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"/>
          <p:cNvGrpSpPr/>
          <p:nvPr/>
        </p:nvGrpSpPr>
        <p:grpSpPr>
          <a:xfrm>
            <a:off x="-55440" y="-30240"/>
            <a:ext cx="9253440" cy="6966000"/>
            <a:chOff x="-55440" y="-30240"/>
            <a:chExt cx="9253440" cy="6966000"/>
          </a:xfrm>
        </p:grpSpPr>
        <p:pic>
          <p:nvPicPr>
            <p:cNvPr id="133" name="Picture 2" descr=""/>
            <p:cNvPicPr/>
            <p:nvPr/>
          </p:nvPicPr>
          <p:blipFill>
            <a:blip r:embed="rId3"/>
            <a:stretch/>
          </p:blipFill>
          <p:spPr>
            <a:xfrm>
              <a:off x="-55440" y="-30240"/>
              <a:ext cx="9253440" cy="69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3"/>
            <p:cNvSpPr/>
            <p:nvPr/>
          </p:nvSpPr>
          <p:spPr>
            <a:xfrm>
              <a:off x="162000" y="162000"/>
              <a:ext cx="8818560" cy="65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F7652-0B00-4CDE-828C-76745C51912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асечник Е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6AAD01-F1C5-41C1-8639-E60745EC1C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225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228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0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15B63F-B21A-427E-958D-C73BF98D524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820A79-A300-4798-B615-D38109768C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8F6656-B30D-478A-BDF2-F19D2999F7A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7A4E45-655E-4FE4-AFF4-43279950893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1"/>
          <p:cNvSpPr/>
          <p:nvPr/>
        </p:nvSpPr>
        <p:spPr>
          <a:xfrm>
            <a:off x="-181080" y="0"/>
            <a:ext cx="532944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376092"/>
                </a:solidFill>
                <a:latin typeface="Monotype Corsiva"/>
              </a:rPr>
              <a:t>Космос. День космонавтики 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376092"/>
                </a:solidFill>
                <a:latin typeface="Monotype Corsiva"/>
              </a:rPr>
              <a:t>12 апрел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2"/>
          <p:cNvSpPr/>
          <p:nvPr/>
        </p:nvSpPr>
        <p:spPr>
          <a:xfrm>
            <a:off x="1428840" y="4643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TextBox 3"/>
          <p:cNvSpPr/>
          <p:nvPr/>
        </p:nvSpPr>
        <p:spPr>
          <a:xfrm>
            <a:off x="5940360" y="49320"/>
            <a:ext cx="30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f1e25"/>
                </a:solidFill>
                <a:latin typeface="Arial"/>
                <a:ea typeface="Arial"/>
              </a:rPr>
              <a:t>Презентация для логопедической груп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cc0000"/>
                </a:solidFill>
                <a:uFillTx/>
                <a:latin typeface="Lucida Sans Unicode"/>
              </a:rPr>
              <a:t>Задачи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риобщение детей к мероприятиям, имеющим государственное значени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ривитие детям чувство благодарности к человеку за его труд через знакомство с первыми людьми, покорителями космос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ознакомить с названиями планет солнечной систем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тие связной реч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ывать доброту, чувство любви к людям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а также уважение к старшим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38" name="Заголовок 1" descr=""/>
          <p:cNvPicPr/>
          <p:nvPr/>
        </p:nvPicPr>
        <p:blipFill>
          <a:blip r:embed="rId1"/>
          <a:stretch/>
        </p:blipFill>
        <p:spPr>
          <a:xfrm>
            <a:off x="208080" y="66600"/>
            <a:ext cx="84852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381880" cy="1513080"/>
          </a:xfrm>
          <a:prstGeom prst="rect">
            <a:avLst/>
          </a:prstGeom>
          <a:ln w="0">
            <a:noFill/>
          </a:ln>
        </p:spPr>
      </p:pic>
      <p:pic>
        <p:nvPicPr>
          <p:cNvPr id="740" name="Рисунок 3" descr="img 5555.png"/>
          <p:cNvPicPr/>
          <p:nvPr/>
        </p:nvPicPr>
        <p:blipFill>
          <a:blip r:embed="rId2"/>
          <a:stretch/>
        </p:blipFill>
        <p:spPr>
          <a:xfrm>
            <a:off x="285840" y="1500120"/>
            <a:ext cx="4286160" cy="5110200"/>
          </a:xfrm>
          <a:prstGeom prst="rect">
            <a:avLst/>
          </a:prstGeom>
          <a:ln w="0">
            <a:noFill/>
          </a:ln>
        </p:spPr>
      </p:pic>
      <p:sp>
        <p:nvSpPr>
          <p:cNvPr id="741" name="Прямоугольник 4"/>
          <p:cNvSpPr/>
          <p:nvPr/>
        </p:nvSpPr>
        <p:spPr>
          <a:xfrm>
            <a:off x="4643280" y="1285920"/>
            <a:ext cx="407196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ой целью полёта было исследование влияния на организм факторов космического полё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ёт продолжался более 25 часов. За это время корабль совершил 17 полных витков вокруг Земли. Белка и Стрелка стали первыми животными, которые совершили орбитальный космический полё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успешно вернулис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Земл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Заголовок 1" descr=""/>
          <p:cNvPicPr/>
          <p:nvPr/>
        </p:nvPicPr>
        <p:blipFill>
          <a:blip r:embed="rId1"/>
          <a:stretch/>
        </p:blipFill>
        <p:spPr>
          <a:xfrm>
            <a:off x="517680" y="73080"/>
            <a:ext cx="8351640" cy="1633320"/>
          </a:xfrm>
          <a:prstGeom prst="rect">
            <a:avLst/>
          </a:prstGeom>
          <a:ln w="0">
            <a:noFill/>
          </a:ln>
        </p:spPr>
      </p:pic>
      <p:pic>
        <p:nvPicPr>
          <p:cNvPr id="743" name="Рисунок 4" descr="SoshlemaYurijaGagarinafotoshopomstyorlinadpisSSSRa.jpg"/>
          <p:cNvPicPr/>
          <p:nvPr/>
        </p:nvPicPr>
        <p:blipFill>
          <a:blip r:embed="rId2"/>
          <a:stretch/>
        </p:blipFill>
        <p:spPr>
          <a:xfrm>
            <a:off x="900000" y="1692360"/>
            <a:ext cx="4238640" cy="4941720"/>
          </a:xfrm>
          <a:prstGeom prst="rect">
            <a:avLst/>
          </a:prstGeom>
          <a:ln w="0">
            <a:noFill/>
          </a:ln>
        </p:spPr>
      </p:pic>
      <p:sp>
        <p:nvSpPr>
          <p:cNvPr id="744" name="Прямоугольник 1"/>
          <p:cNvSpPr/>
          <p:nvPr/>
        </p:nvSpPr>
        <p:spPr>
          <a:xfrm>
            <a:off x="5003640" y="153180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апреля 1961 года, на корабле «Восток» отправился в открытый космос Юрий Гагарин, став космическим первопроходцем для всего человечества. 108 минут проведенные им в космосе открыли дорогу другим исследователям космического простран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2" descr=""/>
          <p:cNvPicPr/>
          <p:nvPr/>
        </p:nvPicPr>
        <p:blipFill>
          <a:blip r:embed="rId1"/>
          <a:stretch/>
        </p:blipFill>
        <p:spPr>
          <a:xfrm>
            <a:off x="2550960" y="1704960"/>
            <a:ext cx="4042080" cy="4078440"/>
          </a:xfrm>
          <a:prstGeom prst="rect">
            <a:avLst/>
          </a:prstGeom>
          <a:ln w="0">
            <a:noFill/>
          </a:ln>
        </p:spPr>
      </p:pic>
      <p:pic>
        <p:nvPicPr>
          <p:cNvPr id="746" name="Заголовок 2" descr=""/>
          <p:cNvPicPr/>
          <p:nvPr/>
        </p:nvPicPr>
        <p:blipFill>
          <a:blip r:embed="rId2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Заголовок 1" descr=""/>
          <p:cNvPicPr/>
          <p:nvPr/>
        </p:nvPicPr>
        <p:blipFill>
          <a:blip r:embed="rId1"/>
          <a:stretch/>
        </p:blipFill>
        <p:spPr>
          <a:xfrm>
            <a:off x="139680" y="353880"/>
            <a:ext cx="8650440" cy="1030320"/>
          </a:xfrm>
          <a:prstGeom prst="rect">
            <a:avLst/>
          </a:prstGeom>
          <a:ln w="0">
            <a:noFill/>
          </a:ln>
        </p:spPr>
      </p:pic>
      <p:pic>
        <p:nvPicPr>
          <p:cNvPr id="748" name="Рисунок 4" descr="1433264449_soln.jpeg"/>
          <p:cNvPicPr/>
          <p:nvPr/>
        </p:nvPicPr>
        <p:blipFill>
          <a:blip r:embed="rId2"/>
          <a:stretch/>
        </p:blipFill>
        <p:spPr>
          <a:xfrm>
            <a:off x="357120" y="1214280"/>
            <a:ext cx="84297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0" name="Прямоугольник 1"/>
          <p:cNvSpPr/>
          <p:nvPr/>
        </p:nvSpPr>
        <p:spPr>
          <a:xfrm>
            <a:off x="395280" y="109548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Lucida Sans Unicode"/>
              </a:rPr>
              <a:t>Юрий Гагарин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Lucida Sans Unicode"/>
              </a:rPr>
              <a:t>Автор: Владимир Степ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Прямоугольник 2"/>
          <p:cNvSpPr/>
          <p:nvPr/>
        </p:nvSpPr>
        <p:spPr>
          <a:xfrm>
            <a:off x="2124000" y="2421000"/>
            <a:ext cx="45720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космической ракете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 названием "Восток"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н первым на планете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дняться к звёздам смог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ёт об этом песни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сенняя капель: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веки будут вместе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агарин и апрель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8T08:27:18Z</dcterms:created>
  <dc:creator>Lenovo</dc:creator>
  <dc:description/>
  <dc:language>en-US</dc:language>
  <cp:lastModifiedBy>Алексей Эдуардович</cp:lastModifiedBy>
  <dcterms:modified xsi:type="dcterms:W3CDTF">2021-04-10T17:43:37Z</dcterms:modified>
  <cp:revision>16</cp:revision>
  <dc:subject/>
  <dc:title>Слайд 1</dc:title>
</cp:coreProperties>
</file>