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0.gif" ContentType="image/gi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11.gif" ContentType="image/gif"/>
  <Override PartName="/ppt/media/image14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7D4D-BBEE-4D03-AA6E-18D29C9417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6D66-9BEB-4138-91FD-01F2C05176A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6673-ABA5-4B93-8C5F-A0F8DC64A75D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DF60-9850-44B6-BF63-E026B092B9E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6FA6-622E-4432-8358-F57ADDEE98A4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A712-FA71-4008-8815-5D54F6E262B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DE6A-0473-422C-9280-07EFE860B46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C4A8-2E81-4DCA-A589-3F4196BCFCCA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A571-A0FF-435D-8B32-76F28296D90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1118-0832-4C06-9E42-38BE1A495AD7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492F-030E-40E2-A1EB-1A9AA07A81C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390D-1106-4031-B642-FE841B19DF1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33F9-E883-4359-AE99-08EAB41C529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9906-A5FD-40CE-B2AF-FDA454D2888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5134-6852-4402-8786-35AB84D1B46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408D-A619-48F1-BAAE-49A38F5C7DB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FBED-74CD-46A1-B6BE-176B492C4C0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A9F-D833-4301-B798-1245999A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4C7-23C5-4F20-8FED-E254E87D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5B1E8-CF37-41E5-AD84-0C8B41CE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FF09D-E425-433A-B857-3A94A61B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D68C8-F669-4FF5-951B-F81E0A06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E2EDB-2E4D-4BB1-8D14-032D41BB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5F771-36FB-4E37-B6F1-9427F80C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A0E94-1B01-4486-8D7C-1B893300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57ADC-7655-4B64-9AE3-CE49596B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AE377-DADE-4281-8F50-5E0E6C2E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C003D-2B13-438F-AA29-76F17F8B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B5EB0-E07F-44E1-974D-8205FECC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2F4-DF8F-4EC2-9607-9F79F71A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12DC7-8127-481E-B7F1-CD29A569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0FDB2-4AEE-439C-BB89-2593FD67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A8662-49CB-4E18-90C0-88F335A7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D3FC6-05D0-47F1-828E-2FCF83F4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B37DE-90DF-4B35-B35B-F3440800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00830-01F9-418C-A41C-91E5D6A6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5AF1F-CFA1-4B55-B9EA-F4860327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F5319-755E-44AF-82C9-327032CA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2792A-C670-463B-A59D-5931F238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AA4D8-987F-449D-B67A-E03AA126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2D6-316E-45BB-97BE-7EB11F7C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0B03F-B888-460F-8DF8-1179EF0A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FFCC-090A-44A4-94E1-4D2E3801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73A6-D6E0-44B5-B7CD-ACA185F5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3C29-9502-45E2-B84A-12F63E42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902C-F3E8-4E78-ADE3-6D0CCE42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1690-B977-4C93-B3DA-CE2F8BD3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D3B6-0A01-47C5-A622-04A46093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3F4B-84DA-431D-8561-9024648A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598-EFD4-4078-B9B8-06B097F7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F676-375E-4718-8F23-7AF2C277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1527-18A8-483E-9430-5EBDBB57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FC61-B409-4C66-9997-2ECCC8E3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7FB7-17C6-44FF-AA3A-6023FC93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6912-3D29-497A-AE54-B35ACC0C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4FA0-4F90-4511-83E4-4A9F09DB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C85A3-2543-49B1-9A10-6C08F282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2DB1A-E273-49D1-ACB3-92219529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B3A1-FFD9-487C-9A59-AA274F8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6909E-7C02-44B0-AAE4-B034E11F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A30-18D7-479D-B96C-AFB60EB7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4AE4-D98F-43B7-8353-22A222BF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229B8-D3C6-4D96-9D7B-5F75EE0E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E5E3D-1596-4AE8-BF6D-9193DA9B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1BE81-A8A7-4E65-AE23-3E82D19E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ECE28-449A-4C55-A1B1-FC1443A3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9801F-3CE4-4496-816B-D2034ED0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20F18-B111-45DF-94EA-09721D59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A8A91-0969-4803-8301-9D30A7F5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3B59C-CE39-4115-8883-8A1B684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18105-E902-46CB-9AEB-BD0B67E2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DF4-6947-4308-A237-E1896092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224CF-8168-4D7E-A73B-8FE77504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EF58E-923B-4EEB-A7B3-9FAEC425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5B84-FF52-46C2-AD37-F11A6B39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71014-F65F-40B0-A5E4-F1A93BAA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359BE-639E-4535-A3D2-F6764B4F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E2B0B-EE57-434B-BE53-3ECA0EE0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FF554-7BD2-4FE5-9F7C-A61C12F0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7A74E-8D0C-4459-B528-73C09D52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93AFE-9234-4AE7-BF49-2B1AE105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B6F3D-1C94-4AEA-8647-02AC5EBD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446-93F2-4FA4-9B2D-2AB568E1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96110-ECF2-4CEB-B36F-0C728469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E14A4-DE1D-41C5-881F-38574DF4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01808-4CD0-42A6-82BC-CBB004E2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0DAD9-C4CB-43A1-AF5A-68CEB1FA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DC43B-5E96-4BD7-A584-7F567ABE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AF8D3-2E4D-4C91-90D1-073C3094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A0559-4614-4E28-A15B-C5DB9D07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FB907-EC18-46AC-8924-23CDF671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CEE90-F4C3-4BFA-90DC-C88CB622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69644-1513-4792-AD07-A12E72B8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8B9-716E-4355-B391-0B8C5A45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B9DEC-F2AA-4796-80DA-A68B5CAD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2D695-2B01-4DEA-B4D5-C03B2A51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38C4A-061A-4901-8970-A4A9CE52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1DB21-1A95-4681-A4D6-F75C8C72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1FBBC-A6A4-4BF5-B889-701B4343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2197E-2C43-4CAE-A5DF-CD0E9048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F83D4-E693-4A09-BE2F-879277CF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F762F-892F-444D-BBFA-4AC000EE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787B5-771C-45BF-8C9E-0C9C9030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294F5-C947-4E2A-B549-CE01BC4C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893-F812-42B8-BF32-78B341FA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36D75-B697-4E73-9B19-89E9A728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7506A-119D-4F51-B5BA-F2150637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45237-5960-42A9-82BE-B8D3C964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8E972-BD6E-4884-AEB9-BE0BEBC3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2754B-A497-4CB3-B404-CF616A5B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CD2DC-15F9-4379-BF32-5C4B9364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784F4-92CB-48CF-9C25-1C9A33AF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311A9-F10F-4593-B083-ACFEFBAA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ED6B0-F655-4017-A8D0-087FD347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8CF0B-47D1-40C4-B0AE-3FC97EC8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72E-5830-469F-A7F3-0969C66B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2881D-9891-4167-82A2-7AA01F9D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54D63-045F-4FBD-A7DD-8D862952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BC43F-5164-42AA-AC81-207968F3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C01ED-D5C3-4E4B-AF66-ACA1162E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584AF-FE9C-49E5-B7EF-3218B955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CD623-E1C4-4E7A-889E-CC13007A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F819A-9CAA-45FA-B638-A00ED03D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588DF-775B-4E8E-A064-9ADEE4FC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C0F8E-F95B-4C4B-AD30-6CB76C96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1D479-4D93-463E-9755-59B7DDEF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AD5-697A-4928-9705-CBE6BF40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4D72A-18AC-4EF7-8A54-5EC3211C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A90F1-BA7C-4DC7-A87F-8E4C677E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EE3FD-64FF-49B8-A7BA-71E95174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B9DCA-F676-4FBD-8BCC-DB1747D3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983EB-338F-4CFE-91A7-B364042A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0D2D7-B824-4A85-B2A5-233487F5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19873-D398-41B4-8082-D61BBDEA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2C851-07DA-4F3C-B3F4-25954BAD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5D07D-28E5-499D-B926-13B4C023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D0A9D-9C6C-4A1E-A9D7-D15880C1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57A6-B922-47F7-86A0-C923047438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6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6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6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7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71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7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7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8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4E65-26C8-4457-9360-2AFCA5F73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9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4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5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1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62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5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66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4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7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C7D3-E3F5-4A8D-8F03-A6C03EAC870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0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1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142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3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4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5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6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14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5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6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8B8A-39E0-4360-BA5D-40BF44A37D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9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EDD9-EAF0-4706-81BB-3213B1AD86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139A-826A-4537-9765-00768BE80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4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0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1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2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1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2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2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2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3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7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7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7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B5EF-A067-4C30-8417-2EA697BA4C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424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425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2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38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439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0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1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2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443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5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447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50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451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54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455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58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CAA5-4F70-44B4-8ACB-F5A820C6B43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1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51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52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3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8AC6-F170-4886-A955-F72740041C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0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CDA7-2D2D-4E47-8F77-9C1D87BEAE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8610480" cy="99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Тема урока:</a:t>
            </a:r>
            <a:br>
              <a:rPr sz="4100"/>
            </a:br>
            <a:r>
              <a:rPr b="1" lang="en-US" sz="4100" spc="-1" strike="noStrike">
                <a:solidFill>
                  <a:srgbClr val="703dff"/>
                </a:solidFill>
                <a:latin typeface="Comic Sans MS"/>
              </a:rPr>
              <a:t>Орфограммы     в пословицах и поговорках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30481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Цель урока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учиться обнаруживать 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ывать орфограммы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средством анализ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228600" y="5072040"/>
            <a:ext cx="198108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1f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2735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86104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Поклоном поясницы не переломиш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Назвался грибом – полезай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в кузов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Как с неба  свалил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4"/>
          <p:cNvSpPr/>
          <p:nvPr/>
        </p:nvSpPr>
        <p:spPr>
          <a:xfrm>
            <a:off x="1066680" y="228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Правописание приставок и предлог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685800" y="213372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Line 6"/>
          <p:cNvSpPr/>
          <p:nvPr/>
        </p:nvSpPr>
        <p:spPr>
          <a:xfrm>
            <a:off x="762120" y="2666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1295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5943600" y="2666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Line 9"/>
          <p:cNvSpPr/>
          <p:nvPr/>
        </p:nvSpPr>
        <p:spPr>
          <a:xfrm>
            <a:off x="6858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Line 10"/>
          <p:cNvSpPr/>
          <p:nvPr/>
        </p:nvSpPr>
        <p:spPr>
          <a:xfrm>
            <a:off x="7621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Line 11"/>
          <p:cNvSpPr/>
          <p:nvPr/>
        </p:nvSpPr>
        <p:spPr>
          <a:xfrm>
            <a:off x="129528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Line 14"/>
          <p:cNvSpPr/>
          <p:nvPr/>
        </p:nvSpPr>
        <p:spPr>
          <a:xfrm>
            <a:off x="49528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541008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Line 16"/>
          <p:cNvSpPr/>
          <p:nvPr/>
        </p:nvSpPr>
        <p:spPr>
          <a:xfrm>
            <a:off x="6858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Line 17"/>
          <p:cNvSpPr/>
          <p:nvPr/>
        </p:nvSpPr>
        <p:spPr>
          <a:xfrm>
            <a:off x="1600200" y="6095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Line 19"/>
          <p:cNvSpPr/>
          <p:nvPr/>
        </p:nvSpPr>
        <p:spPr>
          <a:xfrm>
            <a:off x="32767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Line 20"/>
          <p:cNvSpPr/>
          <p:nvPr/>
        </p:nvSpPr>
        <p:spPr>
          <a:xfrm>
            <a:off x="3429000" y="5638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828800" y="1828440"/>
            <a:ext cx="2735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6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чен_е – путь к умен_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е обойти, не об_ех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Друз_я познаются в беде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1523880" y="304920"/>
            <a:ext cx="647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60948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Правописание разделительного Ъ и разделительного Ь зна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20574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5562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4572000" y="42670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057400" y="54100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Line 10"/>
          <p:cNvSpPr/>
          <p:nvPr/>
        </p:nvSpPr>
        <p:spPr>
          <a:xfrm>
            <a:off x="42670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Line 11"/>
          <p:cNvSpPr/>
          <p:nvPr/>
        </p:nvSpPr>
        <p:spPr>
          <a:xfrm>
            <a:off x="48006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5f2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600200" y="1828440"/>
            <a:ext cx="2735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7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4920" y="2666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(Не) зная броду – (не) суйся в вод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Text Box 4"/>
          <p:cNvSpPr/>
          <p:nvPr/>
        </p:nvSpPr>
        <p:spPr>
          <a:xfrm>
            <a:off x="1981080" y="4572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"/>
              </a:rPr>
              <a:t>НЕ с глаголам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Rectangle 5"/>
          <p:cNvSpPr/>
          <p:nvPr/>
        </p:nvSpPr>
        <p:spPr>
          <a:xfrm>
            <a:off x="380880" y="35053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Скажешь – (не) воротиш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Rectangle 6"/>
          <p:cNvSpPr/>
          <p:nvPr/>
        </p:nvSpPr>
        <p:spPr>
          <a:xfrm>
            <a:off x="380880" y="41911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напишешь – (не) сотрёш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454680" y="4800600"/>
            <a:ext cx="642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отрубишь –  (не) приставиш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Rectangle 8"/>
          <p:cNvSpPr/>
          <p:nvPr/>
        </p:nvSpPr>
        <p:spPr>
          <a:xfrm>
            <a:off x="543240" y="5486400"/>
            <a:ext cx="64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(Не) шути с огнём – обгориш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Rectangle 9"/>
          <p:cNvSpPr/>
          <p:nvPr/>
        </p:nvSpPr>
        <p:spPr>
          <a:xfrm>
            <a:off x="643680" y="266688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Не зная броду – не суйся в вод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Rectangle 10"/>
          <p:cNvSpPr/>
          <p:nvPr/>
        </p:nvSpPr>
        <p:spPr>
          <a:xfrm>
            <a:off x="443160" y="3505320"/>
            <a:ext cx="54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Скажешь – не воротишь,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Rectangle 11"/>
          <p:cNvSpPr/>
          <p:nvPr/>
        </p:nvSpPr>
        <p:spPr>
          <a:xfrm>
            <a:off x="456120" y="4191120"/>
            <a:ext cx="53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напишешь – не</a:t>
            </a: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сотрёшь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Rectangle 12"/>
          <p:cNvSpPr/>
          <p:nvPr/>
        </p:nvSpPr>
        <p:spPr>
          <a:xfrm>
            <a:off x="409320" y="4800600"/>
            <a:ext cx="61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отрубишь –  не приставиш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Rectangle 13"/>
          <p:cNvSpPr/>
          <p:nvPr/>
        </p:nvSpPr>
        <p:spPr>
          <a:xfrm>
            <a:off x="650520" y="5486400"/>
            <a:ext cx="61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Не шути с огнём – обгориш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678204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гра - сказ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ff"/>
                </a:solidFill>
                <a:latin typeface="Verdana"/>
              </a:rPr>
              <a:t>Чтобы сказку здесь сыграть,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ff"/>
                </a:solidFill>
                <a:latin typeface="Verdana"/>
              </a:rPr>
              <a:t>Нужно роли всем раздать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ff"/>
                </a:solidFill>
                <a:latin typeface="Verdana"/>
              </a:rPr>
              <a:t>Кто загадку отгадает,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ff"/>
                </a:solidFill>
                <a:latin typeface="Verdana"/>
              </a:rPr>
              <a:t>Роль он тут же получает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6553080" y="4648320"/>
            <a:ext cx="2286000" cy="194148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327636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6059"/>
            </a:gs>
            <a:gs pos="100000">
              <a:srgbClr val="e4ba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15922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ед,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04560" y="3962160"/>
            <a:ext cx="7086600" cy="26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Репка        внучка         кошк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дед             Жучка         мышк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бабк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2286000" y="14479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бабк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4800600" y="13716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внучк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634680" y="220968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Жучк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2806200" y="2209680"/>
            <a:ext cx="189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кошк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Rectangle 9"/>
          <p:cNvSpPr/>
          <p:nvPr/>
        </p:nvSpPr>
        <p:spPr>
          <a:xfrm>
            <a:off x="5067360" y="2133720"/>
            <a:ext cx="209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мышк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3341880" y="2819520"/>
            <a:ext cx="17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реп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Rectangle 11"/>
          <p:cNvSpPr/>
          <p:nvPr/>
        </p:nvSpPr>
        <p:spPr>
          <a:xfrm>
            <a:off x="2133720" y="228600"/>
            <a:ext cx="4876560" cy="703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omic Sans MS"/>
              </a:rPr>
              <a:t>Театр - экспром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d9ec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28240" y="-307116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И лиса около своей норы смирно живё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3" name="Rectangle 4"/>
          <p:cNvSpPr/>
          <p:nvPr/>
        </p:nvSpPr>
        <p:spPr>
          <a:xfrm>
            <a:off x="0" y="2438280"/>
            <a:ext cx="8610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На чужой лошадке не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наездишь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Rectangle 5"/>
          <p:cNvSpPr/>
          <p:nvPr/>
        </p:nvSpPr>
        <p:spPr>
          <a:xfrm>
            <a:off x="0" y="3733920"/>
            <a:ext cx="77724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Гладкий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и мягкий, да 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вкус гадкий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Rectangle 6"/>
          <p:cNvSpPr/>
          <p:nvPr/>
        </p:nvSpPr>
        <p:spPr>
          <a:xfrm>
            <a:off x="0" y="5105520"/>
            <a:ext cx="8229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Не мудрён привет, а сердц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покоряет.</a:t>
            </a: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WordArt 7"/>
          <p:cNvSpPr txBox="1"/>
          <p:nvPr/>
        </p:nvSpPr>
        <p:spPr>
          <a:xfrm>
            <a:off x="1752480" y="0"/>
            <a:ext cx="5715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Найди орфограм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8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2895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Verdana"/>
              </a:rPr>
              <a:t>Спасибо за урок!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38" name="Picture 5" descr="10351676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39" name="WordArt 6"/>
          <p:cNvSpPr txBox="1"/>
          <p:nvPr/>
        </p:nvSpPr>
        <p:spPr>
          <a:xfrm rot="20812200">
            <a:off x="1295280" y="2286000"/>
            <a:ext cx="6477120" cy="14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66"/>
                </a:solidFill>
                <a:latin typeface="Verdana"/>
              </a:rPr>
              <a:t>Нн Аа Аа Лл Оо Чч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3250800"/>
            <a:ext cx="8229600" cy="20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6699"/>
                </a:solidFill>
                <a:latin typeface="Verdana"/>
              </a:rPr>
              <a:t>Начало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7162920" y="5029200"/>
            <a:ext cx="14572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Орфография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– правила написания слов и их фор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38862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Поговорка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– краткое устойчивое выражение, образное, не составляющее, в отличие от пословицы, законченного высказывания.                 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380880" y="22860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словиц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краткое народное изречение с назидательным содержание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WordArt 6"/>
          <p:cNvSpPr txBox="1"/>
          <p:nvPr/>
        </p:nvSpPr>
        <p:spPr>
          <a:xfrm>
            <a:off x="2286000" y="22860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абота со словарё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203832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10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3f1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828440" y="1752120"/>
            <a:ext cx="5173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 задание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80880" y="3047760"/>
            <a:ext cx="830592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Липнет, как см_ла к ст_н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мён на сл_вах, да глуп на д_л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Всякая с_сна в св_ём б_ру шум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38862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56386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30481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6858000" y="4191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2514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Text Box 10"/>
          <p:cNvSpPr/>
          <p:nvPr/>
        </p:nvSpPr>
        <p:spPr>
          <a:xfrm>
            <a:off x="4495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 Box 11"/>
          <p:cNvSpPr/>
          <p:nvPr/>
        </p:nvSpPr>
        <p:spPr>
          <a:xfrm flipV="1" rot="10800000">
            <a:off x="5638680" y="540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 Box 12"/>
          <p:cNvSpPr/>
          <p:nvPr/>
        </p:nvSpPr>
        <p:spPr>
          <a:xfrm>
            <a:off x="228600" y="30492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авописание безударных глас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корне слова (проверяемы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10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47560" y="1828440"/>
            <a:ext cx="2963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28600" y="312408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Береги но_ в большой моро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Гне_ - плохой советч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В чужой ло_ке всегда больше  ры_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2743200" y="31240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6553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6"/>
          <p:cNvSpPr/>
          <p:nvPr/>
        </p:nvSpPr>
        <p:spPr>
          <a:xfrm>
            <a:off x="1295280" y="42670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7"/>
          <p:cNvSpPr/>
          <p:nvPr/>
        </p:nvSpPr>
        <p:spPr>
          <a:xfrm>
            <a:off x="29718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8"/>
          <p:cNvSpPr/>
          <p:nvPr/>
        </p:nvSpPr>
        <p:spPr>
          <a:xfrm>
            <a:off x="78487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304920" y="2286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Comic Sans MS"/>
              </a:rPr>
              <a:t>Правописание парных согласны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Comic Sans MS"/>
              </a:rPr>
              <a:t>в корне сло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d9ec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28875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3 задание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77724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Пусти козла в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огород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Мороз да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метели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под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февраль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налете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Плотника не шуба греет, а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топор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228600" y="22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авописание безударных глас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корне слова (непроверяемы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7315200" y="2209680"/>
            <a:ext cx="14479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«Каково начало, таков и конец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228600" y="1523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Физкультминутк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WordArt 9"/>
          <p:cNvSpPr txBox="1"/>
          <p:nvPr/>
        </p:nvSpPr>
        <p:spPr>
          <a:xfrm rot="1357800">
            <a:off x="1304640" y="3147480"/>
            <a:ext cx="3836880" cy="39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2304000"/>
                </a:gradFill>
                <a:latin typeface="Arial"/>
              </a:rPr>
              <a:t>Одушевлённое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2304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2304000"/>
                </a:gradFill>
                <a:latin typeface="Arial"/>
              </a:rPr>
              <a:t>неодушевлён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2304000"/>
              </a:gradFill>
              <a:latin typeface="Arial"/>
              <a:ea typeface="Arial"/>
            </a:endParaRPr>
          </a:p>
        </p:txBody>
      </p:sp>
      <p:sp>
        <p:nvSpPr>
          <p:cNvPr id="766" name="WordArt 10"/>
          <p:cNvSpPr txBox="1"/>
          <p:nvPr/>
        </p:nvSpPr>
        <p:spPr>
          <a:xfrm rot="715200">
            <a:off x="4800600" y="1752480"/>
            <a:ext cx="3429000" cy="22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4686000"/>
                </a:gradFill>
                <a:latin typeface="Arial"/>
              </a:rPr>
              <a:t>Летает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4686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4686000"/>
                </a:gradFill>
                <a:latin typeface="Arial"/>
              </a:rPr>
              <a:t>не лет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4686000"/>
              </a:gradFill>
              <a:latin typeface="Arial"/>
              <a:ea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457200" y="2486160"/>
            <a:ext cx="2409840" cy="143820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5638680" y="4673520"/>
            <a:ext cx="327672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2811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4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2280" y="251460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Ты только свис_ни, а я и сам осмысл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Осторожность – мать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Рукам работа – душе праз_н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457200" y="2286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авописание непроизносимых согласных в корне сл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5410080" y="19810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6"/>
          <p:cNvSpPr/>
          <p:nvPr/>
        </p:nvSpPr>
        <p:spPr>
          <a:xfrm>
            <a:off x="3733920" y="25146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7"/>
          <p:cNvSpPr/>
          <p:nvPr/>
        </p:nvSpPr>
        <p:spPr>
          <a:xfrm>
            <a:off x="6095880" y="53341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 Box 8"/>
          <p:cNvSpPr/>
          <p:nvPr/>
        </p:nvSpPr>
        <p:spPr>
          <a:xfrm>
            <a:off x="5334120" y="41148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езопасности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9"/>
          <p:cNvSpPr/>
          <p:nvPr/>
        </p:nvSpPr>
        <p:spPr>
          <a:xfrm>
            <a:off x="5334120" y="4114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безопас_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5f2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2735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777240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(По)клоном поясницы не (пере)ломиш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(На)звался грибом – (по)лезай                 (в) кузов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Как (с) неба (с)валил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1066680" y="380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Правописание приставок и предлог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иблиотека</cp:lastModifiedBy>
  <dcterms:modified xsi:type="dcterms:W3CDTF">2010-01-18T10:49:2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