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0.gif" ContentType="image/gif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11.gif" ContentType="image/gif"/>
  <Override PartName="/ppt/media/image14.png" ContentType="image/pn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F028-B675-4028-875B-F4FBAA254D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971F-D67D-4717-9DD3-8A983B026ADD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B726-6B75-47AE-9383-43EFF96260EC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5E6F-560F-40AB-B529-5DD8FF83C5AA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8C34-2678-42D8-BC66-5E4C34BF923D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040C-D10A-4C09-9B7D-893365E0D897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ED13-86AA-4707-A82C-191809EDA59B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A1C5-C32F-4D3C-9B14-1D11F5BE1E9E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C8BA-13F1-4D01-8F15-F0F820DA08D3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D9CD-CD56-4544-A81B-4A5367E0EADD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7BB8-21FB-4A9C-9149-33CB24673A59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EDC7-F75D-4ADE-A4F3-9A75D4692098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CC25-2A94-47EB-BBB1-D0406DE4BCD0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3F32-8A8D-47F0-874F-56BD503C6F92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26D7-E31C-4947-B026-647ED79E0F69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0811-B676-43E0-ADD0-5F947E2DE3A9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B333-96DA-4E04-AFCA-03EA3297807B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459F-6BDA-46C8-B25A-1FBE303D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8AE3-C04F-453C-B78B-9835B096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5863F-DA0C-49D4-96B5-D9F0FE6A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1B426-25B2-414E-B8A3-E6A3BAF5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018DB-57D9-465F-8BE5-E3BF7230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DAE7C-4B00-4CDA-9366-BAEEA3B0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563EC-5DDD-4E50-BC75-F662E6D6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894EB-2A55-4D79-8085-E71E540A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48850-CDF2-42D3-A8DB-83D98F57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92F64-81A1-4508-B21A-A91BBF72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19E5B-6BD0-4F1D-9431-17BC6E96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FA224-2979-42E3-986E-53550231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3F49-C259-4B09-AE00-3FEB72D1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66332-B73F-4846-B761-FAC7735C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8EA21-7959-4BAD-A645-FB45BFFA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C0DAE-81F1-4FDE-8DDB-7F9F0B5E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7835F-AB11-4CD5-81CC-3578EB63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EDA85-F42A-4CB7-ACC1-5ECD352C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0F73A-4C64-46BC-A9A3-7490E59B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0C069-A9DA-475F-B7A3-A6FBB33E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16E6C-DCBF-4E7B-8837-23989252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ADAA4-F23E-49C0-9A99-0099DCDE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ED6B5-582F-41C3-8DB1-8D7FE524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1836-C660-4A36-8835-57BDCEF6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DAAF3-245B-4A2C-9CB8-F3C57526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C918-F276-4B58-ABC5-A250D2B7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A8FF-DDC0-4082-9674-7486E2D4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4E14-3809-4BFD-9977-75DA56B9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C2F7-F8D3-4208-ADDC-9636DCCA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26A1-BD7F-4671-94FD-E202076F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9393-2E5B-4D7A-A1DE-79656A76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F7C7-05E1-4087-BCF4-9AB2ABEA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D431-6EA5-47D0-A9B8-5A8A9AB1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82BC-3439-4027-9C53-96D79542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936C-72C1-455A-A2B4-5215EEE6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AF14-AA1A-40AB-9AE8-FFBEB627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186F-D875-4884-BA2A-98730C23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62E3-6812-4E7C-807D-2C6703D3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D9ABC-E0D2-4FDB-AC01-5C0630D7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1B9C5-58D1-4C44-AEE3-13E074EF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1F992-C25C-4249-9367-212B4442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9F993-FF36-485A-9EA1-06AC48AC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EF680-0705-4484-8401-8D843E42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A2F0-2647-4754-A71A-A516FA1C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F15DC-F015-43D1-B775-7D9D218C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86233-60FA-4C68-A8AA-AE275902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05AC0-DC2E-4FFC-9D32-8C536021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A983D-4F70-46EF-A1FF-535D5F16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68FDB-E29B-4EC6-94B0-0CF94B91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68D00-902E-41FC-89D9-C2BD441CF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33EB8-E417-48E4-A8C3-10F5BC56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D9FB9-C6A2-4933-B73F-D95FC70E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FAF65-EF46-4DD2-820C-A8D432FD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C2A39-5E2C-4236-BDE9-8CF6C972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34D4-4218-45DF-8FAD-6F690C2B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D2FC5-0BF0-4751-A4AD-919EE0BB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74A1B-6692-46E9-8BE9-2B721D54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23F23-54A0-49B1-963A-24E97197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C5D42-26E7-4F9F-B74E-A3FD5105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DC897-FC72-49F6-9F4B-1FA08595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98A5B-6D38-4D06-9A2A-CE0708DA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4CDAD-DC1D-4A7A-926F-FE35507F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B4076-9BF2-4CA5-B09D-5054F5E8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6C398-0616-494D-84FE-59F58F29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3A4C3-8388-40CC-9756-1F6943BE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91CD-ED49-4478-A14C-8F7B5DE7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DC9EB-C213-4087-B37E-15F42690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C7908-A299-4602-8619-E6C74046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60EE0-F4BC-4F26-BB2E-A9499081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0FDA0-8BBB-411A-B20E-D3AF091B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BE10F-639B-4D16-A01C-127AA244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2BCB5-4C84-4E1E-9EB6-6D3C5689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4BEBE-E652-4E47-B380-BDA83215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F55B9-070A-4875-AF99-FFE36BBA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F63A9-69FC-4690-945D-367AD576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D12BD-C486-4750-AE2C-D44D2C6C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C08-0D1F-4248-B56D-B083DDE5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C165F-0F01-48C3-BF7D-090F13D4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E9424-C15C-4CFF-BF29-DDE8FCA7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2F3A2-20A1-4896-82DA-EBB694DC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FF7D9-F320-428B-8BBD-8CC719B4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83773-8DD4-4805-AC79-91053B38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6AE14-38B7-4F25-A537-ACD307BC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EB8D8-9F7D-4FAE-A422-16189AAD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02016-36EB-45A0-83D4-6394C7D5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D5ADA-C5D8-4EA4-83A5-5F6F8C36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8DF22-FAE5-4389-9930-2274AE53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C14F-F4B8-4DC5-81A5-B51FDA93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ED49C-5767-4C1A-87BD-DC23C4B6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FDE6B-ADB2-4937-97A5-1F9A51A1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A208A-79A9-442B-A92B-B4DAA153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98170-127B-4A26-928D-F70AE6BD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47129-B964-4248-AD52-472D83AF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E5A7B-017C-4026-A154-04C5949E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7CE2B-7287-45C6-8D26-31155551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26390-83F1-4663-ADEA-0A0CF7DB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047FF-9DB7-49D9-89B7-7271AE7C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88E63-6E20-4465-B250-681A2E14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90F-F2B7-48A0-9325-CB09DA27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44319-BC27-495E-87C0-C2F9453F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C21B1-694F-4B47-A1A5-376CA199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B7B2A-8B00-49A9-BCBA-788008CC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61C9D-B773-41A0-9B27-18D1AD83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C417F-2CF1-4889-B0AF-5A3BA0D0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42693-5FA0-442A-95A8-B2D0A4B0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E3D57-E321-4563-872F-F542C855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2FCF1-07D5-4EC5-BC70-2F5655D7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F001B-EDAD-41FA-A521-7A751B0F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7454E-614C-446A-B40E-085EA183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0504-CD4A-401B-883C-607501EC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6F407-1CFB-48AE-8439-49290F61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328F7-0F62-47B1-BF82-DC72CD48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F8DEA-6585-452E-8D67-1453D13C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7773F-963F-45A1-9E95-07DF8BE5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34636-74D5-498A-8346-3B4BD792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83D3D-15B5-45DB-9178-C1B05F6B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93C07-FB3A-4032-9A2F-8DED9766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9D96C-F631-42B0-A21B-681CBCBB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4A98A-64E9-4A21-8773-AA12B66B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AD4E2-3EAC-4B2F-A020-54B0338E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85.xml"/><Relationship Id="rId35" Type="http://schemas.openxmlformats.org/officeDocument/2006/relationships/slideLayout" Target="../slideLayouts/slideLayout86.xml"/><Relationship Id="rId36" Type="http://schemas.openxmlformats.org/officeDocument/2006/relationships/slideLayout" Target="../slideLayouts/slideLayout87.xml"/><Relationship Id="rId37" Type="http://schemas.openxmlformats.org/officeDocument/2006/relationships/slideLayout" Target="../slideLayouts/slideLayout88.xml"/><Relationship Id="rId38" Type="http://schemas.openxmlformats.org/officeDocument/2006/relationships/slideLayout" Target="../slideLayouts/slideLayout89.xml"/><Relationship Id="rId39" Type="http://schemas.openxmlformats.org/officeDocument/2006/relationships/slideLayout" Target="../slideLayouts/slideLayout90.xml"/><Relationship Id="rId40" Type="http://schemas.openxmlformats.org/officeDocument/2006/relationships/slideLayout" Target="../slideLayouts/slideLayout91.xml"/><Relationship Id="rId41" Type="http://schemas.openxmlformats.org/officeDocument/2006/relationships/slideLayout" Target="../slideLayouts/slideLayout92.xml"/><Relationship Id="rId42" Type="http://schemas.openxmlformats.org/officeDocument/2006/relationships/slideLayout" Target="../slideLayouts/slideLayout93.xml"/><Relationship Id="rId43" Type="http://schemas.openxmlformats.org/officeDocument/2006/relationships/slideLayout" Target="../slideLayouts/slideLayout94.xml"/><Relationship Id="rId44" Type="http://schemas.openxmlformats.org/officeDocument/2006/relationships/slideLayout" Target="../slideLayouts/slideLayout95.xml"/><Relationship Id="rId4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7CD0-04C7-4CF6-9F4B-7602E9B1EC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61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2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3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6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6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67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671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7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67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80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AD16-3E7F-4AAA-8952-C97A3DF44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9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51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4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56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1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62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65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66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9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70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3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4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7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0AFC-196B-4D6B-B1AC-8FC552901B4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3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6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37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38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39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0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41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142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3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4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5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6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7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pic>
              <p:nvPicPr>
                <p:cNvPr id="148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2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3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6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57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1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76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CC1C-AE8C-448B-8B3A-3A728BC6AB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29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586D-F21B-4B9D-833C-80F773BADC0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E9CB-D86D-42F5-B026-025CE3838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94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0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0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0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1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1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2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21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2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2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2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2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3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7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37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7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37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7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F7EB-EB08-46B1-ACA1-7D6DDC45EF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424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425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7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0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2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38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439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0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1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42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443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4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5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447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8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9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50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451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2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3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54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455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6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7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58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3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6367-FDEA-4E72-82D8-56588A74092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0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1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1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1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1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1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1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51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1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1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1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pic>
              <p:nvPicPr>
                <p:cNvPr id="52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3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3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5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47D2-DCCD-40F7-B6A4-B435B19171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4"/>
    <p:sldLayoutId id="2147483741" r:id="rId35"/>
    <p:sldLayoutId id="2147483742" r:id="rId36"/>
    <p:sldLayoutId id="2147483743" r:id="rId37"/>
    <p:sldLayoutId id="2147483744" r:id="rId38"/>
    <p:sldLayoutId id="2147483745" r:id="rId39"/>
    <p:sldLayoutId id="2147483746" r:id="rId40"/>
    <p:sldLayoutId id="2147483747" r:id="rId41"/>
    <p:sldLayoutId id="2147483748" r:id="rId42"/>
    <p:sldLayoutId id="2147483749" r:id="rId43"/>
    <p:sldLayoutId id="2147483750" r:id="rId44"/>
    <p:sldLayoutId id="2147483751" r:id="rId4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03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BD31-262B-4D77-A2DE-9E4A647A9C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8610480" cy="990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4100" spc="-1" strike="noStrike">
                <a:solidFill>
                  <a:srgbClr val="000000"/>
                </a:solidFill>
                <a:latin typeface="Comic Sans MS"/>
              </a:rPr>
              <a:t>Тема урока:</a:t>
            </a:r>
            <a:br>
              <a:rPr sz="4100"/>
            </a:br>
            <a:r>
              <a:rPr b="1" lang="en-US" sz="4100" spc="-1" strike="noStrike">
                <a:solidFill>
                  <a:srgbClr val="703dff"/>
                </a:solidFill>
                <a:latin typeface="Comic Sans MS"/>
              </a:rPr>
              <a:t>Орфограммы     в пословицах и поговорках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57200" y="30481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Цель урока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учиться обнаруживать 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ывать орфограммы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средством анализ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228600" y="5072040"/>
            <a:ext cx="198108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e1f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905120" y="1904760"/>
            <a:ext cx="2735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5 задан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28600" y="2666520"/>
            <a:ext cx="86104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Поклоном поясницы не переломиш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Назвался грибом – полезай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в кузово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Как с неба  свалилс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Text Box 4"/>
          <p:cNvSpPr/>
          <p:nvPr/>
        </p:nvSpPr>
        <p:spPr>
          <a:xfrm>
            <a:off x="1066680" y="228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Правописание приставок и предлог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Rectangle 5"/>
          <p:cNvSpPr/>
          <p:nvPr/>
        </p:nvSpPr>
        <p:spPr>
          <a:xfrm>
            <a:off x="685800" y="213372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Line 6"/>
          <p:cNvSpPr/>
          <p:nvPr/>
        </p:nvSpPr>
        <p:spPr>
          <a:xfrm>
            <a:off x="762120" y="2666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Line 7"/>
          <p:cNvSpPr/>
          <p:nvPr/>
        </p:nvSpPr>
        <p:spPr>
          <a:xfrm>
            <a:off x="12952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Line 8"/>
          <p:cNvSpPr/>
          <p:nvPr/>
        </p:nvSpPr>
        <p:spPr>
          <a:xfrm>
            <a:off x="5943600" y="2666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Line 9"/>
          <p:cNvSpPr/>
          <p:nvPr/>
        </p:nvSpPr>
        <p:spPr>
          <a:xfrm>
            <a:off x="68580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Line 10"/>
          <p:cNvSpPr/>
          <p:nvPr/>
        </p:nvSpPr>
        <p:spPr>
          <a:xfrm>
            <a:off x="762120" y="3809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Line 11"/>
          <p:cNvSpPr/>
          <p:nvPr/>
        </p:nvSpPr>
        <p:spPr>
          <a:xfrm>
            <a:off x="129528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Line 14"/>
          <p:cNvSpPr/>
          <p:nvPr/>
        </p:nvSpPr>
        <p:spPr>
          <a:xfrm>
            <a:off x="495288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Line 15"/>
          <p:cNvSpPr/>
          <p:nvPr/>
        </p:nvSpPr>
        <p:spPr>
          <a:xfrm>
            <a:off x="541008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Line 16"/>
          <p:cNvSpPr/>
          <p:nvPr/>
        </p:nvSpPr>
        <p:spPr>
          <a:xfrm>
            <a:off x="68580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Line 17"/>
          <p:cNvSpPr/>
          <p:nvPr/>
        </p:nvSpPr>
        <p:spPr>
          <a:xfrm>
            <a:off x="1600200" y="6095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Line 19"/>
          <p:cNvSpPr/>
          <p:nvPr/>
        </p:nvSpPr>
        <p:spPr>
          <a:xfrm>
            <a:off x="32767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Line 20"/>
          <p:cNvSpPr/>
          <p:nvPr/>
        </p:nvSpPr>
        <p:spPr>
          <a:xfrm>
            <a:off x="3429000" y="5638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828800" y="1828440"/>
            <a:ext cx="2735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6 задан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Учен_е – путь к умен_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Не обойти, не об_еха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Друз_я познаются в беде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1523880" y="304920"/>
            <a:ext cx="6477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60948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Правописание разделительного Ъ и разделительного Ь зна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Text Box 6"/>
          <p:cNvSpPr/>
          <p:nvPr/>
        </p:nvSpPr>
        <p:spPr>
          <a:xfrm>
            <a:off x="20574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Text Box 7"/>
          <p:cNvSpPr/>
          <p:nvPr/>
        </p:nvSpPr>
        <p:spPr>
          <a:xfrm>
            <a:off x="556272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4572000" y="42670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ъ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2057400" y="54100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Line 10"/>
          <p:cNvSpPr/>
          <p:nvPr/>
        </p:nvSpPr>
        <p:spPr>
          <a:xfrm>
            <a:off x="42670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Line 11"/>
          <p:cNvSpPr/>
          <p:nvPr/>
        </p:nvSpPr>
        <p:spPr>
          <a:xfrm>
            <a:off x="480060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e5f2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600200" y="1828440"/>
            <a:ext cx="2735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7 задан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04920" y="2666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(Не) зная броду – (не) суйся в вод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Text Box 4"/>
          <p:cNvSpPr/>
          <p:nvPr/>
        </p:nvSpPr>
        <p:spPr>
          <a:xfrm>
            <a:off x="1981080" y="4572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omic Sans MS"/>
              </a:rPr>
              <a:t>НЕ с глаголами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Rectangle 5"/>
          <p:cNvSpPr/>
          <p:nvPr/>
        </p:nvSpPr>
        <p:spPr>
          <a:xfrm>
            <a:off x="380880" y="350532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Скажешь – (не) воротишь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Rectangle 6"/>
          <p:cNvSpPr/>
          <p:nvPr/>
        </p:nvSpPr>
        <p:spPr>
          <a:xfrm>
            <a:off x="380880" y="41911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напишешь – (не) сотрёш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Rectangle 7"/>
          <p:cNvSpPr/>
          <p:nvPr/>
        </p:nvSpPr>
        <p:spPr>
          <a:xfrm>
            <a:off x="454680" y="4800600"/>
            <a:ext cx="642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отрубишь –  (не) приставиш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Rectangle 8"/>
          <p:cNvSpPr/>
          <p:nvPr/>
        </p:nvSpPr>
        <p:spPr>
          <a:xfrm>
            <a:off x="543240" y="5486400"/>
            <a:ext cx="641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(Не) шути с огнём – обгориш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Rectangle 9"/>
          <p:cNvSpPr/>
          <p:nvPr/>
        </p:nvSpPr>
        <p:spPr>
          <a:xfrm>
            <a:off x="643680" y="2666880"/>
            <a:ext cx="657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ahoma"/>
              </a:rPr>
              <a:t>Не зная броду – не суйся в вод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Rectangle 10"/>
          <p:cNvSpPr/>
          <p:nvPr/>
        </p:nvSpPr>
        <p:spPr>
          <a:xfrm>
            <a:off x="443160" y="3505320"/>
            <a:ext cx="549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ahoma"/>
              </a:rPr>
              <a:t>Скажешь – не воротишь,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Rectangle 11"/>
          <p:cNvSpPr/>
          <p:nvPr/>
        </p:nvSpPr>
        <p:spPr>
          <a:xfrm>
            <a:off x="456120" y="4191120"/>
            <a:ext cx="538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ahoma"/>
              </a:rPr>
              <a:t>напишешь – не</a:t>
            </a:r>
            <a:r>
              <a:rPr b="1" i="1" lang="en-US" sz="32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ahoma"/>
              </a:rPr>
              <a:t>сотрёшь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Rectangle 12"/>
          <p:cNvSpPr/>
          <p:nvPr/>
        </p:nvSpPr>
        <p:spPr>
          <a:xfrm>
            <a:off x="409320" y="4800600"/>
            <a:ext cx="61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ahoma"/>
              </a:rPr>
              <a:t>отрубишь –  не приставиш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Rectangle 13"/>
          <p:cNvSpPr/>
          <p:nvPr/>
        </p:nvSpPr>
        <p:spPr>
          <a:xfrm>
            <a:off x="650520" y="5486400"/>
            <a:ext cx="613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ahoma"/>
              </a:rPr>
              <a:t>Не шути с огнём – обгориш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10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3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7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523520" y="380520"/>
            <a:ext cx="678204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Игра - сказ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ff"/>
                </a:solidFill>
                <a:latin typeface="Verdana"/>
              </a:rPr>
              <a:t>Чтобы сказку здесь сыграть,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ff"/>
                </a:solidFill>
                <a:latin typeface="Verdana"/>
              </a:rPr>
              <a:t>Нужно роли всем раздать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ff"/>
                </a:solidFill>
                <a:latin typeface="Verdana"/>
              </a:rPr>
              <a:t>Кто загадку отгадает,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ff"/>
                </a:solidFill>
                <a:latin typeface="Verdana"/>
              </a:rPr>
              <a:t>Роль он тут же получает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6553080" y="4648320"/>
            <a:ext cx="2286000" cy="194148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2"/>
          <a:stretch/>
        </p:blipFill>
        <p:spPr>
          <a:xfrm>
            <a:off x="533520" y="4800600"/>
            <a:ext cx="327636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6059"/>
            </a:gs>
            <a:gs pos="100000">
              <a:srgbClr val="e4ba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80520" y="1523880"/>
            <a:ext cx="15922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Дед,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304560" y="3962160"/>
            <a:ext cx="7086600" cy="26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Репка        внучка         кошк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дед             Жучка         мышк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бабк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4" name="Rectangle 5"/>
          <p:cNvSpPr/>
          <p:nvPr/>
        </p:nvSpPr>
        <p:spPr>
          <a:xfrm>
            <a:off x="2286000" y="14479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бабка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Rectangle 6"/>
          <p:cNvSpPr/>
          <p:nvPr/>
        </p:nvSpPr>
        <p:spPr>
          <a:xfrm>
            <a:off x="4800600" y="13716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внучка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Rectangle 7"/>
          <p:cNvSpPr/>
          <p:nvPr/>
        </p:nvSpPr>
        <p:spPr>
          <a:xfrm>
            <a:off x="634680" y="2209680"/>
            <a:ext cx="18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Жучка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Rectangle 8"/>
          <p:cNvSpPr/>
          <p:nvPr/>
        </p:nvSpPr>
        <p:spPr>
          <a:xfrm>
            <a:off x="2806200" y="2209680"/>
            <a:ext cx="189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кошка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Rectangle 9"/>
          <p:cNvSpPr/>
          <p:nvPr/>
        </p:nvSpPr>
        <p:spPr>
          <a:xfrm>
            <a:off x="5067360" y="2133720"/>
            <a:ext cx="209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мышка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Rectangle 10"/>
          <p:cNvSpPr/>
          <p:nvPr/>
        </p:nvSpPr>
        <p:spPr>
          <a:xfrm>
            <a:off x="3341880" y="2819520"/>
            <a:ext cx="178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Verdana"/>
              </a:rPr>
              <a:t>репк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Rectangle 11"/>
          <p:cNvSpPr/>
          <p:nvPr/>
        </p:nvSpPr>
        <p:spPr>
          <a:xfrm>
            <a:off x="2133720" y="228600"/>
            <a:ext cx="4876560" cy="7034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Comic Sans MS"/>
              </a:rPr>
              <a:t>Театр - экспром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d9ec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28240" y="-307116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И лиса около своей норы смирно живёт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3" name="Rectangle 4"/>
          <p:cNvSpPr/>
          <p:nvPr/>
        </p:nvSpPr>
        <p:spPr>
          <a:xfrm>
            <a:off x="0" y="2438280"/>
            <a:ext cx="86104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На чужой лошадке не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   </a:t>
            </a: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наездишь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Rectangle 5"/>
          <p:cNvSpPr/>
          <p:nvPr/>
        </p:nvSpPr>
        <p:spPr>
          <a:xfrm>
            <a:off x="0" y="3733920"/>
            <a:ext cx="77724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Гладкий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и мягкий, да н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вкус гадкий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Rectangle 6"/>
          <p:cNvSpPr/>
          <p:nvPr/>
        </p:nvSpPr>
        <p:spPr>
          <a:xfrm>
            <a:off x="0" y="5105520"/>
            <a:ext cx="8229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Не мудрён привет, а сердц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1" i="1" lang="en-US" sz="3200" spc="-1" strike="noStrike">
                <a:solidFill>
                  <a:srgbClr val="080808"/>
                </a:solidFill>
                <a:latin typeface="Verdana"/>
              </a:rPr>
              <a:t>покоряет.</a:t>
            </a:r>
            <a:r>
              <a:rPr b="0" lang="en-US" sz="1800" spc="-1" strike="noStrike">
                <a:solidFill>
                  <a:srgbClr val="080808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WordArt 7"/>
          <p:cNvSpPr txBox="1"/>
          <p:nvPr/>
        </p:nvSpPr>
        <p:spPr>
          <a:xfrm>
            <a:off x="1752480" y="0"/>
            <a:ext cx="5715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Найди орфограмм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8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8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8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80880" y="2895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Verdana"/>
              </a:rPr>
              <a:t>Спасибо за урок!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838" name="Picture 5" descr="10351676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39" name="WordArt 6"/>
          <p:cNvSpPr txBox="1"/>
          <p:nvPr/>
        </p:nvSpPr>
        <p:spPr>
          <a:xfrm rot="20812200">
            <a:off x="1295280" y="2286000"/>
            <a:ext cx="6477120" cy="14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Спасибо за урок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6666"/>
                </a:solidFill>
                <a:latin typeface="Verdana"/>
              </a:rPr>
              <a:t>Нн Аа Аа Лл Оо Чч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3250800"/>
            <a:ext cx="8229600" cy="20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6699"/>
                </a:solidFill>
                <a:latin typeface="Verdana"/>
              </a:rPr>
              <a:t>Начало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7162920" y="5029200"/>
            <a:ext cx="14572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Орфография</a:t>
            </a: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 – правила написания слов и их форм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388620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Times New Roman"/>
              </a:rPr>
              <a:t>Поговорка 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– краткое устойчивое выражение, образное, не составляющее, в отличие от пословицы, законченного высказывания.                             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8" name="Text Box 5"/>
          <p:cNvSpPr/>
          <p:nvPr/>
        </p:nvSpPr>
        <p:spPr>
          <a:xfrm>
            <a:off x="380880" y="228600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словиц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 краткое народное изречение с назидательным содержанием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WordArt 6"/>
          <p:cNvSpPr txBox="1"/>
          <p:nvPr/>
        </p:nvSpPr>
        <p:spPr>
          <a:xfrm>
            <a:off x="2286000" y="228600"/>
            <a:ext cx="4876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абота со словарё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6705720" y="5410080"/>
            <a:ext cx="203832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100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e3f1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828440" y="1752120"/>
            <a:ext cx="5173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 задание 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80880" y="3047760"/>
            <a:ext cx="830592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Липнет, как см_ла к ст_н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Умён на сл_вах, да глуп на д_ла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Всякая с_сна в св_ём б_ру шуми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388620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Text Box 5"/>
          <p:cNvSpPr/>
          <p:nvPr/>
        </p:nvSpPr>
        <p:spPr>
          <a:xfrm>
            <a:off x="5638680" y="3048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Text Box 6"/>
          <p:cNvSpPr/>
          <p:nvPr/>
        </p:nvSpPr>
        <p:spPr>
          <a:xfrm>
            <a:off x="3048120" y="4191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Text Box 7"/>
          <p:cNvSpPr/>
          <p:nvPr/>
        </p:nvSpPr>
        <p:spPr>
          <a:xfrm>
            <a:off x="6858000" y="41911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Text Box 9"/>
          <p:cNvSpPr/>
          <p:nvPr/>
        </p:nvSpPr>
        <p:spPr>
          <a:xfrm>
            <a:off x="25146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Text Box 10"/>
          <p:cNvSpPr/>
          <p:nvPr/>
        </p:nvSpPr>
        <p:spPr>
          <a:xfrm>
            <a:off x="449568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Text Box 11"/>
          <p:cNvSpPr/>
          <p:nvPr/>
        </p:nvSpPr>
        <p:spPr>
          <a:xfrm flipV="1" rot="10800000">
            <a:off x="5638680" y="5409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Text Box 12"/>
          <p:cNvSpPr/>
          <p:nvPr/>
        </p:nvSpPr>
        <p:spPr>
          <a:xfrm>
            <a:off x="228600" y="304920"/>
            <a:ext cx="8915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авописание безударных гласны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корне слова (проверяемы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100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447560" y="1828440"/>
            <a:ext cx="2963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 зад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28600" y="312408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Береги но_ в большой моро_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Гне_ - плохой советчи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В чужой ло_ке всегда больше  ры_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Text Box 4"/>
          <p:cNvSpPr/>
          <p:nvPr/>
        </p:nvSpPr>
        <p:spPr>
          <a:xfrm>
            <a:off x="2743200" y="31240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Text Box 5"/>
          <p:cNvSpPr/>
          <p:nvPr/>
        </p:nvSpPr>
        <p:spPr>
          <a:xfrm>
            <a:off x="6553080" y="3124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Text Box 6"/>
          <p:cNvSpPr/>
          <p:nvPr/>
        </p:nvSpPr>
        <p:spPr>
          <a:xfrm>
            <a:off x="1295280" y="42670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Text Box 7"/>
          <p:cNvSpPr/>
          <p:nvPr/>
        </p:nvSpPr>
        <p:spPr>
          <a:xfrm>
            <a:off x="2971800" y="5410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Text Box 8"/>
          <p:cNvSpPr/>
          <p:nvPr/>
        </p:nvSpPr>
        <p:spPr>
          <a:xfrm>
            <a:off x="7848720" y="5486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Text Box 9"/>
          <p:cNvSpPr/>
          <p:nvPr/>
        </p:nvSpPr>
        <p:spPr>
          <a:xfrm>
            <a:off x="304920" y="22860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Comic Sans MS"/>
              </a:rPr>
              <a:t>Правописание парных согласных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660066"/>
                </a:solidFill>
                <a:latin typeface="Comic Sans MS"/>
              </a:rPr>
              <a:t>в корне сло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d9ec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599840" y="1904760"/>
            <a:ext cx="28875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3 задание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228600" y="2590920"/>
            <a:ext cx="77724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Пусти козла в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огород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Мороз да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метели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под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февраль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налетел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Плотника не шуба греет, а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топор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Rectangle 5"/>
          <p:cNvSpPr/>
          <p:nvPr/>
        </p:nvSpPr>
        <p:spPr>
          <a:xfrm>
            <a:off x="228600" y="2286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авописание безударных гласны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корне слова (непроверяемы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7315200" y="2209680"/>
            <a:ext cx="144792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Verdana"/>
              </a:rPr>
              <a:t>«Каково начало, таков и конец»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228600" y="15238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Физкультминутка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WordArt 9"/>
          <p:cNvSpPr txBox="1"/>
          <p:nvPr/>
        </p:nvSpPr>
        <p:spPr>
          <a:xfrm rot="1357800">
            <a:off x="1304640" y="3147480"/>
            <a:ext cx="3836880" cy="39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66"/>
                    </a:gs>
                  </a:gsLst>
                  <a:lin ang="2304000"/>
                </a:gradFill>
                <a:latin typeface="Arial"/>
              </a:rPr>
              <a:t>Одушевлённое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66"/>
                  </a:gs>
                </a:gsLst>
                <a:lin ang="2304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66"/>
                    </a:gs>
                  </a:gsLst>
                  <a:lin ang="2304000"/>
                </a:gradFill>
                <a:latin typeface="Arial"/>
              </a:rPr>
              <a:t>неодушевлён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66"/>
                  </a:gs>
                </a:gsLst>
                <a:lin ang="2304000"/>
              </a:gradFill>
              <a:latin typeface="Arial"/>
              <a:ea typeface="Arial"/>
            </a:endParaRPr>
          </a:p>
        </p:txBody>
      </p:sp>
      <p:sp>
        <p:nvSpPr>
          <p:cNvPr id="766" name="WordArt 10"/>
          <p:cNvSpPr txBox="1"/>
          <p:nvPr/>
        </p:nvSpPr>
        <p:spPr>
          <a:xfrm rot="715200">
            <a:off x="4800600" y="1752480"/>
            <a:ext cx="3429000" cy="22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9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66"/>
                    </a:gs>
                  </a:gsLst>
                  <a:lin ang="4686000"/>
                </a:gradFill>
                <a:latin typeface="Arial"/>
              </a:rPr>
              <a:t>Летает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66"/>
                  </a:gs>
                </a:gsLst>
                <a:lin ang="4686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66"/>
                    </a:gs>
                  </a:gsLst>
                  <a:lin ang="4686000"/>
                </a:gradFill>
                <a:latin typeface="Arial"/>
              </a:rPr>
              <a:t>не лета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66"/>
                  </a:gs>
                </a:gsLst>
                <a:lin ang="4686000"/>
              </a:gradFill>
              <a:latin typeface="Arial"/>
              <a:ea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457200" y="2486160"/>
            <a:ext cx="2409840" cy="143820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5638680" y="4673520"/>
            <a:ext cx="327672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752480" y="1752480"/>
            <a:ext cx="2811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4 задан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52280" y="2514600"/>
            <a:ext cx="87631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Ты только свис_ни, а я и сам осмысл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Осторожность – мать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Рукам работа – душе праз_ни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Text Box 4"/>
          <p:cNvSpPr/>
          <p:nvPr/>
        </p:nvSpPr>
        <p:spPr>
          <a:xfrm>
            <a:off x="457200" y="2286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авописание непроизносимых согласных в корне сло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Text Box 5"/>
          <p:cNvSpPr/>
          <p:nvPr/>
        </p:nvSpPr>
        <p:spPr>
          <a:xfrm>
            <a:off x="5410080" y="198108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Text Box 6"/>
          <p:cNvSpPr/>
          <p:nvPr/>
        </p:nvSpPr>
        <p:spPr>
          <a:xfrm>
            <a:off x="3733920" y="25146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Text Box 7"/>
          <p:cNvSpPr/>
          <p:nvPr/>
        </p:nvSpPr>
        <p:spPr>
          <a:xfrm>
            <a:off x="6095880" y="53341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Text Box 8"/>
          <p:cNvSpPr/>
          <p:nvPr/>
        </p:nvSpPr>
        <p:spPr>
          <a:xfrm>
            <a:off x="5334120" y="41148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безопасности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Text Box 9"/>
          <p:cNvSpPr/>
          <p:nvPr/>
        </p:nvSpPr>
        <p:spPr>
          <a:xfrm>
            <a:off x="5334120" y="41148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безопас_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e5f2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905120" y="1904760"/>
            <a:ext cx="2735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5 задан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7772400" cy="38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(По)клоном поясницы не (пере)ломиш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(На)звался грибом – (по)лезай                 (в) кузово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Как (с) неба (с)валилс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Text Box 4"/>
          <p:cNvSpPr/>
          <p:nvPr/>
        </p:nvSpPr>
        <p:spPr>
          <a:xfrm>
            <a:off x="1066680" y="3808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Правописание приставок и предлог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иблиотека</cp:lastModifiedBy>
  <dcterms:modified xsi:type="dcterms:W3CDTF">2010-01-18T10:49:23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