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3D9F-63FE-4267-97E6-3B34ADF57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16E-C72F-444E-9103-9FD9D972D3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046-82E5-4875-B7C7-2FE4C0D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5ED-52FB-489F-822C-4689FB7A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B761-8BE3-41CA-97E2-7CA84EC8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15F9-FC89-48A1-AA7C-010C2718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5824-A4B7-4313-BA71-8F6EED95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0151-08A7-4409-B449-33E0807E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031-9F4C-4641-818F-E37D4D2B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1A9F-53E4-4B26-80D4-C55FE626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30CF-0764-4C95-BB39-8ED7BF76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6753-F06F-45D0-873E-F0348B78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F523-EAFD-4B8D-8C6F-0D7E1EF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EA9-7DD8-47D1-BC26-5A2C94F2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AEDF-7855-40A4-8835-63B547E8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5EF3-E614-436F-9144-67EC8A9B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FA11-3DA3-48CE-8D74-6625D277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3025-726A-42A0-B518-3DC4BBDE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1FB6-C138-480A-9A09-71E82138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A60-31F1-4E2D-B22A-627C752D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9FA-76CF-472F-AD02-27012B03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3D5-CB9D-4DFB-A3F0-7D51021A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909-5B4D-4981-A27A-FC662C51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061-0A90-4802-A262-1DA50A9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850-2B30-4E55-A63F-7503C05D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F57-B436-494E-ACD5-66442823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757-3A9C-4A85-9B2E-556485A5F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C206-32FE-42CA-AD57-AF121BDB4A5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507520" cy="79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0440" y="1413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«Пассажиры одного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орабля по имени Земля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565360"/>
            <a:ext cx="86868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у выполнили: Учащиеся 8 клас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анова В., Ваджипова Э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йош С., Мкртчян Г., Мкртчян К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бров 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«Новоивановская средняя школ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уководитель: Шараева Надежда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25040" indent="-180360"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икторовна, учитель би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0" y="2781360"/>
            <a:ext cx="435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АКЛЮЧЕН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еловеку необходимо общение с природ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то делает его добрее, спокойней, радостней. Развивает его ум и фантазию, улучшает здоровье, поднимает настроение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ки  будут ещё больше любить родную школу, заботиться о ней, гордиться ей. На школьном дворе они смогут работать, заниматься, отдыхать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ы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бы очень хотели, чтобы мой школьный двор стал родным для каждого ученика в нашей школе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ект озеленения и благоустройства школьного двора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611280" y="1773360"/>
            <a:ext cx="822960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+mj-lt"/>
              </a:rPr>
              <a:t>Школьный двор – наша забо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+mj-lt"/>
              <a:ea typeface="+mj-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«Все мы пассажиры одного корабля по имени Земля, -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Значит, пересесть из него просто некуда».</a:t>
            </a:r>
            <a:br>
              <a:rPr sz="44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Антуан де Сент-Экзюпери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7" descr="Скачать бесплатно &quot;Планета Земля&quot; картинки для детей - подборка"/>
          <p:cNvPicPr/>
          <p:nvPr/>
        </p:nvPicPr>
        <p:blipFill>
          <a:blip r:embed="rId1"/>
          <a:stretch/>
        </p:blipFill>
        <p:spPr>
          <a:xfrm>
            <a:off x="776160" y="3357720"/>
            <a:ext cx="75916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6"/>
          <p:cNvSpPr/>
          <p:nvPr/>
        </p:nvSpPr>
        <p:spPr>
          <a:xfrm>
            <a:off x="457200" y="0"/>
            <a:ext cx="843588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Школьный двор - это лицо школы, по нему проходят  будущие первоклассники, ученики школы, учителя, родители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Многие школьные мероприятия проводятся на школьном дворе. 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 он будет выглядеть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Цель проекта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лагоустроить школьный двор, сделать его красивым и уютны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pods"/>
          <p:cNvPicPr/>
          <p:nvPr/>
        </p:nvPicPr>
        <p:blipFill>
          <a:blip r:embed="rId1"/>
          <a:stretch/>
        </p:blipFill>
        <p:spPr>
          <a:xfrm>
            <a:off x="2484360" y="4052880"/>
            <a:ext cx="3240000" cy="28051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" descr=""/>
          <p:cNvPicPr/>
          <p:nvPr/>
        </p:nvPicPr>
        <p:blipFill>
          <a:blip r:embed="rId2"/>
          <a:stretch/>
        </p:blipFill>
        <p:spPr>
          <a:xfrm>
            <a:off x="0" y="2781360"/>
            <a:ext cx="3995640" cy="40766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"/>
          <p:cNvPicPr/>
          <p:nvPr/>
        </p:nvPicPr>
        <p:blipFill>
          <a:blip r:embed="rId3"/>
          <a:stretch/>
        </p:blipFill>
        <p:spPr>
          <a:xfrm>
            <a:off x="4356000" y="2781360"/>
            <a:ext cx="4788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imes New Roman"/>
              </a:rPr>
              <a:t>Задачи проекта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дать хорошие условия для учебы и отдыха школьников на территории школ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влечь внимание учащихся к природе, родной школ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дать клумбу, как наглядное пособие по предметам окружающего мира и биологи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Ожидаемые результаты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 результате   школьный двор станет уютным и красивы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школы появится ещё одна достопримечате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еники смогут проводить наблюдения и участвовать в работе на пришкольном участ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вное -  лицо школы станет красивее, чище и уютне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Возможность школьникам работать на пришкольном участке. Это учит работать в команде, поднимает чувство ответственности.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-353880" y="2733840"/>
            <a:ext cx="4925880" cy="37162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4551480" y="2733840"/>
            <a:ext cx="44784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9:27:24Z</dcterms:created>
  <dc:creator>Admin</dc:creator>
  <dc:description/>
  <dc:language>en-US</dc:language>
  <cp:lastModifiedBy>Vovchik777</cp:lastModifiedBy>
  <dcterms:modified xsi:type="dcterms:W3CDTF">2021-04-10T16:15:17Z</dcterms:modified>
  <cp:revision>68</cp:revision>
  <dc:subject/>
  <dc:title>Школьный двор - это лицо школы, по нему проходят  будущие первоклассники, ученики школы, родители. Традиционно выпускной вечер начинается со школьного двора.   Как он будет выглядеть?</dc:title>
</cp:coreProperties>
</file>