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6043-8791-4F2A-9683-241318A83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DD2-F4DA-4CE0-B5C4-DC6BC93673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81C-B9FD-48FB-9970-5084890C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138-2A3B-4BF1-8DD1-3396B92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12B-E79D-439A-B145-F61721A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77D-3DD0-45AC-A7BB-AAFEBC63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227-A657-4865-B386-FC59F44A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FD6C-2C97-4631-A76F-29B8188A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E10-4217-4C9A-B353-415FC4C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E39-15B7-410B-A3DC-3B844D1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AD30-5C24-45DA-B3DB-FE77846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FE7-003A-445C-A7CA-C5E51E39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254C-FB7B-4F18-A751-FE1C91A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8D2-B194-4826-BD90-21C34CE6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7DE-5A83-4366-AB70-A39413E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C97C-CCC9-48AB-855A-3C81E86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75EE-9299-4910-BDDA-803FBDB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A940-98F5-45BF-8619-AE02B8D7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C78-E4CE-4850-BAB7-962E9DA9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3C9-2409-4DB0-B1BF-CEF3A37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6BB-91A8-476E-AACE-3A3515A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B00-6D0B-48E5-89EF-A190B8C6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FFA-F2C4-4291-A831-8932FA85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38B-5437-44B9-988E-0881F2D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063-A769-411D-8C87-E402A49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670-B400-403E-9C22-C05C8D2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B7B-B98E-4E4B-AA02-33CD69245A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5FE-F798-42C6-9395-6520E8122E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507520" cy="79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0440" y="1413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Пассажиры одного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рабля по имени Земля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65360"/>
            <a:ext cx="86868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у выполнили: Учащиеся 8 клас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анова В., Ваджипова Э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йош С., Мкртчян Г., Мкртчян К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ров 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«Новоивановская средняя школ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: Шараева Надежда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овна, учитель би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0" y="2781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еловеку необходимо общение с природ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то делает его добрее, спокойней, радостней. Развивает его ум и фантазию, улучшает здоровье, поднимает настроение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и  будут ещё больше любить родную школу, заботиться о ней, гордиться ей. На школьном дворе они смогут работать, заниматься, отдыхать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бы очень хотели, чтобы мой школьный двор стал родным для каждого ученика в нашей школ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ект озеленения и благоустройства школьного двора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611280" y="1773360"/>
            <a:ext cx="82296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+mj-lt"/>
              </a:rPr>
              <a:t>Школьный двор – наша забо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+mj-lt"/>
              <a:ea typeface="+mj-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Все мы пассажиры одного корабля по имени Земля, -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начит, пересесть из него просто некуда».</a:t>
            </a:r>
            <a:br>
              <a:rPr sz="44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Антуан де Сент-Экзюпери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7" descr="Скачать бесплатно &quot;Планета Земля&quot; картинки для детей - подборка"/>
          <p:cNvPicPr/>
          <p:nvPr/>
        </p:nvPicPr>
        <p:blipFill>
          <a:blip r:embed="rId1"/>
          <a:stretch/>
        </p:blipFill>
        <p:spPr>
          <a:xfrm>
            <a:off x="776160" y="3357720"/>
            <a:ext cx="75916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457200" y="0"/>
            <a:ext cx="84358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Школьный двор - это лицо школы, по нему проходят  будущие первоклассники, ученики школы, учителя, родители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Многие школьные мероприятия проводятся на школьном дворе.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он будет выглядеть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Цель проект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лагоустроить школьный двор, сделать его красивым и уютны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pods"/>
          <p:cNvPicPr/>
          <p:nvPr/>
        </p:nvPicPr>
        <p:blipFill>
          <a:blip r:embed="rId1"/>
          <a:stretch/>
        </p:blipFill>
        <p:spPr>
          <a:xfrm>
            <a:off x="2484360" y="4052880"/>
            <a:ext cx="3240000" cy="2805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2"/>
          <a:stretch/>
        </p:blipFill>
        <p:spPr>
          <a:xfrm>
            <a:off x="0" y="2781360"/>
            <a:ext cx="3995640" cy="40766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"/>
          <p:cNvPicPr/>
          <p:nvPr/>
        </p:nvPicPr>
        <p:blipFill>
          <a:blip r:embed="rId3"/>
          <a:stretch/>
        </p:blipFill>
        <p:spPr>
          <a:xfrm>
            <a:off x="4356000" y="2781360"/>
            <a:ext cx="4788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чи проект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дать хорошие условия для учебы и отдыха школьников на территории школ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влечь внимание учащихся к природе, родной школ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дать клумбу, как наглядное пособие по предметам окружающего мира и биологи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Ожидаемые результаты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 результате   школьный двор станет уютным и красивы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школы появится ещё одна достопримечате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ки смогут проводить наблюдения и участвовать в работе на пришкольном участ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ое -  лицо школы станет красивее, чище и уютне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зможность школьникам работать на пришкольном участке. Это учит работать в команде, поднимает чувство ответственности.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-353880" y="2733840"/>
            <a:ext cx="4925880" cy="37162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4551480" y="2733840"/>
            <a:ext cx="44784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9:27:24Z</dcterms:created>
  <dc:creator>Admin</dc:creator>
  <dc:description/>
  <dc:language>en-US</dc:language>
  <cp:lastModifiedBy>Vovchik777</cp:lastModifiedBy>
  <dcterms:modified xsi:type="dcterms:W3CDTF">2021-04-10T16:15:17Z</dcterms:modified>
  <cp:revision>68</cp:revision>
  <dc:subject/>
  <dc:title>Школьный двор - это лицо школы, по нему проходят  будущие первоклассники, ученики школы, родители. Традиционно выпускной вечер начинается со школьного двора.   Как он будет выглядеть?</dc:title>
</cp:coreProperties>
</file>