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png" ContentType="image/png"/>
  <Override PartName="/ppt/media/image16.wmf" ContentType="image/x-wmf"/>
  <Override PartName="/ppt/media/image7.wmf" ContentType="image/x-wmf"/>
  <Override PartName="/ppt/media/image20.jpeg" ContentType="image/jpeg"/>
  <Override PartName="/ppt/media/image6.wmf" ContentType="image/x-wmf"/>
  <Override PartName="/ppt/media/image11.png" ContentType="image/png"/>
  <Override PartName="/ppt/media/image12.jpeg" ContentType="image/jpeg"/>
  <Override PartName="/ppt/media/image5.wmf" ContentType="image/x-wmf"/>
  <Override PartName="/ppt/media/image27.jpeg" ContentType="image/jpeg"/>
  <Override PartName="/ppt/media/image4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26.jpeg" ContentType="image/jpeg"/>
  <Override PartName="/ppt/media/image1.png" ContentType="image/png"/>
  <Override PartName="/ppt/media/image23.png" ContentType="image/png"/>
  <Override PartName="/ppt/media/image19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4.gif" ContentType="image/gif"/>
  <Override PartName="/ppt/media/image22.jpeg" ContentType="image/jpeg"/>
  <Override PartName="/ppt/media/image15.wmf" ContentType="image/x-wmf"/>
  <Override PartName="/ppt/media/image3.jpeg" ContentType="image/jpeg"/>
  <Override PartName="/ppt/media/image2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B40-8CC1-4182-B974-C484208A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70D-32A9-4EE9-8F0D-3FF82A14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C854-F4C4-4643-A443-9AC659DB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6EA7-7E58-498C-9FF0-065D5E6A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F669-B002-4E2C-8CDD-4B1DFE56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91CF-2ED4-4299-B2DE-CC272408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05BE-67C1-48B7-88C8-B1401C81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EB80-53FF-41D7-988A-DFBD6A5A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91B4-D063-44C8-AFD7-9E4F9C25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3D73-72A2-4DB8-BE62-F6239C90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D4B1-7470-4A2F-8D32-911E3C45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F180-5CB9-452E-B9C5-F11C3610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F395-3F13-4D95-8073-8D182540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1310-264A-4310-B4AF-14DCDF00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8BD3-2ECE-4F35-87F0-700D51BD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133E-676B-4869-8589-C14C096C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0606-D762-401F-826D-2E8A84C8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CAFDC-2AB7-4EA4-AB47-6BE97073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DD6F2-435D-4013-B025-F46B826A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20EC1-D824-4315-B445-7507FC5E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CD27A-64A8-4EA8-B614-42EFBC53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82551-944F-4D76-900D-E4AC7B1D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574F-3C8C-4447-98DC-43FDE97E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4BD06-580D-4F62-83A4-2E7B3EFA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E524D-984B-4C1F-B126-457E9545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52DA6-1D8E-4A68-A102-7A4B8586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53D72-2974-444C-A438-2DD77745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80980-3B05-4375-A041-B6C90A00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98855-B5C6-41FC-9EFB-2925767C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09B91-9CBE-45EF-9390-3493F7FD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42624-0E94-49C0-A72C-E5DBDE3F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5D091-63D1-45BF-8570-0608AFD0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32275-5494-4344-964C-8AD472CA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6FEA-C71A-45F9-8B80-39C5437F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A2E21-551C-43A8-A548-EF909DDA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19C25-28F6-4B5D-A2C7-C40C20F6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4514B-B2D5-4734-A944-E979BCFA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1588B-E63A-4F42-8C59-18ED1C89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F6B7A-5CCA-42D6-995B-48CA44A6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4AAA3-41C5-449C-87E3-54C27194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367F2-3598-4FAA-96BA-2F336601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9627C-A191-445B-B752-D4958139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C40AB-AC17-437B-81B3-4C7A7BB0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A12D5-5FD8-4A9C-85B5-3F69A047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3B31-4DF9-46C6-9903-D8A4B5FA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C3F1A-73D0-4616-B886-08F9ECEC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F71E5-C11A-4D7D-A98B-FCB64EBA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53956-7DFF-40DA-8330-7E885018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449D4-DF75-4B0C-85CD-0FFC2E8F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38E24-B490-40E1-BCEE-3D4A2DC4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069A4-5CBE-4C9A-9E7E-FBE72925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FC464-DE52-4E81-A272-F347E71C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F8FE8-4126-48C6-ADC6-F2F08EA2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56F9F-0CFA-4B93-9B28-90EEA507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8537F-BDE3-4E92-BFDC-2132370F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229-3541-41CB-82A7-ECC564F8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1871A-EAD4-45D9-B9BD-E3448F43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070E6-A114-45F2-9741-489887A9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E1A49-C74D-4D27-AB47-F9AB2449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45400-9BD8-4709-A7C0-7F341ECD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94E17-5A1C-4EC5-B9D9-2434BFA3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627A8-DDE3-424F-83CD-B5C21C84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E677E-DF34-45D2-9499-11F5C3F4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46FAC-2B1A-4449-BFF7-0A99D50F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746D1-D706-4742-A44F-7E5D374A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8B753-B04B-42F9-9A84-B9ABA5F7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18DE-CB56-4539-9A2B-CBC17B09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A3894-2820-47B7-BD42-B5F58E80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BD523-F61D-4A55-B79D-0E8919F2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49FBD-B0EF-41CC-B19B-00B3571E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5AE-5392-4109-8067-E185ADBB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B73-5D58-405E-B9B4-C10A1C4D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644e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E0D7-BEBE-427E-AF02-D90AB7CF4BF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644e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2948-1B05-419B-BF07-4AC39E16218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644e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4138-4BAA-43AE-84DD-7D6772B7987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644e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AC63-32FC-4948-B7A1-E45FCD78CBE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644e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AA9C-89F7-40DF-938A-3657582F932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644e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DD46-C367-472A-AB51-2B7DAA22A68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743040" y="11592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2700360" y="4581360"/>
            <a:ext cx="613872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Выполнила учитель начальных класс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ГБОУ  СОШ №547 Красносельского  района г. Санкт Петербурга Рындяева В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C:\Documents and Settings\User\Рабочий стол\картинки\0009-009-Pri-passivnom-kurenii-nekurjaschij-chelovek-stradaet-bolshe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82280" cy="1663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536040" y="2236320"/>
            <a:ext cx="5457960" cy="36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2700" spc="-1" strike="noStrike">
                <a:solidFill>
                  <a:srgbClr val="4e3b30"/>
                </a:solidFill>
                <a:latin typeface="Times New Roman"/>
              </a:rPr>
              <a:t>Сигареты — никотин,</a:t>
            </a:r>
            <a:br>
              <a:rPr sz="2700"/>
            </a:br>
            <a:r>
              <a:rPr b="1" lang="ru-RU" sz="2700" spc="-1" strike="noStrike">
                <a:solidFill>
                  <a:srgbClr val="c00000"/>
                </a:solidFill>
                <a:latin typeface="Times New Roman"/>
              </a:rPr>
              <a:t>ВРАГ </a:t>
            </a:r>
            <a:r>
              <a:rPr b="1" lang="ru-RU" sz="2700" spc="-1" strike="noStrike">
                <a:solidFill>
                  <a:srgbClr val="4e3b30"/>
                </a:solidFill>
                <a:latin typeface="Times New Roman"/>
              </a:rPr>
              <a:t>всему номер один!</a:t>
            </a:r>
            <a:br>
              <a:rPr sz="2700"/>
            </a:br>
            <a:r>
              <a:rPr b="1" lang="ru-RU" sz="2700" spc="-1" strike="noStrike">
                <a:solidFill>
                  <a:srgbClr val="4e3b30"/>
                </a:solidFill>
                <a:latin typeface="Times New Roman"/>
              </a:rPr>
              <a:t>Курят, что аж дым столбом!</a:t>
            </a:r>
            <a:br>
              <a:rPr sz="2700"/>
            </a:br>
            <a:r>
              <a:rPr b="1" lang="ru-RU" sz="2700" spc="-1" strike="noStrike">
                <a:solidFill>
                  <a:srgbClr val="4e3b30"/>
                </a:solidFill>
                <a:latin typeface="Times New Roman"/>
              </a:rPr>
              <a:t>Отравляют табаком,</a:t>
            </a:r>
            <a:br>
              <a:rPr sz="2700"/>
            </a:br>
            <a:r>
              <a:rPr b="1" lang="ru-RU" sz="2700" spc="-1" strike="noStrike">
                <a:solidFill>
                  <a:srgbClr val="4e3b30"/>
                </a:solidFill>
                <a:latin typeface="Times New Roman"/>
              </a:rPr>
              <a:t>Не заботясь о здоровье —</a:t>
            </a:r>
            <a:br>
              <a:rPr sz="2700"/>
            </a:br>
            <a:r>
              <a:rPr b="1" lang="ru-RU" sz="2700" spc="-1" strike="noStrike">
                <a:solidFill>
                  <a:srgbClr val="4e3b30"/>
                </a:solidFill>
                <a:latin typeface="Times New Roman"/>
              </a:rPr>
              <a:t>Ни о своем, ни о чужом.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8" name="Picture 5" descr="img4"/>
          <p:cNvPicPr/>
          <p:nvPr/>
        </p:nvPicPr>
        <p:blipFill>
          <a:blip r:embed="rId2"/>
          <a:stretch/>
        </p:blipFill>
        <p:spPr>
          <a:xfrm>
            <a:off x="5410080" y="2057400"/>
            <a:ext cx="31291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914400" y="262080"/>
            <a:ext cx="8229600" cy="14875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4"/>
          <p:cNvSpPr/>
          <p:nvPr/>
        </p:nvSpPr>
        <p:spPr>
          <a:xfrm>
            <a:off x="755640" y="2421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НИКОТИН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5364000" y="242100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АЛКОГОЛЬ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2627280" y="3789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НАРКОТИКИ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3" name="Line 7"/>
          <p:cNvSpPr/>
          <p:nvPr/>
        </p:nvSpPr>
        <p:spPr>
          <a:xfrm flipH="1">
            <a:off x="2050920" y="1268280"/>
            <a:ext cx="165744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Line 8"/>
          <p:cNvSpPr/>
          <p:nvPr/>
        </p:nvSpPr>
        <p:spPr>
          <a:xfrm>
            <a:off x="4500720" y="126828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Line 9"/>
          <p:cNvSpPr/>
          <p:nvPr/>
        </p:nvSpPr>
        <p:spPr>
          <a:xfrm>
            <a:off x="5435640" y="1268280"/>
            <a:ext cx="1368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66" name="Picture 11" descr="img2"/>
          <p:cNvPicPr/>
          <p:nvPr/>
        </p:nvPicPr>
        <p:blipFill>
          <a:blip r:embed="rId2"/>
          <a:stretch/>
        </p:blipFill>
        <p:spPr>
          <a:xfrm>
            <a:off x="468360" y="3141720"/>
            <a:ext cx="2590920" cy="252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3" descr="1319188533_protiv_alkogolia"/>
          <p:cNvPicPr/>
          <p:nvPr/>
        </p:nvPicPr>
        <p:blipFill>
          <a:blip r:embed="rId3"/>
          <a:stretch/>
        </p:blipFill>
        <p:spPr>
          <a:xfrm>
            <a:off x="6443640" y="3068640"/>
            <a:ext cx="2181240" cy="22240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5" descr="Narkotik_put_v_nikuda"/>
          <p:cNvPicPr/>
          <p:nvPr/>
        </p:nvPicPr>
        <p:blipFill>
          <a:blip r:embed="rId4"/>
          <a:stretch/>
        </p:blipFill>
        <p:spPr>
          <a:xfrm>
            <a:off x="4067280" y="4365720"/>
            <a:ext cx="14414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71" name="Picture 2" descr="C:\Documents and Settings\User\Рабочий стол\картинки\1391695623_77315244_1.jpg"/>
          <p:cNvPicPr/>
          <p:nvPr/>
        </p:nvPicPr>
        <p:blipFill>
          <a:blip r:embed="rId1"/>
          <a:stretch/>
        </p:blipFill>
        <p:spPr>
          <a:xfrm>
            <a:off x="271440" y="404640"/>
            <a:ext cx="8559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C:\Documents and Settings\User\Рабочий стол\картинки\0012-012-TSarstvo-poleznykh-privychek.jpg"/>
          <p:cNvPicPr/>
          <p:nvPr/>
        </p:nvPicPr>
        <p:blipFill>
          <a:blip r:embed="rId1"/>
          <a:stretch/>
        </p:blipFill>
        <p:spPr>
          <a:xfrm>
            <a:off x="108000" y="115920"/>
            <a:ext cx="8856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4700520" y="435240"/>
            <a:ext cx="44769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a195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от те добрые совет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 них и спрятаны секрет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Как здоровье сохранит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Научись его ценить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74" name="Picture 2" descr="D:\клипарты\люди\8f4b51960c7f.png"/>
          <p:cNvPicPr/>
          <p:nvPr/>
        </p:nvPicPr>
        <p:blipFill>
          <a:blip r:embed="rId1"/>
          <a:stretch/>
        </p:blipFill>
        <p:spPr>
          <a:xfrm>
            <a:off x="642960" y="1500120"/>
            <a:ext cx="4599000" cy="4916520"/>
          </a:xfrm>
          <a:prstGeom prst="rect">
            <a:avLst/>
          </a:prstGeom>
          <a:ln w="0">
            <a:noFill/>
          </a:ln>
        </p:spPr>
      </p:pic>
      <p:pic>
        <p:nvPicPr>
          <p:cNvPr id="375" name="Запи484.WAV" descr=""/>
          <p:cNvPicPr/>
          <p:nvPr/>
        </p:nvPicPr>
        <p:blipFill>
          <a:blip r:embed="rId2"/>
          <a:stretch/>
        </p:blipFill>
        <p:spPr>
          <a:xfrm>
            <a:off x="810108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0000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16" name="Picture 2" descr="C:\Documents and Settings\User\Рабочий стол\картинки\vrednye-privychki-2-3-4-klass2.jpg"/>
          <p:cNvPicPr/>
          <p:nvPr/>
        </p:nvPicPr>
        <p:blipFill>
          <a:blip r:embed="rId1"/>
          <a:stretch/>
        </p:blipFill>
        <p:spPr>
          <a:xfrm>
            <a:off x="395280" y="306360"/>
            <a:ext cx="8497800" cy="638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f7f7f"/>
                </a:solidFill>
                <a:latin typeface="Franklin Gothic Medium"/>
              </a:rPr>
              <a:t>«УМЕРЕННЫЙ В ЕДЕ - ВСЕГДА ЗДОРОВ!»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0520" y="1905120"/>
            <a:ext cx="39625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Я люблю покушать сытно,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Много, вкусно, аппетитно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Ем я все и без разбора,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Потому что я…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                                </a:t>
            </a:r>
            <a:r>
              <a:rPr b="1" i="1" lang="ru-RU" sz="2200" spc="-1" strike="noStrike">
                <a:solidFill>
                  <a:srgbClr val="4e3b30"/>
                </a:solidFill>
                <a:latin typeface="Franklin Gothic Book"/>
              </a:rPr>
              <a:t>обжор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19" name="Picture 9" descr="Рисунок1"/>
          <p:cNvPicPr/>
          <p:nvPr/>
        </p:nvPicPr>
        <p:blipFill>
          <a:blip r:embed="rId1"/>
          <a:srcRect l="3405" t="16265" r="68803" b="51186"/>
          <a:stretch/>
        </p:blipFill>
        <p:spPr>
          <a:xfrm>
            <a:off x="609480" y="4724280"/>
            <a:ext cx="2057400" cy="1839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Рисунок1"/>
          <p:cNvPicPr/>
          <p:nvPr/>
        </p:nvPicPr>
        <p:blipFill>
          <a:blip r:embed="rId2"/>
          <a:srcRect l="3931" t="60356" r="67662" b="4552"/>
          <a:stretch/>
        </p:blipFill>
        <p:spPr>
          <a:xfrm>
            <a:off x="6248520" y="2209680"/>
            <a:ext cx="2209680" cy="1809720"/>
          </a:xfrm>
          <a:prstGeom prst="rect">
            <a:avLst/>
          </a:prstGeom>
          <a:ln w="0">
            <a:noFill/>
          </a:ln>
        </p:spPr>
      </p:pic>
      <p:sp>
        <p:nvSpPr>
          <p:cNvPr id="321" name="WordArt 11"/>
          <p:cNvSpPr txBox="1"/>
          <p:nvPr/>
        </p:nvSpPr>
        <p:spPr>
          <a:xfrm>
            <a:off x="5943600" y="1905120"/>
            <a:ext cx="28195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неправильное пит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322" name="WordArt 12"/>
          <p:cNvSpPr txBox="1"/>
          <p:nvPr/>
        </p:nvSpPr>
        <p:spPr>
          <a:xfrm>
            <a:off x="380880" y="4343400"/>
            <a:ext cx="26672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d1f1f"/>
                </a:solidFill>
                <a:latin typeface="Arial"/>
              </a:rPr>
              <a:t>правильное пит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d1f1f"/>
              </a:solidFill>
              <a:latin typeface="Arial"/>
              <a:ea typeface="Arial"/>
            </a:endParaRPr>
          </a:p>
        </p:txBody>
      </p:sp>
      <p:sp>
        <p:nvSpPr>
          <p:cNvPr id="323" name="Rectangle 16"/>
          <p:cNvSpPr/>
          <p:nvPr/>
        </p:nvSpPr>
        <p:spPr>
          <a:xfrm>
            <a:off x="5181480" y="4419360"/>
            <a:ext cx="3886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бы десны были крепкими,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ызи морковку с репкою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бы зубы не болели,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место пряников, конфет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шьте яблоки, морковку –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т вам, дети, мой совет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Line 18"/>
          <p:cNvSpPr/>
          <p:nvPr/>
        </p:nvSpPr>
        <p:spPr>
          <a:xfrm>
            <a:off x="4191120" y="28195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diamond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Line 19"/>
          <p:cNvSpPr/>
          <p:nvPr/>
        </p:nvSpPr>
        <p:spPr>
          <a:xfrm flipH="1">
            <a:off x="3048120" y="5105520"/>
            <a:ext cx="175248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diamond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543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ПОЛЕЗНЫЕ И ВРЕДНЫЕ ПРОДУКТЫ: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28" name="Picture 13" descr="FD00188_"/>
          <p:cNvPicPr/>
          <p:nvPr/>
        </p:nvPicPr>
        <p:blipFill>
          <a:blip r:embed="rId1"/>
          <a:stretch/>
        </p:blipFill>
        <p:spPr>
          <a:xfrm>
            <a:off x="4267080" y="1143000"/>
            <a:ext cx="2305080" cy="1447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4" descr="FD00961_"/>
          <p:cNvPicPr/>
          <p:nvPr/>
        </p:nvPicPr>
        <p:blipFill>
          <a:blip r:embed="rId2"/>
          <a:stretch/>
        </p:blipFill>
        <p:spPr>
          <a:xfrm>
            <a:off x="6781680" y="2590920"/>
            <a:ext cx="2001960" cy="17827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5" descr="FD00963_"/>
          <p:cNvPicPr/>
          <p:nvPr/>
        </p:nvPicPr>
        <p:blipFill>
          <a:blip r:embed="rId3"/>
          <a:stretch/>
        </p:blipFill>
        <p:spPr>
          <a:xfrm>
            <a:off x="5029200" y="5013360"/>
            <a:ext cx="1736640" cy="18446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6"/>
          <p:cNvSpPr/>
          <p:nvPr/>
        </p:nvSpPr>
        <p:spPr>
          <a:xfrm>
            <a:off x="152280" y="13694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Надо кушать помидоры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Фрукты, овощи, лимоны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Кашу – утром, суп – в обед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А на ужин – винегрет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2" name="Rectangle 17"/>
          <p:cNvSpPr/>
          <p:nvPr/>
        </p:nvSpPr>
        <p:spPr>
          <a:xfrm>
            <a:off x="2362320" y="3121920"/>
            <a:ext cx="487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23227"/>
                </a:solidFill>
                <a:latin typeface="Times New Roman"/>
              </a:rPr>
              <a:t>Ну, а если свой обед</a:t>
            </a:r>
            <a:br>
              <a:rPr sz="2400"/>
            </a:br>
            <a:r>
              <a:rPr b="1" lang="ru-RU" sz="2400" spc="-1" strike="noStrike">
                <a:solidFill>
                  <a:srgbClr val="523227"/>
                </a:solidFill>
                <a:latin typeface="Times New Roman"/>
              </a:rPr>
              <a:t>Ты начнешь с кулька конфет,</a:t>
            </a:r>
            <a:br>
              <a:rPr sz="2400"/>
            </a:br>
            <a:r>
              <a:rPr b="1" lang="ru-RU" sz="2400" spc="-1" strike="noStrike">
                <a:solidFill>
                  <a:srgbClr val="523227"/>
                </a:solidFill>
                <a:latin typeface="Times New Roman"/>
              </a:rPr>
              <a:t>Жвачкой импортной закусишь,</a:t>
            </a:r>
            <a:br>
              <a:rPr sz="2400"/>
            </a:br>
            <a:r>
              <a:rPr b="1" lang="ru-RU" sz="2400" spc="-1" strike="noStrike">
                <a:solidFill>
                  <a:srgbClr val="523227"/>
                </a:solidFill>
                <a:latin typeface="Times New Roman"/>
              </a:rPr>
              <a:t>Шоколадом подсластишь,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Rectangle 18"/>
          <p:cNvSpPr/>
          <p:nvPr/>
        </p:nvSpPr>
        <p:spPr>
          <a:xfrm>
            <a:off x="457200" y="495072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7242"/>
                </a:solidFill>
                <a:latin typeface="Times New Roman"/>
              </a:rPr>
              <a:t>То тогда наверняка</a:t>
            </a:r>
            <a:br>
              <a:rPr sz="2400"/>
            </a:br>
            <a:r>
              <a:rPr b="1" lang="ru-RU" sz="2400" spc="-1" strike="noStrike">
                <a:solidFill>
                  <a:srgbClr val="a27242"/>
                </a:solidFill>
                <a:latin typeface="Times New Roman"/>
              </a:rPr>
              <a:t>Ваши спутники всегда -</a:t>
            </a:r>
            <a:br>
              <a:rPr sz="2400"/>
            </a:br>
            <a:r>
              <a:rPr b="1" lang="ru-RU" sz="2400" spc="-1" strike="noStrike">
                <a:solidFill>
                  <a:srgbClr val="a27242"/>
                </a:solidFill>
                <a:latin typeface="Times New Roman"/>
              </a:rPr>
              <a:t>Близорукость, бледный вид</a:t>
            </a:r>
            <a:br>
              <a:rPr sz="2400"/>
            </a:br>
            <a:r>
              <a:rPr b="1" lang="ru-RU" sz="2400" spc="-1" strike="noStrike">
                <a:solidFill>
                  <a:srgbClr val="a27242"/>
                </a:solidFill>
                <a:latin typeface="Times New Roman"/>
              </a:rPr>
              <a:t>И неважный аппетит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171360" y="324000"/>
            <a:ext cx="8972640" cy="148572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6"/>
          <p:cNvSpPr/>
          <p:nvPr/>
        </p:nvSpPr>
        <p:spPr>
          <a:xfrm>
            <a:off x="468360" y="1413000"/>
            <a:ext cx="5040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Franklin Gothic Book"/>
              </a:rPr>
              <a:t>1. Главное – не переедайте. Ешьте в меру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Franklin Gothic Book"/>
              </a:rPr>
              <a:t>2. Тщательно пережевывайте пищу, не спешите глотать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Franklin Gothic Book"/>
              </a:rPr>
              <a:t>3. Перед едой мойте руки с мылом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Franklin Gothic Book"/>
              </a:rPr>
              <a:t>4. Фрукты и овощи надо хорошо мыть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Franklin Gothic Book"/>
              </a:rPr>
              <a:t>5. Во время еды не разговаривайте  и  не читайте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36" name="Picture 7" descr="девочка"/>
          <p:cNvPicPr/>
          <p:nvPr/>
        </p:nvPicPr>
        <p:blipFill>
          <a:blip r:embed="rId2"/>
          <a:stretch/>
        </p:blipFill>
        <p:spPr>
          <a:xfrm>
            <a:off x="6443640" y="1197000"/>
            <a:ext cx="2428920" cy="2627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мальчик"/>
          <p:cNvPicPr/>
          <p:nvPr/>
        </p:nvPicPr>
        <p:blipFill>
          <a:blip r:embed="rId3"/>
          <a:stretch/>
        </p:blipFill>
        <p:spPr>
          <a:xfrm>
            <a:off x="5867280" y="4005360"/>
            <a:ext cx="2770200" cy="243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"/>
          <p:cNvSpPr/>
          <p:nvPr/>
        </p:nvSpPr>
        <p:spPr>
          <a:xfrm>
            <a:off x="5076720" y="1084320"/>
            <a:ext cx="331956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a195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огтей не чисти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подстригае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 своих знакомы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о пугает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с ногтями грязным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ными и острым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очень просто ва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утать с монстрам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39" name="Запи422.WAV" descr=""/>
          <p:cNvPicPr/>
          <p:nvPr/>
        </p:nvPicPr>
        <p:blipFill>
          <a:blip r:embed="rId1"/>
          <a:stretch/>
        </p:blipFill>
        <p:spPr>
          <a:xfrm>
            <a:off x="8523360" y="5899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http://spas-extreme.ru/images/multimedia/8F4314E9D691102E5B2CE6FF1BC9290A.JPG"/>
          <p:cNvPicPr/>
          <p:nvPr/>
        </p:nvPicPr>
        <p:blipFill>
          <a:blip r:embed="rId2"/>
          <a:stretch/>
        </p:blipFill>
        <p:spPr>
          <a:xfrm>
            <a:off x="179280" y="557280"/>
            <a:ext cx="3961080" cy="558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5000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4760" y="249120"/>
            <a:ext cx="8015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«ЧИСТОТА – ЗАЛОГ ЗДОРОВЬЯ!»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3" name="Picture 4" descr="HH01303_"/>
          <p:cNvPicPr/>
          <p:nvPr/>
        </p:nvPicPr>
        <p:blipFill>
          <a:blip r:embed="rId1"/>
          <a:stretch/>
        </p:blipFill>
        <p:spPr>
          <a:xfrm>
            <a:off x="6705720" y="4191120"/>
            <a:ext cx="2340000" cy="232704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1"/>
          <p:cNvSpPr/>
          <p:nvPr/>
        </p:nvSpPr>
        <p:spPr>
          <a:xfrm>
            <a:off x="324000" y="1844640"/>
            <a:ext cx="72723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бы быть здоровым,  сильным,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й лицо и руки с мылом.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удь аккуратен, забудь лень !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исти зубы каждый день !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e3b30"/>
                </a:solidFill>
                <a:latin typeface="Times New Roman"/>
              </a:rPr>
              <a:t>«КТО СПОРТОМ ЗАНИМАЕТСЯ, </a:t>
            </a:r>
            <a:br>
              <a:rPr sz="2900"/>
            </a:br>
            <a:r>
              <a:rPr b="1" lang="ru-RU" sz="2900" spc="-1" strike="noStrike">
                <a:solidFill>
                  <a:srgbClr val="4e3b30"/>
                </a:solidFill>
                <a:latin typeface="Times New Roman"/>
              </a:rPr>
              <a:t>                        ТОТ СИЛЫ НАБИРАЕТСЯ»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80880" y="1752120"/>
            <a:ext cx="792504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порт нам плечи расправляет,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илу, ловкость нам дает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н нам мышцы развивает,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На рекорды нас зовет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7" name="Picture 4" descr="62r4"/>
          <p:cNvPicPr/>
          <p:nvPr/>
        </p:nvPicPr>
        <p:blipFill>
          <a:blip r:embed="rId1"/>
          <a:stretch/>
        </p:blipFill>
        <p:spPr>
          <a:xfrm>
            <a:off x="6629400" y="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PE01250_"/>
          <p:cNvPicPr/>
          <p:nvPr/>
        </p:nvPicPr>
        <p:blipFill>
          <a:blip r:embed="rId2"/>
          <a:stretch/>
        </p:blipFill>
        <p:spPr>
          <a:xfrm>
            <a:off x="4800600" y="4419720"/>
            <a:ext cx="1488960" cy="17524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PE01263_"/>
          <p:cNvPicPr/>
          <p:nvPr/>
        </p:nvPicPr>
        <p:blipFill>
          <a:blip r:embed="rId3"/>
          <a:stretch/>
        </p:blipFill>
        <p:spPr>
          <a:xfrm>
            <a:off x="6705720" y="2286000"/>
            <a:ext cx="2057400" cy="16747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g"/>
          <p:cNvPicPr/>
          <p:nvPr/>
        </p:nvPicPr>
        <p:blipFill>
          <a:blip r:embed="rId4"/>
          <a:stretch/>
        </p:blipFill>
        <p:spPr>
          <a:xfrm>
            <a:off x="6781680" y="4267080"/>
            <a:ext cx="1447920" cy="13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"/>
          <p:cNvSpPr/>
          <p:nvPr/>
        </p:nvSpPr>
        <p:spPr>
          <a:xfrm>
            <a:off x="4729680" y="363600"/>
            <a:ext cx="408204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a195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се ребята точно знаю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Что куренье – это вред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Тот кто курит, заража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И себя, и рядом всех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52" name="Запи437.WAV" descr=""/>
          <p:cNvPicPr/>
          <p:nvPr/>
        </p:nvPicPr>
        <p:blipFill>
          <a:blip r:embed="rId1"/>
          <a:stretch/>
        </p:blipFill>
        <p:spPr>
          <a:xfrm>
            <a:off x="8532720" y="76500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http://www.russlav.ru/pict/vred_kureniya-1.jpg"/>
          <p:cNvPicPr/>
          <p:nvPr/>
        </p:nvPicPr>
        <p:blipFill>
          <a:blip r:embed="rId2"/>
          <a:stretch/>
        </p:blipFill>
        <p:spPr>
          <a:xfrm>
            <a:off x="3260880" y="3279600"/>
            <a:ext cx="5286240" cy="63770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http://img0.liveinternet.ru/images/attach/c/1/51/362/51362293_kurenie.jpg"/>
          <p:cNvPicPr/>
          <p:nvPr/>
        </p:nvPicPr>
        <p:blipFill>
          <a:blip r:embed="rId3"/>
          <a:stretch/>
        </p:blipFill>
        <p:spPr>
          <a:xfrm>
            <a:off x="285840" y="214200"/>
            <a:ext cx="3787560" cy="30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5" dur="10000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1-30T07:39:50Z</dcterms:modified>
  <cp:revision>23</cp:revision>
  <dc:subject/>
  <dc:title>Презентация PowerPoint</dc:title>
</cp:coreProperties>
</file>