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0F6-A39F-4E3C-B9FE-471B465E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0CC-B85F-4BA6-9913-BB8E00E3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D66-11E2-4D4D-8F8E-41BCF86A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DBF-D4F6-4698-A2E7-C3C5AA4C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D3E-7E34-4372-9F41-F9DCA5D0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EAF-EDB0-40BA-8488-4173A70B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B50-4C38-4C2E-BDDD-E102AE55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712-E421-42AF-9B96-3A29B4B7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946-4B4F-41B8-BB83-DBC8D193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6B8-EA74-4313-B6FF-A19ACD4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F07-AA7C-4A21-B860-CAF6EF86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D08-99FB-40C9-99F5-91C0363A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447E-26EC-42AF-B83E-594C074B3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 апреля –День Космонав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207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351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2803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064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280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да он из космоса увидел нашу Землю, он воскликнул: «Красота-то кака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04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0T17:26:10Z</dcterms:created>
  <dc:creator>Пользователь Windows</dc:creator>
  <dc:description/>
  <dc:language>en-US</dc:language>
  <cp:lastModifiedBy>Пользователь Windows</cp:lastModifiedBy>
  <dcterms:modified xsi:type="dcterms:W3CDTF">2021-04-11T10:15:30Z</dcterms:modified>
  <cp:revision>6</cp:revision>
  <dc:subject/>
  <dc:title>Слайд 1</dc:title>
</cp:coreProperties>
</file>