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AB2-13BA-4BEC-BD3A-DF8997A0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2A3-2804-4E77-BB6A-9461937F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92C-D2C1-422A-AE83-67F9E334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588-BC3D-42C2-BA10-8851644B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10F-1C87-4AEF-95D9-67111071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E57-1CAC-4FB7-96F9-C9B682DD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C0E-8FD5-4F9D-9687-36BE2C8B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984-1562-49D3-A0D2-0AA1E090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3EC-546D-4439-92E8-65C05EE9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D76-D069-4FA2-B89E-76ED6C7E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57B-6C90-4B91-B96F-43E804C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272-1C5F-464C-A0E4-C7A31577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2BCE-8E90-493D-9CC9-B594A829E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 апреля –День Космонав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8207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351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828036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353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064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8280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56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56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да он из космоса увидел нашу Землю, он воскликнул: «Красота-то какая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04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569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0T17:26:10Z</dcterms:created>
  <dc:creator>Пользователь Windows</dc:creator>
  <dc:description/>
  <dc:language>en-US</dc:language>
  <cp:lastModifiedBy>Пользователь Windows</cp:lastModifiedBy>
  <dcterms:modified xsi:type="dcterms:W3CDTF">2021-04-11T10:15:30Z</dcterms:modified>
  <cp:revision>6</cp:revision>
  <dc:subject/>
  <dc:title>Слайд 1</dc:title>
</cp:coreProperties>
</file>