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5.wmf" ContentType="image/x-wmf"/>
  <Override PartName="/ppt/media/image3.gif" ContentType="image/gif"/>
  <Override PartName="/ppt/media/image4.wmf" ContentType="image/x-wmf"/>
  <Override PartName="/ppt/media/image6.jpeg" ContentType="image/jpeg"/>
  <Override PartName="/ppt/media/image7.wmf" ContentType="image/x-wmf"/>
  <Override PartName="/ppt/media/image8.gif" ContentType="image/gif"/>
  <Override PartName="/ppt/media/image9.wmf" ContentType="image/x-wmf"/>
  <Override PartName="/ppt/media/image11.gif" ContentType="image/gif"/>
  <Override PartName="/ppt/media/image10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7804-B58B-4D8F-888A-128D1ECBC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98FB-C96B-4BF6-B58B-3DACF3E8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FA32-ED3A-40BF-88CD-7E41197AF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70AE-1A10-4FCE-B87F-EDE2E4896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338F-E644-4384-AA37-6BA9F7E12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751C-DDCC-4B05-91B0-4FFCAA93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FCC3B-A851-46AC-B24B-B27DEBA3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F638-F0C6-4287-AEC5-1723A7CD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910E6-453F-4ACE-9D1F-C7431241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5B3E-9C08-42BF-AB0B-CBE672EB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40B2-7584-4E91-860E-17C4D771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D034-3F73-4E3F-A2AB-DF6DE433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EE27-DDDD-4743-A752-BF0AA56A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65FB-241C-47D1-AA7E-4D45D511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4A30-4F51-4DAC-8976-1F44D644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9633-6F9C-45B6-9E6F-A994D416B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83BE-A303-4B1E-9157-9B4B83502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85921D-0B70-407C-9AE6-8E7E932B9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200CAD-6C43-4194-B11A-27A0749A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5C1627-69E5-4204-925D-01E283CB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D43DD8-ADB5-4298-9CFB-74503B72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9E70EB-A0F2-4A38-B724-31AA3597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4039-2387-4F1E-A35F-DB6AC045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32478B-8B24-4F24-8A29-8E0AF7AB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8EBC9A-8921-46DC-B53B-86AFDA98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3DCD90-F9F9-42F8-8F74-395267A7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195F77-6A69-44B4-B44C-4EEFDAA4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A49513-DBF6-48BA-A397-348162A4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3B7E7C-5116-4A83-A34D-E8743B89A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C5974F-0427-4B4D-9365-C134D7134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9AFB3-AC68-4F38-87D7-36B269A1F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6C428-2097-417D-B288-7EA4E30C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3372C-9384-45FB-9F1F-AB3EA455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BB1E-723E-4571-B508-4E39B048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570DF-B09E-44E7-8D67-10428ADF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02C16-5ED5-45C3-A551-2F096F03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059C6-B33D-4CEB-BBBB-1F0C86EE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92206-A5C3-4F17-88EF-D9B9A282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ED9B1-42D9-4E5F-8149-CDB431BA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ECB2E-6249-4775-A777-C0160FD7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C6CCE-4809-4903-BB10-8ACF6CC1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B4E14-7A64-45DC-922C-CE295AF46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57BCD-A9F0-46B6-88B7-09BBC47C4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A91EDA-A6C5-41EB-81AF-43BC263B5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1E41-F281-41CF-93E1-D63C201B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6E0EF6-8718-4FD6-8FF8-7167C786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88048A-0A95-442F-A0C9-33E35796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8FE7E4-243D-4B1D-BFC3-ED726726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4D7570-6762-4A6C-89EE-A167BE5A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752977-4603-4F2C-80E9-BC883BB1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88B77B-A030-4456-B2B1-ED6C0DE3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5481ED-849A-45D7-9C10-CBA94D9B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749EC2-4F5C-4168-88E9-5AC85F72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DA2F9C-8925-4711-A28E-F0D7C39C4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0B623F-C611-427B-AEE1-3788F86A6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4886-52A1-409B-8618-633E5FEB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94FB2B-D1A6-486F-A8EB-B1F2AE735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027744-A18D-4A78-A18E-B912074C5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1740D0-F29C-4089-8B96-679B56FC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1C0BFA-DDA9-45C1-B34E-CA37CCA0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8E6DF8-77F3-46C8-AB4A-B73FA261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1EBCAE-C93B-4012-8C41-2000CAF9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18AD84-F3DD-4EA2-A57C-BFAF1E25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B4F473-8E97-44AE-8DCE-187C3F38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4B970F-3BB9-4C47-B992-A3C48FA1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08443B-8DF7-4972-800A-91312A79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21DA-7100-4123-AE8F-CDFD7BA5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867390-19C6-4F37-AF86-43F0F9F8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B4DEEC-4EDB-4AC5-9496-8DAB2D796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0CB598-066A-434C-96CE-DCE2EA85F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1660EB-352D-4E85-9896-B36AEDFCF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A5F59E-1351-445D-9831-4BB52ECD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F6265A-AC94-453E-9AAB-AFD6D6EE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15CE4B-F6BD-435F-BF7E-C402B77B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9A5CB9-33A2-411F-8746-29604E8D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02C886-75C5-4485-8C17-37515CA0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9CA6B9-2C20-4B5B-9093-E2F4209C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FE03-10BE-4480-A13A-5467C524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94CA30-B120-4BA8-A352-E5687777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CCFFCB-FCBA-4DB8-B102-C4877E06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3B212B-831A-49FE-AE37-FC50B6EE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EA804C-1E07-4F1F-A893-D8DF2C39B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F74809-FC1D-488B-9AAA-75BB56928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DBC6-B402-41B9-AAEA-0A024609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29F3-813E-4168-8D82-D8C96D8FADB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DC71-1AF5-4C4A-94EF-B413B24C7E4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9459-256A-4DFE-9DB4-2C4B9119B1F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6C56-F662-4614-9528-72463D4405E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AB76-BDD5-4AEE-A519-856B086CAA1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CCD2-015D-4E43-BFAB-A8BA7830059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E562-89CF-48E0-93BC-9B09D6F11CB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23640" y="1268280"/>
            <a:ext cx="61722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000" spc="-1" strike="noStrike">
              <a:solidFill>
                <a:srgbClr val="0070c0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3213000"/>
            <a:ext cx="6172200" cy="31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entury Schoolbook"/>
              </a:rPr>
              <a:t>Среднее арифметическое чисел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  </a:t>
            </a: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         </a:t>
            </a: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Учитель математики: Рузанова И.М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              </a:t>
            </a: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НЧУОО «Частная школа « Бнот Менахем»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                </a:t>
            </a: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г. Москв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4" descr="j0238036"/>
          <p:cNvPicPr/>
          <p:nvPr/>
        </p:nvPicPr>
        <p:blipFill>
          <a:blip r:embed="rId1"/>
          <a:stretch/>
        </p:blipFill>
        <p:spPr>
          <a:xfrm>
            <a:off x="684360" y="260280"/>
            <a:ext cx="277812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3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2268000" y="333360"/>
            <a:ext cx="687564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Решение задачи: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1 число – 3х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2 число – х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Ср. арифметическое 22,8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(3х + х) : 2 = 22,8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2х = 22,8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х = 22,8 : 2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х = 11,4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11,4 – первое число, 34,2 – второе число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2" name="Picture 5" descr="Рисунок1цыцвы"/>
          <p:cNvPicPr/>
          <p:nvPr/>
        </p:nvPicPr>
        <p:blipFill>
          <a:blip r:embed="rId1"/>
          <a:stretch/>
        </p:blipFill>
        <p:spPr>
          <a:xfrm rot="20895600">
            <a:off x="-709560" y="314280"/>
            <a:ext cx="3313080" cy="22226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6" descr="book"/>
          <p:cNvPicPr/>
          <p:nvPr/>
        </p:nvPicPr>
        <p:blipFill>
          <a:blip r:embed="rId2"/>
          <a:stretch/>
        </p:blipFill>
        <p:spPr>
          <a:xfrm>
            <a:off x="324000" y="5084640"/>
            <a:ext cx="2303280" cy="14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2268000" y="333360"/>
            <a:ext cx="687564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Самостоятельная работа: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Выполнить деление с проверкой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entury Schoolbook"/>
              </a:rPr>
              <a:t>17,5 : 7       </a:t>
            </a:r>
            <a:r>
              <a:rPr b="1" lang="ru-RU" sz="4000" spc="-1" strike="noStrike">
                <a:solidFill>
                  <a:srgbClr val="00b050"/>
                </a:solidFill>
                <a:latin typeface="Century Schoolbook"/>
              </a:rPr>
              <a:t>75,5 : 5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entury Schoolbook"/>
              </a:rPr>
              <a:t>0,549 : 6     </a:t>
            </a:r>
            <a:r>
              <a:rPr b="1" lang="ru-RU" sz="4000" spc="-1" strike="noStrike">
                <a:solidFill>
                  <a:srgbClr val="00b050"/>
                </a:solidFill>
                <a:latin typeface="Century Schoolbook"/>
              </a:rPr>
              <a:t>1,32 : 24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entury Schoolbook"/>
              </a:rPr>
              <a:t>0,125 : 25   </a:t>
            </a:r>
            <a:r>
              <a:rPr b="1" lang="ru-RU" sz="4000" spc="-1" strike="noStrike">
                <a:solidFill>
                  <a:srgbClr val="00b050"/>
                </a:solidFill>
                <a:latin typeface="Century Schoolbook"/>
              </a:rPr>
              <a:t>8,15 : 326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entury Schoolbook"/>
              </a:rPr>
              <a:t>20,4 : 24   </a:t>
            </a:r>
            <a:r>
              <a:rPr b="1" lang="ru-RU" sz="4000" spc="-1" strike="noStrike">
                <a:solidFill>
                  <a:srgbClr val="00b050"/>
                </a:solidFill>
                <a:latin typeface="Century Schoolbook"/>
              </a:rPr>
              <a:t>3,76 : 235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entury Schoolbook"/>
              </a:rPr>
              <a:t>16,91 : 19   </a:t>
            </a:r>
            <a:r>
              <a:rPr b="1" lang="ru-RU" sz="4000" spc="-1" strike="noStrike">
                <a:solidFill>
                  <a:srgbClr val="00b050"/>
                </a:solidFill>
                <a:latin typeface="Century Schoolbook"/>
              </a:rPr>
              <a:t>35,1 : 45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entury Schoolbook"/>
              </a:rPr>
              <a:t>100,62 : 258  </a:t>
            </a:r>
            <a:r>
              <a:rPr b="1" lang="ru-RU" sz="4000" spc="-1" strike="noStrike">
                <a:solidFill>
                  <a:srgbClr val="00b050"/>
                </a:solidFill>
                <a:latin typeface="Century Schoolbook"/>
              </a:rPr>
              <a:t>36,48 : 1824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5" name="Picture 5" descr="Рисунок1цыцвы"/>
          <p:cNvPicPr/>
          <p:nvPr/>
        </p:nvPicPr>
        <p:blipFill>
          <a:blip r:embed="rId1"/>
          <a:stretch/>
        </p:blipFill>
        <p:spPr>
          <a:xfrm rot="20895600">
            <a:off x="-709560" y="314280"/>
            <a:ext cx="3313080" cy="22226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book"/>
          <p:cNvPicPr/>
          <p:nvPr/>
        </p:nvPicPr>
        <p:blipFill>
          <a:blip r:embed="rId2"/>
          <a:stretch/>
        </p:blipFill>
        <p:spPr>
          <a:xfrm>
            <a:off x="324000" y="5084640"/>
            <a:ext cx="2303280" cy="14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4000" y="333360"/>
            <a:ext cx="845964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проверка: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17,5 : 7= 2,5                 </a:t>
            </a:r>
            <a:r>
              <a:rPr b="1" lang="ru-RU" sz="3600" spc="-1" strike="noStrike">
                <a:solidFill>
                  <a:srgbClr val="00b050"/>
                </a:solidFill>
                <a:latin typeface="Century Schoolbook"/>
              </a:rPr>
              <a:t>75,5 : 5=15,1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0,549 : 6=0,0915      </a:t>
            </a:r>
            <a:r>
              <a:rPr b="1" lang="ru-RU" sz="3600" spc="-1" strike="noStrike">
                <a:solidFill>
                  <a:srgbClr val="00b050"/>
                </a:solidFill>
                <a:latin typeface="Century Schoolbook"/>
              </a:rPr>
              <a:t>1,32 : 24=0,055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0,125 : 25=0,005    </a:t>
            </a:r>
            <a:r>
              <a:rPr b="1" lang="ru-RU" sz="3600" spc="-1" strike="noStrike">
                <a:solidFill>
                  <a:srgbClr val="00b050"/>
                </a:solidFill>
                <a:latin typeface="Century Schoolbook"/>
              </a:rPr>
              <a:t>8,15 : 326=0,025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20,4 : 24=0,85        </a:t>
            </a:r>
            <a:r>
              <a:rPr b="1" lang="ru-RU" sz="3600" spc="-1" strike="noStrike">
                <a:solidFill>
                  <a:srgbClr val="00b050"/>
                </a:solidFill>
                <a:latin typeface="Century Schoolbook"/>
              </a:rPr>
              <a:t>3,76 : 235= 0,016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16,91 : 19=0,89            </a:t>
            </a:r>
            <a:r>
              <a:rPr b="1" lang="ru-RU" sz="3600" spc="-1" strike="noStrike">
                <a:solidFill>
                  <a:srgbClr val="00b050"/>
                </a:solidFill>
                <a:latin typeface="Century Schoolbook"/>
              </a:rPr>
              <a:t>35,1 : 45=0,78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100,62 : 258=0,39  </a:t>
            </a:r>
            <a:r>
              <a:rPr b="1" lang="ru-RU" sz="3600" spc="-1" strike="noStrike">
                <a:solidFill>
                  <a:srgbClr val="00b050"/>
                </a:solidFill>
                <a:latin typeface="Century Schoolbook"/>
              </a:rPr>
              <a:t>36,48 : 1824=0,02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8" name="Picture 5" descr="Рисунок1цыцвы"/>
          <p:cNvPicPr/>
          <p:nvPr/>
        </p:nvPicPr>
        <p:blipFill>
          <a:blip r:embed="rId1"/>
          <a:stretch/>
        </p:blipFill>
        <p:spPr>
          <a:xfrm>
            <a:off x="3419640" y="4724280"/>
            <a:ext cx="276048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395280" y="333360"/>
            <a:ext cx="87487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Century Schoolbook"/>
              </a:rPr>
              <a:t>ВЫПОЛНИТЬ ДЕЙСТВИЯ</a:t>
            </a:r>
            <a:r>
              <a:rPr b="1" lang="ru-RU" sz="4000" spc="-1" strike="noStrike">
                <a:solidFill>
                  <a:srgbClr val="7030a0"/>
                </a:solidFill>
                <a:latin typeface="Century Schoolbook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entury Schoolbook"/>
              </a:rPr>
              <a:t>43,6 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∙ 7,5 + 148,8 : 124 + 11604,6 : 7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0" name="Рисунок 4" descr="32.wmf"/>
          <p:cNvPicPr/>
          <p:nvPr/>
        </p:nvPicPr>
        <p:blipFill>
          <a:blip r:embed="rId1"/>
          <a:stretch/>
        </p:blipFill>
        <p:spPr>
          <a:xfrm>
            <a:off x="2987640" y="1916280"/>
            <a:ext cx="3743280" cy="31222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7" descr="КОТ ХОДИТ"/>
          <p:cNvPicPr/>
          <p:nvPr/>
        </p:nvPicPr>
        <p:blipFill>
          <a:blip r:embed="rId2"/>
          <a:stretch/>
        </p:blipFill>
        <p:spPr>
          <a:xfrm>
            <a:off x="2268360" y="5229360"/>
            <a:ext cx="2737080" cy="13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2664000" y="333000"/>
            <a:ext cx="6480000" cy="60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entury Schoolbook"/>
              </a:rPr>
              <a:t>СПАСИБО ЗА УРОК!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3" name="Picture 4" descr="Копия 36_3_16[1]"/>
          <p:cNvPicPr/>
          <p:nvPr/>
        </p:nvPicPr>
        <p:blipFill>
          <a:blip r:embed="rId1"/>
          <a:stretch/>
        </p:blipFill>
        <p:spPr>
          <a:xfrm>
            <a:off x="3132000" y="2708280"/>
            <a:ext cx="381636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1908000" y="549360"/>
            <a:ext cx="7236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Century Schoolbook"/>
              </a:rPr>
              <a:t>«</a:t>
            </a:r>
            <a:r>
              <a:rPr b="1" i="1" lang="ru-RU" sz="4000" spc="-1" strike="noStrike">
                <a:solidFill>
                  <a:srgbClr val="ff0066"/>
                </a:solidFill>
                <a:latin typeface="Century Schoolbook"/>
              </a:rPr>
              <a:t>Три пути ведут к знанию: путь размышления – это путь самый благородный, путь подражания – это путь самый легкий и путь опыта – это путь самый горький</a:t>
            </a:r>
            <a:r>
              <a:rPr b="1" lang="ru-RU" sz="4000" spc="-1" strike="noStrike">
                <a:solidFill>
                  <a:srgbClr val="ff0066"/>
                </a:solidFill>
                <a:latin typeface="Century Schoolbook"/>
              </a:rPr>
              <a:t>»</a:t>
            </a:r>
            <a:br>
              <a:rPr sz="4000"/>
            </a:br>
            <a:br>
              <a:rPr sz="2800"/>
            </a:br>
            <a:r>
              <a:rPr b="1" lang="ru-RU" sz="2400" spc="-1" strike="noStrike">
                <a:solidFill>
                  <a:srgbClr val="575f6d"/>
                </a:solidFill>
                <a:latin typeface="Century Schoolbook"/>
              </a:rPr>
              <a:t>                                                             Конфуци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1692000" y="333000"/>
            <a:ext cx="7451640" cy="60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Century Schoolbook"/>
              </a:rPr>
              <a:t>Вычислить</a:t>
            </a: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 :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6" name="Picture 4" descr="12a"/>
          <p:cNvPicPr/>
          <p:nvPr/>
        </p:nvPicPr>
        <p:blipFill>
          <a:blip r:embed="rId1"/>
          <a:stretch/>
        </p:blipFill>
        <p:spPr>
          <a:xfrm>
            <a:off x="3851280" y="3716280"/>
            <a:ext cx="2862360" cy="25434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12a"/>
          <p:cNvPicPr/>
          <p:nvPr/>
        </p:nvPicPr>
        <p:blipFill>
          <a:blip r:embed="rId2"/>
          <a:stretch/>
        </p:blipFill>
        <p:spPr>
          <a:xfrm>
            <a:off x="3851280" y="3716280"/>
            <a:ext cx="286236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2050560" y="333000"/>
            <a:ext cx="6715080" cy="60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   </a:t>
            </a: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1,6 : 4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   </a:t>
            </a: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0,25 : 25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   </a:t>
            </a: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12,4 </a:t>
            </a: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 4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   </a:t>
            </a: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1,25 </a:t>
            </a: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∙ 0,8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   </a:t>
            </a: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2,5 </a:t>
            </a: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∙ 17 ∙ 4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   </a:t>
            </a: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140 </a:t>
            </a: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∙</a:t>
            </a: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 1,5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   </a:t>
            </a: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3,6 </a:t>
            </a: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∙ 1,1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9" name="Picture 12" descr="AG00011_"/>
          <p:cNvPicPr/>
          <p:nvPr/>
        </p:nvPicPr>
        <p:blipFill>
          <a:blip r:embed="rId1"/>
          <a:stretch/>
        </p:blipFill>
        <p:spPr>
          <a:xfrm>
            <a:off x="6084720" y="3789360"/>
            <a:ext cx="21052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2124000" y="333000"/>
            <a:ext cx="7020000" cy="60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Изучение нового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entury Schoolbook"/>
              </a:rPr>
              <a:t>Средним арифметическим чисел называют сумму этих чисел, деленную на число слагаемых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1" name="Picture 4" descr="пав"/>
          <p:cNvPicPr/>
          <p:nvPr/>
        </p:nvPicPr>
        <p:blipFill>
          <a:blip r:embed="rId1"/>
          <a:stretch/>
        </p:blipFill>
        <p:spPr>
          <a:xfrm>
            <a:off x="3276720" y="2997360"/>
            <a:ext cx="345600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2664000" y="333000"/>
            <a:ext cx="6480000" cy="60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Отметки у Пети Васечкина по математике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за 3 четверть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entury Schoolbook"/>
              </a:rPr>
              <a:t>5,3,4,3,5,4,3,3,5,5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entury Schoolbook"/>
              </a:rPr>
              <a:t>Какова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entury Schoolbook"/>
              </a:rPr>
              <a:t>средняя отметка Пети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entury Schoolbook"/>
              </a:rPr>
              <a:t>(5+3+4+3+5+4+3+3+5+5) : 10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entury Schoolbook"/>
              </a:rPr>
              <a:t>= (5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∙4 + 4∙2 + 3∙4) : 10=4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3" name="Picture 5" descr="Рисунок112"/>
          <p:cNvPicPr/>
          <p:nvPr/>
        </p:nvPicPr>
        <p:blipFill>
          <a:blip r:embed="rId1"/>
          <a:stretch/>
        </p:blipFill>
        <p:spPr>
          <a:xfrm>
            <a:off x="324000" y="765000"/>
            <a:ext cx="2952720" cy="26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1908000" y="333000"/>
            <a:ext cx="7236000" cy="60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йти среднее арифметическое чисел: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,4; 2,6; 3,2; 3,4; 2,8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6; 4,4; 5,2; 4,8; 6,2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,6; 5; 5,2; 4,6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5" name="Picture 5" descr="Рисунок1цыц"/>
          <p:cNvPicPr/>
          <p:nvPr/>
        </p:nvPicPr>
        <p:blipFill>
          <a:blip r:embed="rId1"/>
          <a:stretch/>
        </p:blipFill>
        <p:spPr>
          <a:xfrm>
            <a:off x="0" y="3687840"/>
            <a:ext cx="36003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1619280" y="333000"/>
            <a:ext cx="7524720" cy="60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РЬ СЕБЯ: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2,4+ 2,6+ 3,2+3,4+ 2,8) : 5 = 2,88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6+ 4,4+ 5,2+ 4,8+ 6,2) : 5 = 5,32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3,6+ 5+ 5,2+4,6) : 4 = 4,6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7" name="Picture 5" descr="Рисунок1цыц"/>
          <p:cNvPicPr/>
          <p:nvPr/>
        </p:nvPicPr>
        <p:blipFill>
          <a:blip r:embed="rId1"/>
          <a:stretch/>
        </p:blipFill>
        <p:spPr>
          <a:xfrm>
            <a:off x="0" y="3687840"/>
            <a:ext cx="36003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2664000" y="333000"/>
            <a:ext cx="6480000" cy="60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Решить задачу: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entury Schoolbook"/>
              </a:rPr>
              <a:t>Среднее арифметическое двух чисел равно 22,8, причем одно из них в 3 раза больше другого. Найти оба числа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9" name="Picture 5" descr="Рисунок1цыцвы"/>
          <p:cNvPicPr/>
          <p:nvPr/>
        </p:nvPicPr>
        <p:blipFill>
          <a:blip r:embed="rId1"/>
          <a:stretch/>
        </p:blipFill>
        <p:spPr>
          <a:xfrm rot="20895600">
            <a:off x="-709560" y="314280"/>
            <a:ext cx="3313080" cy="22226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" descr="book"/>
          <p:cNvPicPr/>
          <p:nvPr/>
        </p:nvPicPr>
        <p:blipFill>
          <a:blip r:embed="rId2"/>
          <a:stretch/>
        </p:blipFill>
        <p:spPr>
          <a:xfrm>
            <a:off x="5940360" y="4653000"/>
            <a:ext cx="230364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12:35:06Z</dcterms:created>
  <dc:creator>Елена Афанасьева</dc:creator>
  <dc:description/>
  <dc:language>en-US</dc:language>
  <cp:lastModifiedBy>Irina</cp:lastModifiedBy>
  <dcterms:modified xsi:type="dcterms:W3CDTF">2021-04-11T16:31:18Z</dcterms:modified>
  <cp:revision>44</cp:revision>
  <dc:subject/>
  <dc:title>20.02.2012 Классная работа</dc:title>
</cp:coreProperties>
</file>