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5.wmf" ContentType="image/x-wmf"/>
  <Override PartName="/ppt/media/image3.gif" ContentType="image/gif"/>
  <Override PartName="/ppt/media/image4.wmf" ContentType="image/x-wmf"/>
  <Override PartName="/ppt/media/image6.jpeg" ContentType="image/jpeg"/>
  <Override PartName="/ppt/media/image7.wmf" ContentType="image/x-wmf"/>
  <Override PartName="/ppt/media/image8.gif" ContentType="image/gif"/>
  <Override PartName="/ppt/media/image9.wmf" ContentType="image/x-wmf"/>
  <Override PartName="/ppt/media/image11.gif" ContentType="image/gif"/>
  <Override PartName="/ppt/media/image10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C541-5C39-49AC-A3C2-9A1655B5D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9A88-A6FE-4898-8F24-3A1188DF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9EAE-BA45-4194-9487-DDDEB00B0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CF9E-C645-4469-A98B-C4DCE37AD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8A96-4EDD-4128-B499-392FEB7DA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9B95-2FEA-4A85-AB03-F359C740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2657-BEC3-4677-84CF-42E1FBFE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E7E3-EF03-444C-81B1-29359A7F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A135-D662-4CD2-BBCD-F3F5EE17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6F3A-3FC7-40C1-9E99-928DB979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4400-41E8-41D5-B766-E0AEF27C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7954-722D-44FD-9766-EFE555A1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90E6-81AD-429E-89EC-1A009E5A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4278-4DCB-4EBC-B73E-5E5DA474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88A18-108D-4F8F-BB7B-A31E423D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8874-FB80-49BB-BBC3-61557ABF1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D844-E57B-4E3E-95EE-D5B197439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A0CA25-CEC9-4E2B-9036-D16280690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6765EB-9C58-4709-A2E8-A3E8D241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967A33-55F9-4281-B7D7-C4A90F83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842065-43EB-47B9-9183-E7E20194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52782F-2065-4E99-BFFB-7C0A93BE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D2EB-C930-421D-9114-6947FECF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148703-7829-480A-9215-43D7557E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4F55D6-EC02-4D0D-ACCB-F9BBCF70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07C78B-C7A8-4EF7-97AA-C1F23E00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374B53-37FD-40CD-980E-EF890ED8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CBEA6C-8109-4720-A53C-8AA23721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DCD0FC-B81D-4087-92F5-AE8190BE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E81D5F-8BAE-4CD1-B0BB-5DDC943ED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D36FE-401F-4EB0-9633-B07AA2EC9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8283A-B972-4CFB-BEE5-30AF4E76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6E979-100A-4946-A78B-634535CF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9383-1970-436D-8765-FA17DAFB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9FC90-FD55-468A-B09A-85C288B3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CD0A7-C72B-4D0D-8A65-395167D8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0ABC5-86DB-4F19-BD25-41F826AE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0710D-39DE-4763-95C8-DFBA9E09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C5CF4-D2F4-49B4-896C-4BD409D1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731DB-8846-4AA3-8E3D-5E9360CF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41947-FA8D-42B7-BDBE-B95FB059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707E6-95F0-474F-B323-8AEEFA669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2B410-886E-4ECA-BF75-A7A95CE6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06D001-C9ED-4AAD-A4CC-9E5BDA6A0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440F-EDA6-43C0-BC26-CDA4E564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990538-7E3F-4A18-A4C9-22BBD00E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1DBFF8-DA3E-41F6-AC74-F56FD905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DD92CA-FA55-4E53-95A6-6CA69BEE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C51AE3-1FEC-4439-8AFE-DB86BCCD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60FB55-D25E-40C4-B4C8-7879ED17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DA8F65-D1D5-4926-A80C-44D13ADE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85B3B1-0870-48EA-82E5-528DF240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33732F-0821-4F31-B06C-BC4E8C9A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4EE978-7CFB-428C-9015-EFDF2380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A7921C-9A05-476E-A4D4-8690C0E62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1E97-F0B7-46F1-8E23-7E8954F1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9F7F9F-3B9A-4CBD-906F-2549F983C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CD67FC-5162-4A5A-8C95-240C1720B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713335-D2D0-4146-9CFD-BF16E15F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63BB35-B91D-4B3C-8CFD-7F0EEF1B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79C284-707F-472E-AC74-549F518B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4F56C5-0323-468B-8865-4C0101DB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290DE5-3E35-470B-884D-D764AB0B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DECC74-82C9-43C5-9482-98FC1538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A91250-4F12-4464-B778-0F1DC05E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2324A6-0D00-4E5E-9F8C-FBC9CCA8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3183-1645-4DBA-977D-70BDD053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45FD1B-3801-49D3-B206-4C421B3F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2C5C27-D337-4262-95A5-F75BBDBF5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C89538-DD8C-43B1-9E13-0E1203BFC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EF79EF-F30B-4C9E-AC18-61C8D968D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8C885E-83E5-4F34-B1CF-B519029B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E62287-C377-4695-864D-356B134E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075D4A-ECC0-462A-92CA-95DA8AB1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8CB292-9744-4088-B909-2DBA6E99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86162E-9CF0-4B12-9B93-12FD5F87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30DF3C-1A67-4F68-AA6D-4674DFC5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0B7D-3197-41D1-B4AE-F164AD4D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DB6BBE-ED6D-4466-BF35-5F87A8C3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FAEE15-B171-4DE6-BB37-6FCAF50B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46180E-72ED-4486-9187-41EBD282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8AF648-7C1B-45CC-A2DC-AC5F873AE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EBE76A-9A53-4D45-B389-1A023EBF0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6613-5D04-47BD-8BA3-B07BD880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9BF9-6305-4E0B-85FF-0D5382D0D09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0246-E146-4718-812E-DC0AEC7C8B6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5E3A-1966-4697-80AA-60DAEFC39DA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F0A0-EAE8-42BA-9E39-6F188D18D1D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2DD3-79DB-4BE9-B9E5-1BC60F0B66B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CCF8-61BF-433E-9D70-DECABBFB828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E554-0C5F-4A60-A8C2-76780A855A4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23640" y="1268280"/>
            <a:ext cx="61722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000" spc="-1" strike="noStrike">
              <a:solidFill>
                <a:srgbClr val="0070c0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3213000"/>
            <a:ext cx="6172200" cy="31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entury Schoolbook"/>
              </a:rPr>
              <a:t>Среднее арифметическое чисел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</a:t>
            </a: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         </a:t>
            </a: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Учитель математики: Рузанова И.М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              </a:t>
            </a: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НЧУОО «Частная школа « Бнот Менахем»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                </a:t>
            </a: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г. Москв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4" descr="j0238036"/>
          <p:cNvPicPr/>
          <p:nvPr/>
        </p:nvPicPr>
        <p:blipFill>
          <a:blip r:embed="rId1"/>
          <a:stretch/>
        </p:blipFill>
        <p:spPr>
          <a:xfrm>
            <a:off x="684360" y="260280"/>
            <a:ext cx="277812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3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2268000" y="333360"/>
            <a:ext cx="68756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Решение задачи: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1 число – 3х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2 число – х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Ср. арифметическое 22,8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(3х + х) : 2 = 22,8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2х = 22,8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х = 22,8 : 2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х = 11,4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11,4 – первое число, 34,2 – второе число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Picture 5" descr="Рисунок1цыцвы"/>
          <p:cNvPicPr/>
          <p:nvPr/>
        </p:nvPicPr>
        <p:blipFill>
          <a:blip r:embed="rId1"/>
          <a:stretch/>
        </p:blipFill>
        <p:spPr>
          <a:xfrm rot="20895600">
            <a:off x="-709560" y="314280"/>
            <a:ext cx="3313080" cy="22226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" descr="book"/>
          <p:cNvPicPr/>
          <p:nvPr/>
        </p:nvPicPr>
        <p:blipFill>
          <a:blip r:embed="rId2"/>
          <a:stretch/>
        </p:blipFill>
        <p:spPr>
          <a:xfrm>
            <a:off x="324000" y="5084640"/>
            <a:ext cx="230328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2268000" y="333360"/>
            <a:ext cx="68756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Самостоятельная работа: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Выполнить деление с проверкой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entury Schoolbook"/>
              </a:rPr>
              <a:t>17,5 : 7       </a:t>
            </a:r>
            <a:r>
              <a:rPr b="1" lang="ru-RU" sz="4000" spc="-1" strike="noStrike">
                <a:solidFill>
                  <a:srgbClr val="00b050"/>
                </a:solidFill>
                <a:latin typeface="Century Schoolbook"/>
              </a:rPr>
              <a:t>75,5 : 5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entury Schoolbook"/>
              </a:rPr>
              <a:t>0,549 : 6     </a:t>
            </a:r>
            <a:r>
              <a:rPr b="1" lang="ru-RU" sz="4000" spc="-1" strike="noStrike">
                <a:solidFill>
                  <a:srgbClr val="00b050"/>
                </a:solidFill>
                <a:latin typeface="Century Schoolbook"/>
              </a:rPr>
              <a:t>1,32 : 24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entury Schoolbook"/>
              </a:rPr>
              <a:t>0,125 : 25   </a:t>
            </a:r>
            <a:r>
              <a:rPr b="1" lang="ru-RU" sz="4000" spc="-1" strike="noStrike">
                <a:solidFill>
                  <a:srgbClr val="00b050"/>
                </a:solidFill>
                <a:latin typeface="Century Schoolbook"/>
              </a:rPr>
              <a:t>8,15 : 326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entury Schoolbook"/>
              </a:rPr>
              <a:t>20,4 : 24   </a:t>
            </a:r>
            <a:r>
              <a:rPr b="1" lang="ru-RU" sz="4000" spc="-1" strike="noStrike">
                <a:solidFill>
                  <a:srgbClr val="00b050"/>
                </a:solidFill>
                <a:latin typeface="Century Schoolbook"/>
              </a:rPr>
              <a:t>3,76 : 235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entury Schoolbook"/>
              </a:rPr>
              <a:t>16,91 : 19   </a:t>
            </a:r>
            <a:r>
              <a:rPr b="1" lang="ru-RU" sz="4000" spc="-1" strike="noStrike">
                <a:solidFill>
                  <a:srgbClr val="00b050"/>
                </a:solidFill>
                <a:latin typeface="Century Schoolbook"/>
              </a:rPr>
              <a:t>35,1 : 45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entury Schoolbook"/>
              </a:rPr>
              <a:t>100,62 : 258  </a:t>
            </a:r>
            <a:r>
              <a:rPr b="1" lang="ru-RU" sz="4000" spc="-1" strike="noStrike">
                <a:solidFill>
                  <a:srgbClr val="00b050"/>
                </a:solidFill>
                <a:latin typeface="Century Schoolbook"/>
              </a:rPr>
              <a:t>36,48 : 1824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5" name="Picture 5" descr="Рисунок1цыцвы"/>
          <p:cNvPicPr/>
          <p:nvPr/>
        </p:nvPicPr>
        <p:blipFill>
          <a:blip r:embed="rId1"/>
          <a:stretch/>
        </p:blipFill>
        <p:spPr>
          <a:xfrm rot="20895600">
            <a:off x="-709560" y="314280"/>
            <a:ext cx="3313080" cy="22226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book"/>
          <p:cNvPicPr/>
          <p:nvPr/>
        </p:nvPicPr>
        <p:blipFill>
          <a:blip r:embed="rId2"/>
          <a:stretch/>
        </p:blipFill>
        <p:spPr>
          <a:xfrm>
            <a:off x="324000" y="5084640"/>
            <a:ext cx="230328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4000" y="333360"/>
            <a:ext cx="84596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проверка: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17,5 : 7= 2,5                 </a:t>
            </a:r>
            <a:r>
              <a:rPr b="1" lang="ru-RU" sz="3600" spc="-1" strike="noStrike">
                <a:solidFill>
                  <a:srgbClr val="00b050"/>
                </a:solidFill>
                <a:latin typeface="Century Schoolbook"/>
              </a:rPr>
              <a:t>75,5 : 5=15,1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0,549 : 6=0,0915      </a:t>
            </a:r>
            <a:r>
              <a:rPr b="1" lang="ru-RU" sz="3600" spc="-1" strike="noStrike">
                <a:solidFill>
                  <a:srgbClr val="00b050"/>
                </a:solidFill>
                <a:latin typeface="Century Schoolbook"/>
              </a:rPr>
              <a:t>1,32 : 24=0,055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0,125 : 25=0,005    </a:t>
            </a:r>
            <a:r>
              <a:rPr b="1" lang="ru-RU" sz="3600" spc="-1" strike="noStrike">
                <a:solidFill>
                  <a:srgbClr val="00b050"/>
                </a:solidFill>
                <a:latin typeface="Century Schoolbook"/>
              </a:rPr>
              <a:t>8,15 : 326=0,025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20,4 : 24=0,85        </a:t>
            </a:r>
            <a:r>
              <a:rPr b="1" lang="ru-RU" sz="3600" spc="-1" strike="noStrike">
                <a:solidFill>
                  <a:srgbClr val="00b050"/>
                </a:solidFill>
                <a:latin typeface="Century Schoolbook"/>
              </a:rPr>
              <a:t>3,76 : 235= 0,016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16,91 : 19=0,89            </a:t>
            </a:r>
            <a:r>
              <a:rPr b="1" lang="ru-RU" sz="3600" spc="-1" strike="noStrike">
                <a:solidFill>
                  <a:srgbClr val="00b050"/>
                </a:solidFill>
                <a:latin typeface="Century Schoolbook"/>
              </a:rPr>
              <a:t>35,1 : 45=0,78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100,62 : 258=0,39  </a:t>
            </a:r>
            <a:r>
              <a:rPr b="1" lang="ru-RU" sz="3600" spc="-1" strike="noStrike">
                <a:solidFill>
                  <a:srgbClr val="00b050"/>
                </a:solidFill>
                <a:latin typeface="Century Schoolbook"/>
              </a:rPr>
              <a:t>36,48 : 1824=0,02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8" name="Picture 5" descr="Рисунок1цыцвы"/>
          <p:cNvPicPr/>
          <p:nvPr/>
        </p:nvPicPr>
        <p:blipFill>
          <a:blip r:embed="rId1"/>
          <a:stretch/>
        </p:blipFill>
        <p:spPr>
          <a:xfrm>
            <a:off x="3419640" y="4724280"/>
            <a:ext cx="276048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395280" y="333360"/>
            <a:ext cx="8748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Century Schoolbook"/>
              </a:rPr>
              <a:t>ВЫПОЛНИТЬ ДЕЙСТВИЯ</a:t>
            </a:r>
            <a:r>
              <a:rPr b="1" lang="ru-RU" sz="4000" spc="-1" strike="noStrike">
                <a:solidFill>
                  <a:srgbClr val="7030a0"/>
                </a:solidFill>
                <a:latin typeface="Century Schoolbook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entury Schoolbook"/>
              </a:rPr>
              <a:t>43,6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∙ 7,5 + 148,8 : 124 + 11604,6 : 7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0" name="Рисунок 4" descr="32.wmf"/>
          <p:cNvPicPr/>
          <p:nvPr/>
        </p:nvPicPr>
        <p:blipFill>
          <a:blip r:embed="rId1"/>
          <a:stretch/>
        </p:blipFill>
        <p:spPr>
          <a:xfrm>
            <a:off x="2987640" y="1916280"/>
            <a:ext cx="3743280" cy="31222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7" descr="КОТ ХОДИТ"/>
          <p:cNvPicPr/>
          <p:nvPr/>
        </p:nvPicPr>
        <p:blipFill>
          <a:blip r:embed="rId2"/>
          <a:stretch/>
        </p:blipFill>
        <p:spPr>
          <a:xfrm>
            <a:off x="2268360" y="5229360"/>
            <a:ext cx="2737080" cy="13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2664000" y="333000"/>
            <a:ext cx="6480000" cy="60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entury Schoolbook"/>
              </a:rPr>
              <a:t>СПАСИБО ЗА УРОК!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3" name="Picture 4" descr="Копия 36_3_16[1]"/>
          <p:cNvPicPr/>
          <p:nvPr/>
        </p:nvPicPr>
        <p:blipFill>
          <a:blip r:embed="rId1"/>
          <a:stretch/>
        </p:blipFill>
        <p:spPr>
          <a:xfrm>
            <a:off x="3132000" y="2708280"/>
            <a:ext cx="381636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1908000" y="549360"/>
            <a:ext cx="7236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Century Schoolbook"/>
              </a:rPr>
              <a:t>«</a:t>
            </a:r>
            <a:r>
              <a:rPr b="1" i="1" lang="ru-RU" sz="4000" spc="-1" strike="noStrike">
                <a:solidFill>
                  <a:srgbClr val="ff0066"/>
                </a:solidFill>
                <a:latin typeface="Century Schoolbook"/>
              </a:rPr>
              <a:t>Три пути ведут к знанию: путь размышления – это путь самый благородный, путь подражания – это путь самый легкий и путь опыта – это путь самый горький</a:t>
            </a:r>
            <a:r>
              <a:rPr b="1" lang="ru-RU" sz="4000" spc="-1" strike="noStrike">
                <a:solidFill>
                  <a:srgbClr val="ff0066"/>
                </a:solidFill>
                <a:latin typeface="Century Schoolbook"/>
              </a:rPr>
              <a:t>»</a:t>
            </a:r>
            <a:br>
              <a:rPr sz="4000"/>
            </a:br>
            <a:br>
              <a:rPr sz="2800"/>
            </a:b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                                                             Конфуци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1692000" y="333000"/>
            <a:ext cx="7451640" cy="60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Century Schoolbook"/>
              </a:rPr>
              <a:t>Вычислить</a:t>
            </a: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 :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6" name="Picture 4" descr="12a"/>
          <p:cNvPicPr/>
          <p:nvPr/>
        </p:nvPicPr>
        <p:blipFill>
          <a:blip r:embed="rId1"/>
          <a:stretch/>
        </p:blipFill>
        <p:spPr>
          <a:xfrm>
            <a:off x="3851280" y="3716280"/>
            <a:ext cx="2862360" cy="25434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12a"/>
          <p:cNvPicPr/>
          <p:nvPr/>
        </p:nvPicPr>
        <p:blipFill>
          <a:blip r:embed="rId2"/>
          <a:stretch/>
        </p:blipFill>
        <p:spPr>
          <a:xfrm>
            <a:off x="3851280" y="3716280"/>
            <a:ext cx="286236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2050560" y="333000"/>
            <a:ext cx="6715080" cy="60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   </a:t>
            </a: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1,6 : 4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   </a:t>
            </a: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0,25 : 25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   </a:t>
            </a: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12,4 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 4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   </a:t>
            </a: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1,25 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∙ 0,8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   </a:t>
            </a: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2,5 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∙ 17 ∙ 4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   </a:t>
            </a: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140 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∙</a:t>
            </a: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 1,5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   </a:t>
            </a: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3,6 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∙ 1,1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9" name="Picture 12" descr="AG00011_"/>
          <p:cNvPicPr/>
          <p:nvPr/>
        </p:nvPicPr>
        <p:blipFill>
          <a:blip r:embed="rId1"/>
          <a:stretch/>
        </p:blipFill>
        <p:spPr>
          <a:xfrm>
            <a:off x="6084720" y="3789360"/>
            <a:ext cx="2105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2124000" y="333000"/>
            <a:ext cx="7020000" cy="60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Изучение нового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entury Schoolbook"/>
              </a:rPr>
              <a:t>Средним арифметическим чисел называют сумму этих чисел, деленную на число слагаемых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1" name="Picture 4" descr="пав"/>
          <p:cNvPicPr/>
          <p:nvPr/>
        </p:nvPicPr>
        <p:blipFill>
          <a:blip r:embed="rId1"/>
          <a:stretch/>
        </p:blipFill>
        <p:spPr>
          <a:xfrm>
            <a:off x="3276720" y="2997360"/>
            <a:ext cx="345600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2664000" y="333000"/>
            <a:ext cx="6480000" cy="60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Отметки у Пети Васечкина по математике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за 3 четверть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entury Schoolbook"/>
              </a:rPr>
              <a:t>5,3,4,3,5,4,3,3,5,5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entury Schoolbook"/>
              </a:rPr>
              <a:t>Какова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entury Schoolbook"/>
              </a:rPr>
              <a:t>средняя отметка Пети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entury Schoolbook"/>
              </a:rPr>
              <a:t>(5+3+4+3+5+4+3+3+5+5) : 10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entury Schoolbook"/>
              </a:rPr>
              <a:t>= (5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∙4 + 4∙2 + 3∙4) : 10=4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3" name="Picture 5" descr="Рисунок112"/>
          <p:cNvPicPr/>
          <p:nvPr/>
        </p:nvPicPr>
        <p:blipFill>
          <a:blip r:embed="rId1"/>
          <a:stretch/>
        </p:blipFill>
        <p:spPr>
          <a:xfrm>
            <a:off x="324000" y="765000"/>
            <a:ext cx="295272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1908000" y="333000"/>
            <a:ext cx="7236000" cy="60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йти среднее арифметическое чисел: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,4; 2,6; 3,2; 3,4; 2,8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; 4,4; 5,2; 4,8; 6,2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,6; 5; 5,2; 4,6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5" name="Picture 5" descr="Рисунок1цыц"/>
          <p:cNvPicPr/>
          <p:nvPr/>
        </p:nvPicPr>
        <p:blipFill>
          <a:blip r:embed="rId1"/>
          <a:stretch/>
        </p:blipFill>
        <p:spPr>
          <a:xfrm>
            <a:off x="0" y="3687840"/>
            <a:ext cx="36003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1619280" y="333000"/>
            <a:ext cx="7524720" cy="60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Ь СЕБЯ: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2,4+ 2,6+ 3,2+3,4+ 2,8) : 5 = 2,88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6+ 4,4+ 5,2+ 4,8+ 6,2) : 5 = 5,32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3,6+ 5+ 5,2+4,6) : 4 = 4,6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Picture 5" descr="Рисунок1цыц"/>
          <p:cNvPicPr/>
          <p:nvPr/>
        </p:nvPicPr>
        <p:blipFill>
          <a:blip r:embed="rId1"/>
          <a:stretch/>
        </p:blipFill>
        <p:spPr>
          <a:xfrm>
            <a:off x="0" y="3687840"/>
            <a:ext cx="36003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2664000" y="333000"/>
            <a:ext cx="6480000" cy="60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Решить задачу: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entury Schoolbook"/>
              </a:rPr>
              <a:t>Среднее арифметическое двух чисел равно 22,8, причем одно из них в 3 раза больше другого. Найти оба числа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9" name="Picture 5" descr="Рисунок1цыцвы"/>
          <p:cNvPicPr/>
          <p:nvPr/>
        </p:nvPicPr>
        <p:blipFill>
          <a:blip r:embed="rId1"/>
          <a:stretch/>
        </p:blipFill>
        <p:spPr>
          <a:xfrm rot="20895600">
            <a:off x="-709560" y="314280"/>
            <a:ext cx="3313080" cy="22226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book"/>
          <p:cNvPicPr/>
          <p:nvPr/>
        </p:nvPicPr>
        <p:blipFill>
          <a:blip r:embed="rId2"/>
          <a:stretch/>
        </p:blipFill>
        <p:spPr>
          <a:xfrm>
            <a:off x="5940360" y="4653000"/>
            <a:ext cx="230364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12:35:06Z</dcterms:created>
  <dc:creator>Елена Афанасьева</dc:creator>
  <dc:description/>
  <dc:language>en-US</dc:language>
  <cp:lastModifiedBy>Irina</cp:lastModifiedBy>
  <dcterms:modified xsi:type="dcterms:W3CDTF">2021-04-11T16:31:18Z</dcterms:modified>
  <cp:revision>44</cp:revision>
  <dc:subject/>
  <dc:title>20.02.2012 Классная работа</dc:title>
</cp:coreProperties>
</file>