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tarasevich.albina@yandex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000160" y="428760"/>
            <a:ext cx="50007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кция</a:t>
            </a: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Экологический марафон»</a:t>
            </a:r>
            <a:br>
              <a:rPr sz="1800"/>
            </a:br>
            <a:r>
              <a:rPr b="0" lang="ru-RU" sz="4000" spc="-1" strike="noStrike">
                <a:solidFill>
                  <a:srgbClr val="1f497d"/>
                </a:solidFill>
                <a:latin typeface="Franklin Gothic Heavy"/>
                <a:ea typeface="Times New Roman"/>
              </a:rPr>
              <a:t>  «Каждой пичужке кормуш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500200" y="3357720"/>
            <a:ext cx="41036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5, 3 кла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карёв  Евгений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кова Полин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вчан Даниил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нгина Еле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572240" y="285840"/>
            <a:ext cx="906480" cy="85392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7572240" y="2500200"/>
            <a:ext cx="906480" cy="85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7000920" y="5357880"/>
            <a:ext cx="906480" cy="85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285840" y="3286080"/>
            <a:ext cx="906480" cy="85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285840" y="214200"/>
            <a:ext cx="906480" cy="854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2357280" y="5214960"/>
            <a:ext cx="906480" cy="85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72240" y="357120"/>
            <a:ext cx="126396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8760" y="1285920"/>
            <a:ext cx="8229600" cy="557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 время подкормки птиц не сорите в  саду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рмушки для птиц должны быть очень скромными, лучше н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енными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ма в кормушках должно быть немного и только нуж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м: семена дикорастущих трав, крошки хлеба, подсолнухи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очки несоленого сала.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рмить птиц  необходимо регулярно: именно зимой им оч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а наша поддержка, именно в морозы и метели гибнет больш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ясо и сало давать сырое и варе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елый хлеб нужно ,предварительно подсушив, мелко растолоч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ые замёрзшие куски птицам «не по зуба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ёрный ржаной хлеб птицам вреде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сли начал подкармливать птиц в начале зимы, следи за тем,чтобы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рмушке постоянно был к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ормушку необходимо регулярно чисти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4200" y="571680"/>
            <a:ext cx="8686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подкормки пти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2205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3000, Краснодарский край, Новопокровский район, 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Калниболотская, ул. Красная, 42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Тарасевич Альбина Ивановна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: 89288479893, электронная почта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arasevich.albina@yandex.ru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размещена с сети Интернет на сайте одарённых детей «Алые паруса». Ссылка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nsportal.ru/ap/blog/hudozhestvenno-prikladnoe-tvorchestvo/2020/02/15/aktsiya-kazhdoy-pichuzhke-kormush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286760" y="5286240"/>
            <a:ext cx="126360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1680" y="1428840"/>
            <a:ext cx="7954920" cy="307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купить готовую кормушку для птиц. 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но сделать деревянную кормушку своими руками. Это совсем не трудно, и служить она будет не один сезон. Cамая простая в изготовлении деревянная кормушка состоит из фанерного дна с бортиками и жестких опор, на которых крепится крыша. Бортики пусть будут достаточно высокими, чтобы порывами ветра не сдувало пшено или семечки. А крыша в самодельной кормушке – элемент обязательный, она защищает корм от дождя и сн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ожно изготовить кормушку из пластиковой коробки из – под конфет или стар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стры. Такие кормушки принесут пользу птицам зим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ие  кормушки вышли у на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43840" y="5214960"/>
            <a:ext cx="126360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648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кормушкой из фанеры.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карёв 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8120" y="1224000"/>
            <a:ext cx="2332080" cy="29970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24360" y="5229360"/>
            <a:ext cx="1493640" cy="14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4160" y="4221000"/>
            <a:ext cx="3022560" cy="22654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564000" y="1955880"/>
            <a:ext cx="2514600" cy="31608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867280" y="2827440"/>
            <a:ext cx="2665440" cy="35528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"/>
          <p:cNvSpPr/>
          <p:nvPr/>
        </p:nvSpPr>
        <p:spPr>
          <a:xfrm>
            <a:off x="425520" y="1224000"/>
            <a:ext cx="1165320" cy="93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3680" y="189000"/>
            <a:ext cx="82296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кормушкой из пластиковой коробки.</a:t>
            </a:r>
            <a:br>
              <a:rPr sz="18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кова По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2000" y="1123920"/>
            <a:ext cx="2376360" cy="31687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32720" y="3311640"/>
            <a:ext cx="2214360" cy="29509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51280" y="3311640"/>
            <a:ext cx="2028960" cy="29509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16000" y="3446640"/>
            <a:ext cx="2158920" cy="28778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41280" y="1123920"/>
            <a:ext cx="2089080" cy="27846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589200" y="1773360"/>
            <a:ext cx="126216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2520" y="1844640"/>
            <a:ext cx="2639880" cy="31561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"/>
          <p:cNvSpPr/>
          <p:nvPr/>
        </p:nvSpPr>
        <p:spPr>
          <a:xfrm>
            <a:off x="422280" y="995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кормушкой из дерева и профнастила.</a:t>
            </a:r>
            <a:br>
              <a:rPr sz="18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вчан  Дании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424640" y="5235480"/>
            <a:ext cx="1262160" cy="119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35120" y="2611440"/>
            <a:ext cx="4292640" cy="321948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2280" y="995400"/>
            <a:ext cx="82296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ушка  из старой люстры.</a:t>
            </a:r>
            <a:br>
              <a:rPr sz="18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нгина Ел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0040" y="692280"/>
            <a:ext cx="1262160" cy="119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122560"/>
            <a:ext cx="2592360" cy="3457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300720" y="1730520"/>
            <a:ext cx="2538360" cy="33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143160" y="2708280"/>
            <a:ext cx="2795760" cy="3728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334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 корм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56200" y="5373720"/>
            <a:ext cx="792360" cy="74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44840" y="1884240"/>
            <a:ext cx="792360" cy="747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4000" y="2317680"/>
            <a:ext cx="792000" cy="747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780000" y="189000"/>
            <a:ext cx="792000" cy="74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0" t="8326" r="0" b="13933"/>
          <a:stretch/>
        </p:blipFill>
        <p:spPr>
          <a:xfrm>
            <a:off x="647640" y="1695600"/>
            <a:ext cx="7589880" cy="4424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408800" y="4410000"/>
            <a:ext cx="793800" cy="74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19200" y="4998960"/>
            <a:ext cx="792000" cy="74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702480" y="1197000"/>
            <a:ext cx="792000" cy="74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tretch/>
        </p:blipFill>
        <p:spPr>
          <a:xfrm>
            <a:off x="6618240" y="5748480"/>
            <a:ext cx="790560" cy="74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2700360" y="5562720"/>
            <a:ext cx="792000" cy="74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1224000" y="1204920"/>
            <a:ext cx="792000" cy="74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5643720" cy="423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5840" y="4643280"/>
            <a:ext cx="81835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мы начали подкармливать птиц, и будем продолжать делать это до конца зим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а, семечки и орехи мы будем  подсыпать регулярно, иначе, обнаружив несколько раз кормушку пустой, птицы улетят в другое мест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няя столовая будет работать и весной, до тех пор, пока не проклюнется первая зелен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15120" y="785880"/>
            <a:ext cx="126360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85920" y="1539720"/>
          <a:ext cx="6573600" cy="4830480"/>
        </p:xfrm>
        <a:graphic>
          <a:graphicData uri="http://schemas.openxmlformats.org/drawingml/2006/table">
            <a:tbl>
              <a:tblPr/>
              <a:tblGrid>
                <a:gridCol w="1794240"/>
                <a:gridCol w="2588400"/>
                <a:gridCol w="21909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и название птиц, посетивших кормуш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 п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воробья, 1 сини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оробья, 2 синички, 1 голуб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, хлебные кр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2.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робьев, 2 синички, 3 дятла, 2 снеги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, са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робьев, 4 синички, 2 голубя, 1 дят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ебные крошки, зерно, пшено, прос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робьев, 4 синички, 3 голубя,1 снеги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, хлебные кро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синичек, 5 воробьев, 4 голубя, 3 дят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2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дятла, 2 голубей, 5 воробьев, 4 синички, 2 снеги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, пшено, семечки подсолн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наблюде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рмушками в школьном сад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1261800" cy="119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5T13:45:23Z</dcterms:created>
  <dc:creator>Тарасевич А.И.</dc:creator>
  <dc:description/>
  <dc:language>en-US</dc:language>
  <cp:lastModifiedBy>pacbel</cp:lastModifiedBy>
  <dcterms:modified xsi:type="dcterms:W3CDTF">2020-02-17T11:08:26Z</dcterms:modified>
  <cp:revision>36</cp:revision>
  <dc:subject/>
  <dc:title>АКЦИЯ КАЖДОЙ ПИЧУЖКЕ КОРМУШ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